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52D-F88A-417E-968F-128C0DE4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ADB-01D6-4C11-9497-C45AB93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DEC-DD13-4986-92C7-08CBF764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B7D-1EE7-48C6-8765-B5450A71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EB29-C6F9-42F7-ACFE-342D6DA1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012-6A8A-4409-A718-B07610E0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EE9E-70C1-419C-A511-9F4AFCDB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263-54BE-43DF-8F9A-14E5083E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2195-D441-47F0-BCF2-D01AB638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9EDA-0DFD-4C09-8317-C3A9A07C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EAD9-03BD-4098-93DF-6E4C9A2A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8CE-8EE5-43D8-855B-21FE81E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0978-18D5-400A-B153-6FF2E10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AC00-754F-4414-B862-F031AC4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F412-64BB-4B0E-9CB9-A3F8635A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F06C-C7C5-43A0-A0DE-F999A90D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950D-64CD-425D-839B-318B56C1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9D7-136E-4E28-AB24-41E53D7E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233-F103-456A-AB82-C9E001D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76B-B240-436B-A2EE-AE8CA819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91B-10FC-4279-83A6-971F1CC0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DD3-2A71-4104-B756-6006729C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BBB-43BE-413C-B000-1350F46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747-73BB-44CF-89F2-E4D728B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83A-B8FE-4084-A37D-5A3FED048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77AE-E398-4672-BB08-19D6F13C40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WRArticleImage.jp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оссия вступает в 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XX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век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ая армия оказалась без снарядов, винтовок, сапог. Деревня осталась без работников. Зимой не хватало топл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и во всех бедах винили генералов, министров и самого ца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бои с продажей хлеба, рабочие вышли на улицы, на сторону народа перешли войска, император был вынужден отречься от прест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Временному правительств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их входили депутаты от рабочих , крестьян и солд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5 октября 1917 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красными и бел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ки большевиков – красные, их противники – бел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673236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ЛОМОНО~1"/>
          <p:cNvPicPr/>
          <p:nvPr/>
        </p:nvPicPr>
        <p:blipFill>
          <a:blip r:embed="rId1"/>
          <a:stretch/>
        </p:blipFill>
        <p:spPr>
          <a:xfrm>
            <a:off x="755640" y="321300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95280" y="4046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ертикал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Это впервые появилось в России при Петр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акой царь подписал манифест о крестьянской вольнос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Кто стал продолжателем дел Пет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Кем работал молодой Пётр во время путешествия по Европ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Где родился М.В. Ломоносов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горизонта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Какая страна напала на Россию в 1812 го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Чем стала Россия при Петре Великом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акой город появился при Петр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Что происходило в Москве, когда туда вошли французы в 1812 го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Как называлась первая русская печатная книг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Что было построено в Москве в честь победы над Наполеоном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Кто напал на Россию в 17 век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Кто был избран на престол в 1613 го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petr1"/>
          <p:cNvPicPr/>
          <p:nvPr/>
        </p:nvPicPr>
        <p:blipFill>
          <a:blip r:embed="rId2"/>
          <a:stretch/>
        </p:blipFill>
        <p:spPr>
          <a:xfrm>
            <a:off x="755640" y="692280"/>
            <a:ext cx="934920" cy="11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ы к кроссворд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вертикал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блиот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анд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кате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лмого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горизонта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ан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е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катеринбур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жа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осто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а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я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ссия вступает в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XX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век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ление Никол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 феврале 1913 г отмечалось 300 лет со дня избрания Романовых на царств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мировая война (1914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вральская революция (1917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тябрьская революция (1917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жданская война (1917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F:\Россия вступ в 20 век рисунки\53629_spas-na-krovi_sankt-peterburg_nebo_4090x2829_(www_GdeFon_ru).jpg"/>
          <p:cNvPicPr/>
          <p:nvPr/>
        </p:nvPicPr>
        <p:blipFill>
          <a:blip r:embed="rId1"/>
          <a:stretch/>
        </p:blipFill>
        <p:spPr>
          <a:xfrm>
            <a:off x="873000" y="1428840"/>
            <a:ext cx="69566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03280" y="90792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й Александрович Романов был последним русским царём. Царствовал Никола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3 года. При нём, в 1913 году, было пышно отпраздновано 300-летие династии (царского рода) Романов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" descr="Николай II"/>
          <p:cNvPicPr/>
          <p:nvPr/>
        </p:nvPicPr>
        <p:blipFill>
          <a:blip r:embed="rId1"/>
          <a:stretch/>
        </p:blipFill>
        <p:spPr>
          <a:xfrm>
            <a:off x="250920" y="1484280"/>
            <a:ext cx="27939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5ee299bde290"/>
          <p:cNvPicPr/>
          <p:nvPr/>
        </p:nvPicPr>
        <p:blipFill>
          <a:blip r:embed="rId1"/>
          <a:stretch/>
        </p:blipFill>
        <p:spPr>
          <a:xfrm>
            <a:off x="1692360" y="907920"/>
            <a:ext cx="5715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381200" y="549000"/>
            <a:ext cx="476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августа 1914 года началась первая мировая война. Основн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тивниками в этой войне были Россия и Германия. Нашлись люди, которые потребовали заменить немецкое название города русским, и город стал Петроград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1" descr="C:\Users\Администратор\Documents\Россия вступает в 20 век\Первая мировая война.jpg"/>
          <p:cNvPicPr/>
          <p:nvPr/>
        </p:nvPicPr>
        <p:blipFill>
          <a:blip r:embed="rId1"/>
          <a:stretch/>
        </p:blipFill>
        <p:spPr>
          <a:xfrm>
            <a:off x="179280" y="620640"/>
            <a:ext cx="4021200" cy="5457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назывался город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11640" y="1341000"/>
            <a:ext cx="4340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03 г.  до 1914 г. – </a:t>
            </a:r>
            <a:r>
              <a:rPr b="0" lang="ru-RU" sz="2800" spc="-1" strike="noStrike">
                <a:solidFill>
                  <a:srgbClr val="07c0d9"/>
                </a:solidFill>
                <a:latin typeface="Arial"/>
              </a:rPr>
              <a:t>Санкт –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14 г. до 1924 г. – </a:t>
            </a:r>
            <a:r>
              <a:rPr b="0" lang="ru-RU" sz="2800" spc="-1" strike="noStrike">
                <a:solidFill>
                  <a:srgbClr val="07c0d9"/>
                </a:solidFill>
                <a:latin typeface="Arial"/>
              </a:rPr>
              <a:t>Петро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24 г. до 1991 г. – </a:t>
            </a:r>
            <a:r>
              <a:rPr b="0" lang="ru-RU" sz="2800" spc="-1" strike="noStrike">
                <a:solidFill>
                  <a:srgbClr val="07c0d9"/>
                </a:solidFill>
                <a:latin typeface="Arial"/>
              </a:rPr>
              <a:t>Ленин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91 г.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c0d9"/>
                </a:solidFill>
                <a:latin typeface="Arial"/>
              </a:rPr>
              <a:t>Санкт - Петербур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864889a26d62t"/>
          <p:cNvPicPr/>
          <p:nvPr/>
        </p:nvPicPr>
        <p:blipFill>
          <a:blip r:embed="rId1"/>
          <a:stretch/>
        </p:blipFill>
        <p:spPr>
          <a:xfrm>
            <a:off x="571680" y="1413000"/>
            <a:ext cx="407160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евральская револю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2" descr="http://images.humanities.edu.ru/pubs/2003/05/30/0000019934/201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2000" cy="2786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" descr="http://images.humanities.edu.ru/pubs/2003/05/30/0000019934/267.jpg"/>
          <p:cNvPicPr/>
          <p:nvPr/>
        </p:nvPicPr>
        <p:blipFill>
          <a:blip r:embed="rId2"/>
          <a:stretch/>
        </p:blipFill>
        <p:spPr>
          <a:xfrm>
            <a:off x="4572000" y="3789360"/>
            <a:ext cx="4149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ажданская во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Рисунок 1" descr="CWRArticleIm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6960" y="1600200"/>
            <a:ext cx="3558960" cy="452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ая страшная из войн – гражданская, когда воюют между собой граждане одной ст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435640" y="2421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00 лет со дня избрания Романовых на цар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устя 4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 казалось несправедливым, что на вершине власти находится один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 единомышленников, которые выдвигали свои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тия раскалывалась на ч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инство членов партии  были сторонниками В.И.Лен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14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её были вовлечены многие государ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дания, беды, разрушения и разо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9:29:44Z</dcterms:created>
  <dc:creator>Пользователь</dc:creator>
  <dc:description/>
  <dc:language>en-US</dc:language>
  <cp:lastModifiedBy>1</cp:lastModifiedBy>
  <dcterms:modified xsi:type="dcterms:W3CDTF">2014-01-26T14:13:11Z</dcterms:modified>
  <cp:revision>17</cp:revision>
  <dc:subject/>
  <dc:title>Россия вступает в XX век</dc:title>
</cp:coreProperties>
</file>