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F45-BE7F-4D57-A15A-895C27A5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FC0-2056-4DF1-88E8-3D6E3E9F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E02-D1D0-4C2B-A668-56DDC664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12B-B255-4458-BBDA-8C69E1BE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A0B1-E6B8-4402-95FE-7E0CF104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EC75-E2E8-4899-B401-C3C07A8D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B846-1E50-48CA-A1AB-88B0080E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9771-2B1F-4962-9384-89227457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7395-D17F-4908-B338-EBC94815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0AF5-0841-4223-87C9-C98119EB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FA69-75FA-475C-A0EF-56DCFDB9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079-470B-4C93-94AC-BB68C848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C55E-4E1E-4056-9139-DD256D50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3C31-0A5C-4984-B719-9A2912F9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2579-CEEB-4C14-8AF3-E9D94BA2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A781-A2E2-4160-8EFA-325490AA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5F39-3905-4221-9F11-E5E59DA6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B79-1624-4FDF-B7D1-2054086A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FCE-6411-488D-9937-AE482A7C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40D-7D6A-4858-B6DB-10072DDF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408-750F-4588-902D-98CF39D8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D4F-B8A9-4B6D-A705-B86CD16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45C-0662-4B46-9CA5-BE0EAEA6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6B7A-35D3-4BC7-8EE8-73D0A7C2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72A4-8BDD-4B9B-B21D-33078046A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51C5-4A03-47E2-A3AD-CA0945BFE3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WRArticleImage.jp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оссия вступает в 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XX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век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сская армия оказалась без снарядов, винтовок, сапог. Деревня осталась без работников. Зимой не хватало топл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ди во всех бедах винили генералов, министров и самого ца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бои с продажей хлеба, рабочие вышли на улицы, на сторону народа перешли войска, император был вынужден отречься от прест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Временному правительств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их входили депутаты от рабочих , крестьян и солд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5 октября 1917 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 красными и бел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ники большевиков – красные, их противники – бел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971640" y="0"/>
            <a:ext cx="673236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6" descr="ЛОМОНО~1"/>
          <p:cNvPicPr/>
          <p:nvPr/>
        </p:nvPicPr>
        <p:blipFill>
          <a:blip r:embed="rId1"/>
          <a:stretch/>
        </p:blipFill>
        <p:spPr>
          <a:xfrm>
            <a:off x="755640" y="3213000"/>
            <a:ext cx="838080" cy="1143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395280" y="4046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вертикал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Это впервые появилось в России при Петр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акой царь подписал манифест о крестьянской вольност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Кто стал продолжателем дел Пет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Кем работал молодой Пётр во время путешествия по Европ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Где родился М.В. Ломоносов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горизонта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Какая страна напала на Россию в 1812 год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Чем стала Россия при Петре Великом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акой город появился при Петр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Что происходило в Москве, когда туда вошли французы в 1812 год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Как называлась первая русская печатная книг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Что было построено в Москве в честь победы над Наполеоном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Кто напал на Россию в 17 век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Кто был избран на престол в 1613 год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petr1"/>
          <p:cNvPicPr/>
          <p:nvPr/>
        </p:nvPicPr>
        <p:blipFill>
          <a:blip r:embed="rId2"/>
          <a:stretch/>
        </p:blipFill>
        <p:spPr>
          <a:xfrm>
            <a:off x="755640" y="692280"/>
            <a:ext cx="934920" cy="11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ы к кроссворд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вертикал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ёт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блиот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ександ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кате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лмого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горизонта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ан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пе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катеринбур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жа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осто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а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я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н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оссия вступает в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XX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век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быт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ление Никол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в феврале 1913 г отмечалось 300 лет со дня избрания Романовых на царств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мировая война (1914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вральская революция (1917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тябрьская революция (1917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жданская война (1917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F:\Россия вступ в 20 век рисунки\53629_spas-na-krovi_sankt-peterburg_nebo_4090x2829_(www_GdeFon_ru).jpg"/>
          <p:cNvPicPr/>
          <p:nvPr/>
        </p:nvPicPr>
        <p:blipFill>
          <a:blip r:embed="rId1"/>
          <a:stretch/>
        </p:blipFill>
        <p:spPr>
          <a:xfrm>
            <a:off x="873000" y="1428840"/>
            <a:ext cx="69566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03280" y="90792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й Александрович Романов был последним русским царём. Царствовал Никола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3 года. При нём, в 1913 году, было пышно отпраздновано 300-летие династии (царского рода) Романовы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1" descr="Николай II"/>
          <p:cNvPicPr/>
          <p:nvPr/>
        </p:nvPicPr>
        <p:blipFill>
          <a:blip r:embed="rId1"/>
          <a:stretch/>
        </p:blipFill>
        <p:spPr>
          <a:xfrm>
            <a:off x="250920" y="1484280"/>
            <a:ext cx="27939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5ee299bde290"/>
          <p:cNvPicPr/>
          <p:nvPr/>
        </p:nvPicPr>
        <p:blipFill>
          <a:blip r:embed="rId1"/>
          <a:stretch/>
        </p:blipFill>
        <p:spPr>
          <a:xfrm>
            <a:off x="1692360" y="907920"/>
            <a:ext cx="5715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381200" y="549000"/>
            <a:ext cx="476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августа 1914 года началась первая мировая война. Основны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тивниками в этой войне были Россия и Германия. Нашлись люди, которые потребовали заменить немецкое название города русским, и город стал Петроград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1" descr="C:\Users\Администратор\Documents\Россия вступает в 20 век\Первая мировая война.jpg"/>
          <p:cNvPicPr/>
          <p:nvPr/>
        </p:nvPicPr>
        <p:blipFill>
          <a:blip r:embed="rId1"/>
          <a:stretch/>
        </p:blipFill>
        <p:spPr>
          <a:xfrm>
            <a:off x="179280" y="620640"/>
            <a:ext cx="4021200" cy="5457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назывался город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11640" y="1341000"/>
            <a:ext cx="4340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03 г.  до 1914 г. – </a:t>
            </a:r>
            <a:r>
              <a:rPr b="0" lang="ru-RU" sz="2800" spc="-1" strike="noStrike">
                <a:solidFill>
                  <a:srgbClr val="07c0d9"/>
                </a:solidFill>
                <a:latin typeface="Arial"/>
              </a:rPr>
              <a:t>Санкт –Петербу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914 г. до 1924 г. – </a:t>
            </a:r>
            <a:r>
              <a:rPr b="0" lang="ru-RU" sz="2800" spc="-1" strike="noStrike">
                <a:solidFill>
                  <a:srgbClr val="07c0d9"/>
                </a:solidFill>
                <a:latin typeface="Arial"/>
              </a:rPr>
              <a:t>Петро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924 г. до 1991 г. – </a:t>
            </a:r>
            <a:r>
              <a:rPr b="0" lang="ru-RU" sz="2800" spc="-1" strike="noStrike">
                <a:solidFill>
                  <a:srgbClr val="07c0d9"/>
                </a:solidFill>
                <a:latin typeface="Arial"/>
              </a:rPr>
              <a:t>Ленин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991 г.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c0d9"/>
                </a:solidFill>
                <a:latin typeface="Arial"/>
              </a:rPr>
              <a:t>Санкт - Петербур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864889a26d62t"/>
          <p:cNvPicPr/>
          <p:nvPr/>
        </p:nvPicPr>
        <p:blipFill>
          <a:blip r:embed="rId1"/>
          <a:stretch/>
        </p:blipFill>
        <p:spPr>
          <a:xfrm>
            <a:off x="571680" y="1413000"/>
            <a:ext cx="407160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евральская револю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Рисунок 2" descr="http://images.humanities.edu.ru/pubs/2003/05/30/0000019934/201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2000" cy="27860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" descr="http://images.humanities.edu.ru/pubs/2003/05/30/0000019934/267.jpg"/>
          <p:cNvPicPr/>
          <p:nvPr/>
        </p:nvPicPr>
        <p:blipFill>
          <a:blip r:embed="rId2"/>
          <a:stretch/>
        </p:blipFill>
        <p:spPr>
          <a:xfrm>
            <a:off x="4572000" y="3789360"/>
            <a:ext cx="4149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ражданская вой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Рисунок 1" descr="CWRArticleIm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6960" y="1600200"/>
            <a:ext cx="3558960" cy="452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ая страшная из войн – гражданская, когда воюют между собой граждане одной стра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435640" y="242100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00 лет со дня избрания Романовых на цар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устя 4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 казалось несправедливым, что на вершине власти находится один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а единомышленников, которые выдвигали свои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тия раскалывалась на ч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инство членов партии  были сторонниками В.И.Лен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14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её были вовлечены многие государ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дания, беды, разрушения и разо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9:29:44Z</dcterms:created>
  <dc:creator>Пользователь</dc:creator>
  <dc:description/>
  <dc:language>en-US</dc:language>
  <cp:lastModifiedBy>1</cp:lastModifiedBy>
  <dcterms:modified xsi:type="dcterms:W3CDTF">2014-01-26T14:13:11Z</dcterms:modified>
  <cp:revision>17</cp:revision>
  <dc:subject/>
  <dc:title>Россия вступает в XX век</dc:title>
</cp:coreProperties>
</file>