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1EE7-1F24-43C7-AD99-29A3CB12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B4DD-FD5E-4065-A6D7-6644A391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4780-28E5-4EC1-B164-CD54DA91D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180F-7346-4D4F-BDD9-5999FB6B9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D1E2-8E9F-474E-863E-EB0F81B5D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6D5D-2997-40FB-AF32-ACA2283E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A17A-6D5A-4BF1-BC52-CCE0AD2B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A31C-14D4-4B58-AEDA-FE615F7A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394C-B3E5-4125-9137-34E87983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1B13-9186-4FF1-ADBE-4A33D00E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B8EB-4E08-4BB5-8551-32E95064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6263-8BE0-4AE3-AEFD-B9E7AF48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C483-F647-423B-87CA-83FEB69A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B25F-0427-4C4A-AA00-355F5F65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CCB1-2526-4DF6-BDB3-05E5A3C7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6FAD-6A39-45BA-B3E3-F99C685BE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6E44-F01E-4602-8E9C-E8E1B619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0588-EFB3-4CEA-B24B-34BEA476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F5DD-5CF3-4463-BB56-5DCC4A0F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3F22-0D53-423A-92BD-C34F637E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14B4-E024-435E-8B40-7F76CF28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D811-2B40-42FF-B513-9DB43A11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BB5F-DB8E-432F-A167-F5592201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FED4-61EF-4483-A4D8-2DFB9D20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B507-BFAB-4F35-AABB-F3BEBEF93F2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5B7A-8EB8-4A88-B6D2-ED40FE31AA1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audio" Target="file:///tmp/home/.config/libreoffice/4/user/gallery/01%20-%20&#1090;&#1088;&#1091;&#1089;%20&#1085;&#1077;%20&#1080;&#1075;&#1088;&#1072;&#1077;&#1090;.wav" TargetMode="External"/><Relationship Id="rId8" Type="http://schemas.microsoft.com/office/2007/relationships/media" Target="file:///tmp/home/.config/libreoffice/4/user/gallery/01%20-%20&#1090;&#1088;&#1091;&#1089;%20&#1085;&#1077;%20&#1080;&#1075;&#1088;&#1072;&#1077;&#1090;.wav" TargetMode="External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Times New Roman"/>
              </a:rPr>
              <a:t>Урок информатики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284360" y="4869000"/>
            <a:ext cx="4537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: Гвозденко Ольга Виктор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50920" y="746280"/>
            <a:ext cx="8640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етверо друзей — Алик, Володя, Миша и Юра — собрались в доме у Миши. Мальчики оживленно беседовали о том, как они провели лет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у, Балашов, ты, наконец, научился плавать? — спросил Волод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, еще как, — ответил Балашов, — могу теперь потягаться в плавании с тобой и Алик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осмотрите, какой я гербарий собрал, — сказал Петров, прерывая разговор друзей, и достал из шкафа большую пап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сем, особенно Лунину и Алику, гербарий очень понравился. А Симонов обещал показать товарищам собранную им коллекцию минералов. Назовите имя и фамилию каждого мальчи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407664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95640" y="1484280"/>
            <a:ext cx="287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41440" y="1844640"/>
            <a:ext cx="7162920" cy="876240"/>
          </a:xfrm>
          <a:prstGeom prst="wedgeRectCallout">
            <a:avLst>
              <a:gd name="adj1" fmla="val -46120"/>
              <a:gd name="adj2" fmla="val 187861"/>
            </a:avLst>
          </a:prstGeom>
          <a:solidFill>
            <a:srgbClr val="ffcc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Миша и Петров – одно лицо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324000" y="1628640"/>
          <a:ext cx="8494560" cy="4089600"/>
        </p:xfrm>
        <a:graphic>
          <a:graphicData uri="http://schemas.openxmlformats.org/drawingml/2006/table">
            <a:tbl>
              <a:tblPr/>
              <a:tblGrid>
                <a:gridCol w="1655640"/>
                <a:gridCol w="1709640"/>
                <a:gridCol w="1709640"/>
                <a:gridCol w="1710000"/>
                <a:gridCol w="170964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лашов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тров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унин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монов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и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лод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ш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Ю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7728120" y="257184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99040" y="33638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79280" y="817560"/>
            <a:ext cx="8785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етверо друзей — Алик, Володя, Миша и Юра — собрались в доме у Миши. Мальчики оживленно беседовали о том, как они провели лет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у, Балашов, ты, наконец, научился плавать? — спросил Волод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, еще как, — ответил Балашов, — могу теперь потягаться в плавании с тобой и Алик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мотрите, какой я гербарий собрал, — сказал Петров, прерывая разговор друзей, и достал из шкафа большую пап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сем, особенно Лунину и Алику, гербарий очень понравился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А Симонов обещал показать товарищам собранную им коллекцию минерал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зовите имя и фамилию каждого мальчи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216240" y="4869000"/>
            <a:ext cx="2795760" cy="0"/>
            <a:chOff x="3216240" y="4869000"/>
            <a:chExt cx="2795760" cy="0"/>
          </a:xfrm>
        </p:grpSpPr>
        <p:sp>
          <p:nvSpPr>
            <p:cNvPr id="148" name=""/>
            <p:cNvSpPr/>
            <p:nvPr/>
          </p:nvSpPr>
          <p:spPr>
            <a:xfrm>
              <a:off x="3216240" y="4869000"/>
              <a:ext cx="1067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16600" y="4869000"/>
              <a:ext cx="995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2247840" y="3141720"/>
            <a:ext cx="4556160" cy="685800"/>
          </a:xfrm>
          <a:prstGeom prst="wedgeRectCallout">
            <a:avLst>
              <a:gd name="adj1" fmla="val -1601"/>
              <a:gd name="adj2" fmla="val 154398"/>
            </a:avLst>
          </a:prstGeom>
          <a:solidFill>
            <a:srgbClr val="ffcc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Лунин - не Алик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762120" y="1219320"/>
          <a:ext cx="7848360" cy="3217320"/>
        </p:xfrm>
        <a:graphic>
          <a:graphicData uri="http://schemas.openxmlformats.org/drawingml/2006/table">
            <a:tbl>
              <a:tblPr/>
              <a:tblGrid>
                <a:gridCol w="1295280"/>
                <a:gridCol w="1676520"/>
                <a:gridCol w="1828800"/>
                <a:gridCol w="1447560"/>
                <a:gridCol w="1600200"/>
              </a:tblGrid>
              <a:tr h="72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лаш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тр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ун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мон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лод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ш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Ю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2" name=""/>
          <p:cNvGrpSpPr/>
          <p:nvPr/>
        </p:nvGrpSpPr>
        <p:grpSpPr>
          <a:xfrm>
            <a:off x="1619280" y="2349360"/>
            <a:ext cx="6934320" cy="1295280"/>
            <a:chOff x="1619280" y="2349360"/>
            <a:chExt cx="6934320" cy="1295280"/>
          </a:xfrm>
        </p:grpSpPr>
        <p:sp>
          <p:nvSpPr>
            <p:cNvPr id="153" name=""/>
            <p:cNvSpPr/>
            <p:nvPr/>
          </p:nvSpPr>
          <p:spPr>
            <a:xfrm>
              <a:off x="4362480" y="3263760"/>
              <a:ext cx="45720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19280" y="3430440"/>
              <a:ext cx="274320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15120" y="2349360"/>
              <a:ext cx="0" cy="9144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19680" y="2577960"/>
              <a:ext cx="3733920" cy="533520"/>
            </a:xfrm>
            <a:prstGeom prst="wedgeRectCallout">
              <a:avLst>
                <a:gd name="adj1" fmla="val -53314"/>
                <a:gd name="adj2" fmla="val 102083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Миша Петров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7596360" y="1989000"/>
            <a:ext cx="45720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908000" y="1915920"/>
            <a:ext cx="5562720" cy="140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1523880"/>
            <a:ext cx="0" cy="152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685800"/>
            <a:ext cx="3733920" cy="533520"/>
          </a:xfrm>
          <a:prstGeom prst="wedgeRectCallout">
            <a:avLst>
              <a:gd name="adj1" fmla="val 52296"/>
              <a:gd name="adj2" fmla="val 152976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лик Симон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908000" y="2133720"/>
            <a:ext cx="4572000" cy="837720"/>
            <a:chOff x="1908000" y="2133720"/>
            <a:chExt cx="4572000" cy="837720"/>
          </a:xfrm>
        </p:grpSpPr>
        <p:sp>
          <p:nvSpPr>
            <p:cNvPr id="162" name=""/>
            <p:cNvSpPr/>
            <p:nvPr/>
          </p:nvSpPr>
          <p:spPr>
            <a:xfrm>
              <a:off x="6022800" y="2590560"/>
              <a:ext cx="45720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08000" y="2895480"/>
              <a:ext cx="403848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03520" y="2190600"/>
              <a:ext cx="0" cy="38052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83960" y="2133720"/>
              <a:ext cx="3733920" cy="533160"/>
            </a:xfrm>
            <a:prstGeom prst="wedgeRectCallout">
              <a:avLst>
                <a:gd name="adj1" fmla="val 57143"/>
                <a:gd name="adj2" fmla="val 75296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Володя Лунин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403280" y="5373720"/>
            <a:ext cx="3097440" cy="609480"/>
          </a:xfrm>
          <a:prstGeom prst="wedgeRectCallout">
            <a:avLst>
              <a:gd name="adj1" fmla="val 745"/>
              <a:gd name="adj2" fmla="val -253384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Юра Балаш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19280" y="4076640"/>
            <a:ext cx="115236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00360" y="1700280"/>
            <a:ext cx="71280" cy="23050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00360" y="3860640"/>
            <a:ext cx="431640" cy="43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113A-B185-4E1C-959B-0C638E238C4E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539640" y="512640"/>
            <a:ext cx="8104320" cy="56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Объекты двух классов находятся в отношении взаимно однозначного соответствия, есл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82520" algn="just"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этих классах одинаковое количество объек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82520" algn="just"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ждый объект первого класса связан заданным свойством только с одним объектом второго клас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оответствующей таблице типа ООО в каждой строке и каждой графе будет находиться только одна 1, фиксирующая наличие связи между объектами. Это свойство можно использовать при решении логических зада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shaiba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780000" y="2637000"/>
            <a:ext cx="1655640" cy="1531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shaiba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468360" y="40464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6" descr="shaiba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7380360" y="40464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7" descr="shaiba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7236000" y="508464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8" descr="shaiba"/>
          <p:cNvPicPr/>
          <p:nvPr/>
        </p:nvPicPr>
        <p:blipFill>
          <a:blip r:embed="rId5">
            <a:lum bright="-12000"/>
          </a:blip>
          <a:stretch/>
        </p:blipFill>
        <p:spPr>
          <a:xfrm>
            <a:off x="468360" y="508464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9" descr="shaiba"/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2195640" y="429264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49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0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7000"/>
                            </p:stCondLst>
                            <p:childTnLst>
                              <p:par>
                                <p:cTn id="1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8000"/>
                            </p:stCondLst>
                            <p:childTnLst>
                              <p:par>
                                <p:cTn id="166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63 -0.34259 C 0.18507 -0.34259 0.32691 -0.19027 0.32691 -0.00277 C 0.32691 0.18426 0.18507 0.33704 0.01163 0.33704 C -0.16198 0.33704 -0.30313 0.18426 -0.30313 -0.00277 C -0.30313 -0.19027 -0.16198 -0.34259 0.01163 -0.34259 Z">
                                      <p:cBhvr>
                                        <p:cTn id="167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3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7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8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2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86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2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3000"/>
                            </p:stCondLst>
                            <p:childTnLst>
                              <p:par>
                                <p:cTn id="191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6000"/>
                            </p:stCondLst>
                            <p:childTnLst>
                              <p:par>
                                <p:cTn id="195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8000"/>
                            </p:stCondLst>
                            <p:childTnLst>
                              <p:par>
                                <p:cTn id="200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1000"/>
                            </p:stCondLst>
                            <p:childTnLst>
                              <p:par>
                                <p:cTn id="204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5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3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65 0.10254 L -0.07865 -0.5588 L 0.46476 -0.5588 L 0.46476 0.10254 L -0.07865 0.10254 Z">
                                      <p:cBhvr>
                                        <p:cTn id="213" dur="3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78"/>
                </p:tgtEl>
              </p:cMediaNode>
            </p:audio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87280" y="1089000"/>
            <a:ext cx="8461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ша, Оля, Лена и Валя — замечательные девочки. Каждая из них играет на каком-нибудь музыкальном инструменте и говорит на одном из иностранных языков. Инструменты и языки у них разные. Маша играет на рояле. Девочка, которая говорит по-французски, играет на скрипке. Оля играет на виолончели. Маша не знает итальянского языка, а Оля не владеет английским. Лена не играет на арфе, а виолончелистка не говорит по-итальянс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ужно определить, на каком инструменте играет каждая из девочек и каким иностранным языком она владе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19280" y="33336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b7"/>
                </a:solidFill>
                <a:latin typeface="Times New Roman"/>
              </a:rPr>
              <a:t>Задача №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24000" y="189000"/>
            <a:ext cx="8353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В задаче рассматриваются объекты классов «девочка» (объекты с именами «Маша», «Оля», «Лена» и «Валя»), «музыкальный инструмент» («рояль», «скрипка», «виолончель», «арфа») и «иностранный язык» («французский», «немецкий», «английский», «итальянский»).</a:t>
            </a:r>
            <a:r>
              <a:rPr b="0" lang="en-US" sz="2200" spc="-1" strike="noStrike">
                <a:solidFill>
                  <a:srgbClr val="ffffff"/>
                </a:solidFill>
                <a:latin typeface="Stenci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tencil"/>
                <a:ea typeface="Times New Roman"/>
              </a:rPr>
              <a:t>Пары образуются из объектов классов «девочка» — «музыкальный инструмент», «девочка» — «иностранный язык», «музыкальный инструмент» — «иностранный язык», причем между объектами этих классов существует взаимно однозначное соответствие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00360" y="3645000"/>
            <a:ext cx="3024000" cy="115236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воч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4360" y="5516640"/>
            <a:ext cx="3024000" cy="115236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зыкальн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струме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435640" y="5516640"/>
            <a:ext cx="3024000" cy="1152360"/>
          </a:xfrm>
          <a:prstGeom prst="ellipse">
            <a:avLst/>
          </a:prstGeom>
          <a:solidFill>
            <a:srgbClr val="00cc00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остран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зы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763280" y="4437000"/>
            <a:ext cx="973080" cy="111600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708360" y="6021360"/>
            <a:ext cx="1728720" cy="3492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580000" y="4581360"/>
            <a:ext cx="1440000" cy="86544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900000" y="1989000"/>
          <a:ext cx="7956360" cy="4538880"/>
        </p:xfrm>
        <a:graphic>
          <a:graphicData uri="http://schemas.openxmlformats.org/drawingml/2006/table">
            <a:tbl>
              <a:tblPr/>
              <a:tblGrid>
                <a:gridCol w="1776240"/>
                <a:gridCol w="2365560"/>
                <a:gridCol w="1044360"/>
                <a:gridCol w="870120"/>
                <a:gridCol w="906480"/>
                <a:gridCol w="993600"/>
              </a:tblGrid>
              <a:tr h="45972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влеч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воч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ш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е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зыкальный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струмент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я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крип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олонч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рф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остранный язы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ранцузс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мец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нглийс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альянс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503280" y="4689360"/>
            <a:ext cx="82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056360" y="332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3640" y="333360"/>
            <a:ext cx="615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так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а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ет на роял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ля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ет на виолончел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на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играет на арф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48360" y="288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19640" y="288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88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56720" y="2924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48360" y="3357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84720" y="3824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84720" y="422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56360" y="3824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19640" y="3357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4257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020000" y="378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993080" y="378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056360" y="4257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993080" y="339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956720" y="4257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900000" y="2060640"/>
          <a:ext cx="8101080" cy="4538520"/>
        </p:xfrm>
        <a:graphic>
          <a:graphicData uri="http://schemas.openxmlformats.org/drawingml/2006/table">
            <a:tbl>
              <a:tblPr/>
              <a:tblGrid>
                <a:gridCol w="1808280"/>
                <a:gridCol w="2409840"/>
                <a:gridCol w="1062000"/>
                <a:gridCol w="885960"/>
                <a:gridCol w="922320"/>
                <a:gridCol w="1012680"/>
              </a:tblGrid>
              <a:tr h="45972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влеч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воч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ш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е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зыкальный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струмент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я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крип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олонч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рф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остранный язы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ранцузс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мец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нглийс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альянс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792000" y="115920"/>
            <a:ext cx="8352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перь, учитывая связи, зафиксированные в первой части таблицы, приступим к заполнению ее второй части: Девочка, которая </a:t>
            </a:r>
            <a:r>
              <a:rPr b="0" i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ворит по-французски,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ет на скрипке.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ша </a:t>
            </a:r>
            <a:r>
              <a:rPr b="0" i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знает итальянского языка,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Оля </a:t>
            </a:r>
            <a:r>
              <a:rPr b="0" i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владеет английским.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олончелистка </a:t>
            </a:r>
            <a:r>
              <a:rPr b="0" i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говорит по-итальянск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31640" y="4797360"/>
            <a:ext cx="82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64360" y="479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244000" y="5734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19640" y="479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72360" y="479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244000" y="479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164360" y="522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164360" y="566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64360" y="6165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19640" y="6165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956720" y="6129360"/>
            <a:ext cx="3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00720" y="566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00720" y="6165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300720" y="522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19640" y="522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244000" y="5300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19640" y="5734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бус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320832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Рисунок 11" descr=""/>
          <p:cNvPicPr/>
          <p:nvPr/>
        </p:nvPicPr>
        <p:blipFill>
          <a:blip r:embed="rId1"/>
          <a:stretch/>
        </p:blipFill>
        <p:spPr>
          <a:xfrm>
            <a:off x="1547640" y="4292640"/>
            <a:ext cx="5648400" cy="1962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782160" y="371628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абл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92840" y="264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Рисунок 28" descr=""/>
          <p:cNvPicPr/>
          <p:nvPr/>
        </p:nvPicPr>
        <p:blipFill>
          <a:blip r:embed="rId2"/>
          <a:stretch/>
        </p:blipFill>
        <p:spPr>
          <a:xfrm>
            <a:off x="1476360" y="1125360"/>
            <a:ext cx="5638680" cy="2533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069800" y="623736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ог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476360" y="0"/>
            <a:ext cx="62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Практическая раб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620640"/>
            <a:ext cx="828036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имфонический оркестр приняли на работу трёх музыкантов: Брауна, Смита и Вессона, умеющих играть на скрипке, флейте, альте, кларнете, гобое и труб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вестно, что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ит самый высоки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ющий на скрипке меньше ростом играющего на флейте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ющие на скрипке и флейте и Браун любят пиццу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между альтистом и трубачом возникает ссора, Смит мирит и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аун не умеет играть ни на трубе, ни на гобо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каких инструментах играет каждый из музыкантов, если каждый владеет двумя инструментами?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539640" y="3789360"/>
          <a:ext cx="8353440" cy="2700360"/>
        </p:xfrm>
        <a:graphic>
          <a:graphicData uri="http://schemas.openxmlformats.org/drawingml/2006/table">
            <a:tbl>
              <a:tblPr/>
              <a:tblGrid>
                <a:gridCol w="1193400"/>
                <a:gridCol w="1193760"/>
                <a:gridCol w="1193400"/>
                <a:gridCol w="1191960"/>
                <a:gridCol w="1193400"/>
                <a:gridCol w="1193760"/>
                <a:gridCol w="119376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струмен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крипк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лейт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льт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рнет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б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уб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рау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ми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ссо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468360" y="1125360"/>
          <a:ext cx="8209080" cy="3565440"/>
        </p:xfrm>
        <a:graphic>
          <a:graphicData uri="http://schemas.openxmlformats.org/drawingml/2006/table">
            <a:tbl>
              <a:tblPr/>
              <a:tblGrid>
                <a:gridCol w="1173240"/>
                <a:gridCol w="1173240"/>
                <a:gridCol w="1173240"/>
                <a:gridCol w="1170000"/>
                <a:gridCol w="1172880"/>
                <a:gridCol w="1173240"/>
                <a:gridCol w="1173240"/>
              </a:tblGrid>
              <a:tr h="551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струмен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крипк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лейт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льт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рнет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б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уб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рау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ми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ссо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"/>
          <p:cNvSpPr/>
          <p:nvPr/>
        </p:nvSpPr>
        <p:spPr>
          <a:xfrm>
            <a:off x="1403280" y="508464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твет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Браун играет на альте и кларнете, Смит — на флейте и гобое, Вессон — на скрипке и труб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332000" y="54936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b7"/>
                </a:solidFill>
                <a:latin typeface="Arial"/>
              </a:rPr>
              <a:t>Рефлекс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4360" y="1773360"/>
            <a:ext cx="62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рок понравился, я всё понял 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4360" y="292428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рок хороший, но я немного не понял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4360" y="4149720"/>
            <a:ext cx="46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рок нормальный, но я ничего не понял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27640" y="1484280"/>
            <a:ext cx="1008000" cy="10080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292720" y="2565360"/>
            <a:ext cx="1008000" cy="1008000"/>
          </a:xfrm>
          <a:prstGeom prst="smileyFace">
            <a:avLst>
              <a:gd name="adj" fmla="val -592"/>
            </a:avLst>
          </a:prstGeom>
          <a:solidFill>
            <a:srgbClr val="ffffff"/>
          </a:solidFill>
          <a:ln w="316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08720" y="3716280"/>
            <a:ext cx="1008000" cy="1008000"/>
          </a:xfrm>
          <a:prstGeom prst="smileyFace">
            <a:avLst>
              <a:gd name="adj" fmla="val -4652"/>
            </a:avLst>
          </a:prstGeom>
          <a:solidFill>
            <a:srgbClr val="ffffff"/>
          </a:solidFill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11280" y="2637000"/>
            <a:ext cx="806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b7"/>
                </a:solidFill>
                <a:latin typeface="Times New Roman"/>
              </a:rPr>
              <a:t>Решение логических задач    с помощью нескольких табли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35280" y="333360"/>
            <a:ext cx="52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«Чем больше упражняем наш мозг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тем интереснее жить в этом мир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333360"/>
            <a:ext cx="8101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етверо друзей — Алик, Володя, Миша и Юра — собрались в доме у Миши. Мальчики оживленно беседовали о том, как они провели лет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у, Балашов, ты, наконец, научился плавать? — спросил Волод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, еще как, — ответил Балашов, — могу теперь потягаться в плавании с тобой и Алик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мотрите, какой я гербарий собрал, — сказал Петров, прерывая разговор друзей, и достал из шкафа большую пап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сем, особенно Лунину и Алику, гербарий очень понравился. А Симонов обещал показать товарищам собранную им коллекцию минерал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зовите имя и фамилию каждого мальч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32000" y="692280"/>
            <a:ext cx="489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76360" y="2205000"/>
            <a:ext cx="151128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84640" y="479736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71640" y="515772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407664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19280" y="1197000"/>
            <a:ext cx="6481800" cy="1371600"/>
          </a:xfrm>
          <a:prstGeom prst="wedgeRectCallout">
            <a:avLst>
              <a:gd name="adj1" fmla="val 15027"/>
              <a:gd name="adj2" fmla="val -80208"/>
            </a:avLst>
          </a:prstGeom>
          <a:solidFill>
            <a:srgbClr val="ffcc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мена мальчиков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Алик,  Володя,  Миша,  Ю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3429000"/>
            <a:ext cx="7772400" cy="1371600"/>
          </a:xfrm>
          <a:prstGeom prst="wedgeRectCallout">
            <a:avLst>
              <a:gd name="adj1" fmla="val -36416"/>
              <a:gd name="adj2" fmla="val 93750"/>
            </a:avLst>
          </a:prstGeom>
          <a:solidFill>
            <a:srgbClr val="ffcc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Фамилии мальчиков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алашов, Петров, Лунин, Симон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08000" y="1844640"/>
          <a:ext cx="8028000" cy="3745080"/>
        </p:xfrm>
        <a:graphic>
          <a:graphicData uri="http://schemas.openxmlformats.org/drawingml/2006/table">
            <a:tbl>
              <a:tblPr/>
              <a:tblGrid>
                <a:gridCol w="1539360"/>
                <a:gridCol w="1622880"/>
                <a:gridCol w="1621440"/>
                <a:gridCol w="1622880"/>
                <a:gridCol w="162144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лаш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тр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ун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мон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и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лод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ш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Ю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1187280" y="692280"/>
            <a:ext cx="6782040" cy="761760"/>
          </a:xfrm>
          <a:prstGeom prst="wedgeRectCallout">
            <a:avLst>
              <a:gd name="adj1" fmla="val -25185"/>
              <a:gd name="adj2" fmla="val 5062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оставляем таблиц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79280" y="476280"/>
            <a:ext cx="781236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етверо друзей — Алик, Володя, Миша и Юра — собрались в доме у Миши. Мальчики оживленно беседовали о том, как они провели лет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Ну, Балашов, ты, наконец, научился плавать? — спросил Волод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, еще как, — ответил Балашов, — могу теперь потягаться в плавании с тобой и Алик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смотрите, какой я гербарий собрал, — сказал Петров, прерывая разговор друзей, и достал из шкафа большую пап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сем, особенно Лунину и Алику, гербарий очень понравился. А Симонов обещал показать товарищам собранную им коллекцию минерал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зовите имя и фамилию каждого мальч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116000" y="1773360"/>
            <a:ext cx="1704960" cy="360360"/>
            <a:chOff x="1116000" y="1773360"/>
            <a:chExt cx="1704960" cy="360360"/>
          </a:xfrm>
        </p:grpSpPr>
        <p:sp>
          <p:nvSpPr>
            <p:cNvPr id="121" name=""/>
            <p:cNvSpPr/>
            <p:nvPr/>
          </p:nvSpPr>
          <p:spPr>
            <a:xfrm>
              <a:off x="1116000" y="1773360"/>
              <a:ext cx="1439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31640" y="2133720"/>
              <a:ext cx="1489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209680" y="907920"/>
            <a:ext cx="5747040" cy="623880"/>
          </a:xfrm>
          <a:prstGeom prst="wedgeRectCallout">
            <a:avLst>
              <a:gd name="adj1" fmla="val -44337"/>
              <a:gd name="adj2" fmla="val 138550"/>
            </a:avLst>
          </a:prstGeom>
          <a:solidFill>
            <a:srgbClr val="ffcc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Балашов - не Володя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0" y="1341360"/>
          <a:ext cx="8280360" cy="3919680"/>
        </p:xfrm>
        <a:graphic>
          <a:graphicData uri="http://schemas.openxmlformats.org/drawingml/2006/table">
            <a:tbl>
              <a:tblPr/>
              <a:tblGrid>
                <a:gridCol w="1614600"/>
                <a:gridCol w="1666800"/>
                <a:gridCol w="1665360"/>
                <a:gridCol w="1666800"/>
                <a:gridCol w="1666800"/>
              </a:tblGrid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лаш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тр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ун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мон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и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лод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ш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Ю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5" name=""/>
          <p:cNvGrpSpPr/>
          <p:nvPr/>
        </p:nvGrpSpPr>
        <p:grpSpPr>
          <a:xfrm>
            <a:off x="1258920" y="1989000"/>
            <a:ext cx="1728720" cy="1828800"/>
            <a:chOff x="1258920" y="1989000"/>
            <a:chExt cx="1728720" cy="1828800"/>
          </a:xfrm>
        </p:grpSpPr>
        <p:sp>
          <p:nvSpPr>
            <p:cNvPr id="126" name=""/>
            <p:cNvSpPr/>
            <p:nvPr/>
          </p:nvSpPr>
          <p:spPr>
            <a:xfrm>
              <a:off x="1258920" y="3660840"/>
              <a:ext cx="172872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72440" y="1989000"/>
              <a:ext cx="0" cy="18288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268360" y="31417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79280" y="692280"/>
            <a:ext cx="8785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етверо друзей — Алик, Володя, Миша и Юра — собрались в доме у Миши. Мальчики оживленно беседовали о том, как они провели лет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у, Балашов, ты, наконец, научился плавать? — спросил Волод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О, еще как, — ответил Балашов, — могу теперь потягаться в плавании с тобой и Алик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мотрите, какой я гербарий собрал, — сказал Петров, прерывая разговор друзей, и достал из шкафа большую пап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сем, особенно Лунину и Алику, гербарий очень понравился. А Симонов обещал показать товарищам собранную им коллекцию минералов. Назовите имя и фамилию каждого мальчи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643280" y="2924280"/>
            <a:ext cx="2303640" cy="360360"/>
            <a:chOff x="4643280" y="2924280"/>
            <a:chExt cx="2303640" cy="360360"/>
          </a:xfrm>
        </p:grpSpPr>
        <p:sp>
          <p:nvSpPr>
            <p:cNvPr id="131" name=""/>
            <p:cNvSpPr/>
            <p:nvPr/>
          </p:nvSpPr>
          <p:spPr>
            <a:xfrm>
              <a:off x="4643280" y="2924280"/>
              <a:ext cx="1511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651640" y="3284640"/>
              <a:ext cx="129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484360" y="1557360"/>
            <a:ext cx="6048360" cy="719280"/>
          </a:xfrm>
          <a:prstGeom prst="wedgeRectCallout">
            <a:avLst>
              <a:gd name="adj1" fmla="val 14958"/>
              <a:gd name="adj2" fmla="val 98125"/>
            </a:avLst>
          </a:prstGeom>
          <a:solidFill>
            <a:srgbClr val="ffcc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Балашов - не Алик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179280" y="1413000"/>
          <a:ext cx="8302680" cy="4064040"/>
        </p:xfrm>
        <a:graphic>
          <a:graphicData uri="http://schemas.openxmlformats.org/drawingml/2006/table">
            <a:tbl>
              <a:tblPr/>
              <a:tblGrid>
                <a:gridCol w="1584360"/>
                <a:gridCol w="1679400"/>
                <a:gridCol w="1679760"/>
                <a:gridCol w="1679400"/>
                <a:gridCol w="167976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лашов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тров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унин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монов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и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лод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ш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Ю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700360" y="2349360"/>
            <a:ext cx="5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692360" y="1989000"/>
            <a:ext cx="1079280" cy="719280"/>
            <a:chOff x="1692360" y="1989000"/>
            <a:chExt cx="1079280" cy="719280"/>
          </a:xfrm>
        </p:grpSpPr>
        <p:sp>
          <p:nvSpPr>
            <p:cNvPr id="137" name=""/>
            <p:cNvSpPr/>
            <p:nvPr/>
          </p:nvSpPr>
          <p:spPr>
            <a:xfrm>
              <a:off x="1692360" y="2708280"/>
              <a:ext cx="10792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2771640" y="1989000"/>
              <a:ext cx="0" cy="7192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5:04:48Z</dcterms:created>
  <dc:creator>User</dc:creator>
  <dc:description/>
  <dc:language>en-US</dc:language>
  <cp:lastModifiedBy>Морченковская ООШ</cp:lastModifiedBy>
  <dcterms:modified xsi:type="dcterms:W3CDTF">2014-01-15T20:35:21Z</dcterms:modified>
  <cp:revision>7</cp:revision>
  <dc:subject/>
  <dc:title>Слайд 1</dc:title>
</cp:coreProperties>
</file>