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56EA-BF20-492C-834F-08CD57455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C52A-6847-4955-B350-2CEFA0A59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435F-32BC-4738-A543-641462014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90BA-0B69-4D24-8B35-BC5BE06AB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7AF97D-DE5A-495F-BFEC-15E9E375E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20C321-0F5C-4C9F-98AB-5BD455CF2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7D88AC-B738-4AE6-BBE4-15378DD63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CF8BC6-888A-4153-9788-F65F026BE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0A5D92-671A-4C3B-827F-E74BB7149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74B878-9982-44C7-9705-36F1DBDC5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1D704D-5067-4DD5-9181-21D31CD4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7845-762C-4A38-AB70-959EC8A95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DCD92F-FCB5-4B20-AA0F-CB02DFA7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3556A0-E976-453B-9F65-F840C067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9B7198-78D0-4DCB-B78F-60E6CCE57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1BC847-5E24-4640-9D53-21B012C3F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EBDCC6-7CBC-41C9-9814-792F0EC52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7D6FC-6C8D-41F4-B365-668769BC1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01E06-4EE5-4D93-A80D-D1669BD0E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F78BF-D3B5-4B41-8E39-C3A18A7E3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552F7-6DC2-466C-B619-4BE3D75B1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5A35A-92F1-412A-815F-536F2E6E2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6E53-5F62-49FD-BFBB-9541F496C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A66C2-DB9E-4C28-820D-5332008D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B7845-A8CE-43A5-9F5C-DC2344DD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5D10D-3F70-4DB4-B669-C514B778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E99AB-CC7F-4709-8B46-05DE0139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91027-FA81-46D0-A5A6-25950EC68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E5180-8E6E-48E7-8A2F-448B6B875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A18E3-2D20-45C7-B0C5-CF37CCAC7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A3955-D4F5-4908-A80B-577AB7E66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E568E-F158-4E74-A883-A90573209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84E42-CC77-42D4-8D9A-1F41D60A0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C211-92F1-4CFC-B849-36AEDCAB4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A4C6A-E1E9-4166-9066-DB322726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F2C2A-16FF-459C-A1C5-D6E013215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5601B-FA1F-4EF6-917F-9A957DF7B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FE782-81CE-461A-895B-CFC93D97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ADF22-2081-48E8-A507-12A559A2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979DB-DA5B-4D9A-A32F-85EDF11A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3DC78-EAF1-4F77-AB2F-06AA7F596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A6ECC-F9D4-4359-922F-A871620F0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55341-9B3E-4206-B1C9-74C618DE1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2DBB2-9E10-45A6-ACB8-E47EB3D6D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7238-81D9-473F-8702-2EBA2B70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80737-C814-423B-AF81-E007EB683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8139C-AF69-471A-A5AA-1A6DD4009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EDC41-138D-4829-B6D4-6E014F5D4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145F6-E33F-400C-887A-B158E78D7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F74E1-7784-4B6F-A711-124AA5074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1045C-A37D-45F4-893F-635DA596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9AC39-1692-4597-B241-C931C85C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0FC33-90C6-4CA1-B4FB-8FAA95C3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347D6-DDE2-4204-9D59-471DC3E7A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68F60-65E9-4E92-B806-98D5C9BD8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3651-AD9F-4EBF-9B30-54D48FDEE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640B8-6726-4E67-A216-907C14108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49DD4-C62C-422A-9964-975A0219F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6CDEA-E16D-474B-8F07-413B55685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CBDE5-FED4-4252-94CD-37CA34063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E928A-A7C0-428C-A755-3483A54D9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7B424-AE3F-462F-A47D-062929AB1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2B077-E5B3-44DC-9B7F-79E0B2426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A53F7-5735-462F-93B4-463FC914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B4CAF-C377-476C-B6EB-160B32A6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057B1-1F52-4D3E-B689-E531DC44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97DB-C9D5-46E0-8419-CC3E0A50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58EB7B-647B-4F6A-8DD6-A7797597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ACC6D-90CA-4BCB-AC79-30FBCBAF4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15022-3CBB-4897-A209-49F141788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6CB1-D6A5-4FFB-A439-7843D2FD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4358-1C72-4519-AD73-BD0D570C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1F630-AE9D-4400-9A16-CBACAB5DAF1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84619-F20D-4F3A-99A0-AB05D4E365E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0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9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39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D02CE-D746-4E5D-9C2D-8DA20E9BDC0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4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85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8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9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0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1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2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3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94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95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98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99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0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2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3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04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FE86C-2544-44F3-A0E8-F48683F0902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48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50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51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2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3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4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5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6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7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8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9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0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863E6-F671-402A-8376-3E38A2FE63D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303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4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6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16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17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FDC72-E59E-40C0-BBD8-B87F13F6C14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Устный журнал 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«Поэты пушкинской поры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алёкий отсвет пушкинской плеяды…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Нам вряд ли увидать другой такой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читель русского языка и литературы МАОУ «Лицей №4»г.Чебоксары Алексеева Л.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mbria"/>
              </a:rPr>
              <a:t>Баратынский и Пушкин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89" name="Picture 4" descr="Соколов Пушкин"/>
          <p:cNvPicPr/>
          <p:nvPr/>
        </p:nvPicPr>
        <p:blipFill>
          <a:blip r:embed="rId1"/>
          <a:stretch/>
        </p:blipFill>
        <p:spPr>
          <a:xfrm>
            <a:off x="6804000" y="3716280"/>
            <a:ext cx="1825560" cy="27370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6" descr="Баратынский Е. А. «Романсы»"/>
          <p:cNvPicPr/>
          <p:nvPr/>
        </p:nvPicPr>
        <p:blipFill>
          <a:blip r:embed="rId2"/>
          <a:stretch/>
        </p:blipFill>
        <p:spPr>
          <a:xfrm>
            <a:off x="324000" y="1916280"/>
            <a:ext cx="1701720" cy="2304720"/>
          </a:xfrm>
          <a:prstGeom prst="rect">
            <a:avLst/>
          </a:prstGeom>
          <a:ln w="0">
            <a:noFill/>
          </a:ln>
        </p:spPr>
      </p:pic>
      <p:sp>
        <p:nvSpPr>
          <p:cNvPr id="391" name="Rectangle 8"/>
          <p:cNvSpPr/>
          <p:nvPr/>
        </p:nvSpPr>
        <p:spPr>
          <a:xfrm>
            <a:off x="2124000" y="1921320"/>
            <a:ext cx="4608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«Баратынский, - утверждал Пушкин,- принадлежит к числу  отличных наших поэтов. Он у нас оригинален, ибо мыслит… мыслит по-своему…между тем как чувствует сильно и глубоко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mbria"/>
              </a:rPr>
              <a:t>Чем нам запомнился Баратынский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Не принадлежал ни к одному литературному направлению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он писал послания и элегии. Их называли «психологическими миниатюрами». Элегия «Разуверение» («Не искушай меня без нужды…») положена на музыку композитора М.И.Глинко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mbria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Вопросы, которые волновали поэтов пушкинской поры: любовь, красота природы, интересы народа, война, права и достоинства человека, - продолжают волновать и нас, жителей 21 века. Эти вопросы будут актуальны всегда, сколько бы времени ни прошло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Нет поколений бывших и настоящих, мы все современники»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Кюхельбекер В.К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51" name="Picture 25" descr="3108ru"/>
          <p:cNvPicPr/>
          <p:nvPr/>
        </p:nvPicPr>
        <p:blipFill>
          <a:blip r:embed="rId1"/>
          <a:stretch/>
        </p:blipFill>
        <p:spPr>
          <a:xfrm>
            <a:off x="5364000" y="4149720"/>
            <a:ext cx="1408320" cy="18288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4" descr="Пущин И"/>
          <p:cNvPicPr/>
          <p:nvPr/>
        </p:nvPicPr>
        <p:blipFill>
          <a:blip r:embed="rId2"/>
          <a:stretch/>
        </p:blipFill>
        <p:spPr>
          <a:xfrm>
            <a:off x="1258920" y="115920"/>
            <a:ext cx="1582560" cy="18730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5" descr="В"/>
          <p:cNvPicPr/>
          <p:nvPr/>
        </p:nvPicPr>
        <p:blipFill>
          <a:blip r:embed="rId3"/>
          <a:stretch/>
        </p:blipFill>
        <p:spPr>
          <a:xfrm>
            <a:off x="5580000" y="115920"/>
            <a:ext cx="1440000" cy="18716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6" descr="А"/>
          <p:cNvPicPr/>
          <p:nvPr/>
        </p:nvPicPr>
        <p:blipFill>
          <a:blip r:embed="rId4"/>
          <a:stretch/>
        </p:blipFill>
        <p:spPr>
          <a:xfrm>
            <a:off x="5508720" y="2205000"/>
            <a:ext cx="1511280" cy="172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55" name="Picture 7" descr="А"/>
          <p:cNvPicPr/>
          <p:nvPr/>
        </p:nvPicPr>
        <p:blipFill>
          <a:blip r:embed="rId5"/>
          <a:stretch/>
        </p:blipFill>
        <p:spPr>
          <a:xfrm>
            <a:off x="3492360" y="189000"/>
            <a:ext cx="1441440" cy="187164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2" descr=""/>
          <p:cNvPicPr/>
          <p:nvPr/>
        </p:nvPicPr>
        <p:blipFill>
          <a:blip r:embed="rId6">
            <a:lum contrast="6000"/>
          </a:blip>
          <a:srcRect l="3179" t="7665" r="55595" b="11860"/>
          <a:stretch/>
        </p:blipFill>
        <p:spPr>
          <a:xfrm>
            <a:off x="1332000" y="2205000"/>
            <a:ext cx="1511280" cy="18003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5" descr="Корсаков1"/>
          <p:cNvPicPr/>
          <p:nvPr/>
        </p:nvPicPr>
        <p:blipFill>
          <a:blip r:embed="rId7"/>
          <a:stretch/>
        </p:blipFill>
        <p:spPr>
          <a:xfrm>
            <a:off x="1476360" y="4149720"/>
            <a:ext cx="1441440" cy="18716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9" descr="Соколов Пушкин"/>
          <p:cNvPicPr/>
          <p:nvPr/>
        </p:nvPicPr>
        <p:blipFill>
          <a:blip r:embed="rId8"/>
          <a:stretch/>
        </p:blipFill>
        <p:spPr>
          <a:xfrm>
            <a:off x="3492360" y="2205000"/>
            <a:ext cx="1727280" cy="18003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31" descr="Баратынский Е. А. «Романсы»"/>
          <p:cNvPicPr/>
          <p:nvPr/>
        </p:nvPicPr>
        <p:blipFill>
          <a:blip r:embed="rId9"/>
          <a:stretch/>
        </p:blipFill>
        <p:spPr>
          <a:xfrm>
            <a:off x="3276720" y="4149720"/>
            <a:ext cx="1584360" cy="184644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34"/>
          <p:cNvSpPr/>
          <p:nvPr/>
        </p:nvSpPr>
        <p:spPr>
          <a:xfrm>
            <a:off x="2411280" y="32457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Rectangle 35"/>
          <p:cNvSpPr/>
          <p:nvPr/>
        </p:nvSpPr>
        <p:spPr>
          <a:xfrm>
            <a:off x="3348000" y="609300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БАРАТЫНСКИЙ Е.А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Rectangle 37"/>
          <p:cNvSpPr/>
          <p:nvPr/>
        </p:nvSpPr>
        <p:spPr>
          <a:xfrm>
            <a:off x="1653480" y="6093000"/>
            <a:ext cx="12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Рылеев К.Ф</a:t>
            </a: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Rectangle 39"/>
          <p:cNvSpPr/>
          <p:nvPr/>
        </p:nvSpPr>
        <p:spPr>
          <a:xfrm>
            <a:off x="5237640" y="602064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К. Н. Батюшков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Rectangle 41"/>
          <p:cNvSpPr/>
          <p:nvPr/>
        </p:nvSpPr>
        <p:spPr>
          <a:xfrm>
            <a:off x="5580000" y="1941480"/>
            <a:ext cx="20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Кюхельбекер В.К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Rectangle 43"/>
          <p:cNvSpPr/>
          <p:nvPr/>
        </p:nvSpPr>
        <p:spPr>
          <a:xfrm>
            <a:off x="1476360" y="1844640"/>
            <a:ext cx="1366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Пущин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 И.И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Rectangle 45"/>
          <p:cNvSpPr/>
          <p:nvPr/>
        </p:nvSpPr>
        <p:spPr>
          <a:xfrm>
            <a:off x="5599080" y="3922560"/>
            <a:ext cx="134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Дельвиг А.А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cce6"/>
                </a:solidFill>
                <a:latin typeface="Cambria"/>
              </a:rPr>
              <a:t>Константин Николаевич Батюш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3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…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Вполовину чувствовать не умею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10" descr="3108ru"/>
          <p:cNvPicPr/>
          <p:nvPr/>
        </p:nvPicPr>
        <p:blipFill>
          <a:blip r:embed="rId1"/>
          <a:stretch/>
        </p:blipFill>
        <p:spPr>
          <a:xfrm>
            <a:off x="4284720" y="1916280"/>
            <a:ext cx="4390920" cy="494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ffb8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dff"/>
                </a:solidFill>
                <a:latin typeface="Comic Sans MS"/>
              </a:rPr>
              <a:t>Батюшков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Пушкин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1814 году происходит знакомство Батюшкова с лицеистом Пушкины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71" name="Picture 4" descr="Саша Пушкин лицеист Худ Ю В Иванов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5867280" y="2924280"/>
            <a:ext cx="2363760" cy="29527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3" descr="3108ru"/>
          <p:cNvPicPr/>
          <p:nvPr/>
        </p:nvPicPr>
        <p:blipFill>
          <a:blip r:embed="rId2"/>
          <a:stretch/>
        </p:blipFill>
        <p:spPr>
          <a:xfrm>
            <a:off x="611280" y="2997360"/>
            <a:ext cx="1984320" cy="259056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17"/>
          <p:cNvSpPr/>
          <p:nvPr/>
        </p:nvSpPr>
        <p:spPr>
          <a:xfrm>
            <a:off x="2916360" y="2054160"/>
            <a:ext cx="28796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ушкин восхищался им: «Что за чудотворец этот Батюшков!»; справедливо отмечал: «Батюшков …. сделал для русого языка то же самое, что Петрарка для италианского», указывал на «гармоническую точность» его стихов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8080"/>
                </a:solidFill>
                <a:latin typeface="Comic Sans MS"/>
              </a:rPr>
              <a:t>Чем нам запомнился Батюшков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42960" y="17146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mbria Mat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 Math"/>
              </a:rPr>
              <a:t>Участник походов русских войск в Пруссии против Наполео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mbria Mat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 Math"/>
              </a:rPr>
              <a:t>Служил в Италии в русской дипломатической мисси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mbria Mat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 Math"/>
              </a:rPr>
              <a:t>Его называют главой «лёгкой поэзии» в Росси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mbria Mat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 Math"/>
              </a:rPr>
              <a:t>«Переход русских через Неман», «Мой гений», «Надпись к портрету Жуковского»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Антон Антонович Дельвиг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7" name="Picture 4" descr="А"/>
          <p:cNvPicPr/>
          <p:nvPr/>
        </p:nvPicPr>
        <p:blipFill>
          <a:blip r:embed="rId1"/>
          <a:stretch/>
        </p:blipFill>
        <p:spPr>
          <a:xfrm>
            <a:off x="5148360" y="1557360"/>
            <a:ext cx="3311280" cy="4246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8" name="Rectangle 6"/>
          <p:cNvSpPr/>
          <p:nvPr/>
        </p:nvSpPr>
        <p:spPr>
          <a:xfrm>
            <a:off x="539640" y="1272600"/>
            <a:ext cx="4692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«И ты пришёл, сын лени вдохновенный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О Дельвиг мой: твой голос пробуди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Сердечный жар, так долго усыплённый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И бодро я судьбу благословил.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А.С.Пушкин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Дельвиг и Пушкин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0" name="Picture 4" descr="А"/>
          <p:cNvPicPr/>
          <p:nvPr/>
        </p:nvPicPr>
        <p:blipFill>
          <a:blip r:embed="rId1"/>
          <a:stretch/>
        </p:blipFill>
        <p:spPr>
          <a:xfrm>
            <a:off x="6227640" y="1268280"/>
            <a:ext cx="1944720" cy="237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81" name="Picture 7" descr="Соколов Пушкин"/>
          <p:cNvPicPr/>
          <p:nvPr/>
        </p:nvPicPr>
        <p:blipFill>
          <a:blip r:embed="rId2"/>
          <a:stretch/>
        </p:blipFill>
        <p:spPr>
          <a:xfrm>
            <a:off x="6227640" y="3860640"/>
            <a:ext cx="1944720" cy="23767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10"/>
          <p:cNvSpPr/>
          <p:nvPr/>
        </p:nvSpPr>
        <p:spPr>
          <a:xfrm>
            <a:off x="468360" y="1439640"/>
            <a:ext cx="5616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С Пушкиным его связывала нежнейшая дружба. По единогласному утверждению друзей, Пушкин никого так не любил, как Дельвига. Да и сам Пушкин писал после смерти Дельвига: «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икто на свете не был мне ближе Дельвига. Из всех связей детства он  один оставался на виду – около него собиралась наша бедная кучка. Без него мы точно осиротели»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Именно Дельвиг в апреле 1825 года навестил ссыльного Пушкина в Михайловское. Какой это был замечательный для Пушкина год! В январе к нему приехал Пущин, а апреле Дельвиг. За посещение опального поэта Дельвиг был строго наказан: он лишился своего места в библиотеке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Чем нам запомнился Дельвиг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вым из лицеистов опубликовал стихи в настоящей, не рукописной, печати- в журнале «Вестник Европ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датель альманаха «Северные цветы», редактор «Литературной газет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творчестве преобладали лирические жанры: элегии, роман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оманс «Соловей мой, соловей»положен на музыку Алябье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Евгений Абрамович Баратынски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86" name="Picture 4" descr="Баратынский Е. А. «Романсы»"/>
          <p:cNvPicPr/>
          <p:nvPr/>
        </p:nvPicPr>
        <p:blipFill>
          <a:blip r:embed="rId1"/>
          <a:stretch/>
        </p:blipFill>
        <p:spPr>
          <a:xfrm>
            <a:off x="5796000" y="2349360"/>
            <a:ext cx="2879640" cy="374508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6"/>
          <p:cNvSpPr/>
          <p:nvPr/>
        </p:nvSpPr>
        <p:spPr>
          <a:xfrm>
            <a:off x="971640" y="2526480"/>
            <a:ext cx="4895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Читая стихи Баратынского, не можешь отказать ему в своей симпатии, потому что этот человек, сильно чувствуя, много думал, следовательно жил, как не всем дано жить»,- писал о Баратынском Белинский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07:40:04Z</dcterms:created>
  <dc:creator>Alex</dc:creator>
  <dc:description/>
  <dc:language>en-US</dc:language>
  <cp:lastModifiedBy>Alex</cp:lastModifiedBy>
  <dcterms:modified xsi:type="dcterms:W3CDTF">2014-01-26T13:47:57Z</dcterms:modified>
  <cp:revision>20</cp:revision>
  <dc:subject/>
  <dc:title>Слайд 1</dc:title>
</cp:coreProperties>
</file>