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9CA2-E159-4B79-9F2C-8D688175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839-29B1-48A3-A2A1-C14B35C0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D285-E700-44E9-9CAA-17481B9B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2E0-25F5-4EF0-B096-C9DC846F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9BCCD-AC67-47E7-AE46-73905C94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16284-1133-47CF-88E7-ED8185AC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31A06-D699-4D30-A085-88A7E519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90DEF-77E5-4E2A-B753-76F64CEB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7E23B-905A-4D21-B1F8-F2B3565D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25179-B593-4B05-A453-60E10CA5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7DFD3-3FDD-4F08-934F-661BF19B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768B-EC6E-4510-A4C3-863CAB8F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A065C-DCCC-4580-A62C-0B8C28C6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E7EDC-DBE2-4705-8A8E-4AE3849A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FB1D2-10DB-41B3-B629-947A8F00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C6B32-1D97-4014-AB08-7A10A45D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DFDED-C83D-4BBD-8B1A-F6361EFF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0912F-595F-419C-8077-5DB80563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0D93C-ED52-4EC1-A916-161F3645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B1355-256E-44AA-9AA8-A06DF2D1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3176B-877D-45D1-8B20-747CE7D2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0975D-2EBE-42A5-B7D0-0F382CAD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A521-5F5C-4950-B9DC-33562A60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15B4E-2D24-4A13-8B20-A4CFFB9C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A67C2-B079-48E3-A229-D56402FE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8E81F-6861-4B35-874B-81739A3A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A40CE-DB46-4F1B-A03C-D09C45FD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341CF-7CDE-40DD-B82F-B59CB187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8407B-EBB6-46E8-80F2-4B86988C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011C8-6A88-46D6-B914-28B1BA88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6F91D-14F1-4D3D-A61C-716CEB61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5604F-056C-4067-AC43-AC47BDE1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A5D0C-D4A5-4752-B380-1A64566B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D357-67B6-4550-9770-C4C7E856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FF2A2-D6E6-4D3D-B2C5-6ACDE6AF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2ED85-BC14-4275-B2FB-89EB33C5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1609A-DEBB-4431-BDB1-76C7E1CF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2B1BD-295D-49C4-B702-A1CF203A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19E37-37AB-44ED-B291-21E0EDCC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51A8D-A0AD-4D75-BE4B-5A9D379B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984E1-7AD9-4F0E-906F-F0108631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E0ABB-DC23-4981-ADC6-C7A43991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3B362-201F-494D-9700-239F5071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EA013-4536-4E53-A5B2-944C66E7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B23C-A036-4411-8FF6-E2BCFCF3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B5BB0-83D2-411C-9C9D-F934381B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C2691-DA96-4D6E-BEFF-5C3F6068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4C998-FDC3-4AE8-B216-B2936378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24001-B472-4F42-A496-D6E83CAC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083EF-AA59-4D2E-B938-7713C5B9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8BAD7-E9C9-4F38-9CAF-379FB03C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B5A28-D9E6-4829-AE36-BA08D266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AADAD-7F7D-479F-AC75-1C286D44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72623-A931-4B2F-AEF9-E2FDEB90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166F5-006B-4398-8770-4682E56F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E45A-02A0-4366-85E7-48F9FCA7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37DE4-10A0-4B90-B111-C7C41832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3A820-83E7-4812-99B0-D8F97DAB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7EC6D-277C-4EB3-A732-FFF95464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7F207-CCC6-48E5-90C5-13E43B82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6236B-7BBB-42D3-BD95-A97E3D73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95C0F-1D75-485D-8B8A-9AE74D89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10807-B723-4ED8-99C4-92BB0972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443D1-92CC-42F3-B330-07649450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AC633-4725-4F7A-8DBF-62648C42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16FB8-7F9E-466E-8598-7DA91A38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3F36-9E83-4DB7-9E57-CBEAED98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4E45F-EF1B-496F-989E-B7599EA7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14D72-B685-4B0E-A00E-DBB3E1FB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166F1-ADA7-4257-BA5A-5EDF26F3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6C2B-0BAE-42D1-B376-D96E3CDB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6E2B-EA3A-4370-B9B3-DB2F4D56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F692-14EE-4793-A14E-5BDACE6D0E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29A2-8136-4384-A5A6-67FFCAE1DB9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5B37-7E38-479A-86F7-D13B2B93AC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9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9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0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9DC8-BF11-4E5F-AAEA-6AF3F529E0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0BAA-4474-4DBE-9F42-590E9557EB7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03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7C4B-DAD5-4595-BA34-7739EA85B44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Устный журнал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«Поэты пушкинской поры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лёкий отсвет пушкинской плеяды…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Нам вряд ли увидать другой тако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итель русского языка и литературы МАОУ «Лицей №4»г.Чебоксары Алексеева Л.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Баратынский и Пушки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9" name="Picture 4" descr="Соколов Пушкин"/>
          <p:cNvPicPr/>
          <p:nvPr/>
        </p:nvPicPr>
        <p:blipFill>
          <a:blip r:embed="rId1"/>
          <a:stretch/>
        </p:blipFill>
        <p:spPr>
          <a:xfrm>
            <a:off x="6804000" y="3716280"/>
            <a:ext cx="1825560" cy="2737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Баратынский Е. А. «Романсы»"/>
          <p:cNvPicPr/>
          <p:nvPr/>
        </p:nvPicPr>
        <p:blipFill>
          <a:blip r:embed="rId2"/>
          <a:stretch/>
        </p:blipFill>
        <p:spPr>
          <a:xfrm>
            <a:off x="324000" y="1916280"/>
            <a:ext cx="1701720" cy="230472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8"/>
          <p:cNvSpPr/>
          <p:nvPr/>
        </p:nvSpPr>
        <p:spPr>
          <a:xfrm>
            <a:off x="2124000" y="1921320"/>
            <a:ext cx="460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«Баратынский, - утверждал Пушкин,- принадлежит к числу  отличных наших поэтов. Он у нас оригинален, ибо мыслит… мыслит по-своему…между тем как чувствует сильно и глубоко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Чем нам запомнился Баратынский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е принадлежал ни к одному литературному направлен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н писал послания и элегии. Их называли «психологическими миниатюрами». Элегия «Разуверение» («Не искушай меня без нужды…») положена на музыку композитора М.И.Глинко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Вопросы, которые волновали поэтов пушкинской поры: любовь, красота природы, интересы народа, война, права и достоинства человека, - продолжают волновать и нас, жителей 21 века. Эти вопросы будут актуальны всегда, сколько бы времени ни прошло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Нет поколений бывших и настоящих, мы все современники»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юхельбекер В.К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1" name="Picture 25" descr="3108ru"/>
          <p:cNvPicPr/>
          <p:nvPr/>
        </p:nvPicPr>
        <p:blipFill>
          <a:blip r:embed="rId1"/>
          <a:stretch/>
        </p:blipFill>
        <p:spPr>
          <a:xfrm>
            <a:off x="5364000" y="4149720"/>
            <a:ext cx="1408320" cy="1828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Пущин И"/>
          <p:cNvPicPr/>
          <p:nvPr/>
        </p:nvPicPr>
        <p:blipFill>
          <a:blip r:embed="rId2"/>
          <a:stretch/>
        </p:blipFill>
        <p:spPr>
          <a:xfrm>
            <a:off x="1258920" y="115920"/>
            <a:ext cx="1582560" cy="18730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В"/>
          <p:cNvPicPr/>
          <p:nvPr/>
        </p:nvPicPr>
        <p:blipFill>
          <a:blip r:embed="rId3"/>
          <a:stretch/>
        </p:blipFill>
        <p:spPr>
          <a:xfrm>
            <a:off x="5580000" y="115920"/>
            <a:ext cx="1440000" cy="1871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А"/>
          <p:cNvPicPr/>
          <p:nvPr/>
        </p:nvPicPr>
        <p:blipFill>
          <a:blip r:embed="rId4"/>
          <a:stretch/>
        </p:blipFill>
        <p:spPr>
          <a:xfrm>
            <a:off x="5508720" y="2205000"/>
            <a:ext cx="1511280" cy="17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5" name="Picture 7" descr="А"/>
          <p:cNvPicPr/>
          <p:nvPr/>
        </p:nvPicPr>
        <p:blipFill>
          <a:blip r:embed="rId5"/>
          <a:stretch/>
        </p:blipFill>
        <p:spPr>
          <a:xfrm>
            <a:off x="3492360" y="189000"/>
            <a:ext cx="1441440" cy="18716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2" descr=""/>
          <p:cNvPicPr/>
          <p:nvPr/>
        </p:nvPicPr>
        <p:blipFill>
          <a:blip r:embed="rId6">
            <a:lum contrast="6000"/>
          </a:blip>
          <a:srcRect l="3179" t="7665" r="55595" b="11860"/>
          <a:stretch/>
        </p:blipFill>
        <p:spPr>
          <a:xfrm>
            <a:off x="1332000" y="2205000"/>
            <a:ext cx="1511280" cy="1800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5" descr="Корсаков1"/>
          <p:cNvPicPr/>
          <p:nvPr/>
        </p:nvPicPr>
        <p:blipFill>
          <a:blip r:embed="rId7"/>
          <a:stretch/>
        </p:blipFill>
        <p:spPr>
          <a:xfrm>
            <a:off x="1476360" y="4149720"/>
            <a:ext cx="1441440" cy="1871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9" descr="Соколов Пушкин"/>
          <p:cNvPicPr/>
          <p:nvPr/>
        </p:nvPicPr>
        <p:blipFill>
          <a:blip r:embed="rId8"/>
          <a:stretch/>
        </p:blipFill>
        <p:spPr>
          <a:xfrm>
            <a:off x="3492360" y="2205000"/>
            <a:ext cx="1727280" cy="1800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1" descr="Баратынский Е. А. «Романсы»"/>
          <p:cNvPicPr/>
          <p:nvPr/>
        </p:nvPicPr>
        <p:blipFill>
          <a:blip r:embed="rId9"/>
          <a:stretch/>
        </p:blipFill>
        <p:spPr>
          <a:xfrm>
            <a:off x="3276720" y="4149720"/>
            <a:ext cx="1584360" cy="184644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34"/>
          <p:cNvSpPr/>
          <p:nvPr/>
        </p:nvSpPr>
        <p:spPr>
          <a:xfrm>
            <a:off x="2411280" y="32457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Rectangle 35"/>
          <p:cNvSpPr/>
          <p:nvPr/>
        </p:nvSpPr>
        <p:spPr>
          <a:xfrm>
            <a:off x="3348000" y="60930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БАРАТЫНСКИЙ Е.А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Rectangle 37"/>
          <p:cNvSpPr/>
          <p:nvPr/>
        </p:nvSpPr>
        <p:spPr>
          <a:xfrm>
            <a:off x="1653480" y="609300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Рылеев К.Ф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Rectangle 39"/>
          <p:cNvSpPr/>
          <p:nvPr/>
        </p:nvSpPr>
        <p:spPr>
          <a:xfrm>
            <a:off x="5237640" y="602064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К. Н. Батюшко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41"/>
          <p:cNvSpPr/>
          <p:nvPr/>
        </p:nvSpPr>
        <p:spPr>
          <a:xfrm>
            <a:off x="5580000" y="1941480"/>
            <a:ext cx="20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Кюхельбекер В.К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43"/>
          <p:cNvSpPr/>
          <p:nvPr/>
        </p:nvSpPr>
        <p:spPr>
          <a:xfrm>
            <a:off x="1476360" y="1844640"/>
            <a:ext cx="1366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Пущин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И.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Rectangle 45"/>
          <p:cNvSpPr/>
          <p:nvPr/>
        </p:nvSpPr>
        <p:spPr>
          <a:xfrm>
            <a:off x="5599080" y="3922560"/>
            <a:ext cx="13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Дельвиг А.А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cce6"/>
                </a:solidFill>
                <a:latin typeface="Cambria"/>
              </a:rPr>
              <a:t>Константин Николаевич Батюш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половину чувствовать не умею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0" descr="3108ru"/>
          <p:cNvPicPr/>
          <p:nvPr/>
        </p:nvPicPr>
        <p:blipFill>
          <a:blip r:embed="rId1"/>
          <a:stretch/>
        </p:blipFill>
        <p:spPr>
          <a:xfrm>
            <a:off x="4284720" y="1916280"/>
            <a:ext cx="4390920" cy="49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Батюшков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ушкин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1814 году происходит знакомство Батюшкова с лицеистом Пушкины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1" name="Picture 4" descr="Саша Пушкин лицеист Худ Ю В Иванов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867280" y="2924280"/>
            <a:ext cx="2363760" cy="29527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3" descr="3108ru"/>
          <p:cNvPicPr/>
          <p:nvPr/>
        </p:nvPicPr>
        <p:blipFill>
          <a:blip r:embed="rId2"/>
          <a:stretch/>
        </p:blipFill>
        <p:spPr>
          <a:xfrm>
            <a:off x="611280" y="2997360"/>
            <a:ext cx="1984320" cy="259056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7"/>
          <p:cNvSpPr/>
          <p:nvPr/>
        </p:nvSpPr>
        <p:spPr>
          <a:xfrm>
            <a:off x="2916360" y="2054160"/>
            <a:ext cx="2879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ушкин восхищался им: «Что за чудотворец этот Батюшков!»; справедливо отмечал: «Батюшков …. сделал для русого языка то же самое, что Петрарка для италианского», указывал на «гармоническую точность» его стих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80"/>
                </a:solidFill>
                <a:latin typeface="Comic Sans MS"/>
              </a:rPr>
              <a:t>Чем нам запомнился Батюшков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42960" y="17146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Участник походов русских войск в Пруссии против Наполео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Служил в Италии в русской дипломатической мисс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Его называют главой «лёгкой поэзии» в Росс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mbria Mat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 Math"/>
              </a:rPr>
              <a:t>«Переход русских через Неман», «Мой гений», «Надпись к портрету Жуковского»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тон Антонович Дельвиг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4" descr="А"/>
          <p:cNvPicPr/>
          <p:nvPr/>
        </p:nvPicPr>
        <p:blipFill>
          <a:blip r:embed="rId1"/>
          <a:stretch/>
        </p:blipFill>
        <p:spPr>
          <a:xfrm>
            <a:off x="5148360" y="1557360"/>
            <a:ext cx="3311280" cy="424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8" name="Rectangle 6"/>
          <p:cNvSpPr/>
          <p:nvPr/>
        </p:nvSpPr>
        <p:spPr>
          <a:xfrm>
            <a:off x="539640" y="1272600"/>
            <a:ext cx="4692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И ты пришёл, сын лени вдохновенный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 Дельвиг мой: твой голос пробуди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ердечный жар, так долго усыплённый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И бодро я судьбу благословил.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А.С.Пушки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Дельвиг и Пушкин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4" descr="А"/>
          <p:cNvPicPr/>
          <p:nvPr/>
        </p:nvPicPr>
        <p:blipFill>
          <a:blip r:embed="rId1"/>
          <a:stretch/>
        </p:blipFill>
        <p:spPr>
          <a:xfrm>
            <a:off x="6227640" y="1268280"/>
            <a:ext cx="1944720" cy="23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1" name="Picture 7" descr="Соколов Пушкин"/>
          <p:cNvPicPr/>
          <p:nvPr/>
        </p:nvPicPr>
        <p:blipFill>
          <a:blip r:embed="rId2"/>
          <a:stretch/>
        </p:blipFill>
        <p:spPr>
          <a:xfrm>
            <a:off x="6227640" y="3860640"/>
            <a:ext cx="1944720" cy="23767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10"/>
          <p:cNvSpPr/>
          <p:nvPr/>
        </p:nvSpPr>
        <p:spPr>
          <a:xfrm>
            <a:off x="468360" y="1439640"/>
            <a:ext cx="561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С Пушкиным его связывала нежнейшая дружба. По единогласному утверждению друзей, Пушкин никого так не любил, как Дельвига. Да и сам Пушкин писал после смерти Дельвига: «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икто на свете не был мне ближе Дельвига. Из всех связей детства он  один оставался на виду – около него собиралась наша бедная кучка. Без него мы точно осиротели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менно Дельвиг в апреле 1825 года навестил ссыльного Пушкина в Михайловское. Какой это был замечательный для Пушкина год! В январе к нему приехал Пущин, а апреле Дельвиг. За посещение опального поэта Дельвиг был строго наказан: он лишился своего места в библиотек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ем нам запомнился Дельвиг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из лицеистов опубликовал стихи в настоящей, не рукописной, печати- в журнале «Вестник Европ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датель альманаха «Северные цветы», редактор «Литературной газет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ворчестве преобладали лирические жанры: элегии, роман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манс «Соловей мой, соловей»положен на музыку Алябь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Евгений Абрамович Баратынск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6" name="Picture 4" descr="Баратынский Е. А. «Романсы»"/>
          <p:cNvPicPr/>
          <p:nvPr/>
        </p:nvPicPr>
        <p:blipFill>
          <a:blip r:embed="rId1"/>
          <a:stretch/>
        </p:blipFill>
        <p:spPr>
          <a:xfrm>
            <a:off x="5796000" y="2349360"/>
            <a:ext cx="2879640" cy="37450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6"/>
          <p:cNvSpPr/>
          <p:nvPr/>
        </p:nvSpPr>
        <p:spPr>
          <a:xfrm>
            <a:off x="971640" y="2526480"/>
            <a:ext cx="489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итая стихи Баратынского, не можешь отказать ему в своей симпатии, потому что этот человек, сильно чувствуя, много думал, следовательно жил, как не всем дано жить»,- писал о Баратынском Белинский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7:40:04Z</dcterms:created>
  <dc:creator>Alex</dc:creator>
  <dc:description/>
  <dc:language>en-US</dc:language>
  <cp:lastModifiedBy>Alex</cp:lastModifiedBy>
  <dcterms:modified xsi:type="dcterms:W3CDTF">2014-01-26T13:47:57Z</dcterms:modified>
  <cp:revision>20</cp:revision>
  <dc:subject/>
  <dc:title>Слайд 1</dc:title>
</cp:coreProperties>
</file>