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8AE-6545-4FC2-B02C-3F583802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CF5-E9FE-4CCE-AD42-C1C2A4A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612-9192-4A93-BE2F-2CDFEC38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53-8190-4EC7-BB2E-7BD92A2A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26EC-F0E4-4914-BC7B-EA4578A4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5E93-9151-46F1-9D9F-C5CEE520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E6FB-8C8C-41EC-BC45-83CE62DD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FC9-B4CE-4ABC-98FD-C86D00A3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1AD2-FD78-4B56-92BD-4A25233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3849-2829-4072-9766-710ECAC8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045-B7AC-4680-BF93-F3CB31C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E76-5938-4382-B76C-93FBE3DB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880-47D2-4EC1-8665-AAF4138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D97B-60F0-4912-9163-9118419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B7D3-E1F1-417A-A68B-5FB7AF4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D183-298E-4B77-81C1-F8B144A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287-4B9B-4ACD-B751-A602A62F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58C-F359-4CD0-A2D0-0F80F13A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4F4-8872-4E0F-A26B-45E9694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D7E-44F9-43F8-BFB7-20C11B15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EDF-E833-41CD-8ADE-638BA578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214-8FF4-4DF8-A312-4549E05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BAB-DE61-463B-9415-52E1C9C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DA7-D2CE-4FAB-8186-7842A8B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A41C-2A5B-473D-9E68-AFBA92AD5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8D5-3495-44B1-A3C7-7724FF9289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филактика злоупотребления вредными привычками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основ для сохранения здоровья и использование их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Знание основ для сохранения здоровья и использование их в жизни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пуски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няти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Участие в спортив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оприятиях школы, района,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Уменьшение количества учащихся с вредными привыч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Негативное отношение к курению, алкогольным напиткам, наркоти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аза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оличество пропущенных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Увеличение количества учащихс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Работу выполнили: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Шумилина Т.Т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лубева Ю.Н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Павлова Т.М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блема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достаточное количество установок на здоровый образ жизни у учащихся среднего зве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Хорошо определённая проблема – наполовину решённая проблем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61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ла в связи с большим влиянием рекламы, её    доступности и негативного влияния окружающего соци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 необходимо решить для сохранения здоровья и оздоровления 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ает когда пропадает контроль со стороны родителей, учителей, окружающих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роблема семьи, учителей,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учащихся захочет участвовать в решени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ть проблему захотят родители, часть учеников,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курящей группы учеников будет сопроти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роблема не будет решена, то можно ожидать резкое ухудшение здоровья учащихся, и как результат ухудшение здоровья н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иссия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ссия проекта - идеальное представление и общественная роль проекта, отражающая то, ради чего задумывается и реализуется проект. Формулировка миссии должна отвечать на три вопрос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кого мы это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Что мы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 мы делаем эт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Делаем проект учащихся и их роди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Изменение отношения к своему здоровью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Обосновываем необходимость  ведения здорового образа жизни и формируем социальные установки на 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оружить учащихся необходимыми знаниями, умениями, навыками по здоровому образу жизни, которые они могут использовать в буду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состояние здоровья учащихся среднего звена и их отношение к вредным привычкам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ограмм по здоровому образу жизни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полученных результатов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осещаемости уроков учащими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композиция работ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посещаемости уро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9:27:56Z</dcterms:created>
  <dc:creator>243-1</dc:creator>
  <dc:description/>
  <dc:language>en-US</dc:language>
  <cp:lastModifiedBy>User</cp:lastModifiedBy>
  <dcterms:modified xsi:type="dcterms:W3CDTF">2014-01-26T15:24:04Z</dcterms:modified>
  <cp:revision>10</cp:revision>
  <dc:subject/>
  <dc:title>Слайд 1</dc:title>
</cp:coreProperties>
</file>