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107-F51A-422C-BD61-09A70917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468-4643-43AD-94AD-5D1A33FE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044-3173-4204-8DCE-9F5832F7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D79-AF4E-4B9C-BD49-C2BB0641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C176-219B-45CD-9302-E3DE2BCF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4271-EF11-49A7-AB7D-BE382A68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11C7-FBB1-4AAD-8159-42C79EF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F7C0-BF8D-4C44-A5AF-385D23E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240-B374-412C-9922-6045B25C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156-9609-4B90-B58E-61B2ADA5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3A18-8BBA-4128-B638-EA90FFE0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5BA-1337-4B2E-9FF8-7E28747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40B5-A019-40CD-9B9A-938C9A0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ED7-F7AA-4B57-8733-E54DAD8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5B5-F59B-48F0-AC5D-D1D47F05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B68D-E225-4D93-A5A5-B78A2A05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5C1-4D02-416A-9820-24FC840D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698-72D5-4D92-BFBE-C159FBAD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B36-5DAE-45E4-9B2A-C551C9E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45A-9C2D-4EA2-94EB-6884F793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0E0-5805-4A34-A17D-3B16C86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2C2-AABF-48A0-B7F9-41EEF2EC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7D8-3BF1-4AC4-99F2-9E3DA96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E66-02E6-4B2A-A3F2-581E27F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056-E2A7-46FF-932F-9789B8D74C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5414-1A40-4134-8812-D449F78A38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филактика злоупотребления вредными привычками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е основ для сохранения здоровья и использование их в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br>
              <a:rPr sz="32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Знание основ для сохранения здоровья и использование их в жизни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те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пуски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няти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Участие в спортив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роприятиях школы, района, г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Уменьшение количества учащихся с вредными привыч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Негативное отношение к курению, алкогольным напиткам, наркоти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каза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оличество пропущенных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Увеличение количества учащихс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ность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Работу выполнили: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Шумилина Т.Т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олубева Ю.Н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Павлова Т.М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блема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достаточное количество установок на здоровый образ жизни у учащихся среднего зве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Хорошо определённая проблема – наполовину решённая проблем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561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ла в связи с большим влиянием рекламы, её    доступности и негативного влияния окружающего соци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ё необходимо решить для сохранения здоровья и оздоровления 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ает когда пропадает контроль со стороны родителей, учителей, окружающих взросл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роблема семьи, учителей,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учащихся захочет участвовать в решении пробл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ить проблему захотят родители, часть учеников, уч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курящей группы учеников будет сопроти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роблема не будет решена, то можно ожидать резкое ухудшение здоровья учащихся, и как результат ухудшение здоровья н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иссия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ссия проекта - идеальное представление и общественная роль проекта, отражающая то, ради чего задумывается и реализуется проект. Формулировка миссии должна отвечать на три вопрос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кого мы это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Что мы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к мы делаем эт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Делаем проект учащихся и их роди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Изменение отношения к своему здоровью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Обосновываем необходимость  ведения здорового образа жизни и формируем социальные установки на здоровый образ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оружить учащихся необходимыми знаниями, умениями, навыками по здоровому образу жизни, которые они могут использовать в буду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состояние здоровья учащихся среднего звена и их отношение к вредным привычкам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программ по здоровому образу жизни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 полученных результатов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осещаемости уроков учащими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екомпозиция работ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посещаемости уро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9:27:56Z</dcterms:created>
  <dc:creator>243-1</dc:creator>
  <dc:description/>
  <dc:language>en-US</dc:language>
  <cp:lastModifiedBy>User</cp:lastModifiedBy>
  <dcterms:modified xsi:type="dcterms:W3CDTF">2014-01-26T15:24:04Z</dcterms:modified>
  <cp:revision>10</cp:revision>
  <dc:subject/>
  <dc:title>Слайд 1</dc:title>
</cp:coreProperties>
</file>