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9466-A854-44AA-9BBA-53065B9F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459-1F69-4EAC-95EA-53777AE2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6946-616E-47FE-8666-A1B46E42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4F1-CFED-42E5-AA44-93626D25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F2F5-41E7-4D03-B403-5848D60B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F766-204B-4E4A-B8D3-F3EDCE4E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7607-5678-4C01-BAE4-3FA771C0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A415-2DB9-4987-A0FF-D99302C8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C8D7-5762-4E5F-B931-AF8F0884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52AE-0B64-40E5-B713-031091FB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FD04-AA00-4736-BE91-7C4A29CB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9E2-F99B-4077-BC67-EDAF6B6C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ADFC-75C3-454D-8D11-FDBA6E39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6164-1D13-47B0-BA2D-2BF7E0F7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B911-5CE8-4295-A597-C205A66D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E8C4-89EE-4146-8393-E579DC8C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725D-475E-42FC-B983-31FD4927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5F1-9612-4767-9B52-537EC478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CAA-D3AB-4E71-AC5D-213428DE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759-965C-400B-A63B-5F8BFDE1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5160-8C33-4928-9A2F-F28CD87B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DC09-1A6B-4578-8CFD-7B66791C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6776-80DF-4554-B9EB-1467B46F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938-E00B-48D2-8D9E-1F8CE527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090D-41E6-4224-8FB6-4D20BCB508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B3F3-793B-4CFC-B865-D34E15C17DC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Профилактика злоупотребления вредными привычками.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Ожидаемый результат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ние основ для сохранения здоровья и использование их в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Ожидаемый результат</a:t>
            </a:r>
            <a:br>
              <a:rPr sz="32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Знание основ для сохранения здоровья и использование их в жизни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итер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Пропуски занятий по боле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Занятия в спортивных секц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Участие в спортивны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роприятиях школы, района, гор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Уменьшение количества учащихся с вредными привычк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Негативное отношение к курению, алкогольным напиткам, наркотик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5928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казате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Количество пропущенных занятий по боле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Увеличение количества учащихся в спортивных секц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Активность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Количество де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Количество де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59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Работу выполнили: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Шумилина Т.Т.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Голубева Ю.Н.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Павлова Т.М.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блема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достаточное количество установок на здоровый образ жизни у учащихся среднего звен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Хорошо определённая проблема – наполовину решённая проблема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561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блема возникла в связи с большим влиянием рекламы, её    доступности и негативного влияния окружающего социу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ё необходимо решить для сохранения здоровья и оздоровления н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блема возникает когда пропадает контроль со стороны родителей, учителей, окружающих взрослы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проблема семьи, учителей, государ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сть учащихся захочет участвовать в решении пробл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ить проблему захотят родители, часть учеников, учите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сть курящей группы учеников будет сопротивлять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проблема не будет решена, то можно ожидать резкое ухудшение здоровья учащихся, и как результат ухудшение здоровья нац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Миссия проек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иссия проекта - идеальное представление и общественная роль проекта, отражающая то, ради чего задумывается и реализуется проект. Формулировка миссии должна отвечать на три вопроса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Для кого мы это делаем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Что мы делаем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Как мы делаем это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Делаем проект учащихся и их родителе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Изменение отношения к своему здоровью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Обосновываем необходимость  ведения здорового образа жизни и формируем социальные установки на здоровый образ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оружить учащихся необходимыми знаниями, умениями, навыками по здоровому образу жизни, которые они могут использовать в будущ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а 1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вить состояние здоровья учащихся среднего звена и их отношение к вредным привычкам через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кетирование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ние и анализ медицинских карт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кетирование р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а 2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е программ по здоровому образу жизни через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сед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сультации специалис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смотр фильм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уск группами учащихся газет о здоровом образе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а 3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ниторинг полученных результатов через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иторинговое анкетирование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иторинговое анкетирование родител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посещаемости уроков учащими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занятости учащихся в спортивных секци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Декомпозиция работ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кетирование учащих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следование и анализ медицинских карт учащих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кетирование роди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сед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ультации специалис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смотр фильм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уск группами учащихся газет о здоровом образе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ниторинговое анкетирование учащих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ниторинговое анкетирование родител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 посещаемости урок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 занятости учащихся в спортивных секц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09:27:56Z</dcterms:created>
  <dc:creator>243-1</dc:creator>
  <dc:description/>
  <dc:language>en-US</dc:language>
  <cp:lastModifiedBy>User</cp:lastModifiedBy>
  <dcterms:modified xsi:type="dcterms:W3CDTF">2014-01-26T15:24:04Z</dcterms:modified>
  <cp:revision>10</cp:revision>
  <dc:subject/>
  <dc:title>Слайд 1</dc:title>
</cp:coreProperties>
</file>