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C6A-01D7-43B5-95FD-CBAFFCE0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A80-5B5D-406C-8CFA-534EDCE6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17A-73A9-4EF4-8009-2EC7403A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855-9557-4660-B997-4C160581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B32D-86ED-4092-8C48-E0B5AC15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4976-AD57-46C4-BCBE-C16D232A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DB60-0D8D-4E9E-9670-DF9DBF31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90A4-42A9-4038-82C5-DEB94C3C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5DF1-1F88-4BCC-A342-1123A712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8B05-064B-47A7-9E54-877891D5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237D-45BE-4F69-B415-A19101CE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38F-2349-473A-8C9C-A08032C8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2C42-80E4-4664-99C5-193C8964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836A-71C5-45E0-8C42-EE17FC4F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52AD-F849-40CF-85A3-36541B66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D88C-21C9-4DC6-8BA5-5703104C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969A-5D53-45D9-85BA-3EF13C20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CC8-930A-4B62-BD0D-1401084C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E1F-DC3D-4469-BD7F-1694CD10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B9F-7821-4C69-9FA5-581652C0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1CF-761E-4D74-816C-DA736C6C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AD1-BCE6-43EB-9164-DE53140A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835-42DC-4DA9-9621-125D7B2B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1AC-5834-4126-B342-0D1DE28B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95FB-785A-43C3-832E-2873D336BB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05B4-D592-4386-AB07-82C9057DE6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Профилактика злоупотребления вредными привычками.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жидаемый результа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ние основ для сохранения здоровья и использование их в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жидаемый результат</a:t>
            </a:r>
            <a:br>
              <a:rPr sz="32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Знание основ для сохранения здоровья и использование их в жизни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ите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ропуски занятий по боле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Занятия в спортивных сек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Участие в спортив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роприятиях школы, района, гор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Уменьшение количества учащихся с вредными привыч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Негативное отношение к курению, алкогольным напиткам, наркотик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5928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казат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Количество пропущенных занятий по боле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Увеличение количества учащихся в спортивных сек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Активность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Количество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Количество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Работу выполнили: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Шумилина Т.Т.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Голубева Ю.Н.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Павлова Т.М.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блема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достаточное количество установок на здоровый образ жизни у учащихся среднего звен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Хорошо определённая проблема – наполовину решённая проблема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561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блема возникла в связи с большим влиянием рекламы, её    доступности и негативного влияния окружающего социу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ё необходимо решить для сохранения здоровья и оздоровления н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блема возникает когда пропадает контроль со стороны родителей, учителей, окружающих взросл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проблема семьи, учителей, государ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ь учащихся захочет участвовать в решении пробл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ить проблему захотят родители, часть учеников, учите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ь курящей группы учеников будет сопротивля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проблема не будет решена, то можно ожидать резкое ухудшение здоровья учащихся, и как результат ухудшение здоровья на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Миссия проек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ссия проекта - идеальное представление и общественная роль проекта, отражающая то, ради чего задумывается и реализуется проект. Формулировка миссии должна отвечать на три вопрос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Для кого мы это делаем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Что мы делаем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Как мы делаем это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Делаем проект учащихся и их родител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Изменение отношения к своему здоровью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Обосновываем необходимость  ведения здорового образа жизни и формируем социальные установки на здоровый образ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оружить учащихся необходимыми знаниями, умениями, навыками по здоровому образу жизни, которые они могут использовать в будущ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вить состояние здоровья учащихся среднего звена и их отношение к вредным привычкам чере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кетирование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ние и анализ медицинских карт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кетирование р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программ по здоровому образу жизни чере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се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сультации специалис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смотр фильм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уск группами учащихся газет о здоровом образе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а 3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ниторинг полученных результатов через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иторинговое анкетирование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иторинговое анкетирование род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посещаемости уроков учащими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занятости учащихся в спортивных секц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Декомпозиция работ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кетирование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следование и анализ медицинских карт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кетирование роди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ед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ультации специалис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смотр фильм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уск группами учащихся газет о здоровом образе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ниторинговое анкетирование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ниторинговое анкетирование родите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посещаемости уро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занятости учащихся в спортивных секц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09:27:56Z</dcterms:created>
  <dc:creator>243-1</dc:creator>
  <dc:description/>
  <dc:language>en-US</dc:language>
  <cp:lastModifiedBy>User</cp:lastModifiedBy>
  <dcterms:modified xsi:type="dcterms:W3CDTF">2014-01-26T15:24:04Z</dcterms:modified>
  <cp:revision>10</cp:revision>
  <dc:subject/>
  <dc:title>Слайд 1</dc:title>
</cp:coreProperties>
</file>