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92C-FD02-4E93-9D25-D200F48DA1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9EE7-1E02-4885-A2DC-CD96700CB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3F4-DBC3-4A18-8848-A28CAD45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8C7-B2FB-4BEA-8C4A-C778DEA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452-DD7C-45B3-9959-9D94C390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B1E-48F7-4B5F-9FE5-8449418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CC4-0E70-4C8A-B761-A0D3608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BFC-A467-4454-B436-7944E0B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0CA-780C-46B9-9690-998CABC4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895-AE58-4364-BD2E-44A2CB1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F0-D6A0-4EFD-B5F4-59254D7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40F-4A67-43F5-ABDA-9C59D94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C61-B86E-4DFD-BAAC-0ECC230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2A4-D845-4B08-9B49-AA5766D4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FC9-D7AC-4BB4-856B-C552454E0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3859200" y="3886200"/>
            <a:ext cx="142560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титульный лист олимпиады.jpg"/>
          <p:cNvPicPr/>
          <p:nvPr/>
        </p:nvPicPr>
        <p:blipFill>
          <a:blip r:embed="rId2"/>
          <a:stretch/>
        </p:blipFill>
        <p:spPr>
          <a:xfrm>
            <a:off x="2484360" y="1413000"/>
            <a:ext cx="4248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905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г от радости не чуя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горки снежной вниз лечу я!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 мне спорт родней и ближе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помог мне в этом? ..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(Лыжи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br>
              <a:rPr sz="1400"/>
            </a:br>
            <a:br>
              <a:rPr sz="14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лыжник бобёр.jpg"/>
          <p:cNvPicPr/>
          <p:nvPr/>
        </p:nvPicPr>
        <p:blipFill>
          <a:blip r:embed="rId1"/>
          <a:stretch/>
        </p:blipFill>
        <p:spPr>
          <a:xfrm>
            <a:off x="900000" y="1773360"/>
            <a:ext cx="770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стафета нелег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ду команду для рыв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Старт) 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Россия рада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нас ОЛИМПИАДА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 спорта Мировой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т нас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олимпийские кольца.jpg"/>
          <p:cNvPicPr/>
          <p:nvPr/>
        </p:nvPicPr>
        <p:blipFill>
          <a:blip r:embed="rId1"/>
          <a:stretch/>
        </p:blipFill>
        <p:spPr>
          <a:xfrm>
            <a:off x="1692360" y="2276640"/>
            <a:ext cx="5904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этого спортсмена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звать бы сразу мог!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И лыжник он отменный,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И меткий он стрелок! (Биатлони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чебурашка биатлонист.jpg"/>
          <p:cNvPicPr/>
          <p:nvPr/>
        </p:nvPicPr>
        <p:blipFill>
          <a:blip r:embed="rId1"/>
          <a:stretch/>
        </p:blipFill>
        <p:spPr>
          <a:xfrm>
            <a:off x="1692360" y="2349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 дворе с утра игр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ыгралась детвора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ки: «шайбу!», «мимо!», «бей!» -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чит там игра – …. (Хоккей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хокей бобёр.jpg"/>
          <p:cNvPicPr/>
          <p:nvPr/>
        </p:nvPicPr>
        <p:blipFill>
          <a:blip r:embed="rId1"/>
          <a:stretch/>
        </p:blipFill>
        <p:spPr>
          <a:xfrm>
            <a:off x="1476360" y="2149560"/>
            <a:ext cx="5975280" cy="366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2400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Ларисы, говоря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онькам второй разряд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жится Лариска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риска – …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игуристка.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коньки....jpg"/>
          <p:cNvPicPr/>
          <p:nvPr/>
        </p:nvPicPr>
        <p:blipFill>
          <a:blip r:embed="rId1"/>
          <a:stretch/>
        </p:blipFill>
        <p:spPr>
          <a:xfrm>
            <a:off x="1835280" y="2060640"/>
            <a:ext cx="5616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стафета нелег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ду команду для рыв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Старт) 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 этот спорт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много слышал: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акробат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ыжах.  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ристай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9" descr="фристайл.jpg"/>
          <p:cNvPicPr/>
          <p:nvPr/>
        </p:nvPicPr>
        <p:blipFill>
          <a:blip r:embed="rId1"/>
          <a:stretch/>
        </p:blipFill>
        <p:spPr>
          <a:xfrm>
            <a:off x="1763640" y="1782720"/>
            <a:ext cx="6193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ащили их на горку,</a:t>
            </a:r>
            <a:br>
              <a:rPr sz="2200"/>
            </a:b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б устроить гонку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санки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сани.jpg"/>
          <p:cNvPicPr/>
          <p:nvPr/>
        </p:nvPicPr>
        <p:blipFill>
          <a:blip r:embed="rId1"/>
          <a:stretch/>
        </p:blipFill>
        <p:spPr>
          <a:xfrm>
            <a:off x="1908000" y="2205000"/>
            <a:ext cx="532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20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на вид – одна доска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зато названьем горд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Он зовется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…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ноубор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сноуборд.....jpg"/>
          <p:cNvPicPr/>
          <p:nvPr/>
        </p:nvPicPr>
        <p:blipFill>
          <a:blip r:embed="rId1"/>
          <a:stretch/>
        </p:blipFill>
        <p:spPr>
          <a:xfrm>
            <a:off x="1619280" y="2133720"/>
            <a:ext cx="5977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7:48:38Z</dcterms:created>
  <dc:creator>Анжек</dc:creator>
  <dc:description/>
  <dc:language>en-US</dc:language>
  <cp:lastModifiedBy>Анжек</cp:lastModifiedBy>
  <dcterms:modified xsi:type="dcterms:W3CDTF">2014-01-25T20:03:23Z</dcterms:modified>
  <cp:revision>15</cp:revision>
  <dc:subject/>
  <dc:title>Зимние виды спорта</dc:title>
</cp:coreProperties>
</file>