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B07C-336B-437B-8336-16D2764E9E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7106-D952-41E7-8575-ECA70BA25A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171-3BC2-4B28-933C-B612C65D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08B-7E71-4FCA-9FD4-9D40F63C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36E-7CFE-4F80-8E3F-68DDFC05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D5E-E1E6-4C74-BC35-EFFB125D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D49-541D-4D3B-B7ED-077CEF54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C8B-5E93-4996-A43C-94C744E1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4A7-1E80-404E-A4CA-6E031EBB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F2E-A058-4155-B919-2A3396A6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175-8F22-46AC-8ED4-CCBD911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965-6030-42E9-99D9-9FC0E41B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772-938C-4F8D-AEEE-A2C0838E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BF5-48C3-41FB-8114-F9B91B0F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72C7-2072-4355-A7DB-7566B695F9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титульный лист олимпиады.jpg"/>
          <p:cNvPicPr/>
          <p:nvPr/>
        </p:nvPicPr>
        <p:blipFill>
          <a:blip r:embed="rId1"/>
          <a:stretch/>
        </p:blipFill>
        <p:spPr>
          <a:xfrm>
            <a:off x="3859200" y="3886200"/>
            <a:ext cx="142560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титульный лист олимпиады.jpg"/>
          <p:cNvPicPr/>
          <p:nvPr/>
        </p:nvPicPr>
        <p:blipFill>
          <a:blip r:embed="rId2"/>
          <a:stretch/>
        </p:blipFill>
        <p:spPr>
          <a:xfrm>
            <a:off x="2484360" y="1413000"/>
            <a:ext cx="42483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7905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г от радости не чуя,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горки снежной вниз лечу я!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л мне спорт родней и ближе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помог мне в этом? ...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(Лыжи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.)</a:t>
            </a:r>
            <a:br>
              <a:rPr sz="1400"/>
            </a:br>
            <a:br>
              <a:rPr sz="14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лыжник бобёр.jpg"/>
          <p:cNvPicPr/>
          <p:nvPr/>
        </p:nvPicPr>
        <p:blipFill>
          <a:blip r:embed="rId1"/>
          <a:stretch/>
        </p:blipFill>
        <p:spPr>
          <a:xfrm>
            <a:off x="900000" y="1773360"/>
            <a:ext cx="770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Эстафета нелегка. 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Жду команду для рывка. 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(Старт) 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титульный лист олимпиады.jpg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я Россия рада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нас ОЛИМПИАДА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 спорта Мировой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т нас зи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олимпийские кольца.jpg"/>
          <p:cNvPicPr/>
          <p:nvPr/>
        </p:nvPicPr>
        <p:blipFill>
          <a:blip r:embed="rId1"/>
          <a:stretch/>
        </p:blipFill>
        <p:spPr>
          <a:xfrm>
            <a:off x="1692360" y="2276640"/>
            <a:ext cx="59040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ы этого спортсмена</a:t>
            </a:r>
            <a:br>
              <a:rPr sz="2200"/>
            </a:b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Назвать бы сразу мог!</a:t>
            </a:r>
            <a:br>
              <a:rPr sz="2200"/>
            </a:b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И лыжник он отменный,</a:t>
            </a:r>
            <a:br>
              <a:rPr sz="2200"/>
            </a:b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И меткий он стрелок! (Биатлони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чебурашка биатлонист.jpg"/>
          <p:cNvPicPr/>
          <p:nvPr/>
        </p:nvPicPr>
        <p:blipFill>
          <a:blip r:embed="rId1"/>
          <a:stretch/>
        </p:blipFill>
        <p:spPr>
          <a:xfrm>
            <a:off x="1692360" y="2349360"/>
            <a:ext cx="54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br>
              <a:rPr sz="12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 дворе с утра игра,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ыгралась детвора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ки: «шайбу!», «мимо!», «бей!» -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начит там игра – …. (Хоккей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хокей бобёр.jpg"/>
          <p:cNvPicPr/>
          <p:nvPr/>
        </p:nvPicPr>
        <p:blipFill>
          <a:blip r:embed="rId1"/>
          <a:stretch/>
        </p:blipFill>
        <p:spPr>
          <a:xfrm>
            <a:off x="1476360" y="2149560"/>
            <a:ext cx="5975280" cy="3666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324000" y="40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Ларисы, говорят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конькам второй разряд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ужится Лариска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риска – …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игуристка.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коньки....jpg"/>
          <p:cNvPicPr/>
          <p:nvPr/>
        </p:nvPicPr>
        <p:blipFill>
          <a:blip r:embed="rId1"/>
          <a:stretch/>
        </p:blipFill>
        <p:spPr>
          <a:xfrm>
            <a:off x="1835280" y="2060640"/>
            <a:ext cx="5616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Эстафета нелегка. 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Жду команду для рывка. 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(Старт) 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титульный лист олимпиады.jpg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 этот спорт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много слышал: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шный акробат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лыжах.   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ристай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9" descr="фристайл.jpg"/>
          <p:cNvPicPr/>
          <p:nvPr/>
        </p:nvPicPr>
        <p:blipFill>
          <a:blip r:embed="rId1"/>
          <a:stretch/>
        </p:blipFill>
        <p:spPr>
          <a:xfrm>
            <a:off x="1763640" y="1782720"/>
            <a:ext cx="6193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ащили их на горку,</a:t>
            </a:r>
            <a:br>
              <a:rPr sz="2200"/>
            </a:br>
            <a:r>
              <a:rPr b="0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тоб устроить гонку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. </a:t>
            </a:r>
            <a:r>
              <a:rPr b="1" lang="ru-RU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(санки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сани.jpg"/>
          <p:cNvPicPr/>
          <p:nvPr/>
        </p:nvPicPr>
        <p:blipFill>
          <a:blip r:embed="rId1"/>
          <a:stretch/>
        </p:blipFill>
        <p:spPr>
          <a:xfrm>
            <a:off x="1908000" y="2205000"/>
            <a:ext cx="532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20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на вид – одна доска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зато названьем горд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Он зовется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…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ноубор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7" descr="сноуборд.....jpg"/>
          <p:cNvPicPr/>
          <p:nvPr/>
        </p:nvPicPr>
        <p:blipFill>
          <a:blip r:embed="rId1"/>
          <a:stretch/>
        </p:blipFill>
        <p:spPr>
          <a:xfrm>
            <a:off x="1619280" y="2133720"/>
            <a:ext cx="5977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17:48:38Z</dcterms:created>
  <dc:creator>Анжек</dc:creator>
  <dc:description/>
  <dc:language>en-US</dc:language>
  <cp:lastModifiedBy>Анжек</cp:lastModifiedBy>
  <dcterms:modified xsi:type="dcterms:W3CDTF">2014-01-25T20:03:23Z</dcterms:modified>
  <cp:revision>15</cp:revision>
  <dc:subject/>
  <dc:title>Зимние виды спорта</dc:title>
</cp:coreProperties>
</file>