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77520"/>
            <a:ext cx="4570560" cy="344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7D5F50-8E54-4BBF-9A3E-11B1108299E8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3A81AC-2E10-43BB-AA68-E8E3912E56A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9EACB3-7616-469F-AF83-74D3E253D9B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B4E1E6-4F92-4090-9C4E-D17768551A3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5DEE6D-02E3-41D1-A3EB-49907275250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A7C7B6-5248-4003-B217-E1BBC0D1A13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DD50EF-339D-4CEE-B43C-603AC75A550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A58A21-F36A-47D6-B356-DD58B3EE55C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берите из данных примеров только словосочета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422649-C2A3-4B08-8A2C-8AADDDB83E1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DEDEE6-5AD7-45D1-98BA-B43A7453DE3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495702-3190-4ACB-A6C0-623F698543C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C53036-F2BC-4773-A587-4515202154E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217071-38D8-45F6-BF6E-4FFC2FAAD0F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6071D2-219E-4051-A7B5-F4CA41B92C5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447BBD-5D5A-46E6-AD12-3FFB5A75932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FEC0D-7F61-4207-A3A1-6165F83FF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325440"/>
            <a:ext cx="77914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22928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B5ED0-34FE-49C8-8CB7-4A1273027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325440"/>
            <a:ext cx="77914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4560" y="20178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22928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4560" y="422928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FB04E-5BFB-40B4-9A21-96A7DE81A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325440"/>
            <a:ext cx="77914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240" y="20178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7520" y="20178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22928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240" y="422928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7520" y="422928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30941-49A5-42A0-8AA0-ED161BA71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174FA-FE8E-4086-9C75-83B556DBE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325440"/>
            <a:ext cx="77914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0960" cy="42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4EA6F-3D92-4FCA-8D16-A020722C5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325440"/>
            <a:ext cx="77914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096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D22D1-9D35-4388-9160-0B5A44A59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325440"/>
            <a:ext cx="77914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188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4560" y="2017800"/>
            <a:ext cx="379188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E2ACB-9248-4FB0-B46B-2F69B6B57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325440"/>
            <a:ext cx="77914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AAC0F-8D9E-499A-9F3C-3EC25E5B9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325440"/>
            <a:ext cx="779148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B9FAE-B376-4452-A04A-AD03973E9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325440"/>
            <a:ext cx="77914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4560" y="2017800"/>
            <a:ext cx="379188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22928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5E01B-88D5-4333-BDBF-BEE3CA23D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325440"/>
            <a:ext cx="77914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0960" cy="42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02CDD-D874-4C5C-B64F-CB12397CA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325440"/>
            <a:ext cx="77914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188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4560" y="20178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4560" y="422928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48C09-CD38-440B-9845-6D2C3C4FB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325440"/>
            <a:ext cx="77914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4560" y="20178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22928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4F99D-526B-488E-9D51-1C614E4D6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325440"/>
            <a:ext cx="77914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22928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057C3-D67D-48AF-951C-B048CC01F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325440"/>
            <a:ext cx="77914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4560" y="20178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22928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4560" y="422928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3B6D8-D2EB-4186-BA50-7DC48678E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325440"/>
            <a:ext cx="77914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240" y="20178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7520" y="20178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22928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240" y="422928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7520" y="422928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2CBA5-1F3E-4393-8E92-C80180589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325440"/>
            <a:ext cx="77914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096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28351-377B-45A9-928F-334856564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325440"/>
            <a:ext cx="77914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188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4560" y="2017800"/>
            <a:ext cx="379188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61074-1FF5-4CED-AD64-F2A0B5510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325440"/>
            <a:ext cx="77914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9591E-9A25-4CB0-9F0F-5E5E910B3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325440"/>
            <a:ext cx="779148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31AB8-FFF4-45E6-B68A-E1AC53048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325440"/>
            <a:ext cx="77914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4560" y="2017800"/>
            <a:ext cx="379188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22928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B13DE-00EF-442A-B64E-0DD650233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325440"/>
            <a:ext cx="77914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188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4560" y="20178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4560" y="422928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812DF-7AD0-4262-9B4D-08C040D34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325440"/>
            <a:ext cx="77914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4560" y="20178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22928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65AF5-56F2-4708-B3B5-9E8C41640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Rectangle 2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Rectangle 3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Rectangle 4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Rectangle 5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Rectangle 7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325440"/>
            <a:ext cx="77914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096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040" y="6324480"/>
            <a:ext cx="1903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320" y="6324480"/>
            <a:ext cx="289404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36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CCBAEF3-0185-4942-970C-BC72A73249F1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1"/>
          <p:cNvGrpSpPr/>
          <p:nvPr/>
        </p:nvGrpSpPr>
        <p:grpSpPr>
          <a:xfrm>
            <a:off x="0" y="2438280"/>
            <a:ext cx="9007200" cy="1051200"/>
            <a:chOff x="0" y="2438280"/>
            <a:chExt cx="9007200" cy="1051200"/>
          </a:xfrm>
        </p:grpSpPr>
        <p:grpSp>
          <p:nvGrpSpPr>
            <p:cNvPr id="49" name="Group 2"/>
            <p:cNvGrpSpPr/>
            <p:nvPr/>
          </p:nvGrpSpPr>
          <p:grpSpPr>
            <a:xfrm>
              <a:off x="290160" y="2545920"/>
              <a:ext cx="708840" cy="472320"/>
              <a:chOff x="290160" y="2545920"/>
              <a:chExt cx="708840" cy="472320"/>
            </a:xfrm>
          </p:grpSpPr>
          <p:sp>
            <p:nvSpPr>
              <p:cNvPr id="50" name="Rectangle 3"/>
              <p:cNvSpPr/>
              <p:nvPr/>
            </p:nvSpPr>
            <p:spPr>
              <a:xfrm>
                <a:off x="290160" y="2545920"/>
                <a:ext cx="436680" cy="4723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Rectangle 4"/>
              <p:cNvSpPr/>
              <p:nvPr/>
            </p:nvSpPr>
            <p:spPr>
              <a:xfrm>
                <a:off x="671400" y="2545920"/>
                <a:ext cx="327600" cy="47232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Group 5"/>
            <p:cNvGrpSpPr/>
            <p:nvPr/>
          </p:nvGrpSpPr>
          <p:grpSpPr>
            <a:xfrm>
              <a:off x="414000" y="2967480"/>
              <a:ext cx="735840" cy="472320"/>
              <a:chOff x="414000" y="2967480"/>
              <a:chExt cx="735840" cy="472320"/>
            </a:xfrm>
          </p:grpSpPr>
          <p:sp>
            <p:nvSpPr>
              <p:cNvPr id="53" name="Rectangle 6"/>
              <p:cNvSpPr/>
              <p:nvPr/>
            </p:nvSpPr>
            <p:spPr>
              <a:xfrm>
                <a:off x="414000" y="2967480"/>
                <a:ext cx="421920" cy="47232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Rectangle 7"/>
              <p:cNvSpPr/>
              <p:nvPr/>
            </p:nvSpPr>
            <p:spPr>
              <a:xfrm>
                <a:off x="781920" y="2967480"/>
                <a:ext cx="367920" cy="47232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5" name="Rectangle 8"/>
            <p:cNvSpPr/>
            <p:nvPr/>
          </p:nvSpPr>
          <p:spPr>
            <a:xfrm>
              <a:off x="0" y="2894760"/>
              <a:ext cx="560160" cy="42156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Rectangle 9"/>
            <p:cNvSpPr/>
            <p:nvPr/>
          </p:nvSpPr>
          <p:spPr>
            <a:xfrm>
              <a:off x="634680" y="2438280"/>
              <a:ext cx="31320" cy="105120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Rectangle 10"/>
            <p:cNvSpPr/>
            <p:nvPr/>
          </p:nvSpPr>
          <p:spPr>
            <a:xfrm flipV="1">
              <a:off x="315720" y="3258360"/>
              <a:ext cx="8691480" cy="550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360" y="1536840"/>
            <a:ext cx="77706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76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ahoma"/>
                <a:ea typeface="Lucida Sans Unicode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746F726-4347-4F74-8E2C-AC2E40092FF4}" type="slidenum">
              <a:rPr b="0" lang="ru-RU" sz="1400" spc="-1" strike="noStrike">
                <a:solidFill>
                  <a:srgbClr val="000000"/>
                </a:solidFill>
                <a:latin typeface="Tahoma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90720" y="1536840"/>
            <a:ext cx="777240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Типы связи слов в словосочетании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одчинительные словосочетания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4929120" y="5786280"/>
            <a:ext cx="3714840" cy="7333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Юрицина Ольга Ивановна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учитель русского языка и литературы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МБОУ СОШ №1 г.Новочеркасска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379440"/>
            <a:ext cx="78487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ahoma"/>
              </a:rPr>
              <a:t>Примыкание-</a:t>
            </a: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способ подчинительной связи, при котором зависимое слово 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714240" y="3357720"/>
            <a:ext cx="739152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Главное слово-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глагол, деепричастие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ричастие, наречие, прилагательное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уществительное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Зависимое слово-  наречие, деепричастие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инфинитив, сравнительная форма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неизменяемое прилагательное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Rectangle 3"/>
          <p:cNvSpPr/>
          <p:nvPr/>
        </p:nvSpPr>
        <p:spPr>
          <a:xfrm>
            <a:off x="990720" y="2057400"/>
            <a:ext cx="76960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связано с главным только по смыслу и интонационно</a:t>
            </a:r>
            <a:r>
              <a:rPr b="0" lang="ru-RU" sz="3600" spc="-1" strike="noStrike">
                <a:solidFill>
                  <a:srgbClr val="333399"/>
                </a:solidFill>
                <a:latin typeface="Tahoma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5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8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85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90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95" dur="5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00" dur="5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05" dur="500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10" dur="500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50560" y="6156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Практический совет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1999800"/>
            <a:ext cx="7772400" cy="41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Чтобы найти словосочетание с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примыканием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нужно определить неизменяемое слово, а затем - слово, от которого оно зависит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1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22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981080" y="3349440"/>
            <a:ext cx="320040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Различать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-360" y="4267080"/>
            <a:ext cx="434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Примыкание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Его книг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Её слово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Их дет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Rectangle 3"/>
          <p:cNvSpPr/>
          <p:nvPr/>
        </p:nvSpPr>
        <p:spPr>
          <a:xfrm>
            <a:off x="4876920" y="4191120"/>
            <a:ext cx="3200400" cy="23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Управление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ижу его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кликнул его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ызвал их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Oval 4"/>
          <p:cNvSpPr/>
          <p:nvPr/>
        </p:nvSpPr>
        <p:spPr>
          <a:xfrm>
            <a:off x="0" y="762120"/>
            <a:ext cx="8915400" cy="228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имыкание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Внимательно слушать,собираться уехать, идти не оглядываясь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яйца всмятку, желание учиться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2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3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5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214720" y="356760"/>
            <a:ext cx="52704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3399"/>
                </a:solidFill>
                <a:latin typeface="Tahoma"/>
              </a:rPr>
              <a:t>Осторожно! Грамматическая ошибка.</a:t>
            </a:r>
            <a:br>
              <a:rPr sz="2400"/>
            </a:b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-360" y="1785600"/>
            <a:ext cx="4343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0760" indent="-32076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Неправильно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0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ahoma"/>
              </a:rPr>
              <a:t>Установить о причинах авари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0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ahoma"/>
              </a:rPr>
              <a:t>Не касаться к этим вопросам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0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ahoma"/>
              </a:rPr>
              <a:t>Оплатить за проезд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0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ahoma"/>
              </a:rPr>
              <a:t>Характерная им особенност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0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ahoma"/>
              </a:rPr>
              <a:t>Партнер в игре в гольф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0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 u="sng">
                <a:solidFill>
                  <a:srgbClr val="ff0000"/>
                </a:solidFill>
                <a:uFillTx/>
                <a:latin typeface="Tahoma"/>
              </a:rPr>
              <a:t>По завершению работы</a:t>
            </a:r>
            <a:r>
              <a:rPr b="0" lang="ru-RU" sz="2400" spc="-1" strike="noStrike">
                <a:solidFill>
                  <a:srgbClr val="ff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0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ahoma"/>
              </a:rPr>
              <a:t>Плохая погода препятствует и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0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ahoma"/>
              </a:rPr>
              <a:t>затягивает уборку урожая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Rectangle 3"/>
          <p:cNvSpPr/>
          <p:nvPr/>
        </p:nvSpPr>
        <p:spPr>
          <a:xfrm>
            <a:off x="4429080" y="1643040"/>
            <a:ext cx="44956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Правильно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3366cc"/>
                </a:solidFill>
                <a:latin typeface="Times New Roman"/>
              </a:rPr>
              <a:t>Установить причины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3366cc"/>
                </a:solidFill>
                <a:latin typeface="Times New Roman"/>
              </a:rPr>
              <a:t>Не касаться этих вопросов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3366cc"/>
                </a:solidFill>
                <a:latin typeface="Times New Roman"/>
              </a:rPr>
              <a:t>Оплатить проезд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3366cc"/>
                </a:solidFill>
                <a:latin typeface="Times New Roman"/>
              </a:rPr>
              <a:t>Характерная для них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3366cc"/>
                </a:solidFill>
                <a:latin typeface="Times New Roman"/>
              </a:rPr>
              <a:t>особенность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3366cc"/>
                </a:solidFill>
                <a:latin typeface="Times New Roman"/>
              </a:rPr>
              <a:t>Партнер по игре в гольф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 u="sng">
                <a:solidFill>
                  <a:srgbClr val="3366cc"/>
                </a:solidFill>
                <a:uFillTx/>
                <a:latin typeface="Times New Roman"/>
              </a:rPr>
              <a:t>По завершении работы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3366cc"/>
                </a:solidFill>
                <a:latin typeface="Times New Roman"/>
              </a:rPr>
              <a:t>Плохая погода препятствует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3366cc"/>
                </a:solidFill>
                <a:latin typeface="Times New Roman"/>
              </a:rPr>
              <a:t>уборке урожая и затягивает её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70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75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80" dur="5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85" dur="5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90" dur="500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95" dur="5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0" dur="500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5" dur="500"/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10" dur="500"/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15" dur="500"/>
                                        <p:tgtEl>
                                          <p:spTgt spid="1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20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679480" y="539640"/>
            <a:ext cx="504180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Трудные случаи управления.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-360" y="1905120"/>
            <a:ext cx="434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ahoma"/>
              </a:rPr>
              <a:t>1)Согласно,благодаря, вопреки, подобно +Дат п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ahoma"/>
              </a:rPr>
              <a:t>2)В меру, в заключение, в виде, в течение, в продолжение, в силу, наподобие, посредством, +Род.п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ahoma"/>
              </a:rPr>
              <a:t>3)По+Пред.п.( обозначает действие, событие, после которого что-либо совершается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Rectangle 3"/>
          <p:cNvSpPr/>
          <p:nvPr/>
        </p:nvSpPr>
        <p:spPr>
          <a:xfrm>
            <a:off x="4495680" y="1828800"/>
            <a:ext cx="4267440" cy="4648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гласно уставу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лагодаря лечению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опреки прогноза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добно взрыву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меру си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заключение лекци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виде облак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течение недел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продолжение ноч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 прибытии, по приезд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 окончании, по завершени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2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32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37" dur="5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42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4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Tahoma"/>
              </a:rPr>
              <a:t>Список используемых источников: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28760" y="3786120"/>
            <a:ext cx="6400800" cy="28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1)А.Г. Нарушевич Русский язык. Сочинение на ЕГЭ. Москва, Просвещение,2009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2)А.Г. Нарушевич Методика подготовки к ЕГЭ по русскому языку: планирование занятий, организация урока, система упражнений. Москва, Педагогический университет «Первое сентября», 200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3)Пушкин А.С.Стихотворения. Поэмы. Сказки. «Евгений Онегин», Москва, Олимп, 1998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4)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ww.imageafter.com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5) www.1september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u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568080"/>
            <a:ext cx="779292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ahoma"/>
              </a:rPr>
              <a:t>Словосочетание- это соединение двух или нескольких знаменательных слов, связанных друг с другом по смыслу и грамматически.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42560" y="2000160"/>
            <a:ext cx="3249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Открытый урок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3"/>
          <p:cNvSpPr/>
          <p:nvPr/>
        </p:nvSpPr>
        <p:spPr>
          <a:xfrm>
            <a:off x="214200" y="2786040"/>
            <a:ext cx="64008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Заплатить за проезд, писать письмо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142920" y="3643200"/>
            <a:ext cx="5856120" cy="1139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твечал не читая, очень горячий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ишёл миритьс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Rectangle 5"/>
          <p:cNvSpPr/>
          <p:nvPr/>
        </p:nvSpPr>
        <p:spPr>
          <a:xfrm>
            <a:off x="380880" y="502920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коло дерев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Rectangle 6"/>
          <p:cNvSpPr/>
          <p:nvPr/>
        </p:nvSpPr>
        <p:spPr>
          <a:xfrm>
            <a:off x="5410080" y="4952880"/>
            <a:ext cx="3276720" cy="7621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то следующий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коро осень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Rectangle 7"/>
          <p:cNvSpPr/>
          <p:nvPr/>
        </p:nvSpPr>
        <p:spPr>
          <a:xfrm>
            <a:off x="5214960" y="1857240"/>
            <a:ext cx="1905120" cy="7621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гласовани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Rectangle 8"/>
          <p:cNvSpPr/>
          <p:nvPr/>
        </p:nvSpPr>
        <p:spPr>
          <a:xfrm>
            <a:off x="7072200" y="2857680"/>
            <a:ext cx="1905120" cy="5331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правлени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Rectangle 9"/>
          <p:cNvSpPr/>
          <p:nvPr/>
        </p:nvSpPr>
        <p:spPr>
          <a:xfrm>
            <a:off x="7072200" y="4000680"/>
            <a:ext cx="1828800" cy="6094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имыкани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Rectangle 10"/>
          <p:cNvSpPr/>
          <p:nvPr/>
        </p:nvSpPr>
        <p:spPr>
          <a:xfrm>
            <a:off x="1981080" y="6095880"/>
            <a:ext cx="4267440" cy="4572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 является словосочетание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Line 12"/>
          <p:cNvSpPr/>
          <p:nvPr/>
        </p:nvSpPr>
        <p:spPr>
          <a:xfrm flipV="1">
            <a:off x="6705720" y="3122640"/>
            <a:ext cx="304560" cy="7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Line 14"/>
          <p:cNvSpPr/>
          <p:nvPr/>
        </p:nvSpPr>
        <p:spPr>
          <a:xfrm>
            <a:off x="2362320" y="5334120"/>
            <a:ext cx="175248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Line 15"/>
          <p:cNvSpPr/>
          <p:nvPr/>
        </p:nvSpPr>
        <p:spPr>
          <a:xfrm flipH="1">
            <a:off x="4341960" y="5334120"/>
            <a:ext cx="9936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3" name="Прямая со стрелкой 19"/>
          <p:cNvCxnSpPr/>
          <p:nvPr/>
        </p:nvCxnSpPr>
        <p:spPr>
          <a:xfrm>
            <a:off x="3571920" y="2214720"/>
            <a:ext cx="13579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4" name="Прямая со стрелкой 21"/>
          <p:cNvCxnSpPr/>
          <p:nvPr/>
        </p:nvCxnSpPr>
        <p:spPr>
          <a:xfrm>
            <a:off x="6072120" y="4285800"/>
            <a:ext cx="929520" cy="72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4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28800" y="500040"/>
            <a:ext cx="777240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Tahoma"/>
              </a:rPr>
              <a:t>Не являются словосочетаниями: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56760" y="2214720"/>
            <a:ext cx="8001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1)сочетание самостоятельного слова со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лужебным: </a:t>
            </a: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перед домом,пустьтанцует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Rectangle 3"/>
          <p:cNvSpPr/>
          <p:nvPr/>
        </p:nvSpPr>
        <p:spPr>
          <a:xfrm>
            <a:off x="285840" y="3571920"/>
            <a:ext cx="79246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) сочетания слов в составе фразеологизмов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Проглотить язык, обводить вокруг пальца 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Rectangle 4"/>
          <p:cNvSpPr/>
          <p:nvPr/>
        </p:nvSpPr>
        <p:spPr>
          <a:xfrm>
            <a:off x="285840" y="4643280"/>
            <a:ext cx="79246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3) подлежащее и сказуемое: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наступил вечер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Rectangle 5"/>
          <p:cNvSpPr/>
          <p:nvPr/>
        </p:nvSpPr>
        <p:spPr>
          <a:xfrm>
            <a:off x="285840" y="5486400"/>
            <a:ext cx="80769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4) составные словоформы: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более тёмный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будет бегать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1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6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607760" y="568080"/>
            <a:ext cx="6953400" cy="119052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Tahoma"/>
              </a:rPr>
              <a:t>Способы подчинительной связи между словами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80880" y="3200400"/>
            <a:ext cx="3733920" cy="91440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ОГЛАСОВАНИ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Rectangle 3"/>
          <p:cNvSpPr/>
          <p:nvPr/>
        </p:nvSpPr>
        <p:spPr>
          <a:xfrm>
            <a:off x="5257800" y="3200400"/>
            <a:ext cx="3429000" cy="68580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ПРАВЛЕНИ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Rectangle 4"/>
          <p:cNvSpPr/>
          <p:nvPr/>
        </p:nvSpPr>
        <p:spPr>
          <a:xfrm>
            <a:off x="2743200" y="5029200"/>
            <a:ext cx="3962520" cy="106668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МЫКАНИ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Line 5"/>
          <p:cNvSpPr/>
          <p:nvPr/>
        </p:nvSpPr>
        <p:spPr>
          <a:xfrm>
            <a:off x="4648320" y="1828800"/>
            <a:ext cx="75960" cy="312408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Line 6"/>
          <p:cNvSpPr/>
          <p:nvPr/>
        </p:nvSpPr>
        <p:spPr>
          <a:xfrm flipH="1">
            <a:off x="1902960" y="1752480"/>
            <a:ext cx="1832040" cy="144792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Line 7"/>
          <p:cNvSpPr/>
          <p:nvPr/>
        </p:nvSpPr>
        <p:spPr>
          <a:xfrm>
            <a:off x="6019920" y="1752480"/>
            <a:ext cx="1752480" cy="13716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8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Tahoma"/>
              </a:rPr>
              <a:t>СОГЛАСОВАНИЕ</a:t>
            </a:r>
            <a:r>
              <a:rPr b="0" lang="ru-RU" sz="3600" spc="-1" strike="noStrike">
                <a:solidFill>
                  <a:srgbClr val="333399"/>
                </a:solidFill>
                <a:latin typeface="Tahoma"/>
              </a:rPr>
              <a:t>-</a:t>
            </a: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способ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80880" y="35049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Главное слово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: существительное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Зависимое слово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рилагательное, причастие, местоимение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орядковое числительное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Rectangle 3"/>
          <p:cNvSpPr/>
          <p:nvPr/>
        </p:nvSpPr>
        <p:spPr>
          <a:xfrm>
            <a:off x="380880" y="5562720"/>
            <a:ext cx="7543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Молодая берёзка, кипящая вода, наш друг, первый снег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Rectangle 4"/>
          <p:cNvSpPr/>
          <p:nvPr/>
        </p:nvSpPr>
        <p:spPr>
          <a:xfrm>
            <a:off x="457200" y="1905120"/>
            <a:ext cx="81532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подчинительной связи, при котором зависимое слово уподобляется главному в формах рода, числа и падеж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5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0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5" dur="5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0" dur="5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5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6156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Практический совет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Чтобы найти словосочетание с согласованием, надо выделить в предложении слово,отвечающее на вопрос  </a:t>
            </a:r>
            <a:r>
              <a:rPr b="0" lang="ru-RU" sz="3200" spc="-1" strike="noStrike">
                <a:solidFill>
                  <a:srgbClr val="3333cc"/>
                </a:solidFill>
                <a:latin typeface="Tahoma"/>
              </a:rPr>
              <a:t>КАКОЙ?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, а затем найти слово,от которого оно зависит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7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ahoma"/>
              </a:rPr>
              <a:t>Управление-</a:t>
            </a: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 способ подчинительной связи, при котором главное слово 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80520" y="3809520"/>
            <a:ext cx="7239240" cy="331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Главное слово: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глагол и его формы (причастие, деепричастие), существительное, прилагательное, числительное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Зависимое слово: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существительное, местоимение, числительное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3"/>
          <p:cNvSpPr/>
          <p:nvPr/>
        </p:nvSpPr>
        <p:spPr>
          <a:xfrm>
            <a:off x="914400" y="1905120"/>
            <a:ext cx="7696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требует от зависимого постановки в определённом падеже с предлогом или без предлог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4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9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0560" y="6156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Управление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5812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омогать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омогал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омогал б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3"/>
          <p:cNvSpPr/>
          <p:nvPr/>
        </p:nvSpPr>
        <p:spPr>
          <a:xfrm>
            <a:off x="3581280" y="2362320"/>
            <a:ext cx="25146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ебёнку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Rectangle 4"/>
          <p:cNvSpPr/>
          <p:nvPr/>
        </p:nvSpPr>
        <p:spPr>
          <a:xfrm>
            <a:off x="304920" y="4038480"/>
            <a:ext cx="327636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сить(что?)траву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еря(во что?) в любов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вое(из кого?) из пят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оволен (кем?) собой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Rectangle 5"/>
          <p:cNvSpPr/>
          <p:nvPr/>
        </p:nvSpPr>
        <p:spPr>
          <a:xfrm>
            <a:off x="4419720" y="3200400"/>
            <a:ext cx="3581280" cy="9144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ри тополя(им.вин.п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ри сына(им.п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6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1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6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41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4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50560" y="6156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Практический совет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оиск словосочетания с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управлением-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это поиск слова (с предлогом или без) , отвечающего на падежный вопрос, а затем установление главного слова, чаще всего глагола или существительного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8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1T12:35:15Z</dcterms:created>
  <dc:creator>МАРИНА</dc:creator>
  <dc:description/>
  <dc:language>en-US</dc:language>
  <cp:lastModifiedBy>ULTIMATE</cp:lastModifiedBy>
  <dcterms:modified xsi:type="dcterms:W3CDTF">2014-01-07T16:19:28Z</dcterms:modified>
  <cp:revision>19</cp:revision>
  <dc:subject/>
  <dc:title>PowerPoint Presentation</dc:title>
</cp:coreProperties>
</file>