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25C0F-EA30-4C6F-9FEE-400A754EC36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89C16-81E1-48B6-8B5B-4F4AA94800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5C486-396C-4486-B3E4-CAB1DD189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5F17D-2616-42A0-AC6E-506EFD1AEB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3C5F3-5AB1-4552-B5E9-C8AC9C7FE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15867-9663-4BC9-8E17-A9251C8936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F1369-2CF2-4733-9ECF-7957F49B1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2E545-83AA-4706-963D-F8938A080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данных примеров только словосоче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A9577-D967-4266-A5EA-FCF33FBFB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643BC-4A8C-4228-8FC3-CEE44C3E83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38B09-EDE0-4BC6-89CE-56F70B796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0E2C3-DD13-4A35-B7EF-0A68236A8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8B330-C76F-4A0B-925C-A217A9790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C0BF9-DFB1-4043-816E-F12616FB3B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5C80-0357-4F34-97BC-878D0DB469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A56-995F-4F7C-B3CB-9A864CE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A8-9681-413D-8018-3C00BF3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2AF-D712-4913-828B-EB86BB0C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DF4-CE4A-4CBE-B862-0E865AA9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D1DC-A367-40B5-ACBD-89B45010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138A-6E99-4623-9BCD-934C153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DBBB-5BDF-42AE-A390-0DBB72D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D8C4-C767-483E-8110-2F074E6B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E220-E906-4935-972E-E4E0C35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343-7CB2-4BFF-9F5D-DDF52DE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204-BAE7-471E-83D8-58124F8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818-7260-47C4-A02D-3C85936C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97D-8AED-4F7D-8795-EF6C2DA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FB9-DC2D-49B3-9478-F101BAD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21C3-B79A-4513-A7FF-E4FD2F7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7373-B68F-4E48-90CF-070D7DC8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2660-3DD3-4A6A-ACF4-CCD3EAB6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1D6-B985-44D3-A8D0-1CA7F038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9C-AC79-42A8-A432-41564C90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DFF-4F2C-43A8-8648-99C30CE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AFE-986B-4EE7-AD71-5AA4C9F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345-29AD-4F45-863A-D599CB6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A98-25CF-4180-9DDB-DE5579FF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04B-FB45-473C-AAE1-D08D52E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D4E221-F98E-462D-AB9D-935644B566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92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920" y="2967480"/>
                <a:ext cx="36792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5368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D71C3D-2C0F-434A-9242-25BD28D440D4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368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ы связи слов в словосочетани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чинительные словосочет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929120" y="578628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79440"/>
            <a:ext cx="7848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ыка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подчинительной связи, при котором зависим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4240" y="3357720"/>
            <a:ext cx="73915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, деепричаст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астие, наречие, прилагательно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ое слово-  наречие, деепричаст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инитив, сравнительная форм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изменяемое прилага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990720" y="20574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язано с главным только по смыслу и интонационно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999800"/>
            <a:ext cx="77724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ужно определить неизменяемое слово, а затем - слово, 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3349440"/>
            <a:ext cx="3200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ать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ё сло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д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876920" y="41911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жу 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ликнул 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л 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0" y="762120"/>
            <a:ext cx="89154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ык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нимательно слушать,собираться уехать, идти не оглядывая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йца всмятку, желание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4720" y="356760"/>
            <a:ext cx="5270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Осторожно! Грамматическая ошибка.</a:t>
            </a:r>
            <a:br>
              <a:rPr sz="24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становить о причинах ава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е касаться к этим вопро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латить за проез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арактерная им особен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ртнер в игре в голь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о завершению работы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лохая погода препятствует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тягивает уборку урож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429080" y="1643040"/>
            <a:ext cx="4495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становить прич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Не касаться этих вопро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платить проез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Характерная для н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собеннос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артнер по игре в голь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По завершении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лохая погода препятству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борке урожая и затягивает её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679480" y="539640"/>
            <a:ext cx="5041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удные случаи управлен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1)Согласно,благодаря, вопреки, подобно +Дат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2)В меру, в заключение, в виде, в течение, в продолжение, в силу, наподобие, посредством, +Род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3)По+Пред.п.( обозначает действие, событие, после которого что-либо совершаетс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уста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лече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огно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бно взры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ру с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ключение ле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обла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чение нед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должение но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ибытии, по приез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кончании, по заверш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сок используемых источников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8760" y="378612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ww.imageafter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) www.1septembe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ловосочетание- это соединение двух или нескольких знаменательных слов, связанных друг с другом по смыслу и грамматическ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560" y="2000160"/>
            <a:ext cx="324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крытый ур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14200" y="2786040"/>
            <a:ext cx="6400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латить за проезд, писать письм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42920" y="3643200"/>
            <a:ext cx="585612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чал не читая, очень горячи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шёл мир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50292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оло дер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410080" y="4952880"/>
            <a:ext cx="32767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ледующ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 ос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214960" y="1857240"/>
            <a:ext cx="19051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072200" y="2857680"/>
            <a:ext cx="19051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072200" y="4000680"/>
            <a:ext cx="18288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981080" y="6095880"/>
            <a:ext cx="42674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ловосочет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6705720" y="3122640"/>
            <a:ext cx="30456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362320" y="5334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4341960" y="5334120"/>
            <a:ext cx="993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Прямая со стрелкой 19"/>
          <p:cNvCxnSpPr/>
          <p:nvPr/>
        </p:nvCxnSpPr>
        <p:spPr>
          <a:xfrm>
            <a:off x="3571920" y="2214720"/>
            <a:ext cx="13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1"/>
          <p:cNvCxnSpPr/>
          <p:nvPr/>
        </p:nvCxnSpPr>
        <p:spPr>
          <a:xfrm>
            <a:off x="6072120" y="4285800"/>
            <a:ext cx="9295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 являются словосочетани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6760" y="2214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сочетание самостоятельного слова с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жебным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еред домом,пустьтанцу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85840" y="35719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очетания слов в составе фразеологизмов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глотить язык, обводить вокруг пальца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5840" y="46432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лежащее и сказуемо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ступил веч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85840" y="54864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оставные словоформы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олее тёмн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удет бег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7760" y="568080"/>
            <a:ext cx="6953400" cy="1190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особы подчинительной связи между слова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3733920" cy="914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257800" y="3200400"/>
            <a:ext cx="3429000" cy="685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743200" y="5029200"/>
            <a:ext cx="3962520" cy="1066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4648320" y="1828800"/>
            <a:ext cx="7596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902960" y="1752480"/>
            <a:ext cx="183204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6019920" y="1752480"/>
            <a:ext cx="1752480" cy="1371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ГЛАСОВАН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лагательное, причастие, местоимен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ковое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5562720"/>
            <a:ext cx="7543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ая берёзка, кипящая вода, наш друг, первый сне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57200" y="19051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чинительной связи, при котором зависимое слово уподобляется главному в формах рода, числа и падеж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согласованием, надо выделить в предложении слово,отвечающее на вопрос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ОЙ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, а затем найти слово,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вле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пособ подчинительной связи, при котором главн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3809520"/>
            <a:ext cx="7239240" cy="33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гол и его формы (причастие, деепричастие), существительное, прилагательно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уществительное, местоимени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14400" y="1905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ует от зависимого постановки в определённом падеже с предлогом или без предл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 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81280" y="2362320"/>
            <a:ext cx="2514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403848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ть(что?)тра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я(во что?) в любов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(из кого?) из пя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ен (кем?) соб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19720" y="3200400"/>
            <a:ext cx="358128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тополя(им.вин.п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ына(им.п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 словосочетания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правлением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о поиск слова (с предлогом или без) , отвечающего на падежный вопрос, а затем установление главного слова, чаще всего глагола или существитель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2:35:15Z</dcterms:created>
  <dc:creator>МАРИНА</dc:creator>
  <dc:description/>
  <dc:language>en-US</dc:language>
  <cp:lastModifiedBy>ULTIMATE</cp:lastModifiedBy>
  <dcterms:modified xsi:type="dcterms:W3CDTF">2014-01-07T16:19:28Z</dcterms:modified>
  <cp:revision>19</cp:revision>
  <dc:subject/>
  <dc:title>PowerPoint Presentation</dc:title>
</cp:coreProperties>
</file>