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9A9-5821-4969-9A0F-D7C89F30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EEAD-CE9A-46BF-B85A-CD7E2F00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4D7-8F39-4733-BD4A-195D054D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CB9-03F4-4C9D-B1C8-83984571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462D-2966-4DBC-8F06-7908DA87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F480-9C1B-41CF-9BF3-80A6A882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4DEF-C050-4E6B-9C18-B5AC9975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6202-964F-4BB1-98B4-B0C576DA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4807-8214-4499-863C-5099A42B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4248-4477-41E6-AA83-712E532C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05EC-A167-425E-BAE8-F4798734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6EC-A1EB-4239-94F3-B1D02527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8BC2-3AFA-4C1E-92D8-82925340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DC9B-2743-47B2-BAB8-0C44F1D1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9899-B321-4BFC-88E5-28DA6AF8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AD08-45BC-4697-84A9-1D965A59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EF93-A066-4D25-BC81-B765FF1F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430-21DF-4BF9-A9D4-F7291BE9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903-09B5-4E0C-A9E2-44126BBA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A567-B57F-4F85-8D0D-6F8771E5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1CD6-E911-4D6A-A850-98978326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815-ACBA-4518-9A94-79A84A70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9E7-4A9D-4049-AC3E-A69F08E3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63AE-6CF4-4B28-A4E5-4549F2EF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C996-65F4-485C-8C5E-EEE97B2396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DB9C-0CB1-438E-94E1-B1E4317C201A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дносоставное предложени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56800" y="4929120"/>
            <a:ext cx="2786040" cy="357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Главный член - глагол.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1214280" y="5715000"/>
            <a:ext cx="6096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" rIns="10080" tIns="10080" bIns="1008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иды предложений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1214280" y="4429080"/>
            <a:ext cx="2071800" cy="45972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Глагольные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6072120" y="4429080"/>
            <a:ext cx="2071800" cy="45972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Именное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TextBox 12"/>
          <p:cNvSpPr/>
          <p:nvPr/>
        </p:nvSpPr>
        <p:spPr>
          <a:xfrm>
            <a:off x="6143760" y="4929120"/>
            <a:ext cx="200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Главный член – существительное в именительном падеже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cxnSp>
        <p:nvCxnSpPr>
          <p:cNvPr id="142" name="Прямая со стрелкой 14"/>
          <p:cNvCxnSpPr/>
          <p:nvPr/>
        </p:nvCxnSpPr>
        <p:spPr>
          <a:xfrm flipH="1">
            <a:off x="2285280" y="3357720"/>
            <a:ext cx="500760" cy="1000800"/>
          </a:xfrm>
          <a:prstGeom prst="straightConnector1">
            <a:avLst/>
          </a:prstGeom>
          <a:ln w="9360">
            <a:solidFill>
              <a:srgbClr val="545472"/>
            </a:solidFill>
            <a:miter/>
            <a:tailEnd len="med" type="arrow" w="med"/>
          </a:ln>
        </p:spPr>
      </p:cxnSp>
      <p:cxnSp>
        <p:nvCxnSpPr>
          <p:cNvPr id="143" name="Прямая со стрелкой 16"/>
          <p:cNvCxnSpPr/>
          <p:nvPr/>
        </p:nvCxnSpPr>
        <p:spPr>
          <a:xfrm>
            <a:off x="6357960" y="3357720"/>
            <a:ext cx="714960" cy="1000800"/>
          </a:xfrm>
          <a:prstGeom prst="straightConnector1">
            <a:avLst/>
          </a:prstGeom>
          <a:ln w="9360">
            <a:solidFill>
              <a:srgbClr val="545472"/>
            </a:solidFill>
            <a:miter/>
            <a:tailEnd len="med" type="arrow" w="med"/>
          </a:ln>
        </p:spPr>
      </p:cxnSp>
      <p:sp>
        <p:nvSpPr>
          <p:cNvPr id="144" name="TextBox 3"/>
          <p:cNvSpPr/>
          <p:nvPr/>
        </p:nvSpPr>
        <p:spPr>
          <a:xfrm>
            <a:off x="5429160" y="6119640"/>
            <a:ext cx="3714840" cy="7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Юрицина Ольга Ивановна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МБОУ СОШ №1 г.Новочеркасска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Схема 8" descr=""/>
          <p:cNvPicPr/>
          <p:nvPr/>
        </p:nvPicPr>
        <p:blipFill>
          <a:blip r:embed="rId1"/>
          <a:stretch/>
        </p:blipFill>
        <p:spPr>
          <a:xfrm>
            <a:off x="1347840" y="1378080"/>
            <a:ext cx="646092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214200" y="214200"/>
            <a:ext cx="3429000" cy="106704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Назывное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4481640" y="1357200"/>
            <a:ext cx="4190760" cy="14479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Значение: выразить наличие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назывного явления или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предмета в описываемы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момен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3643200" y="214200"/>
            <a:ext cx="838440" cy="11430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Line 11"/>
          <p:cNvSpPr/>
          <p:nvPr/>
        </p:nvSpPr>
        <p:spPr>
          <a:xfrm flipH="1">
            <a:off x="3795480" y="2805120"/>
            <a:ext cx="685800" cy="3049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4329000" y="5396040"/>
            <a:ext cx="4267440" cy="10666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Полночь. Мгла и ветер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Line 17"/>
          <p:cNvSpPr/>
          <p:nvPr/>
        </p:nvSpPr>
        <p:spPr>
          <a:xfrm>
            <a:off x="4253040" y="4405320"/>
            <a:ext cx="1371600" cy="9907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214200" y="2857680"/>
            <a:ext cx="4419720" cy="25146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Форма существительного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именительный падеж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Схема 5" descr=""/>
          <p:cNvPicPr/>
          <p:nvPr/>
        </p:nvPicPr>
        <p:blipFill>
          <a:blip r:embed="rId1"/>
          <a:stretch/>
        </p:blipFill>
        <p:spPr>
          <a:xfrm>
            <a:off x="414360" y="1695600"/>
            <a:ext cx="7529400" cy="41986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457200" y="380880"/>
            <a:ext cx="3429000" cy="106704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Определённо- личное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724280" y="1523880"/>
            <a:ext cx="4191120" cy="14479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Значение: действующее лицо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мыслится определённо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(я, мы, ты,вы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3886200" y="380880"/>
            <a:ext cx="838080" cy="11430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228600" y="2895480"/>
            <a:ext cx="4419720" cy="25146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Форма сказуемого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1-е и 2-е л. наст. и буд.вр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изъявительного и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повелительного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наклонени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 flipH="1">
            <a:off x="4038120" y="2971800"/>
            <a:ext cx="685800" cy="3049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4572000" y="5562720"/>
            <a:ext cx="4267080" cy="10666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Идём со мной!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Смотрите на учителя!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4495680" y="4572000"/>
            <a:ext cx="1371600" cy="9907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0880" y="533520"/>
            <a:ext cx="4114800" cy="8380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Неопределённо- личное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5334120" y="228600"/>
            <a:ext cx="3429000" cy="1219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Значение:лицо мыслится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неопределённо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(кто- то, не важно кто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4572000" y="914400"/>
            <a:ext cx="7621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80880" y="2362320"/>
            <a:ext cx="6096240" cy="15238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3-е л.мн.ч.наст. и буд.вр.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повелит. накл.,мн.ч. прош.вр., мн.ч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условного наклонени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2514600" y="1371600"/>
            <a:ext cx="1752480" cy="9907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132000" y="5013360"/>
            <a:ext cx="5639040" cy="15238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Во дворе играли в мяч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45472"/>
                </a:solidFill>
                <a:uFillTx/>
                <a:latin typeface="Times New Roman"/>
              </a:rPr>
              <a:t>Возле осинки поставят стог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3124080" y="3886200"/>
            <a:ext cx="1828800" cy="106668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609480" y="228600"/>
            <a:ext cx="2819520" cy="7621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Обобщённо- личные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495680" y="304920"/>
            <a:ext cx="3657600" cy="12952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Значение: лицо мыслится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обобщенно (всё, любой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каждый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85800" y="2133720"/>
            <a:ext cx="5943600" cy="137160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Форма сказуемого: как в опр-л или неопр.-л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предложениях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752480" y="4343400"/>
            <a:ext cx="4800600" cy="182880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5472"/>
                </a:solidFill>
                <a:latin typeface="Times New Roman"/>
              </a:rPr>
              <a:t>Шила в мешке не утаишь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5472"/>
                </a:solidFill>
                <a:latin typeface="Times New Roman"/>
              </a:rPr>
              <a:t>Цыплят по осени </a:t>
            </a:r>
            <a:r>
              <a:rPr b="1" lang="ru-RU" sz="2400" spc="-1" strike="noStrike" u="sng">
                <a:solidFill>
                  <a:srgbClr val="545472"/>
                </a:solidFill>
                <a:uFillTx/>
                <a:latin typeface="Times New Roman"/>
              </a:rPr>
              <a:t>считают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4419720" y="5257800"/>
            <a:ext cx="13716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4800600" y="5638680"/>
            <a:ext cx="11430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3429000" y="685800"/>
            <a:ext cx="106668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 flipH="1">
            <a:off x="3200400" y="1600200"/>
            <a:ext cx="266688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2819520" y="3505320"/>
            <a:ext cx="2743200" cy="83808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Безличные предлож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62120"/>
          <a:ext cx="8839080" cy="5646600"/>
        </p:xfrm>
        <a:graphic>
          <a:graphicData uri="http://schemas.openxmlformats.org/drawingml/2006/table">
            <a:tbl>
              <a:tblPr/>
              <a:tblGrid>
                <a:gridCol w="4419720"/>
                <a:gridCol w="4419360"/>
              </a:tblGrid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Безличный глагол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Темнеет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. 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Стемнело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Личный глагол в значении безличного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Мне 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повезло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Инфинитив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          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Быть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грозе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Модальное слово ( надо, нужно, можно, возможно, нельзя) в сочетании с инфинитивом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Под снегом ещё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можно найти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свежие лесные цветы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Краткая форма страдательного причастия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У меня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не прибрано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Слово категории состояния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Мне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грустно 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оттого, что весело тебе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Слово НЕТ( а также безличная форма глагола БЫТЬ)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Денег у него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нет, не было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и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не будет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Line 51"/>
          <p:cNvSpPr/>
          <p:nvPr/>
        </p:nvSpPr>
        <p:spPr>
          <a:xfrm>
            <a:off x="5181480" y="5029200"/>
            <a:ext cx="9907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Line 55"/>
          <p:cNvSpPr/>
          <p:nvPr/>
        </p:nvSpPr>
        <p:spPr>
          <a:xfrm>
            <a:off x="5334120" y="4191120"/>
            <a:ext cx="15238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Line 57"/>
          <p:cNvSpPr/>
          <p:nvPr/>
        </p:nvSpPr>
        <p:spPr>
          <a:xfrm>
            <a:off x="6324480" y="3200400"/>
            <a:ext cx="14479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Line 59"/>
          <p:cNvSpPr/>
          <p:nvPr/>
        </p:nvSpPr>
        <p:spPr>
          <a:xfrm>
            <a:off x="4572000" y="1143000"/>
            <a:ext cx="11430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Прямая соединительная линия 42"/>
          <p:cNvSpPr/>
          <p:nvPr/>
        </p:nvSpPr>
        <p:spPr>
          <a:xfrm>
            <a:off x="5643720" y="2500200"/>
            <a:ext cx="500040" cy="18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Прямая соединительная линия 44"/>
          <p:cNvSpPr/>
          <p:nvPr/>
        </p:nvSpPr>
        <p:spPr>
          <a:xfrm>
            <a:off x="6143760" y="5715000"/>
            <a:ext cx="1285920" cy="14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Прямая соединительная линия 46"/>
          <p:cNvSpPr/>
          <p:nvPr/>
        </p:nvSpPr>
        <p:spPr>
          <a:xfrm>
            <a:off x="7858080" y="5715000"/>
            <a:ext cx="214200" cy="14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Прямая соединительная линия 48"/>
          <p:cNvSpPr/>
          <p:nvPr/>
        </p:nvSpPr>
        <p:spPr>
          <a:xfrm>
            <a:off x="4500720" y="6000840"/>
            <a:ext cx="857160" cy="14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Прямая соединительная линия 50"/>
          <p:cNvSpPr/>
          <p:nvPr/>
        </p:nvSpPr>
        <p:spPr>
          <a:xfrm>
            <a:off x="5929200" y="1143000"/>
            <a:ext cx="928800" cy="14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Прямая соединительная линия 52"/>
          <p:cNvSpPr/>
          <p:nvPr/>
        </p:nvSpPr>
        <p:spPr>
          <a:xfrm>
            <a:off x="5643720" y="1785960"/>
            <a:ext cx="857160" cy="14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Прямая соединительная линия 62"/>
          <p:cNvSpPr/>
          <p:nvPr/>
        </p:nvSpPr>
        <p:spPr>
          <a:xfrm>
            <a:off x="7572240" y="4929120"/>
            <a:ext cx="857520" cy="18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Прямая соединительная линия 63"/>
          <p:cNvSpPr/>
          <p:nvPr/>
        </p:nvSpPr>
        <p:spPr>
          <a:xfrm>
            <a:off x="7643880" y="5000760"/>
            <a:ext cx="857160" cy="14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Список используемых источников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1)А.Г. Нарушевич Русский язык. Сочинение на ЕГЭ. Москва, Просвещение,2009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2)А.Г. Нарушевич Методика подготовки к ЕГЭ по русскому языку: планирование занятий, организация урока, система упражнений. Москва, Педагогический университет «Первое сентября», 2007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3)Пушкин А.С.Стихотворения. Поэмы. Сказки. «Евгений Онегин», Москва, Олимп, 1998.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4)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www.imageafter.com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5) www.1september</a:t>
            </a: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ru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5:47:56Z</dcterms:created>
  <dc:creator>МАРИНА</dc:creator>
  <dc:description/>
  <dc:language>en-US</dc:language>
  <cp:lastModifiedBy>ULTIMATE</cp:lastModifiedBy>
  <dcterms:modified xsi:type="dcterms:W3CDTF">2014-01-07T16:17:32Z</dcterms:modified>
  <cp:revision>23</cp:revision>
  <dc:subject/>
  <dc:title>PowerPoint Presentation</dc:title>
</cp:coreProperties>
</file>