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A0D-3523-4E81-ABEA-40213F4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B42-DC65-45F9-9973-8DB7AEE8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8B0-D9FC-42A9-84B1-5E17A9F9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6C9-16F0-4A10-B2BC-E301387B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EBDB-701A-4D83-9773-20958416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5D71-FE09-45FF-8E06-E016815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ED02-89A9-4FC6-A2B3-5294A82F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4F8C-B8F4-44F7-8F27-D9322734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F99F-F1AC-4D99-819C-2C1AAB0A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866E-17BF-4C81-99CA-8AC399E0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617C-660D-49E2-8429-B3DB3F6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1CA-9DB1-41B1-8A77-11680442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9776-0DC8-4A4C-A6F9-B4C6E20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C6E2-8A70-472E-BEE0-903DE63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333-0DA1-49C6-8DB9-64557CE1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B4CF-40BB-4277-9AA5-9580EA7E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7538-3F4B-4F1E-91F7-C74E177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CCD-9DD1-4330-AF08-1ABA7011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407-C449-4EAF-B8D6-143303DD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802-660B-40A4-AE28-E1AF210D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95C-CB30-4F97-927A-F08FAA25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A66-C4BB-4F3C-95F8-C340E1A0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395-655D-40F4-AA19-C63B267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069-2752-4DC3-A0EF-26DEB7F3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7DA-D661-45AC-A8C3-9FB05219C9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55D6-CE0D-4EE6-8E8A-AB3478522B09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дносоставное предложени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56800" y="4929120"/>
            <a:ext cx="2786040" cy="357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Главный член - глагол.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1214280" y="5715000"/>
            <a:ext cx="6096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иды предложений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214280" y="4429080"/>
            <a:ext cx="2071800" cy="4597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Глагольны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072120" y="4429080"/>
            <a:ext cx="2071800" cy="4597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мен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6143760" y="4929120"/>
            <a:ext cx="20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Главный член – существительное в именительном падеже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142" name="Прямая со стрелкой 14"/>
          <p:cNvCxnSpPr/>
          <p:nvPr/>
        </p:nvCxnSpPr>
        <p:spPr>
          <a:xfrm flipH="1">
            <a:off x="2285280" y="3357720"/>
            <a:ext cx="500760" cy="1000800"/>
          </a:xfrm>
          <a:prstGeom prst="straightConnector1">
            <a:avLst/>
          </a:prstGeom>
          <a:ln w="9360">
            <a:solidFill>
              <a:srgbClr val="545472"/>
            </a:solidFill>
            <a:miter/>
            <a:tailEnd len="med" type="arrow" w="med"/>
          </a:ln>
        </p:spPr>
      </p:cxnSp>
      <p:cxnSp>
        <p:nvCxnSpPr>
          <p:cNvPr id="143" name="Прямая со стрелкой 16"/>
          <p:cNvCxnSpPr/>
          <p:nvPr/>
        </p:nvCxnSpPr>
        <p:spPr>
          <a:xfrm>
            <a:off x="6357960" y="3357720"/>
            <a:ext cx="714960" cy="1000800"/>
          </a:xfrm>
          <a:prstGeom prst="straightConnector1">
            <a:avLst/>
          </a:prstGeom>
          <a:ln w="9360">
            <a:solidFill>
              <a:srgbClr val="545472"/>
            </a:solidFill>
            <a:miter/>
            <a:tailEnd len="med" type="arrow" w="med"/>
          </a:ln>
        </p:spPr>
      </p:cxnSp>
      <p:sp>
        <p:nvSpPr>
          <p:cNvPr id="144" name="TextBox 3"/>
          <p:cNvSpPr/>
          <p:nvPr/>
        </p:nvSpPr>
        <p:spPr>
          <a:xfrm>
            <a:off x="5429160" y="611964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Юрицина Ольга Ивановна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МБОУ СОШ №1 г.Новочеркасска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хема 8" descr=""/>
          <p:cNvPicPr/>
          <p:nvPr/>
        </p:nvPicPr>
        <p:blipFill>
          <a:blip r:embed="rId1"/>
          <a:stretch/>
        </p:blipFill>
        <p:spPr>
          <a:xfrm>
            <a:off x="1347840" y="1378080"/>
            <a:ext cx="6460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214200" y="214200"/>
            <a:ext cx="3429000" cy="10670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зыв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481640" y="1357200"/>
            <a:ext cx="4190760" cy="14479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выразить наличие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зывного явления или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редмета в описываемы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момен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3643200" y="214200"/>
            <a:ext cx="838440" cy="1143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 flipH="1">
            <a:off x="3795480" y="2805120"/>
            <a:ext cx="6858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329000" y="5396040"/>
            <a:ext cx="4267440" cy="10666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лночь. Мгла и ветер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4253040" y="4405320"/>
            <a:ext cx="137160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214200" y="2857680"/>
            <a:ext cx="4419720" cy="2514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уществительного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менительный падеж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5" descr=""/>
          <p:cNvPicPr/>
          <p:nvPr/>
        </p:nvPicPr>
        <p:blipFill>
          <a:blip r:embed="rId1"/>
          <a:stretch/>
        </p:blipFill>
        <p:spPr>
          <a:xfrm>
            <a:off x="414360" y="1695600"/>
            <a:ext cx="7529400" cy="4198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457200" y="380880"/>
            <a:ext cx="3429000" cy="10670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724280" y="1523880"/>
            <a:ext cx="4191120" cy="14479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действующее лиц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мыслится 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я, мы, ты,вы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3886200" y="380880"/>
            <a:ext cx="838080" cy="1143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228600" y="2895480"/>
            <a:ext cx="4419720" cy="2514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е и 2-е л. наст. и буд.вр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зъявительного и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ельног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4038120" y="2971800"/>
            <a:ext cx="6858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72000" y="5562720"/>
            <a:ext cx="4267080" cy="10666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дём со мной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Смотрите на учителя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495680" y="4572000"/>
            <a:ext cx="137160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0880" y="533520"/>
            <a:ext cx="4114800" cy="8380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334120" y="228600"/>
            <a:ext cx="3429000" cy="1219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кто- то, не важно кто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572000" y="9144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80880" y="2362320"/>
            <a:ext cx="6096240" cy="15238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е л.мн.ч.наст. и буд.вр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. накл.,мн.ч. прош.вр., мн.ч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условного 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514600" y="1371600"/>
            <a:ext cx="175248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132000" y="5013360"/>
            <a:ext cx="5639040" cy="15238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Во дворе играли в мяч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Возле осинки поставят стог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124080" y="3886200"/>
            <a:ext cx="1828800" cy="10666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609480" y="228600"/>
            <a:ext cx="2819520" cy="7621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ённо- личны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495680" y="304920"/>
            <a:ext cx="365760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енно (всё, любой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каждый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85800" y="2133720"/>
            <a:ext cx="5943600" cy="13716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 как в опр-л или неопр.-л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редложениях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752480" y="4343400"/>
            <a:ext cx="4800600" cy="18288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Шила в мешке не утаишь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Цыплят по осени </a:t>
            </a:r>
            <a:r>
              <a:rPr b="1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считают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4800600" y="563868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429000" y="68580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3200400" y="1600200"/>
            <a:ext cx="26668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2819520" y="3505320"/>
            <a:ext cx="2743200" cy="8380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Безличные предло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62120"/>
          <a:ext cx="8839080" cy="564660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личный глагол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Темнеет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.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Стемне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Личный глагол в значении безличног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не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повез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Инфинитив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            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Быть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грозе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одальное слово ( надо, нужно, можно, возможно, нельзя) в сочетании с инфинитивом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д снегом ещё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можно найти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свежие лесные цветы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Краткая форма страдательного причаст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У меня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прибран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категории состоян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не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грустно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оттого, что весело тебе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НЕТ( а также безличная форма глагола БЫТЬ)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Денег у него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т, не бы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будет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Line 51"/>
          <p:cNvSpPr/>
          <p:nvPr/>
        </p:nvSpPr>
        <p:spPr>
          <a:xfrm>
            <a:off x="5181480" y="502920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Line 55"/>
          <p:cNvSpPr/>
          <p:nvPr/>
        </p:nvSpPr>
        <p:spPr>
          <a:xfrm>
            <a:off x="5334120" y="4191120"/>
            <a:ext cx="15238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Line 57"/>
          <p:cNvSpPr/>
          <p:nvPr/>
        </p:nvSpPr>
        <p:spPr>
          <a:xfrm>
            <a:off x="6324480" y="3200400"/>
            <a:ext cx="14479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Line 59"/>
          <p:cNvSpPr/>
          <p:nvPr/>
        </p:nvSpPr>
        <p:spPr>
          <a:xfrm>
            <a:off x="4572000" y="11430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42"/>
          <p:cNvSpPr/>
          <p:nvPr/>
        </p:nvSpPr>
        <p:spPr>
          <a:xfrm>
            <a:off x="5643720" y="2500200"/>
            <a:ext cx="500040" cy="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Прямая соединительная линия 44"/>
          <p:cNvSpPr/>
          <p:nvPr/>
        </p:nvSpPr>
        <p:spPr>
          <a:xfrm>
            <a:off x="6143760" y="5715000"/>
            <a:ext cx="128592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Прямая соединительная линия 46"/>
          <p:cNvSpPr/>
          <p:nvPr/>
        </p:nvSpPr>
        <p:spPr>
          <a:xfrm>
            <a:off x="7858080" y="5715000"/>
            <a:ext cx="21420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Прямая соединительная линия 48"/>
          <p:cNvSpPr/>
          <p:nvPr/>
        </p:nvSpPr>
        <p:spPr>
          <a:xfrm>
            <a:off x="4500720" y="6000840"/>
            <a:ext cx="85716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50"/>
          <p:cNvSpPr/>
          <p:nvPr/>
        </p:nvSpPr>
        <p:spPr>
          <a:xfrm>
            <a:off x="5929200" y="1143000"/>
            <a:ext cx="92880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52"/>
          <p:cNvSpPr/>
          <p:nvPr/>
        </p:nvSpPr>
        <p:spPr>
          <a:xfrm>
            <a:off x="5643720" y="1785960"/>
            <a:ext cx="85716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Прямая соединительная линия 62"/>
          <p:cNvSpPr/>
          <p:nvPr/>
        </p:nvSpPr>
        <p:spPr>
          <a:xfrm>
            <a:off x="7572240" y="4929120"/>
            <a:ext cx="857520" cy="1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Прямая соединительная линия 63"/>
          <p:cNvSpPr/>
          <p:nvPr/>
        </p:nvSpPr>
        <p:spPr>
          <a:xfrm>
            <a:off x="7643880" y="5000760"/>
            <a:ext cx="857160" cy="14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Список используемых источников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1)А.Г. Нарушевич Русский язык. Сочинение на ЕГЭ. Москва, Просвещение,2009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3)Пушкин А.С.Стихотворения. Поэмы. Сказки. «Евгений Онегин», Москва, Олимп, 1998.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4)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www.imageafter.com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5) www.1september</a:t>
            </a:r>
            <a:r>
              <a:rPr b="0" lang="ru-RU" sz="1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ru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5:47:56Z</dcterms:created>
  <dc:creator>МАРИНА</dc:creator>
  <dc:description/>
  <dc:language>en-US</dc:language>
  <cp:lastModifiedBy>ULTIMATE</cp:lastModifiedBy>
  <dcterms:modified xsi:type="dcterms:W3CDTF">2014-01-07T16:17:32Z</dcterms:modified>
  <cp:revision>23</cp:revision>
  <dc:subject/>
  <dc:title>PowerPoint Presentation</dc:title>
</cp:coreProperties>
</file>