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40-FD30-4048-8916-7FFC56B3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0A6-F43F-4EA2-B250-9B0F1F5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EBB-F526-4C16-B4D9-76FC34D4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24E-9A51-49D5-AF7B-3957E0F4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D9D-E768-4151-A744-2F541AD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E09B-1E1F-4390-8316-07D523F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6070-26F2-40B5-B6EF-761ED877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90D-3CE4-404D-9DA8-40A53A7D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9075-17A3-4D8D-8541-A668307C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A8FE-74C5-47E5-8B61-C2D6E3D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B1E-653D-460C-BF3D-9C73747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F42-A82A-4E6E-9DF3-A620E6CF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0166-8C34-4866-AB18-F6614454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229-1159-4428-8F2D-051DCE1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004-7E4C-4877-B9DC-0373CAD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BF6-8F48-40BC-B1B8-642AA967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86B-90FF-4EB8-9146-9B25CB8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568-FC4B-4588-8483-F7BB60F3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EC1-9E3C-4C50-A5FA-610710A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414-2C41-49D0-AE83-1B8AEBF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3CE-CE6E-477C-A48E-603AF046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A2E-25E6-42A1-A859-E57F259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96A-788B-4B37-8414-8C54AC7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5F8-22B8-44B7-98A0-8DD4D75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CC4A-891A-4C1B-841D-4A98951410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4B5-A3A8-4165-B397-8D5DFC6C65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ложноподчинённое предложение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придаточ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786200" y="571500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цина Ольга Ива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1 г.Новочеркас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определить тип придаточных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но установить смысловые отношения между главным и придаточным предложениями при помощи вопр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80880" y="304920"/>
            <a:ext cx="822960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даточные изъясн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80880" y="1752480"/>
            <a:ext cx="8305920" cy="1219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язаны с глаголом со значением мысли, чувства,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ЗНАТЬ, ПОНИМАТЬ, ЧУВСТВОВАТЬ, ЛЮБИТЬ, ВИД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ЫШАТЬ И 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0880" y="4343400"/>
            <a:ext cx="2514600" cy="1219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знаю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715000" y="3352680"/>
            <a:ext cx="3200400" cy="3048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ты скаж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прихо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Й сегодня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 он вер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он жив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ЁМУ ты молч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ЧЕМ он прихо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449568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52480" y="2971800"/>
            <a:ext cx="2819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2971800" y="4648320"/>
            <a:ext cx="2743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2971800" y="4952880"/>
            <a:ext cx="2819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04920" y="304920"/>
            <a:ext cx="830556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преде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1371600"/>
            <a:ext cx="838224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ятся к существительному или местоим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быть связаны с главным предлож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союз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920" y="4495680"/>
            <a:ext cx="327636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ошли в ту ком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КУЮ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267080" y="3733920"/>
            <a:ext cx="4572000" cy="2286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АЯ была ярко освещ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ходилась с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ДА нас пригласила хозя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УДА доносились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были сложены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267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2057400" y="2666880"/>
            <a:ext cx="22096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5812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0" y="228600"/>
            <a:ext cx="5715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бстоятель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819520" y="1295280"/>
            <a:ext cx="441936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ТЬ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8600" y="1905120"/>
            <a:ext cx="441972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ТАК Ч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724280" y="1905120"/>
            <a:ext cx="41148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Ч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990720" y="3124080"/>
            <a:ext cx="2895480" cy="17528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очень тем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638680" y="2971800"/>
            <a:ext cx="2819520" cy="1981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так тем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48320" y="5257800"/>
            <a:ext cx="43434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ает степень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и указания на след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701028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70866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2438280" y="2819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3520" y="304920"/>
            <a:ext cx="7924680" cy="609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057400" y="1371600"/>
            <a:ext cx="518148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" y="2133720"/>
            <a:ext cx="380988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29200" y="2133720"/>
            <a:ext cx="335268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876920" y="3124080"/>
            <a:ext cx="3733560" cy="320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 КАКОЙ ЦЕЛЬЮ?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09480" y="3124080"/>
            <a:ext cx="3810240" cy="3276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ЧЕМУ?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ОМУ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бы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0" y="9144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3352320" y="18288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4876920" y="18288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2438280" y="2895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6934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304920"/>
            <a:ext cx="784872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ить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447920"/>
            <a:ext cx="79246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присоедин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80880" y="2362320"/>
            <a:ext cx="8077320" cy="289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ают добавочные сведения, замечания к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чём говорится в главном предлож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конкретный вопрос поставить невозмож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относятся ко всему главному предло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Присоединяются союзными словами ЧТО,ЧЕМ, О Ч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ТОГО, ЗАЧЕМ, ПОЧЕМУ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5638680"/>
            <a:ext cx="8153280" cy="99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а рос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ещало хорошую по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191120" y="10666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4343400" y="1981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писок используемых источников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А.Г. Нарушевич Русский язык. Сочинение на ЕГЭ. Москва, Просвещение,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Пушкин А.С.Стихотворения. Поэмы. Сказки. «Евгений Онегин», Москва, Олимп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ageaft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www.1septemb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1:47Z</dcterms:created>
  <dc:creator>МАРИНА</dc:creator>
  <dc:description/>
  <dc:language>en-US</dc:language>
  <cp:lastModifiedBy>ULTIMATE</cp:lastModifiedBy>
  <dcterms:modified xsi:type="dcterms:W3CDTF">2014-01-07T16:21:09Z</dcterms:modified>
  <cp:revision>8</cp:revision>
  <dc:subject/>
  <dc:title>PowerPoint Presentation</dc:title>
</cp:coreProperties>
</file>