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222A-CAEC-4F4A-843E-5CD09C69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7012-BECA-42F3-8AC8-44479CF8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F8B-A175-46E4-B223-8170A91B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BA5C-2D19-4AD1-A050-53FC5CB0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7B83-107D-43B0-9D16-6901FE0B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8578-3E4E-49D3-A123-0F4A7070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88C0-BA51-4FDB-BC28-58DE2533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B18A-FD57-49EB-B5E0-172C9F4E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BCAC-6F68-403F-BB0D-B1B66EFE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589A-719D-4032-BFF8-952F5E13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442D-7887-4B24-978C-963B70E4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365E-2E88-4A9C-B63A-36B9167E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5FD2-4867-4F02-A05B-5DFC8356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AA03-9A8B-4F16-9B94-B7A89958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1942-1F1F-4D1D-943E-B4007DE2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C2BD-168C-4456-AE75-2E13DE36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7B28-5254-4795-847D-F2C751C5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C1D-6D72-47A2-89F9-F8B811C2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2ABB-D262-4C8C-8EBE-6080B775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44E-9E63-4DF0-BFC2-56AFA798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8AD3-89C3-4A1F-BCBF-EA785183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21E5-1BCF-4556-A149-F3CE055A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6705-6BE1-4AA6-A2F4-FC87F2AC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91C4-D2AA-4BA0-AC41-BE70C482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1415-58BC-4D8E-A784-DDF93DC5ECD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9521-A3CE-4852-A81D-145AEC7C7D7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Сложноподчинённое предложение.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ы придаточ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4786200" y="5715000"/>
            <a:ext cx="3714840" cy="7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Юрицина Ольга Иванов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БОУ СОШ №1 г.Новочеркас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ак определить тип придаточных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ужно установить смысловые отношения между главным и придаточным предложениями при помощи вопрос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380880" y="304920"/>
            <a:ext cx="8229600" cy="7617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даточные изъясн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80880" y="1752480"/>
            <a:ext cx="8305920" cy="12193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язаны с глаголом со значением мысли, чувства, вос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ЗНАТЬ, ПОНИМАТЬ, ЧУВСТВОВАТЬ, ЛЮБИТЬ, ВИДЕ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ЫШАТЬ И Т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80880" y="4343400"/>
            <a:ext cx="2514600" cy="12193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 знаю (ЧТ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5715000" y="3352680"/>
            <a:ext cx="3200400" cy="3048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ты скаж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ТО приход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это сдел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ОЙ сегодня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ГДА  он вернё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ДЕ он жив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ЧЁМУ ты молч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ЧЕМ он приход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4495680" y="1066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52480" y="2971800"/>
            <a:ext cx="28195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2971800" y="4648320"/>
            <a:ext cx="2743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2971800" y="4952880"/>
            <a:ext cx="28195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304920" y="304920"/>
            <a:ext cx="8305560" cy="6858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аточные определ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80880" y="1371600"/>
            <a:ext cx="8382240" cy="1295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ятся к существительному или местоимени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гут быть связаны с главным предлож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помощью союзных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04920" y="4495680"/>
            <a:ext cx="3276360" cy="8384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вошли в ту комна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КАКУЮ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267080" y="3733920"/>
            <a:ext cx="4572000" cy="2286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ТОРАЯ была ярко освещ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находилась спр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ДА нас пригласила хозяй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УДА доносились гол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были сложены ве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42670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 flipH="1">
            <a:off x="2057400" y="2666880"/>
            <a:ext cx="22096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3581280" y="4724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3581280" y="5029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2286000" y="228600"/>
            <a:ext cx="571500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аточные обстоятельстве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819520" y="1295280"/>
            <a:ext cx="4419360" cy="381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ЛИЧАТЬ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228600" y="1905120"/>
            <a:ext cx="441972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АТОЧНЫЕ 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 ТАК ЧТ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724280" y="1905120"/>
            <a:ext cx="4114800" cy="838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АТОЧНЫЕ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 ЧТ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990720" y="3124080"/>
            <a:ext cx="2895480" cy="17528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о очень тем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к чт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ходи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щупывать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5638680" y="2971800"/>
            <a:ext cx="2819520" cy="1981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о так тем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ходи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щупывать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48320" y="5257800"/>
            <a:ext cx="434340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жает степень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ощи указания на след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7010280" y="27432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0"/>
          <p:cNvSpPr/>
          <p:nvPr/>
        </p:nvSpPr>
        <p:spPr>
          <a:xfrm>
            <a:off x="708660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1"/>
          <p:cNvSpPr/>
          <p:nvPr/>
        </p:nvSpPr>
        <p:spPr>
          <a:xfrm flipH="1">
            <a:off x="2438280" y="28195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533520" y="304920"/>
            <a:ext cx="7924680" cy="6094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аточные обстоя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057400" y="1371600"/>
            <a:ext cx="5181480" cy="4572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ЛИ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57200" y="2133720"/>
            <a:ext cx="3809880" cy="7617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АТ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029200" y="2133720"/>
            <a:ext cx="3352680" cy="6858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АТ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4876920" y="3124080"/>
            <a:ext cx="3733560" cy="3200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останови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 КАКОЙ ЦЕЛЬЮ?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Б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рать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609480" y="3124080"/>
            <a:ext cx="3810240" cy="3276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останови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ОЧЕМУ?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ТОМУ 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ужно был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рать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572000" y="9144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 flipH="1">
            <a:off x="3352320" y="1828800"/>
            <a:ext cx="1295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4876920" y="182880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>
            <a:off x="2438280" y="28954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>
            <a:off x="693432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304920"/>
            <a:ext cx="7848720" cy="7617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тить 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457200" y="1447920"/>
            <a:ext cx="792468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аточные присоедин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380880" y="2362320"/>
            <a:ext cx="8077320" cy="28954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значают добавочные сведения, замечания к том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чём говорится в главном предлож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конкретный вопрос поставить невозмож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относятся ко всему главному предлож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Присоединяются союзными словами ЧТО,ЧЕМ, О Ч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ТОГО, ЗАЧЕМ, ПОЧЕМУ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457200" y="5638680"/>
            <a:ext cx="8153280" cy="990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ла рос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ещало хорошую по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191120" y="1066680"/>
            <a:ext cx="759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4343400" y="19810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"/>
          <p:cNvSpPr/>
          <p:nvPr/>
        </p:nvSpPr>
        <p:spPr>
          <a:xfrm>
            <a:off x="457200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Список используемых источников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30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А.Г. Нарушевич Русский язык. Сочинение на ЕГЭ. Москва, Просвещение,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А.Г. Нарушевич Методика подготовки к ЕГЭ по русскому языку: планирование занятий, организация урока, система упражнений. Москва, Педагогический университет «Первое сентября»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Пушкин А.С.Стихотворения. Поэмы. Сказки. «Евгений Онегин», Москва, Олимп, 19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imageaft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www.1septemb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12:21:47Z</dcterms:created>
  <dc:creator>МАРИНА</dc:creator>
  <dc:description/>
  <dc:language>en-US</dc:language>
  <cp:lastModifiedBy>ULTIMATE</cp:lastModifiedBy>
  <dcterms:modified xsi:type="dcterms:W3CDTF">2014-01-07T16:21:09Z</dcterms:modified>
  <cp:revision>8</cp:revision>
  <dc:subject/>
  <dc:title>PowerPoint Presentation</dc:title>
</cp:coreProperties>
</file>