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E85C-4088-4BB4-B3B6-D73C0DA6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4C61-FECC-44D8-8651-4D32B5B3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FB4C-1C97-4146-B60E-4AF61A9E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F5C0-4670-4109-BB69-E16D5E34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9A01-2C07-45C4-9AB8-0D2A081F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67E4-E295-4B3C-A543-1E450546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27A0-3EDE-4C7C-8509-6E4589CF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315D-062F-4324-8366-816E1404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7144-6267-4051-8A94-28D0F4C3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2874-E3BB-42D1-8AB0-05D92429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E773-64AC-4D5B-83C9-0C00B8CD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3D1F-511F-4AE6-9DAE-1FFB4C89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D07E-B0D6-436B-A262-B12ED8F5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801E-8A61-4E62-8544-973ED260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DE20-BAF0-4141-8351-1D4C7CB8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8E11-0206-474F-9121-819B8842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9565-0158-4391-9D18-83D8AD94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3F87-E181-4870-AF8D-97955B24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9BBB-9075-4DB3-A9D6-050BE7B6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22DF-5611-45D9-9711-9310887A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82D1-6613-41B0-98DA-38DDC9FF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6E0C-8362-411A-95D5-A708B664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4586-0789-4136-8198-E12D9798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71B-DF05-478A-AD16-8EAD80E7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EF2F-8ED5-4CF9-882C-9A18A43249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8497-970F-4DFE-A072-CAA12B2FE08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Quill%20Pen%20Ph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9"/>
          <p:cNvSpPr txBox="1"/>
          <p:nvPr/>
        </p:nvSpPr>
        <p:spPr>
          <a:xfrm>
            <a:off x="1116000" y="404640"/>
            <a:ext cx="6840720" cy="79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a50021"/>
                    </a:gs>
                  </a:gsLst>
                  <a:lin ang="5400000"/>
                </a:gradFill>
                <a:latin typeface="Comic Sans MS"/>
              </a:rPr>
              <a:t>Что такое грамматическая ошибка?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a50021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4929120" y="5786280"/>
            <a:ext cx="3714840" cy="7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b8b7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2d25"/>
                </a:solidFill>
                <a:latin typeface="Tahoma"/>
              </a:rPr>
              <a:t>Юрицина Ольга Ивановна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2d25"/>
                </a:solidFill>
                <a:latin typeface="Tahoma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2d25"/>
                </a:solidFill>
                <a:latin typeface="Tahoma"/>
              </a:rPr>
              <a:t>МБОУ СОШ №1 г.Новочеркасс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250920" y="620640"/>
            <a:ext cx="4752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рамматическая ошиб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это ошибка в структуре языковой  единицы: в структуре слова, в словосочетаниях или предложениях; это нарушение какой-либо грамматической нормы – словообразовательной, морфологической, синтаксичес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27840" y="476280"/>
            <a:ext cx="53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иды грамматических ошибок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24000" y="1052640"/>
            <a:ext cx="864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Ошибочное словообразование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 ошибка в структуре слова: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упрямост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место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упрямств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адсмехатьс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место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асмехатьс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Ошибочное формообразование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 ошибка при образовании формы слова той или иной части речи, к примеру: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) при образовании форм имен существительных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картофельных очисток вместо очистк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) при образовании форм имён прилагательных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более светлее вместо более светлы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Нарушение согласова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Согласованием называется такой способ подчинительной связи слов в словосочетании, когда зависимое слово употребляется в том же роде, числе, падеже, что и главное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молодая березка, наш друг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ще всего нарушение согласования происходит из-за невнимательности. Например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братья зашли к друзьям, пригласивших зайти к ним(неверно выбран падеж причастия; правильно:… к друзьям, пригласившим….).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4"/>
          <p:cNvSpPr/>
          <p:nvPr/>
        </p:nvSpPr>
        <p:spPr>
          <a:xfrm>
            <a:off x="613800" y="285840"/>
            <a:ext cx="53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иды грамматических ошибок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500040" y="1000080"/>
            <a:ext cx="8072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Нарушение управл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Управлением называется такой способ подчинительной связи, при котором главное слово требует от зависимого постановки в определённом падеже с предлогом или без, к примеру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ерить (</a:t>
            </a:r>
            <a:r>
              <a:rPr b="0" i="1" lang="ru-RU" sz="1800" spc="-1" strike="noStrike">
                <a:solidFill>
                  <a:srgbClr val="ffffff"/>
                </a:solidFill>
                <a:latin typeface="Comic Sans MS"/>
              </a:rPr>
              <a:t>во что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?) в дружбу; дружба (с кем?) с одноклассник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конструкциях с управлением  часто встречаются следующие ошибк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) употребление предложного сочетания вместо беспредложной конструкции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установить о причинах аварии(правильно: установить причины 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) беспредложная конструкция вместо предложного сочетания: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характерная им особенность( правильно: характерная для них особенность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) неправильный выбор предлога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артнер в игре в теннис ( правильно: партнер по игре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3"/>
          <p:cNvSpPr/>
          <p:nvPr/>
        </p:nvSpPr>
        <p:spPr>
          <a:xfrm>
            <a:off x="828000" y="428760"/>
            <a:ext cx="53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иды грамматических ошибок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428760" y="1071720"/>
            <a:ext cx="8358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Нарушение связи между подлежащим и сказуемым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пример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те, кто согласились с этим решением , об этом пожалели-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опросительные местоимения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кто, чт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отрицательные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икто, ничто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потребляются с глаголами в единственном числе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кто согласил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Нарушение способа выражения сказуемого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пример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книги эти интересны и хорошо иллюстрированные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 в качестве второго сказуемого следовало использовать краткую форму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ллюстрирова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Ошибки в построении предложения с однородными членами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) соединение в одном ряду видовых и родовых понятий :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в вольере содержались  обезьяны и  шимпанз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) соединение в одном ряду логически несовместимых понятий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Демонстранты шли с плакатами и радостными лицам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) нарушение согласования в падеже членов однородного ряда и обобщающего слова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 форуме  принимали участие представители различных стран: Англия, Франция, Россия( правильно: … Англии, Франции, России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6"/>
          <p:cNvSpPr/>
          <p:nvPr/>
        </p:nvSpPr>
        <p:spPr>
          <a:xfrm>
            <a:off x="613800" y="285840"/>
            <a:ext cx="53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иды грамматических ошибок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357120" y="857160"/>
            <a:ext cx="850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Ошибки в построении предложения с деепричастным оборотом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и использовании деепричастного оборота следует помнить, что действие деепричастия и сказуемого должно относиться к одному и тому же лицу 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риехав в Москву, я отправился на Красную площадь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вильно построенное предложение с деепричастным оборотом можно превратить в конструкции с однородными сказуемыми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Я приехал в Москву и отправился на Красную площад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9.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Ошибки в построении предложения с причастным оборотом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ще всего связаны с тем, что определяемое слово помещают в середину причастного оборота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Живущие родственники в Сибири гостили у нас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ределяемое слово должно находиться перед причастным оборотом или после него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Живущие в Сибири родственники…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… Родственники, живущие в Сибири… 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10.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Ошибки при построении сложного предложения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пример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Этот человек стал для меня образцом благородства, у которого я многому научился.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даточное определительное должно зависеть от другого слова в главном предложении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Этот человек, у которого я многому научился, стал для меня образцом благородств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3"/>
          <p:cNvSpPr/>
          <p:nvPr/>
        </p:nvSpPr>
        <p:spPr>
          <a:xfrm>
            <a:off x="613800" y="428760"/>
            <a:ext cx="53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иды грамматических ошибок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500040" y="1000080"/>
            <a:ext cx="842976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Смешение прямой и косвенной речи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пример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Автор утверждает, что я это знаю, а не просто предполагаю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переводе прямой речи в косвенную местоимения и глаголы в форме первого лица следует заменить местоимениями и глаголами в форме третьего лица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Автор утверждает, что он это знает, а не просто предполагает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12. 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Нарушение границ предложения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пример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Когда сошёл лёд. Мы решили отправиться в путь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раза должна быть оформлена как сложноподчиненное предложение: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Когда сошёл лёд, мы решили отправиться в путь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3" descr="0_6a40f_9c83f8d7_XL.jpg"/>
          <p:cNvPicPr/>
          <p:nvPr/>
        </p:nvPicPr>
        <p:blipFill>
          <a:blip r:embed="rId1"/>
          <a:stretch/>
        </p:blipFill>
        <p:spPr>
          <a:xfrm>
            <a:off x="0" y="0"/>
            <a:ext cx="957276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4"/>
          <p:cNvSpPr/>
          <p:nvPr/>
        </p:nvSpPr>
        <p:spPr>
          <a:xfrm>
            <a:off x="1826640" y="1928880"/>
            <a:ext cx="556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писок используемых источников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)А.Г. Нарушевич Русский язык. Сочинение на ЕГЭ. Москва, Просвещение,200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)А.Г. Нарушевич Методика подготовки к ЕГЭ по русскому языку: планирование занятий, организация урока, система упражнений. Москва, Педагогический университет «Первое сентября», 200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)Пушкин А.С.Стихотворения. Поэмы. Сказки. «Евгений Онегин», Москва, Олимп, 1998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ww.imageafter.c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) www.1september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05:18:25Z</dcterms:created>
  <dc:creator>Ученик 2</dc:creator>
  <dc:description/>
  <dc:language>en-US</dc:language>
  <cp:lastModifiedBy>ULTIMATE</cp:lastModifiedBy>
  <dcterms:modified xsi:type="dcterms:W3CDTF">2014-01-07T16:16:20Z</dcterms:modified>
  <cp:revision>17</cp:revision>
  <dc:subject/>
  <dc:title>Слайд 1</dc:title>
</cp:coreProperties>
</file>