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CEC4-A2F2-495C-94D7-B3FA777EC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4F31-BCC9-4C9D-9A57-D6041656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9CF9-9618-42DF-A966-73528E1CD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6A1A-130F-4FEC-A264-32F54DFCF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17A2-CC26-417C-95CD-81DC51A5D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2FB1-F672-48A3-B9AD-23D7127E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F18A-1D26-4BF4-830C-8AFDEC58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BA37-9162-45E2-8614-6AFE64A2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6695-F01C-4CF2-8C75-4BEF4B51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47AD-6640-4940-88B5-DBE9C635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DAFA-59D3-4A31-A9E9-84A12A3C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2461-4F38-4881-AEF3-DB4DF340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8345-98AC-4283-B974-7E1E5B18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E1C2-39A5-435A-9CFA-6893788D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DA0B-8F0F-4646-ACD9-047F4160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EDE2B-8773-43BF-A808-DA562C0C4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CE9A-45CB-458C-95AE-D5332331F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88E7-A328-4518-BEC4-74C2BB45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1525-80FD-4D2A-A8B3-4E62F41D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854E-F671-4342-9C54-29A25EB7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4B3A-16DE-4312-9B26-1EBB562A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F4AB-8647-40BB-B2F3-5FDEA1EA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AFC8-C557-4E14-AD4E-FCA24D33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0550-5024-4126-BEC3-A36DB83A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c86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9ea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7b6a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E7B7-290B-4481-9713-28E9BC9980B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c86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9ea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7b6a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C46CB-1DBB-4022-963D-799F2F2650E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5" descr="Quill%20Pen%20Phot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WordArt 9"/>
          <p:cNvSpPr txBox="1"/>
          <p:nvPr/>
        </p:nvSpPr>
        <p:spPr>
          <a:xfrm>
            <a:off x="1116000" y="404640"/>
            <a:ext cx="6840720" cy="79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a50021"/>
                    </a:gs>
                  </a:gsLst>
                  <a:lin ang="5400000"/>
                </a:gradFill>
                <a:latin typeface="Comic Sans MS"/>
              </a:rPr>
              <a:t>Что такое грамматическая ошибка?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100000">
                    <a:srgbClr val="a50021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154" name="TextBox 3"/>
          <p:cNvSpPr/>
          <p:nvPr/>
        </p:nvSpPr>
        <p:spPr>
          <a:xfrm>
            <a:off x="4929120" y="5786280"/>
            <a:ext cx="3714840" cy="73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b8b7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2d25"/>
                </a:solidFill>
                <a:latin typeface="Tahoma"/>
              </a:rPr>
              <a:t>Юрицина Ольга Ивановна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2d25"/>
                </a:solidFill>
                <a:latin typeface="Tahoma"/>
              </a:rPr>
              <a:t>учитель русского языка и литератур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2d25"/>
                </a:solidFill>
                <a:latin typeface="Tahoma"/>
              </a:rPr>
              <a:t>МБОУ СОШ №1 г.Новочеркасск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250920" y="620640"/>
            <a:ext cx="4752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рамматическая ошиб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это ошибка в структуре языковой  единицы: в структуре слова, в словосочетаниях или предложениях; это нарушение какой-либо грамматической нормы – словообразовательной, морфологической, синтаксическ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627840" y="476280"/>
            <a:ext cx="53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иды грамматических ошибок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324000" y="1052640"/>
            <a:ext cx="8640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Ошибочное словообразование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– ошибка в структуре слова: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упрямость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место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упрямство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надсмехатьс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место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насмехатьс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Ошибочное формообразование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– ошибка при образовании формы слова той или иной части речи, к примеру: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) при образовании форм имен существительных: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картофельных очисток вместо очистков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) при образовании форм имён прилагательных: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более светлее вместо более светлы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Нарушение согласовани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Согласованием называется такой способ подчинительной связи слов в словосочетании, когда зависимое слово употребляется в том же роде, числе, падеже, что и главное: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молодая березка, наш друг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аще всего нарушение согласования происходит из-за невнимательности. Например: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братья зашли к друзьям, пригласивших зайти к ним(неверно выбран падеж причастия; правильно:… к друзьям, пригласившим….).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4"/>
          <p:cNvSpPr/>
          <p:nvPr/>
        </p:nvSpPr>
        <p:spPr>
          <a:xfrm>
            <a:off x="613800" y="285840"/>
            <a:ext cx="53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иды грамматических ошибок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Box 5"/>
          <p:cNvSpPr/>
          <p:nvPr/>
        </p:nvSpPr>
        <p:spPr>
          <a:xfrm>
            <a:off x="500040" y="1000080"/>
            <a:ext cx="8072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Нарушение управлени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Управлением называется такой способ подчинительной связи, при котором главное слово требует от зависимого постановки в определённом падеже с предлогом или без, к примеру: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верить (</a:t>
            </a:r>
            <a:r>
              <a:rPr b="0" i="1" lang="ru-RU" sz="1800" spc="-1" strike="noStrike">
                <a:solidFill>
                  <a:srgbClr val="ffffff"/>
                </a:solidFill>
                <a:latin typeface="Comic Sans MS"/>
              </a:rPr>
              <a:t>во что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?) в дружбу; дружба (с кем?) с одноклассника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конструкциях с управлением  часто встречаются следующие ошибк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) употребление предложного сочетания вместо беспредложной конструкции: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установить о причинах аварии(правильно: установить причины 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) беспредложная конструкция вместо предложного сочетания: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характерная им особенность( правильно: характерная для них особенность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) неправильный выбор предлога: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партнер в игре в теннис ( правильно: партнер по игре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3"/>
          <p:cNvSpPr/>
          <p:nvPr/>
        </p:nvSpPr>
        <p:spPr>
          <a:xfrm>
            <a:off x="828000" y="428760"/>
            <a:ext cx="53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иды грамматических ошибок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428760" y="1071720"/>
            <a:ext cx="83581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.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Нарушение связи между подлежащим и сказуемым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пример: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те, кто согласились с этим решением , об этом пожалели-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опросительные местоимения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кто, что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отрицательные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никто, ничто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употребляются с глаголами в единственном числе: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кто согласилс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6.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Нарушение способа выражения сказуемого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пример: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книги эти интересны и хорошо иллюстрированные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– в качестве второго сказуемого следовало использовать краткую форму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иллюстрирован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7.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Ошибки в построении предложения с однородными членами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) соединение в одном ряду видовых и родовых понятий :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в вольере содержались  обезьяны и  шимпанзе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) соединение в одном ряду логически несовместимых понятий: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Демонстранты шли с плакатами и радостными лицам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) нарушение согласования в падеже членов однородного ряда и обобщающего слова: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В форуме  принимали участие представители различных стран: Англия, Франция, Россия( правильно: … Англии, Франции, России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6"/>
          <p:cNvSpPr/>
          <p:nvPr/>
        </p:nvSpPr>
        <p:spPr>
          <a:xfrm>
            <a:off x="613800" y="285840"/>
            <a:ext cx="53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иды грамматических ошибок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Box 7"/>
          <p:cNvSpPr/>
          <p:nvPr/>
        </p:nvSpPr>
        <p:spPr>
          <a:xfrm>
            <a:off x="357120" y="857160"/>
            <a:ext cx="8501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8.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Ошибки в построении предложения с деепричастным оборотом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и использовании деепричастного оборота следует помнить, что действие деепричастия и сказуемого должно относиться к одному и тому же лицу :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Приехав в Москву, я отправился на Красную площадь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авильно построенное предложение с деепричастным оборотом можно превратить в конструкции с однородными сказуемыми: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Я приехал в Москву и отправился на Красную площадь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9.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Ошибки в построении предложения с причастным оборотом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аще всего связаны с тем, что определяемое слово помещают в середину причастного оборота: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Живущие родственники в Сибири гостили у нас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пределяемое слово должно находиться перед причастным оборотом или после него: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Живущие в Сибири родственники…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ли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… Родственники, живущие в Сибири… 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10.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Ошибки при построении сложного предложения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пример: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Этот человек стал для меня образцом благородства, у которого я многому научился.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даточное определительное должно зависеть от другого слова в главном предложении: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Этот человек, у которого я многому научился, стал для меня образцом благородств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Прямоугольник 3"/>
          <p:cNvSpPr/>
          <p:nvPr/>
        </p:nvSpPr>
        <p:spPr>
          <a:xfrm>
            <a:off x="613800" y="428760"/>
            <a:ext cx="53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иды грамматических ошибок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Box 4"/>
          <p:cNvSpPr/>
          <p:nvPr/>
        </p:nvSpPr>
        <p:spPr>
          <a:xfrm>
            <a:off x="500040" y="1000080"/>
            <a:ext cx="8429760" cy="31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Tahom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Смешение прямой и косвенной речи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пример: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Автор утверждает, что я это знаю, а не просто предполагаю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 переводе прямой речи в косвенную местоимения и глаголы в форме первого лица следует заменить местоимениями и глаголами в форме третьего лица: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Автор утверждает, что он это знает, а не просто предполагает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12. 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Нарушение границ предложения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апример: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Когда сошёл лёд. Мы решили отправиться в путь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раза должна быть оформлена как сложноподчиненное предложение: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Когда сошёл лёд, мы решили отправиться в путь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Рисунок 3" descr="0_6a40f_9c83f8d7_XL.jpg"/>
          <p:cNvPicPr/>
          <p:nvPr/>
        </p:nvPicPr>
        <p:blipFill>
          <a:blip r:embed="rId1"/>
          <a:stretch/>
        </p:blipFill>
        <p:spPr>
          <a:xfrm>
            <a:off x="0" y="0"/>
            <a:ext cx="957276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Box 4"/>
          <p:cNvSpPr/>
          <p:nvPr/>
        </p:nvSpPr>
        <p:spPr>
          <a:xfrm>
            <a:off x="1826640" y="1928880"/>
            <a:ext cx="556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писок используемых источников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2c86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)А.Г. Нарушевич Русский язык. Сочинение на ЕГЭ. Москва, Просвещение,200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2c86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)А.Г. Нарушевич Методика подготовки к ЕГЭ по русскому языку: планирование занятий, организация урока, система упражнений. Москва, Педагогический университет «Первое сентября», 200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2c86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)Пушкин А.С.Стихотворения. Поэмы. Сказки. «Евгений Онегин», Москва, Олимп, 1998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2c86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ww.imageafter.co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2c86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) www.1september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2c86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05:18:25Z</dcterms:created>
  <dc:creator>Ученик 2</dc:creator>
  <dc:description/>
  <dc:language>en-US</dc:language>
  <cp:lastModifiedBy>ULTIMATE</cp:lastModifiedBy>
  <dcterms:modified xsi:type="dcterms:W3CDTF">2014-01-07T16:16:20Z</dcterms:modified>
  <cp:revision>17</cp:revision>
  <dc:subject/>
  <dc:title>Слайд 1</dc:title>
</cp:coreProperties>
</file>