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065-4342-4526-A518-6308D472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178-20C2-4FA1-9103-6C8C66A2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A12-4DA6-4AB9-B4BB-4B49C023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277-D560-403A-A7E7-67E83754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CD9-FAB9-4CA0-A109-8FEDA576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AC9-C62E-4A37-9235-17F0AC70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2C7-BDA8-46BD-B25F-82F7849E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522-37F2-4DAD-9C5D-86E17A47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674-405A-4AAA-8E27-DECC6741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31C-40EB-4AD2-8980-ECDFA2B6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52E-89D6-41F4-999A-DA5BE709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25B-C1FC-4050-879E-A7C52DD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33B8-315C-40FA-92FD-8CA6DF417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КОУ ООШ с.Октяб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1197000"/>
            <a:ext cx="61340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соединение Вятской земли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 Москве.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300640"/>
            <a:ext cx="30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еник 6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бовский Никол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Дубовская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38000" y="64008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600360" cy="3880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211640" y="260280"/>
            <a:ext cx="4635360" cy="64033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489 году Ив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шил покон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сопротивлением вятчан и на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юда 64- тысячное войско. Командов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 князь Данила Васильевич Ще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оярин Григорий Васильевич Моро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юле они овладели Котельниче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ловом, а в середине авг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тупили к Хлынову. 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княжеские войска 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иться к приступу, подвоз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лу и бересту, чтобы подже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янные стены города, вят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яре начали переговоры с воевод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щая признать власть великого княз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ня и Морозов потребовали, что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выдали головой Мышкина, Лазар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огодайщикова . Вятские бояре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ились и решили обороняться. Но в Хлынове начались волнения посадских людей и сторонников промосковской группировки. Под их давлением вятские верхи вынуждены были капитул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ие войска занял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7219440" y="30891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489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92920" y="4508640"/>
            <a:ext cx="315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в 1489 году вятская земля была окончательно присоединена к Русскому гоударству. В Вятскую землю были присланы наместники,, волостели и приказные лю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132000" cy="35146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056040" y="1989000"/>
            <a:ext cx="608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победы в феодальной войн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32-1453годов великий князь Васил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чтобы сломить сопротивление укрывшихся на Вятке феодальных автономистов, отправил против них в 1457году своё войско  под командованием князя Ивана Васильевича Горбатого, князя Ивана Ивановича Ряполовского и воеводы Григория Перхушкова. Московские по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адили Хлынов, но взять его не смог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9440" y="401760"/>
            <a:ext cx="17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эта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овское правительство не оставило своего намерения подчинить непокорную Вятку. В 1459году Васил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новь направил сюда большое войско под командованием князя Ивана Юрьевича Патрикеева.  Взяв Котельнич и Орлов, Московское войско подступило к Хлынову. Осада затянулась.  Хлыновцы, стали испытывать голод и решили сдать оружие. Они признали власть Москвы. Вятская земля вошла в состав  Московского государства, но сохранила местную выборную администрацию под наблюдением московского намест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3208320"/>
            <a:ext cx="3924360" cy="36496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345280" y="3808440"/>
            <a:ext cx="373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ывая этот по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ие летопис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первые упоминают п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59 год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х трех вят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одов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лын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ельн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Ор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мотря на формальное признание власти московского правительства, часть вятских бояр и житьих людей продолжала проводить самостоятельную политику. В результате на Вятке во второй полов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сложились две группировки – промосковская и антимосковская, которые которые боролись между собой за  руководство Вятской землей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 главе промосковской группиров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оя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ский вое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антин Юрьев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жаком вятских сепаратис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ярин Иван Аникиевич Мышк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ей четвер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а Вятский край представлял собой уже достаточно населенную и экономически развитую область. Город Хлынов стал крупным торговым и ремесленным центром, входившим в число 15 пятнадцати крупнейших городо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эта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ение Вятки вскружило голову автономистов, лелеявших мечты о создании   самостоятельной феодальной республики, подобной новгоро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80-х года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а они начали борьбу против сторонников Москвы и сумели захватить власть на Вятке в свои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жаки сепаратистов Иван Аникиевич Мышкин, Пахомий Лазарев, Павел Богодайщиков и другие повели антимосковскую полит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485 году они отказались участвовать в походе на Казань, проводимом Ива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Чтобы заставить их повиноваться, московское правительство отправило на Вятку сильный отряд под командованием воеводы Юрия Шестака Кутузова. Московское войско не смогло взять хлыновский кремль и вернулось обратно. Ободренные успехом вятские сепаратисты изгнали великокняжеского наместника и начали фактическую войну против Москвы. Они организовали ряд набегов на Устюг, Вагу и другие волости Московского государства. Стали преследовать Константина Юрьева и других сторонников московской ори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381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дискредитировать знаменитого Юрьева в глазах Ив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ни заставили его взять на себя командование отрядом вятчан, отправленным в набег на Великий Устюг. Дойдя до Осиновца (совр.Подосиновец),в 1486 году Константин Юрьев покинул войско и уехал в Моск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вразумить вятчан, московский митрополит Геронтий прислал на Вятку в 1486-1488годах две «увещательные» грамоты. Угрожая всевозможными церковными карами. Но эти грамоты не возымели желаемого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17:07:04Z</dcterms:created>
  <dc:creator>Admin</dc:creator>
  <dc:description/>
  <dc:language>en-US</dc:language>
  <cp:lastModifiedBy>Админ</cp:lastModifiedBy>
  <dcterms:modified xsi:type="dcterms:W3CDTF">2014-01-26T10:10:39Z</dcterms:modified>
  <cp:revision>9</cp:revision>
  <dc:subject/>
  <dc:title>МКОУ ООШ с.Октябрь.</dc:title>
</cp:coreProperties>
</file>