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7EA-8690-4434-BAAC-E7FF9F65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CCC-A249-46B9-9D38-55FBE6D2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6E1-0E68-4638-9015-01E46319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6D0D-1B64-42D8-B6A1-A46B81AD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C06-952B-4F11-AC87-6EDA1768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676C-BBB4-4ED9-8728-DB272AC1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A93-C3C3-4231-841B-A9C3C036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1A5-D3BF-4ED1-9A5F-9E04338C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08E-371C-4124-9585-2DBEF5BF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F52-52EC-4674-B1E1-2B27AEA5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A43-FBAE-4483-9449-FD0BA623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A60-4276-4E6A-A9DA-61BA451F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B202-4182-456B-BB5B-4D4734A79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КОУ ООШ с.Октяб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1197000"/>
            <a:ext cx="613404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исоединение Вятской земли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 Москве.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300640"/>
            <a:ext cx="30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 ученик 6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бовский Никол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Дубовская С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38000" y="640080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600360" cy="38800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211640" y="260280"/>
            <a:ext cx="4635360" cy="64033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489 году Ива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шил покон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сопротивлением вятчан и на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юда 64- тысячное войско. Командов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 князь Данила Васильевич Ще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оярин Григорий Васильевич Мороз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юле они овладели Котельниче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ловом, а в середине авг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ступили к Хлынову. К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княжеские войска с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товиться к приступу, подвоз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лу и бересту, чтобы поджеч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янные стены города, вят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яре начали переговоры с воевод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щая признать власть великого княз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еня и Морозов потребовали, чтоб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выдали головой Мышкина, Лазар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огодайщикова . Вятские бояре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ились и решили обороняться. Но в Хлынове начались волнения посадских людей и сторонников промосковской группировки. Под их давлением вятские верхи вынуждены были капитулир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ские войска заняли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7219440" y="308916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489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92920" y="4508640"/>
            <a:ext cx="315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в 1489 году вятская земля была окончательно присоединена к Русскому гоударству. В Вятскую землю были присланы наместники,, волостели и приказные лю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132000" cy="35146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3056040" y="1989000"/>
            <a:ext cx="6087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победы в феодальной войн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32-1453годов великий князь Васили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чтобы сломить сопротивление укрывшихся на Вятке феодальных автономистов, отправил против них в 1457году своё войско  под командованием князя Ивана Васильевича Горбатого, князя Ивана Ивановича Ряполовского и воеводы Григория Перхушкова. Московские по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адили Хлынов, но взять его не смог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09440" y="401760"/>
            <a:ext cx="17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 этап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этап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сковское правительство не оставило своего намерения подчинить непокорную Вятку. В 1459году Васили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новь направил сюда большое войско под командованием князя Ивана Юрьевича Патрикеева.  Взяв Котельнич и Орлов, Московское войско подступило к Хлынову. Осада затянулась.  Хлыновцы, стали испытывать голод и решили сдать оружие. Они признали власть Москвы. Вятская земля вошла в состав  Московского государства, но сохранила местную выборную администрацию под наблюдением московского наместн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3208320"/>
            <a:ext cx="3924360" cy="36496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5345280" y="3808440"/>
            <a:ext cx="373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сывая этот пох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сские летопис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первые упоминают п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59 год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х трех вят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одов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лын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ельни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Ор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мотря на формальное признание власти московского правительства, часть вятских бояр и житьих людей продолжала проводить самостоятельную политику. В результате на Вятке во второй полови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 сложились две группировки – промосковская и антимосковская, которые которые боролись между собой за  руководство Вятской землей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 главе промосковской группиров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оя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ский воев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антин Юрьев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жаком вятских сепаратис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ярин Иван Аникиевич Мышк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следней четвер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ека Вятский край представлял собой уже достаточно населенную и экономически развитую область. Город Хлынов стал крупным торговым и ремесленным центром, входившим в число 15 пятнадцати крупнейших городо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этап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иление Вятки вскружило голову автономистов, лелеявших мечты о создании   самостоятельной феодальной республики, подобной новгород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80-х года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ека они начали борьбу против сторонников Москвы и сумели захватить власть на Вятке в свои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жаки сепаратистов Иван Аникиевич Мышкин, Пахомий Лазарев, Павел Богодайщиков и другие повели антимосковскую полити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485 году они отказались участвовать в походе на Казань, проводимом Ива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Чтобы заставить их повиноваться, московское правительство отправило на Вятку сильный отряд под командованием воеводы Юрия Шестака Кутузова. Московское войско не смогло взять хлыновский кремль и вернулось обратно. Ободренные успехом вятские сепаратисты изгнали великокняжеского наместника и начали фактическую войну против Москвы. Они организовали ряд набегов на Устюг, Вагу и другие волости Московского государства. Стали преследовать Константина Юрьева и других сторонников московской ори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381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дискредитировать знаменитого Юрьева в глазах Ив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ни заставили его взять на себя командование отрядом вятчан, отправленным в набег на Великий Устюг. Дойдя до Осиновца (совр.Подосиновец),в 1486 году Константин Юрьев покинул войско и уехал в Моск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вразумить вятчан, московский митрополит Геронтий прислал на Вятку в 1486-1488годах две «увещательные» грамоты. Угрожая всевозможными церковными карами. Но эти грамоты не возымели желаемого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9T17:07:04Z</dcterms:created>
  <dc:creator>Admin</dc:creator>
  <dc:description/>
  <dc:language>en-US</dc:language>
  <cp:lastModifiedBy>Админ</cp:lastModifiedBy>
  <dcterms:modified xsi:type="dcterms:W3CDTF">2014-01-26T10:10:39Z</dcterms:modified>
  <cp:revision>9</cp:revision>
  <dc:subject/>
  <dc:title>МКОУ ООШ с.Октябрь.</dc:title>
</cp:coreProperties>
</file>