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EE4-DDD9-4F9E-B6F3-E320C32B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326B-4658-485A-8F76-A654FDDA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17A7-83DD-485E-A11B-B67F3D07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7C68-F360-439D-A3E2-C6F0C4F8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2F5A-8016-4E1F-876E-5530DFB4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074-EF1F-47AA-9772-8654F441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22F-1879-4A81-9B40-7B85E7EE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E2D-7C97-43F3-A168-BEEC01FC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3C5-29A7-4B9D-B065-AE0B9355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2A6C-BE06-4221-A015-11E33933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F10C-B730-4BBD-BB0C-557D5005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0223-5C3F-4E02-A6DF-16D5BF13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00CB-15E4-4027-B966-5C50B0201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re in the ro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121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292720" y="260280"/>
            <a:ext cx="3529080" cy="3024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4003920" cy="3168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3529080" cy="2808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364000" y="3645000"/>
            <a:ext cx="34560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8:40:32Z</dcterms:created>
  <dc:creator>Рита</dc:creator>
  <dc:description/>
  <dc:language>en-US</dc:language>
  <cp:lastModifiedBy>Рита</cp:lastModifiedBy>
  <dcterms:modified xsi:type="dcterms:W3CDTF">2013-10-23T19:29:35Z</dcterms:modified>
  <cp:revision>2</cp:revision>
  <dc:subject/>
  <dc:title>What is there in the room?</dc:title>
</cp:coreProperties>
</file>