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CB97-2E8B-46DB-84EC-A1D4BF209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C7FD-91ED-4283-88BA-D8B195CF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DC2B-A927-47E1-98A6-81471C92C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A3DD-FC7B-4F25-9D9A-910DD38E8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1D31-C553-4664-95B0-1280BF5E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7E53-1E27-4183-9255-653FB84E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3019-B08A-4AF8-B9C1-05B7617A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EA10-2B99-4B38-BB3E-AEED96C8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79A8-8239-4CDB-8A43-21A417E8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C64B-37C7-4709-B215-551E7F66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EC6B-CC6D-4191-90EC-3D19D6B9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F484-C39E-4527-84C3-ADC753E8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6E2A-E04A-4915-BA29-FF73E1339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-171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re in the ro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61214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292720" y="260280"/>
            <a:ext cx="3529080" cy="3024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4003920" cy="3168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826920" y="3716280"/>
            <a:ext cx="3529080" cy="2808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364000" y="3645000"/>
            <a:ext cx="345600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18:40:32Z</dcterms:created>
  <dc:creator>Рита</dc:creator>
  <dc:description/>
  <dc:language>en-US</dc:language>
  <cp:lastModifiedBy>Рита</cp:lastModifiedBy>
  <dcterms:modified xsi:type="dcterms:W3CDTF">2013-10-23T19:29:35Z</dcterms:modified>
  <cp:revision>2</cp:revision>
  <dc:subject/>
  <dc:title>What is there in the room?</dc:title>
</cp:coreProperties>
</file>