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20E-F439-4A87-81FD-8C89CF77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B45-EE70-4BEA-841B-C1EB8E5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E4F-52E7-45C3-8C7B-7CB0F11D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6FB-F1C3-450B-B1B5-14044C01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D5C-D763-4D07-B09F-8540CD7B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6B3-EA12-4184-A1F2-1E96E6C4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1B4-0DC3-462D-8053-B640B6E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9C3-C5A9-42DE-BBD8-044BC8AB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7A4-A5BD-4281-9A53-6A9E7F35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206-D44E-4491-8F6E-D58E6B4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F0E-FDCB-4D0B-8E48-CA19F90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B4B-F572-49F5-8EAA-2675229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833-FF7E-4FF3-A60C-B8F5FF6C8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Christmas in Great Brita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ЛОС\Downloads\b9bc33ce3b7a.jpg"/>
          <p:cNvPicPr/>
          <p:nvPr/>
        </p:nvPicPr>
        <p:blipFill>
          <a:blip r:embed="rId1"/>
          <a:stretch/>
        </p:blipFill>
        <p:spPr>
          <a:xfrm>
            <a:off x="2428920" y="2071800"/>
            <a:ext cx="4384800" cy="32875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1042920"/>
            <a:ext cx="9156960" cy="1103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529128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ЛОС\Downloads\1309429386_kalendar (1).jpg"/>
          <p:cNvPicPr/>
          <p:nvPr/>
        </p:nvPicPr>
        <p:blipFill>
          <a:blip r:embed="rId1"/>
          <a:stretch/>
        </p:blipFill>
        <p:spPr>
          <a:xfrm>
            <a:off x="2357280" y="2643120"/>
            <a:ext cx="4383360" cy="2846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642960" y="121428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On the 25th of December  British people celebrate Christm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79280" y="5445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25 декабря британцы празднуют Рожд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ЛОС\Downloads\IMG_1157.jpg"/>
          <p:cNvPicPr/>
          <p:nvPr/>
        </p:nvPicPr>
        <p:blipFill>
          <a:blip r:embed="rId1"/>
          <a:stretch/>
        </p:blipFill>
        <p:spPr>
          <a:xfrm>
            <a:off x="2071800" y="2071800"/>
            <a:ext cx="4813200" cy="308916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2149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аждый год лондонцы получают от жителей Норвегии  большое Рождественское  дер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928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Every year  Londoners  get  present   from  the people  of  Norway – a big Christmas t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A lot of people come to enjoy  the Christmas decorations  and to  sk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5357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ного людей  приходят, чтобы насладиться рождественской красотой  и покататься на конь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ЛОС\Downloads\loveactually2.jpg"/>
          <p:cNvPicPr/>
          <p:nvPr/>
        </p:nvPicPr>
        <p:blipFill>
          <a:blip r:embed="rId1"/>
          <a:stretch/>
        </p:blipFill>
        <p:spPr>
          <a:xfrm>
            <a:off x="2214720" y="228600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1071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Christmas Day is  the  time  for  presents,</a:t>
            </a: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guests,</a:t>
            </a:r>
            <a:r>
              <a:rPr b="0" lang="ru-RU" sz="3200" spc="-1" strike="noStrike">
                <a:solidFill>
                  <a:srgbClr val="376092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wishes and a special m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521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Рождественский День </a:t>
            </a: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–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это время для подарков, гостей, пожеланий и праздничной е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ЛОС\Downloads\7d80aee1f69et.jpg"/>
          <p:cNvPicPr/>
          <p:nvPr/>
        </p:nvPicPr>
        <p:blipFill>
          <a:blip r:embed="rId1"/>
          <a:stretch/>
        </p:blipFill>
        <p:spPr>
          <a:xfrm>
            <a:off x="2143080" y="2357280"/>
            <a:ext cx="4680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-142920" y="100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hristmas  dinner  consists  of  a  roast  turkey  with  carrots  and  potatoes  and  Christmas  pud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521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Рождественский ужин состоит из жареной индейки с морковью и картофелем и рождественского  пудин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ЛОС\Downloads\2.00.jpg"/>
          <p:cNvPicPr/>
          <p:nvPr/>
        </p:nvPicPr>
        <p:blipFill>
          <a:blip r:embed="rId1"/>
          <a:stretch/>
        </p:blipFill>
        <p:spPr>
          <a:xfrm>
            <a:off x="2143080" y="2143080"/>
            <a:ext cx="4786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00080" y="135720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Автор презентации-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ученик 5  «А» класса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МБОУ СОШ № 75 г.Лесной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Свердловская обл.</a:t>
            </a:r>
            <a:br>
              <a:rPr sz="3200"/>
            </a:b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Корытов Иль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4:46:39Z</dcterms:created>
  <dc:creator>ЛОС</dc:creator>
  <dc:description/>
  <dc:language>en-US</dc:language>
  <cp:lastModifiedBy>Слава</cp:lastModifiedBy>
  <dcterms:modified xsi:type="dcterms:W3CDTF">2014-01-26T07:11:48Z</dcterms:modified>
  <cp:revision>11</cp:revision>
  <dc:subject/>
  <dc:title>Слайд 1</dc:title>
</cp:coreProperties>
</file>