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F23-67FB-42C6-B52E-0FF9BFD5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EC4-8451-4ED1-A324-F4AA2BE5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2E1-D133-4EEE-AD7C-A1957C7D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241-810E-4114-83A2-1B4230DD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A10-DB04-4DF4-8045-ACB1BD4E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166-FF83-43E7-AFAC-39161E52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1D0-24F2-43A5-BF8D-1AADB99E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E6F-4E62-4C22-A58A-57F53F1E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1C3-2B78-46F8-B5B4-B2C3AD48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7EC-6BD2-4E92-9C5F-0DCBCF71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1C7-09B5-4712-BC07-6567BEE9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339-A9B9-4CA4-9C3B-BB053625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4557-0598-4195-B7D4-D1BF9DD8DB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Christmas in Great Brita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ЛОС\Downloads\b9bc33ce3b7a.jpg"/>
          <p:cNvPicPr/>
          <p:nvPr/>
        </p:nvPicPr>
        <p:blipFill>
          <a:blip r:embed="rId1"/>
          <a:stretch/>
        </p:blipFill>
        <p:spPr>
          <a:xfrm>
            <a:off x="2428920" y="2071800"/>
            <a:ext cx="4384800" cy="32875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1042920"/>
            <a:ext cx="9156960" cy="1103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7" descr=""/>
          <p:cNvPicPr/>
          <p:nvPr/>
        </p:nvPicPr>
        <p:blipFill>
          <a:blip r:embed="rId3"/>
          <a:stretch/>
        </p:blipFill>
        <p:spPr>
          <a:xfrm>
            <a:off x="-6480" y="529128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ЛОС\Downloads\1309429386_kalendar (1).jpg"/>
          <p:cNvPicPr/>
          <p:nvPr/>
        </p:nvPicPr>
        <p:blipFill>
          <a:blip r:embed="rId1"/>
          <a:stretch/>
        </p:blipFill>
        <p:spPr>
          <a:xfrm>
            <a:off x="2357280" y="2643120"/>
            <a:ext cx="4383360" cy="2846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642960" y="121428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376092"/>
                </a:solidFill>
                <a:latin typeface="Calibri"/>
              </a:rPr>
              <a:t>On the 25th of December  British people celebrate Christma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79280" y="5445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25 декабря британцы празднуют Рождест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ЛОС\Downloads\IMG_1157.jpg"/>
          <p:cNvPicPr/>
          <p:nvPr/>
        </p:nvPicPr>
        <p:blipFill>
          <a:blip r:embed="rId1"/>
          <a:stretch/>
        </p:blipFill>
        <p:spPr>
          <a:xfrm>
            <a:off x="2071800" y="2071800"/>
            <a:ext cx="4813200" cy="308916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52149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Каждый год лондонцы получают от жителей Норвегии  большое Рождественское  дере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928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Every year  Londoners  get  present   from  the people  of  Norway – a big Christmas t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A lot of people come to enjoy  the Christmas decorations  and to  sk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0" y="5357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Много людей  приходят, чтобы насладиться рождественской красотой  и покататься на конь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ЛОС\Downloads\loveactually2.jpg"/>
          <p:cNvPicPr/>
          <p:nvPr/>
        </p:nvPicPr>
        <p:blipFill>
          <a:blip r:embed="rId1"/>
          <a:stretch/>
        </p:blipFill>
        <p:spPr>
          <a:xfrm>
            <a:off x="2214720" y="2286000"/>
            <a:ext cx="4564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0" y="1071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Christmas Day is  the  time  for  presents,</a:t>
            </a:r>
            <a:r>
              <a:rPr b="0" lang="ru-RU" sz="32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guests,</a:t>
            </a:r>
            <a:r>
              <a:rPr b="0" lang="ru-RU" sz="3200" spc="-1" strike="noStrike">
                <a:solidFill>
                  <a:srgbClr val="376092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wishes and a special me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521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Рождественский День </a:t>
            </a: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– </a:t>
            </a:r>
            <a:r>
              <a:rPr b="0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это время для подарков, гостей, пожеланий и праздничной е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ЛОС\Downloads\7d80aee1f69et.jpg"/>
          <p:cNvPicPr/>
          <p:nvPr/>
        </p:nvPicPr>
        <p:blipFill>
          <a:blip r:embed="rId1"/>
          <a:stretch/>
        </p:blipFill>
        <p:spPr>
          <a:xfrm>
            <a:off x="2143080" y="2357280"/>
            <a:ext cx="4680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-14292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hristmas  dinner  consists  of  a  roast  turkey  with  carrots  and  potatoes  and  Christmas  pud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521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Рождественский ужин состоит из жареной индейки с морковью и картофелем и рождественского  пудин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ЛОС\Downloads\2.00.jpg"/>
          <p:cNvPicPr/>
          <p:nvPr/>
        </p:nvPicPr>
        <p:blipFill>
          <a:blip r:embed="rId1"/>
          <a:stretch/>
        </p:blipFill>
        <p:spPr>
          <a:xfrm>
            <a:off x="2143080" y="2143080"/>
            <a:ext cx="47862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000080" y="1357200"/>
            <a:ext cx="721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Автор презентации-</a:t>
            </a:r>
            <a:br>
              <a:rPr sz="3200"/>
            </a:b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ученик 5  «А» класса</a:t>
            </a:r>
            <a:br>
              <a:rPr sz="3200"/>
            </a:b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МБОУ СОШ № 75 г.Лесной</a:t>
            </a:r>
            <a:br>
              <a:rPr sz="3200"/>
            </a:b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Свердловская обл.</a:t>
            </a:r>
            <a:br>
              <a:rPr sz="3200"/>
            </a:b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Корытов Иль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14:46:39Z</dcterms:created>
  <dc:creator>ЛОС</dc:creator>
  <dc:description/>
  <dc:language>en-US</dc:language>
  <cp:lastModifiedBy>Слава</cp:lastModifiedBy>
  <dcterms:modified xsi:type="dcterms:W3CDTF">2014-01-26T07:11:48Z</dcterms:modified>
  <cp:revision>11</cp:revision>
  <dc:subject/>
  <dc:title>Слайд 1</dc:title>
</cp:coreProperties>
</file>