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23.jpeg" ContentType="image/jpe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3393-778F-400A-A22D-D7FFBDBE6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4160-5D6D-4874-9BDA-724FBBE7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A5B4-6C7F-45A5-8517-C9D6283BA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A673-9F1C-49CC-BB48-0EED30EF1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D482-68CA-4FDE-9EDE-6C681727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DEA8-7057-48B0-956F-F6771F0D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7374-4A2E-45F6-8575-E0DEF755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55A4-CB1C-4B4E-ADC5-C5DC69B7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523E-2DC5-4B81-859F-B4A22427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C617-D1C4-418D-9D7A-306C9CEC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2A13-93ED-44C0-9D1A-78DDCC00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9735-EBE8-4527-BF05-FF8C5C7CD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2004-63A6-492D-8466-0C58347D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DBAE-12C5-4B0D-B295-568D24F6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C659-5EBE-453C-A8E4-0F2702F6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3C26-49B6-4DD8-BCC3-B15B2BB5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64AE-0BC4-45FA-B976-25677D2C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603E-5768-49CC-8705-D786F9AF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8711-F7B9-4B08-88B8-C307C329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E21F-2EA2-4FF8-AF62-4C1BB514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1CCE-B79E-4F1A-A44A-459638C2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2E2F-6822-4919-8852-A7F0A0CE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B283-A82D-4863-B3EC-967CAC41F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4CA3-C359-4DC5-A887-BD82F302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7D3E-FB86-4ABF-A59E-751CF07FDC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7DF3-B2AC-4304-A10F-4007527952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50;&#1086;&#1085;&#1090;&#1088;&#1086;&#1083;&#1100;%20&#1079;&#1072;%20&#1074;&#1099;&#1087;&#1086;&#1083;&#1085;&#1077;&#1085;&#1080;&#1077;&#1084;%20&#1096;&#1082;&#1086;&#1083;&#1100;&#1085;&#1080;&#1082;&#1086;&#1084;%20&#1076;&#1086;&#1084;&#1072;&#1096;&#1085;&#1080;&#1093;%20&#1079;&#1072;&#1076;&#1072;&#1085;&#1080;&#1081;.doc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357360" y="1785960"/>
            <a:ext cx="578628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Segoe Script"/>
              </a:rPr>
              <a:t>Роль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Segoe Script"/>
              </a:rPr>
              <a:t>домашнего задания в самообразовании школьника</a:t>
            </a: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063680" y="5297040"/>
            <a:ext cx="505764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9900"/>
              </a:solidFill>
              <a:latin typeface="Segoe Script"/>
            </a:endParaRPr>
          </a:p>
        </p:txBody>
      </p:sp>
      <p:pic>
        <p:nvPicPr>
          <p:cNvPr id="316" name="Прямоугольник 7" descr=""/>
          <p:cNvPicPr/>
          <p:nvPr/>
        </p:nvPicPr>
        <p:blipFill>
          <a:blip r:embed="rId1"/>
          <a:stretch/>
        </p:blipFill>
        <p:spPr>
          <a:xfrm>
            <a:off x="-219240" y="-291960"/>
            <a:ext cx="2919600" cy="3998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" descr=""/>
          <p:cNvPicPr/>
          <p:nvPr/>
        </p:nvPicPr>
        <p:blipFill>
          <a:blip r:embed="rId2"/>
          <a:stretch/>
        </p:blipFill>
        <p:spPr>
          <a:xfrm>
            <a:off x="5857920" y="0"/>
            <a:ext cx="2786040" cy="2617920"/>
          </a:xfrm>
          <a:prstGeom prst="rect">
            <a:avLst/>
          </a:prstGeom>
          <a:ln w="0">
            <a:noFill/>
          </a:ln>
        </p:spPr>
      </p:pic>
      <p:sp>
        <p:nvSpPr>
          <p:cNvPr id="318" name="Прямоугольник 5"/>
          <p:cNvSpPr/>
          <p:nvPr/>
        </p:nvSpPr>
        <p:spPr>
          <a:xfrm>
            <a:off x="3132000" y="4508640"/>
            <a:ext cx="60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Segoe Script"/>
                <a:ea typeface="Times New Roman"/>
              </a:rPr>
              <a:t>учитель начальных класс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Segoe Script"/>
                <a:ea typeface="Times New Roman"/>
              </a:rPr>
              <a:t>Тогобецкая Екатерина Юр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Placeholder 5" descr="1111.jpg"/>
          <p:cNvPicPr/>
          <p:nvPr/>
        </p:nvPicPr>
        <p:blipFill>
          <a:blip r:embed="rId1"/>
          <a:stretch/>
        </p:blipFill>
        <p:spPr>
          <a:xfrm>
            <a:off x="122400" y="407880"/>
            <a:ext cx="8332560" cy="4896000"/>
          </a:xfrm>
          <a:prstGeom prst="rect">
            <a:avLst/>
          </a:prstGeom>
          <a:ln w="0">
            <a:noFill/>
          </a:ln>
        </p:spPr>
      </p:pic>
      <p:pic>
        <p:nvPicPr>
          <p:cNvPr id="352" name="Рисунок 4" descr="34.jpg"/>
          <p:cNvPicPr/>
          <p:nvPr/>
        </p:nvPicPr>
        <p:blipFill>
          <a:blip r:embed="rId2"/>
          <a:stretch/>
        </p:blipFill>
        <p:spPr>
          <a:xfrm>
            <a:off x="7072200" y="3643200"/>
            <a:ext cx="2452680" cy="321480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3"/>
          <p:cNvSpPr/>
          <p:nvPr/>
        </p:nvSpPr>
        <p:spPr>
          <a:xfrm>
            <a:off x="285840" y="734400"/>
            <a:ext cx="814392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Times New Roman"/>
              </a:rPr>
              <a:t>Нужно помогать ребенку в учебе, чтобы он понял все детали трудного задания и сам мог выполнить аналогичное, подробно объясняя свои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Times New Roman"/>
              </a:rPr>
              <a:t>Чаще тренировать его память, внимание  и мышления используя для этого развивающие игры. Разгадывайте кроссворды, головоломки, шар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Times New Roman"/>
              </a:rPr>
              <a:t>Приучайте ребенка к режиму дня, тем самым, развивая его  волю и собра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Times New Roman"/>
              </a:rPr>
              <a:t>Помогайте ему стремиться совершенствовать свои способности не только в учебе, но и в других делах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Placeholder 5" descr="111111.jpg"/>
          <p:cNvPicPr/>
          <p:nvPr/>
        </p:nvPicPr>
        <p:blipFill>
          <a:blip r:embed="rId1"/>
          <a:stretch/>
        </p:blipFill>
        <p:spPr>
          <a:xfrm>
            <a:off x="128520" y="828720"/>
            <a:ext cx="8996400" cy="362736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1"/>
          <p:cNvSpPr/>
          <p:nvPr/>
        </p:nvSpPr>
        <p:spPr>
          <a:xfrm>
            <a:off x="0" y="1543680"/>
            <a:ext cx="864396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Рисунок 4" descr="34.jpg"/>
          <p:cNvPicPr/>
          <p:nvPr/>
        </p:nvPicPr>
        <p:blipFill>
          <a:blip r:embed="rId2"/>
          <a:stretch/>
        </p:blipFill>
        <p:spPr>
          <a:xfrm>
            <a:off x="428760" y="3071880"/>
            <a:ext cx="2214360" cy="327348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6" descr="78.jpg"/>
          <p:cNvPicPr/>
          <p:nvPr/>
        </p:nvPicPr>
        <p:blipFill>
          <a:blip r:embed="rId3"/>
          <a:stretch/>
        </p:blipFill>
        <p:spPr>
          <a:xfrm>
            <a:off x="7215120" y="3786120"/>
            <a:ext cx="1928880" cy="237672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7"/>
          <p:cNvSpPr/>
          <p:nvPr/>
        </p:nvSpPr>
        <p:spPr>
          <a:xfrm>
            <a:off x="714240" y="1428840"/>
            <a:ext cx="7072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Системная работа ученика дома приводит к тому, что процесс учения его не отягощает, он получает навыки поиска информации, учится выполнять  работу  качественно и в с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500200" y="428760"/>
            <a:ext cx="68868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Segoe Script"/>
                <a:hlinkClick r:id="rId1"/>
              </a:rPr>
              <a:t>Как помочь ребенку в подготовке домашнего задания?</a:t>
            </a: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360" name="Рисунок 5" descr="12.jpg"/>
          <p:cNvPicPr/>
          <p:nvPr/>
        </p:nvPicPr>
        <p:blipFill>
          <a:blip r:embed="rId2"/>
          <a:stretch/>
        </p:blipFill>
        <p:spPr>
          <a:xfrm>
            <a:off x="6786720" y="2643120"/>
            <a:ext cx="1595160" cy="335772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6" descr="61.jpg"/>
          <p:cNvPicPr/>
          <p:nvPr/>
        </p:nvPicPr>
        <p:blipFill>
          <a:blip r:embed="rId3"/>
          <a:stretch/>
        </p:blipFill>
        <p:spPr>
          <a:xfrm>
            <a:off x="3429000" y="2714760"/>
            <a:ext cx="27097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7848720" cy="545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ка «Как готовить домашние задания»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 работать на уроке: внимательно слушать и отвечать на вопрос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что-то непонятно, не стесняться задать вопрос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тельно и подробно записывать задания по каждому предмет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ся пользоваться справочниками и словарями, чтобы уметь выяснять значение незнакомых слов и выражени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ся находить интересующую нужную информацию с  помощью компьютера.</a:t>
            </a:r>
            <a:br>
              <a:rPr sz="20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-2916360" y="888840"/>
            <a:ext cx="1800360" cy="411480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281800" cy="531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ый материал урока надо повторить в тот же день, чтобы сразу закрепить его и запомнит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я домашнее задание, надо не просто думать, что надо сделать, а еще и решать, с помощью каких средств и приемов этого можно добитьс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тесняться обращаться за помощью к взрослым и одноклассника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выполнением домашней работы нужно убедиться, что в дневнике записаны все задания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решить, в какой последовательности лучше выполнять задания и сколько времени понадобится на каждое из ни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исьменном столе должно лежать только то, что необходимо для выполнения одного задания. </a:t>
            </a:r>
            <a:endParaRPr b="0" lang="en-US" sz="24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-541440" y="888840"/>
            <a:ext cx="217440" cy="411480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066160" cy="531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его завершения со стола убираются уже использованные материалы, и кладутся те учебные принадлежности, которые необходимы для выполнения задания по следующему предмету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приготовления домашнего задания необходимо делать  перерывы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я заданный материал, сначала надо его понять, а уже потом запомнить.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-1981080" y="888840"/>
            <a:ext cx="1512720" cy="411480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604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 домашнего задания на сегодняшний день остаётся весьма важной и актуальной буквально по всем школьным предметам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мся к понятию “домашнее задание” или “домашняя учебная работа”, которое имеет следующее значение:  это составная часть процесса обучения, заключающаяся в выполнении учащимися по заданию учителя самостоятельной учебной и практической работы после классных занятий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показывает, что при выполнении домашних заданий целесообразно использовать содружество и сотворчество учащегося, его родителей, членов семьи, друзей, одноклассников, что способствует творческой обстановке, увлечённости сотрудничества, а главное повышению мотивации и развитию интереса к учебе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 домашнего задания в 3-4 классах  должна занимать до 2 часов.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-3637080" y="888840"/>
            <a:ext cx="287280" cy="411480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1785960" y="500040"/>
            <a:ext cx="7143840" cy="21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Segoe"/>
              </a:rPr>
              <a:t>	</a:t>
            </a:r>
            <a:r>
              <a:rPr b="1" i="1" lang="ru-RU" sz="6600" spc="-1" strike="noStrike">
                <a:solidFill>
                  <a:srgbClr val="c00000"/>
                </a:solidFill>
                <a:latin typeface="Segoe"/>
              </a:rPr>
              <a:t>Спасибо за внимание</a:t>
            </a:r>
            <a:endParaRPr b="0" lang="en-US" sz="66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71" name="TextBox 4"/>
          <p:cNvSpPr/>
          <p:nvPr/>
        </p:nvSpPr>
        <p:spPr>
          <a:xfrm>
            <a:off x="4500720" y="3500280"/>
            <a:ext cx="2271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6"/>
          <p:cNvSpPr/>
          <p:nvPr/>
        </p:nvSpPr>
        <p:spPr>
          <a:xfrm>
            <a:off x="4643280" y="4357800"/>
            <a:ext cx="27147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643120" y="5076360"/>
            <a:ext cx="485784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Segoe Script"/>
              </a:rPr>
              <a:t>Д.И Писарев</a:t>
            </a:r>
            <a:endParaRPr b="0" lang="en-US" sz="44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320" name="Picture Placeholder 5" descr="111111.jpg"/>
          <p:cNvPicPr/>
          <p:nvPr/>
        </p:nvPicPr>
        <p:blipFill>
          <a:blip r:embed="rId1"/>
          <a:stretch/>
        </p:blipFill>
        <p:spPr>
          <a:xfrm>
            <a:off x="-219240" y="974880"/>
            <a:ext cx="9582480" cy="383508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1"/>
          <p:cNvSpPr/>
          <p:nvPr/>
        </p:nvSpPr>
        <p:spPr>
          <a:xfrm>
            <a:off x="0" y="1543680"/>
            <a:ext cx="864396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Рисунок 4" descr="34.jpg"/>
          <p:cNvPicPr/>
          <p:nvPr/>
        </p:nvPicPr>
        <p:blipFill>
          <a:blip r:embed="rId2"/>
          <a:stretch/>
        </p:blipFill>
        <p:spPr>
          <a:xfrm>
            <a:off x="357120" y="-1000080"/>
            <a:ext cx="2214720" cy="327348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6" descr="78.jpg"/>
          <p:cNvPicPr/>
          <p:nvPr/>
        </p:nvPicPr>
        <p:blipFill>
          <a:blip r:embed="rId3"/>
          <a:stretch/>
        </p:blipFill>
        <p:spPr>
          <a:xfrm>
            <a:off x="7215120" y="3286080"/>
            <a:ext cx="1928880" cy="237636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7"/>
          <p:cNvSpPr/>
          <p:nvPr/>
        </p:nvSpPr>
        <p:spPr>
          <a:xfrm>
            <a:off x="0" y="200952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Знание составляется из мелких крупинок ежедневного опы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Placeholder 3" descr="111111.jpg"/>
          <p:cNvPicPr/>
          <p:nvPr/>
        </p:nvPicPr>
        <p:blipFill>
          <a:blip r:embed="rId1"/>
          <a:stretch/>
        </p:blipFill>
        <p:spPr>
          <a:xfrm>
            <a:off x="285840" y="857160"/>
            <a:ext cx="8858160" cy="328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26" name="Рисунок 4" descr="34.jpg"/>
          <p:cNvPicPr/>
          <p:nvPr/>
        </p:nvPicPr>
        <p:blipFill>
          <a:blip r:embed="rId2"/>
          <a:stretch/>
        </p:blipFill>
        <p:spPr>
          <a:xfrm>
            <a:off x="0" y="2000160"/>
            <a:ext cx="2552760" cy="377352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5"/>
          <p:cNvSpPr/>
          <p:nvPr/>
        </p:nvSpPr>
        <p:spPr>
          <a:xfrm flipV="1" rot="10800000">
            <a:off x="571680" y="1197720"/>
            <a:ext cx="8286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Если наши дети хотят быть людьми, в самом деле, образованными, они должны приобретать образование самостоятельными занятиям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6"/>
          <p:cNvSpPr/>
          <p:nvPr/>
        </p:nvSpPr>
        <p:spPr>
          <a:xfrm>
            <a:off x="2643120" y="45720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984807"/>
                </a:solidFill>
                <a:latin typeface="Arial"/>
              </a:rPr>
              <a:t>Н. Г. Черныше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Placeholder 6" descr="111111.jpg"/>
          <p:cNvPicPr/>
          <p:nvPr/>
        </p:nvPicPr>
        <p:blipFill>
          <a:blip r:embed="rId1"/>
          <a:stretch/>
        </p:blipFill>
        <p:spPr>
          <a:xfrm>
            <a:off x="291960" y="512640"/>
            <a:ext cx="7632720" cy="96789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-429120" y="0"/>
            <a:ext cx="407196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331" name="Рисунок 13" descr="106.png"/>
          <p:cNvPicPr/>
          <p:nvPr/>
        </p:nvPicPr>
        <p:blipFill>
          <a:blip r:embed="rId2"/>
          <a:stretch/>
        </p:blipFill>
        <p:spPr>
          <a:xfrm>
            <a:off x="7786800" y="3643200"/>
            <a:ext cx="1643040" cy="171468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6"/>
          <p:cNvSpPr/>
          <p:nvPr/>
        </p:nvSpPr>
        <p:spPr>
          <a:xfrm>
            <a:off x="642960" y="663480"/>
            <a:ext cx="685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Arial"/>
                <a:ea typeface="Times New Roman"/>
              </a:rPr>
              <a:t>«Фактически постепенно должна стираться грань между классными, домашними заданиями с переходом к непрерывной, индивидуальной самостоятельной учебной деятельности школьника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57320" y="2130120"/>
            <a:ext cx="56005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285720" y="3571560"/>
            <a:ext cx="46292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898989"/>
              </a:solidFill>
              <a:latin typeface="Segoe Script"/>
            </a:endParaRPr>
          </a:p>
        </p:txBody>
      </p:sp>
      <p:pic>
        <p:nvPicPr>
          <p:cNvPr id="335" name="Picture Placeholder 2" descr="111111.jpg"/>
          <p:cNvPicPr/>
          <p:nvPr/>
        </p:nvPicPr>
        <p:blipFill>
          <a:blip r:embed="rId1"/>
          <a:stretch/>
        </p:blipFill>
        <p:spPr>
          <a:xfrm>
            <a:off x="2646360" y="384120"/>
            <a:ext cx="6607080" cy="353556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1"/>
          <p:cNvSpPr/>
          <p:nvPr/>
        </p:nvSpPr>
        <p:spPr>
          <a:xfrm>
            <a:off x="2571840" y="1005480"/>
            <a:ext cx="628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Bookman Old Style"/>
                <a:ea typeface="Calibri"/>
              </a:rPr>
              <a:t>Назначение домашнего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Рисунок 7" descr="14.jpg"/>
          <p:cNvPicPr/>
          <p:nvPr/>
        </p:nvPicPr>
        <p:blipFill>
          <a:blip r:embed="rId2"/>
          <a:srcRect l="9788" t="0" r="0" b="18157"/>
          <a:stretch/>
        </p:blipFill>
        <p:spPr>
          <a:xfrm rot="20953200">
            <a:off x="412920" y="487440"/>
            <a:ext cx="1527120" cy="150336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3" descr="6.jpg"/>
          <p:cNvPicPr/>
          <p:nvPr/>
        </p:nvPicPr>
        <p:blipFill>
          <a:blip r:embed="rId3"/>
          <a:stretch/>
        </p:blipFill>
        <p:spPr>
          <a:xfrm>
            <a:off x="4714920" y="2571840"/>
            <a:ext cx="3832200" cy="2654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Placeholder 5" descr="1111.jpg"/>
          <p:cNvPicPr/>
          <p:nvPr/>
        </p:nvPicPr>
        <p:blipFill>
          <a:blip r:embed="rId1"/>
          <a:stretch/>
        </p:blipFill>
        <p:spPr>
          <a:xfrm>
            <a:off x="195120" y="762120"/>
            <a:ext cx="8759880" cy="463212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4" descr="34.jpg"/>
          <p:cNvPicPr/>
          <p:nvPr/>
        </p:nvPicPr>
        <p:blipFill>
          <a:blip r:embed="rId2"/>
          <a:stretch/>
        </p:blipFill>
        <p:spPr>
          <a:xfrm>
            <a:off x="0" y="1857240"/>
            <a:ext cx="2452680" cy="321480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7"/>
          <p:cNvSpPr/>
          <p:nvPr/>
        </p:nvSpPr>
        <p:spPr>
          <a:xfrm>
            <a:off x="1285920" y="1012680"/>
            <a:ext cx="757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Воспитание волевых усилий ребенка и самостоятельности, его усидчивости и  ответственности за выполняемое учебно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Placeholder 5" descr="1111.jpg"/>
          <p:cNvPicPr/>
          <p:nvPr/>
        </p:nvPicPr>
        <p:blipFill>
          <a:blip r:embed="rId1"/>
          <a:stretch/>
        </p:blipFill>
        <p:spPr>
          <a:xfrm>
            <a:off x="195120" y="828720"/>
            <a:ext cx="8759880" cy="463392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4" descr="34.jpg"/>
          <p:cNvPicPr/>
          <p:nvPr/>
        </p:nvPicPr>
        <p:blipFill>
          <a:blip r:embed="rId2"/>
          <a:stretch/>
        </p:blipFill>
        <p:spPr>
          <a:xfrm>
            <a:off x="0" y="-1071720"/>
            <a:ext cx="2452680" cy="321480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7"/>
          <p:cNvSpPr/>
          <p:nvPr/>
        </p:nvSpPr>
        <p:spPr>
          <a:xfrm>
            <a:off x="1785960" y="1358640"/>
            <a:ext cx="7072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Овладение навыками учебного труда, выраженное в различных способах учебной рабо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Формирование умения добывать  необходимую информацию из различных  справочников, пособий, слова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Placeholder 5" descr="1111.jpg"/>
          <p:cNvPicPr/>
          <p:nvPr/>
        </p:nvPicPr>
        <p:blipFill>
          <a:blip r:embed="rId1"/>
          <a:stretch/>
        </p:blipFill>
        <p:spPr>
          <a:xfrm>
            <a:off x="195120" y="762120"/>
            <a:ext cx="8759880" cy="463212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4" descr="34.jpg"/>
          <p:cNvPicPr/>
          <p:nvPr/>
        </p:nvPicPr>
        <p:blipFill>
          <a:blip r:embed="rId2"/>
          <a:stretch/>
        </p:blipFill>
        <p:spPr>
          <a:xfrm>
            <a:off x="0" y="1000080"/>
            <a:ext cx="2452680" cy="321480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7"/>
          <p:cNvSpPr/>
          <p:nvPr/>
        </p:nvSpPr>
        <p:spPr>
          <a:xfrm>
            <a:off x="1500120" y="1015200"/>
            <a:ext cx="7358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Формирование исследовательских  умений ученика (сопоставление, сравнение, предположение, построение гипотезы и т.д.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Рисунок 4" descr="34.jpg"/>
          <p:cNvPicPr/>
          <p:nvPr/>
        </p:nvPicPr>
        <p:blipFill>
          <a:blip r:embed="rId1"/>
          <a:stretch/>
        </p:blipFill>
        <p:spPr>
          <a:xfrm>
            <a:off x="0" y="2000160"/>
            <a:ext cx="2833560" cy="3714840"/>
          </a:xfrm>
          <a:prstGeom prst="rect">
            <a:avLst/>
          </a:prstGeom>
          <a:ln w="0">
            <a:noFill/>
          </a:ln>
        </p:spPr>
      </p:pic>
      <p:sp>
        <p:nvSpPr>
          <p:cNvPr id="349" name="Прямоугольник 4"/>
          <p:cNvSpPr/>
          <p:nvPr/>
        </p:nvSpPr>
        <p:spPr>
          <a:xfrm>
            <a:off x="785880" y="428760"/>
            <a:ext cx="7858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Все эти проблемы решаемы, необходимо только внимание и терпение взрослы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2"/>
          <a:stretch/>
        </p:blipFill>
        <p:spPr>
          <a:xfrm>
            <a:off x="2643120" y="2357280"/>
            <a:ext cx="5370480" cy="2935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09:53:55Z</dcterms:created>
  <dc:creator>Юлия Николаевна</dc:creator>
  <dc:description>Корпорация Майкрософт</dc:description>
  <cp:keywords>Фотоальбом</cp:keywords>
  <dc:language>en-US</dc:language>
  <cp:lastModifiedBy>kirill</cp:lastModifiedBy>
  <dcterms:modified xsi:type="dcterms:W3CDTF">2014-01-26T16:14:35Z</dcterms:modified>
  <cp:revision>96</cp:revision>
  <dc:subject>Фотоальбом</dc:subject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54091049</vt:lpwstr>
  </property>
</Properties>
</file>