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690-82FC-424F-B73D-2D6A524E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9EC-C5C6-43C8-A968-F4987EE4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6AA-3C22-4270-B418-D69DA6F8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989-3C97-4D5F-A37F-6C0050F9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509-20AD-482C-8574-10B2FA9E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290-7773-4E31-B050-4E5B2D78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04C-C447-4B6C-BAC7-337D2405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0D3-963C-405E-AE67-1F5798AA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A4B-D06D-4AE9-ADB7-2AEB896F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84E-AF4D-4E5E-BCD4-415A54A0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933-AD42-4F86-94B6-7DE373FC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4725-B044-4733-8E3F-662B37C1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ADBC-FB69-410A-A59F-940D386B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934F-77C5-48D4-815F-E0CFA003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36C0-C1C8-49C1-844D-F94CF551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92EE-97D0-412F-A32B-3639049F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89B-FAE8-4F77-9800-D612D851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B467-D0AC-4C91-9100-DC01ACD7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9552-5BE2-43F1-A80A-BCFF4B67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39AD-EF88-464F-B55B-434E0667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D4F8-7CA5-4B94-B331-B8D47EC5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B32B-6A68-4BC1-9E47-8DC52709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AE17-9D2C-4677-AA8A-CF2A726B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918E-25C3-415E-9351-2DB841BD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7CA7-FD89-4DD8-8991-9F3AD76743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8E0A-C219-4C60-947F-A4C515D73B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90;&#1088;&#1086;&#1083;&#1100;%20&#1079;&#1072;%20&#1074;&#1099;&#1087;&#1086;&#1083;&#1085;&#1077;&#1085;&#1080;&#1077;&#1084;%20&#1096;&#1082;&#1086;&#1083;&#1100;&#1085;&#1080;&#1082;&#1086;&#1084;%20&#1076;&#1086;&#1084;&#1072;&#1096;&#1085;&#1080;&#1093;%20&#1079;&#1072;&#1076;&#1072;&#1085;&#1080;&#1081;.doc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57360" y="1785960"/>
            <a:ext cx="578628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Segoe Script"/>
              </a:rPr>
              <a:t>Роль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Segoe Script"/>
              </a:rPr>
              <a:t>домашнего задания в самообразовании школьника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063680" y="5297040"/>
            <a:ext cx="50576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9900"/>
              </a:solidFill>
              <a:latin typeface="Segoe Script"/>
            </a:endParaRPr>
          </a:p>
        </p:txBody>
      </p:sp>
      <p:pic>
        <p:nvPicPr>
          <p:cNvPr id="316" name="Прямоугольник 7" descr=""/>
          <p:cNvPicPr/>
          <p:nvPr/>
        </p:nvPicPr>
        <p:blipFill>
          <a:blip r:embed="rId1"/>
          <a:stretch/>
        </p:blipFill>
        <p:spPr>
          <a:xfrm>
            <a:off x="-219240" y="-291960"/>
            <a:ext cx="2919600" cy="3998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5857920" y="0"/>
            <a:ext cx="2786040" cy="261792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5"/>
          <p:cNvSpPr/>
          <p:nvPr/>
        </p:nvSpPr>
        <p:spPr>
          <a:xfrm>
            <a:off x="3132000" y="4508640"/>
            <a:ext cx="60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Segoe Script"/>
                <a:ea typeface="Times New Roman"/>
              </a:rPr>
              <a:t>учитель начальных клас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Segoe Script"/>
                <a:ea typeface="Times New Roman"/>
              </a:rPr>
              <a:t>Тогобецкая Екатерин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Placeholder 5" descr="1111.jpg"/>
          <p:cNvPicPr/>
          <p:nvPr/>
        </p:nvPicPr>
        <p:blipFill>
          <a:blip r:embed="rId1"/>
          <a:stretch/>
        </p:blipFill>
        <p:spPr>
          <a:xfrm>
            <a:off x="122400" y="407880"/>
            <a:ext cx="8332560" cy="48960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4" descr="34.jpg"/>
          <p:cNvPicPr/>
          <p:nvPr/>
        </p:nvPicPr>
        <p:blipFill>
          <a:blip r:embed="rId2"/>
          <a:stretch/>
        </p:blipFill>
        <p:spPr>
          <a:xfrm>
            <a:off x="7072200" y="364320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3"/>
          <p:cNvSpPr/>
          <p:nvPr/>
        </p:nvSpPr>
        <p:spPr>
          <a:xfrm>
            <a:off x="285840" y="734400"/>
            <a:ext cx="81439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Нужно помогать ребенку в учебе, чтобы он понял все детали трудного задания и сам мог выполнить аналогичное, подробно объясняя сво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Чаще тренировать его память, внимание  и мышления используя для этого развивающие игры. Разгадывайте кроссворды, головоломки, ш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Приучайте ребенка к режиму дня, тем самым, развивая его  волю и собр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Помогайте ему стремиться совершенствовать свои способности не только в учебе, но и в других делах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Placeholder 5" descr="111111.jpg"/>
          <p:cNvPicPr/>
          <p:nvPr/>
        </p:nvPicPr>
        <p:blipFill>
          <a:blip r:embed="rId1"/>
          <a:stretch/>
        </p:blipFill>
        <p:spPr>
          <a:xfrm>
            <a:off x="128520" y="828720"/>
            <a:ext cx="8996400" cy="36273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Рисунок 4" descr="34.jpg"/>
          <p:cNvPicPr/>
          <p:nvPr/>
        </p:nvPicPr>
        <p:blipFill>
          <a:blip r:embed="rId2"/>
          <a:stretch/>
        </p:blipFill>
        <p:spPr>
          <a:xfrm>
            <a:off x="428760" y="3071880"/>
            <a:ext cx="2214360" cy="32734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786120"/>
            <a:ext cx="1928880" cy="23767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7"/>
          <p:cNvSpPr/>
          <p:nvPr/>
        </p:nvSpPr>
        <p:spPr>
          <a:xfrm>
            <a:off x="714240" y="1428840"/>
            <a:ext cx="707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истемная работа ученика дома приводит к тому, что процесс учения его не отягощает, он получает навыки поиска информации, учится выполнять  работу  качественно и в с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0200" y="428760"/>
            <a:ext cx="68868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Segoe Script"/>
                <a:hlinkClick r:id="rId1"/>
              </a:rPr>
              <a:t>Как помочь ребенку в подготовке домашнего задания?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60" name="Рисунок 5" descr="12.jpg"/>
          <p:cNvPicPr/>
          <p:nvPr/>
        </p:nvPicPr>
        <p:blipFill>
          <a:blip r:embed="rId2"/>
          <a:stretch/>
        </p:blipFill>
        <p:spPr>
          <a:xfrm>
            <a:off x="6786720" y="2643120"/>
            <a:ext cx="1595160" cy="3357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6" descr="61.jpg"/>
          <p:cNvPicPr/>
          <p:nvPr/>
        </p:nvPicPr>
        <p:blipFill>
          <a:blip r:embed="rId3"/>
          <a:stretch/>
        </p:blipFill>
        <p:spPr>
          <a:xfrm>
            <a:off x="3429000" y="2714760"/>
            <a:ext cx="2709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848720" cy="545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«Как готовить домашние задания»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работать на уроке: внимательно слушать и отвечать на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непонятно, не стесняться задать вопрос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и подробно записывать задания по каждому предмет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пользоваться справочниками и словарями, чтобы уметь выяснять значение незнакомых слов и выражен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находить интересующую нужную информацию с  помощью компьютера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-2916360" y="888840"/>
            <a:ext cx="1800360" cy="4114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281800" cy="531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ый материал урока надо повторить в тот же день, чтобы сразу закрепить его и запомн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я домашнее задание, надо не просто думать, что надо сделать, а еще и решать, с помощью каких средств и приемов этого можно добить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есняться обращаться за помощью к взрослым и одноклассника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ыполнением домашней работы нужно убедиться, что в дневнике записаны все зада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решить, в какой последовательности лучше выполнять задания и сколько времени понадобится на каждое из ни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исьменном столе должно лежать только то, что необходимо для выполнения одного задания. </a:t>
            </a: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-541440" y="888840"/>
            <a:ext cx="217440" cy="4114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066160" cy="531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его завершения со стола убираются уже использованные материалы, и кладутся те учебные принадлежности, которые необходимы для выполнения задания по следующему предмет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приготовления домашнего задания необходимо делать  перерыв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я заданный материал, сначала надо его понять, а уже потом запомнить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-1981080" y="888840"/>
            <a:ext cx="1512720" cy="4114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домашнего задания на сегодняшний день остаётся весьма важной и актуальной буквально по всем школьным предмета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ся к понятию “домашнее задание” или “домашняя учебная работа”, которое имеет следующее значение:  это составная часть процесса обучения, заключающаяся в выполнении учащимися по заданию учителя самостоятельной учебной и практической работы после классных заняти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показывает, что при выполнении домашних заданий целесообразно использовать содружество и сотворчество учащегося, его родителей, членов семьи, друзей, одноклассников, что способствует творческой обстановке, увлечённости сотрудничества, а главное повышению мотивации и развитию интереса к учеб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 домашнего задания в 3-4 классах  должна занимать до 2 часов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-3637080" y="888840"/>
            <a:ext cx="287280" cy="4114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785960" y="500040"/>
            <a:ext cx="714384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Segoe"/>
              </a:rPr>
              <a:t>	</a:t>
            </a:r>
            <a:r>
              <a:rPr b="1" i="1" lang="ru-RU" sz="6600" spc="-1" strike="noStrike">
                <a:solidFill>
                  <a:srgbClr val="c00000"/>
                </a:solidFill>
                <a:latin typeface="Segoe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500720" y="3500280"/>
            <a:ext cx="22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4643280" y="4357800"/>
            <a:ext cx="27147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Segoe Script"/>
              </a:rPr>
              <a:t>Д.И Писарев</a:t>
            </a:r>
            <a:endParaRPr b="0" lang="en-US" sz="44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20" name="Picture Placeholder 5" descr="111111.jpg"/>
          <p:cNvPicPr/>
          <p:nvPr/>
        </p:nvPicPr>
        <p:blipFill>
          <a:blip r:embed="rId1"/>
          <a:stretch/>
        </p:blipFill>
        <p:spPr>
          <a:xfrm>
            <a:off x="-219240" y="974880"/>
            <a:ext cx="9582480" cy="383508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4" descr="34.jpg"/>
          <p:cNvPicPr/>
          <p:nvPr/>
        </p:nvPicPr>
        <p:blipFill>
          <a:blip r:embed="rId2"/>
          <a:stretch/>
        </p:blipFill>
        <p:spPr>
          <a:xfrm>
            <a:off x="357120" y="-1000080"/>
            <a:ext cx="2214720" cy="32734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286080"/>
            <a:ext cx="1928880" cy="23763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20095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ние составляется из мелких крупинок ежедневного опы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Placeholder 3" descr="111111.jpg"/>
          <p:cNvPicPr/>
          <p:nvPr/>
        </p:nvPicPr>
        <p:blipFill>
          <a:blip r:embed="rId1"/>
          <a:stretch/>
        </p:blipFill>
        <p:spPr>
          <a:xfrm>
            <a:off x="285840" y="857160"/>
            <a:ext cx="88581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6" name="Рисунок 4" descr="34.jpg"/>
          <p:cNvPicPr/>
          <p:nvPr/>
        </p:nvPicPr>
        <p:blipFill>
          <a:blip r:embed="rId2"/>
          <a:stretch/>
        </p:blipFill>
        <p:spPr>
          <a:xfrm>
            <a:off x="0" y="2000160"/>
            <a:ext cx="2552760" cy="37735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 flipV="1" rot="10800000">
            <a:off x="571680" y="1197720"/>
            <a:ext cx="828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Если наши дети хотят быть людьми, в самом деле, образованными, они должны приобретать образование самостоятельными занятия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2643120" y="4572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84807"/>
                </a:solidFill>
                <a:latin typeface="Arial"/>
              </a:rPr>
              <a:t>Н. Г. Черныш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Placeholder 6" descr="111111.jpg"/>
          <p:cNvPicPr/>
          <p:nvPr/>
        </p:nvPicPr>
        <p:blipFill>
          <a:blip r:embed="rId1"/>
          <a:stretch/>
        </p:blipFill>
        <p:spPr>
          <a:xfrm>
            <a:off x="291960" y="512640"/>
            <a:ext cx="7632720" cy="96789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-429120" y="0"/>
            <a:ext cx="407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31" name="Рисунок 13" descr="106.png"/>
          <p:cNvPicPr/>
          <p:nvPr/>
        </p:nvPicPr>
        <p:blipFill>
          <a:blip r:embed="rId2"/>
          <a:stretch/>
        </p:blipFill>
        <p:spPr>
          <a:xfrm>
            <a:off x="7786800" y="3643200"/>
            <a:ext cx="1643040" cy="17146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642960" y="66348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  <a:ea typeface="Times New Roman"/>
              </a:rPr>
              <a:t>«Фактически постепенно должна стираться грань между классными, домашними заданиями с переходом к непрерывной, индивидуальной самостоятельной учебной деятельности школьник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57320" y="2130120"/>
            <a:ext cx="56005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285720" y="3571560"/>
            <a:ext cx="46292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Segoe Script"/>
            </a:endParaRPr>
          </a:p>
        </p:txBody>
      </p:sp>
      <p:pic>
        <p:nvPicPr>
          <p:cNvPr id="335" name="Picture Placeholder 2" descr="111111.jpg"/>
          <p:cNvPicPr/>
          <p:nvPr/>
        </p:nvPicPr>
        <p:blipFill>
          <a:blip r:embed="rId1"/>
          <a:stretch/>
        </p:blipFill>
        <p:spPr>
          <a:xfrm>
            <a:off x="2646360" y="384120"/>
            <a:ext cx="6607080" cy="3535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"/>
          <p:cNvSpPr/>
          <p:nvPr/>
        </p:nvSpPr>
        <p:spPr>
          <a:xfrm>
            <a:off x="2571840" y="1005480"/>
            <a:ext cx="62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  <a:ea typeface="Calibri"/>
              </a:rPr>
              <a:t>Назначение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7" descr="14.jpg"/>
          <p:cNvPicPr/>
          <p:nvPr/>
        </p:nvPicPr>
        <p:blipFill>
          <a:blip r:embed="rId2"/>
          <a:srcRect l="9788" t="0" r="0" b="18157"/>
          <a:stretch/>
        </p:blipFill>
        <p:spPr>
          <a:xfrm rot="20953200">
            <a:off x="412920" y="487440"/>
            <a:ext cx="1527120" cy="15033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" descr="6.jpg"/>
          <p:cNvPicPr/>
          <p:nvPr/>
        </p:nvPicPr>
        <p:blipFill>
          <a:blip r:embed="rId3"/>
          <a:stretch/>
        </p:blipFill>
        <p:spPr>
          <a:xfrm>
            <a:off x="4714920" y="2571840"/>
            <a:ext cx="383220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762120"/>
            <a:ext cx="8759880" cy="463212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" descr="34.jpg"/>
          <p:cNvPicPr/>
          <p:nvPr/>
        </p:nvPicPr>
        <p:blipFill>
          <a:blip r:embed="rId2"/>
          <a:stretch/>
        </p:blipFill>
        <p:spPr>
          <a:xfrm>
            <a:off x="0" y="185724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1285920" y="1012680"/>
            <a:ext cx="75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Воспитание волевых усилий ребенка и самостоятельности, его усидчивости и  ответственности за выполняемое учебно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828720"/>
            <a:ext cx="8759880" cy="46339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34.jpg"/>
          <p:cNvPicPr/>
          <p:nvPr/>
        </p:nvPicPr>
        <p:blipFill>
          <a:blip r:embed="rId2"/>
          <a:stretch/>
        </p:blipFill>
        <p:spPr>
          <a:xfrm>
            <a:off x="0" y="-107172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7"/>
          <p:cNvSpPr/>
          <p:nvPr/>
        </p:nvSpPr>
        <p:spPr>
          <a:xfrm>
            <a:off x="1785960" y="1358640"/>
            <a:ext cx="7072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владение навыками учебного труда, выраженное в различных способах учебной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Формирование умения добывать  необходимую информацию из различных  справочников, пособий, слов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762120"/>
            <a:ext cx="8759880" cy="46321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34.jpg"/>
          <p:cNvPicPr/>
          <p:nvPr/>
        </p:nvPicPr>
        <p:blipFill>
          <a:blip r:embed="rId2"/>
          <a:stretch/>
        </p:blipFill>
        <p:spPr>
          <a:xfrm>
            <a:off x="0" y="100008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7"/>
          <p:cNvSpPr/>
          <p:nvPr/>
        </p:nvSpPr>
        <p:spPr>
          <a:xfrm>
            <a:off x="1500120" y="101520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Формирование исследовательских  умений ученика (сопоставление, сравнение, предположение, построение гипотезы и т.д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4" descr="34.jpg"/>
          <p:cNvPicPr/>
          <p:nvPr/>
        </p:nvPicPr>
        <p:blipFill>
          <a:blip r:embed="rId1"/>
          <a:stretch/>
        </p:blipFill>
        <p:spPr>
          <a:xfrm>
            <a:off x="0" y="2000160"/>
            <a:ext cx="2833560" cy="37148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4"/>
          <p:cNvSpPr/>
          <p:nvPr/>
        </p:nvSpPr>
        <p:spPr>
          <a:xfrm>
            <a:off x="785880" y="428760"/>
            <a:ext cx="785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Все эти проблемы решаемы, необходимо только внимание и терпение взросл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2643120" y="2357280"/>
            <a:ext cx="5370480" cy="293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9:53:55Z</dcterms:created>
  <dc:creator>Юлия Николаевна</dc:creator>
  <dc:description>Корпорация Майкрософт</dc:description>
  <cp:keywords>Фотоальбом</cp:keywords>
  <dc:language>en-US</dc:language>
  <cp:lastModifiedBy>kirill</cp:lastModifiedBy>
  <dcterms:modified xsi:type="dcterms:W3CDTF">2014-01-26T16:14:35Z</dcterms:modified>
  <cp:revision>96</cp:revision>
  <dc:subject>Фотоальбом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