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6B65-73D9-429B-B5B5-1DFDDD96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7B18-7A92-421A-B1B3-3D4BE979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DAB6-36BA-4A06-807B-806A433E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C64-28AE-4FFE-AB4D-AC09DD87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A82-E8D8-4C95-BDEE-95AD1D12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29A2-937D-4D52-86C6-7B4025C2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63B-7E8C-4A3A-BEBC-FC186115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C4A-D8BC-4B2C-B1E8-E3843E66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E427-0891-4663-8183-CC9677A1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BD2-563B-435D-B4CF-E0006BF3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A6F1-3A1A-4F33-8FB4-C084E52F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A995-F024-48BA-A9E1-FF522A2D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805A-E3AC-443B-BDB0-B7703DB6AB1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редневековые книг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557172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обретение книгопечат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002527"/>
          <p:cNvPicPr/>
          <p:nvPr/>
        </p:nvPicPr>
        <p:blipFill>
          <a:blip r:embed="rId1"/>
          <a:stretch/>
        </p:blipFill>
        <p:spPr>
          <a:xfrm>
            <a:off x="2340000" y="1413000"/>
            <a:ext cx="4467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ечатная мастерская         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редневековая график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rcRect l="1036" t="1490" r="1058" b="1714"/>
          <a:stretch/>
        </p:blipFill>
        <p:spPr>
          <a:xfrm>
            <a:off x="900000" y="1413000"/>
            <a:ext cx="741708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траница печатной Библ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Последствия изобретения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книгопечат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ссовое тиражирование книг, которые стали более дешевыми и доступны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пространению грамотности не только среди духовенства и высших сословий, но и среди простого нар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ния, накопленные людьми, стали теперь сохраняться точнее и распространяться быстрее; доступ к ним получило гораздо большее число люд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рное развитие науки, образования и литера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скусство рукописной книг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3280" y="1483920"/>
            <a:ext cx="40435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больших монастырях были созданы мастерские, в которых монахи переписывали книг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писка книг, особенно религиозных считалась Богоугодным дел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004683"/>
          <p:cNvPicPr/>
          <p:nvPr/>
        </p:nvPicPr>
        <p:blipFill>
          <a:blip r:embed="rId1"/>
          <a:stretch/>
        </p:blipFill>
        <p:spPr>
          <a:xfrm>
            <a:off x="611280" y="1125360"/>
            <a:ext cx="37036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85840" y="549000"/>
            <a:ext cx="3900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ниг было очень мало и стоили они доро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шь самые богатые люди могли их приобрет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роли и знатные люди дарили их друг другу в самых торжественных случа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WordArt 14"/>
          <p:cNvSpPr txBox="1"/>
          <p:nvPr/>
        </p:nvSpPr>
        <p:spPr>
          <a:xfrm>
            <a:off x="928800" y="1214280"/>
            <a:ext cx="2714400" cy="442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атериал для письм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18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00"/>
                </a:solidFill>
                <a:latin typeface="Tahoma"/>
              </a:rPr>
              <a:t>Пергамент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- телячья или баранья кожа, выделанная особым образом и применявшаяся для письма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азван по древнему городу Пергам в Малой Азии, где впервые начал изготовляться во II в. до н.э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11" descr="Стихарь минейный"/>
          <p:cNvPicPr/>
          <p:nvPr/>
        </p:nvPicPr>
        <p:blipFill>
          <a:blip r:embed="rId1"/>
          <a:stretch/>
        </p:blipFill>
        <p:spPr>
          <a:xfrm>
            <a:off x="4643280" y="1125360"/>
            <a:ext cx="41468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крашение рукописных книг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9311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д одной рукописной книгой трудилось много люде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212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и писали текст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каллиграфическим подчерк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212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угие затейливо украшали заглавные буквы в начале строки –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инициал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212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тьи делали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заставки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орнамен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212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твертые рисовали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миниатюр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крашение рукописной книг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002164"/>
          <p:cNvPicPr/>
          <p:nvPr/>
        </p:nvPicPr>
        <p:blipFill>
          <a:blip r:embed="rId1"/>
          <a:stretch/>
        </p:blipFill>
        <p:spPr>
          <a:xfrm>
            <a:off x="2556000" y="1125360"/>
            <a:ext cx="3736800" cy="5732640"/>
          </a:xfrm>
          <a:prstGeom prst="rect">
            <a:avLst/>
          </a:prstGeom>
          <a:ln w="0">
            <a:noFill/>
          </a:ln>
        </p:spPr>
      </p:pic>
      <p:sp>
        <p:nvSpPr>
          <p:cNvPr id="56" name="Line 7"/>
          <p:cNvSpPr/>
          <p:nvPr/>
        </p:nvSpPr>
        <p:spPr>
          <a:xfrm flipH="1">
            <a:off x="5292720" y="4797360"/>
            <a:ext cx="216072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093080" y="5013360"/>
            <a:ext cx="14382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лб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Line 10"/>
          <p:cNvSpPr/>
          <p:nvPr/>
        </p:nvSpPr>
        <p:spPr>
          <a:xfrm flipH="1">
            <a:off x="6012000" y="2205000"/>
            <a:ext cx="172872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7020000" y="2349360"/>
            <a:ext cx="187164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ставка и орнаме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50920" y="4724280"/>
            <a:ext cx="16556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ици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1332000" y="4508640"/>
            <a:ext cx="201456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1547640" y="2349360"/>
            <a:ext cx="201456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24000" y="2492280"/>
            <a:ext cx="18000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ниатю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95640" y="765000"/>
            <a:ext cx="48960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Инициал (буквица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украшенная заглавная (начальная) буква какого-либо раздела в тексте рукописи или печатной кни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4149720"/>
            <a:ext cx="40384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8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Миниатю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произведение изобразительного искусства, отличающееся небольшими размерами и особой тонкостью художественных прие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ин 2"/>
          <p:cNvPicPr/>
          <p:nvPr/>
        </p:nvPicPr>
        <p:blipFill>
          <a:blip r:embed="rId1"/>
          <a:srcRect l="0" t="0" r="0" b="8989"/>
          <a:stretch/>
        </p:blipFill>
        <p:spPr>
          <a:xfrm>
            <a:off x="468360" y="333360"/>
            <a:ext cx="2763720" cy="3382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001764"/>
          <p:cNvPicPr/>
          <p:nvPr/>
        </p:nvPicPr>
        <p:blipFill>
          <a:blip r:embed="rId2"/>
          <a:stretch/>
        </p:blipFill>
        <p:spPr>
          <a:xfrm>
            <a:off x="4500720" y="3429000"/>
            <a:ext cx="439236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0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оганн Гутенберг. </a:t>
            </a:r>
            <a:br>
              <a:rPr sz="40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Работа неизвестного художника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XVI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в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00720" y="1557360"/>
            <a:ext cx="4402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. Гутенберг изобрел книгопечатание. Из металла он отливал отдельные литеры (буквы), из которых затем составлял строки и страницы набора и делал оттиск на бума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1450 г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первая печатная кни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2189" t="1740" r="2776" b="2008"/>
          <a:stretch/>
        </p:blipFill>
        <p:spPr>
          <a:xfrm>
            <a:off x="468360" y="1484280"/>
            <a:ext cx="3819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ите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уттенберг догадался распилить доску на маленькие кусочки, на каждом из которых помещалась одна буква – лите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перь можно было не вырезать каждую новую страницу целиком, а составлять разные страницы из одних и тех же лите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3909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7:24:20Z</dcterms:created>
  <dc:creator>2</dc:creator>
  <dc:description/>
  <dc:language>en-US</dc:language>
  <cp:lastModifiedBy>Нинель</cp:lastModifiedBy>
  <dcterms:modified xsi:type="dcterms:W3CDTF">2013-11-16T12:28:18Z</dcterms:modified>
  <cp:revision>17</cp:revision>
  <dc:subject/>
  <dc:title>Слайд 1</dc:title>
</cp:coreProperties>
</file>