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F6D-D5AA-4EB7-8ECD-6D28AF89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81C-2969-4390-BAB5-4E6E6C7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071-1A27-4003-9658-C147963A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76F-8EB4-43FF-90B9-E0C4BDC6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361-97C8-4888-9C77-2E08BF60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3B7-F953-4391-ABC3-A093275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B2D-5AA5-479F-B7FE-C05C760F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659-3757-4D45-A039-5C9B5FA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E90-BC1F-4EA7-8B37-A228E4E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418-1C71-4E33-A6BE-34E6076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03D-0097-4644-9D37-F8B0A83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079-3D7E-4150-A5C4-B3B7D63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296-3784-4CA1-811D-D2C118B05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андр Сергеевич 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отворение «Д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 Соломахина Я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 создания стихотворени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о стихотворение написано в 1829 году после посещения казачьих стани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192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матическая принадлежность(пейзаж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ихотворный размер ( хорей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зыковые 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версия : Приготовь же, Дон заве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втор : Я привез тебе покл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лицетворение Реки знают тихий Дон;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451008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Блеща средь полей широких,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Вон он льется!.. Здравствуй, Дон!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От сынов твоих далеких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Я привез тебе покл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6400" y="4539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Как прославленного брата,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Реки знают тихий Дон;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От Аракса и Евфрата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Я привез тебе покл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Отдохнув от злой погони,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Чуя родину свою,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Пьют уже донские кони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Арпачайскую струю.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Приготовь же, Дон заветный,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Для наездников лихих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Сок кипучий, искрометный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Виноградников т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11-22T16:59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