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8EA-A558-4C3C-ADFD-E93EF7DB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CD7-750E-483D-BA9C-7304B156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500-5D77-4237-AE80-264057EA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266-DDB9-438E-92FD-2E5D3B07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CA6-C831-4C22-A44F-B4BC777F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682-DA00-487B-922B-4A3EB7D3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2D1-8997-41F3-BB79-BC5793B8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D62-E57C-402E-B9FA-82FF2002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FD6-CBF0-4066-9931-15C5EF23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86D-6A43-4135-8751-3084222C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D8C-41E3-4705-A94B-10B768D4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27E-BA97-410B-936A-3036251F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4D66-F000-4057-8228-9A51D259E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ександр Сергеевич Пушк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ихотворение «Д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ла Соломахина Я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5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я  создания стихотворени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Это стихотворение написано в 1829 году после посещения казачьих стани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plus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1920" y="17524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ематическая принадлежность(пейзаж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тихотворный размер ( хорей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Языковые сред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нверсия : Приготовь же, Дон завет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втор : Я привез тебе покл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лицетворение Реки знают тихий Дон;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mb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81080" y="4510080"/>
            <a:ext cx="49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Блеща средь полей широких,</a:t>
            </a: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Вон он льется!.. Здравствуй, Дон!</a:t>
            </a: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От сынов твоих далеких</a:t>
            </a: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Я привез тебе покло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16400" y="4539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Как прославленного брата,</a:t>
            </a:r>
            <a:br>
              <a:rPr sz="2400"/>
            </a:b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Реки знают тихий Дон;</a:t>
            </a:r>
            <a:br>
              <a:rPr sz="2400"/>
            </a:b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От Аракса и Евфрата</a:t>
            </a:r>
            <a:br>
              <a:rPr sz="2400"/>
            </a:b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Я привез тебе покло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2408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Отдохнув от злой погони,</a:t>
            </a:r>
            <a:br>
              <a:rPr sz="2000"/>
            </a:b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Чуя родину свою,</a:t>
            </a:r>
            <a:br>
              <a:rPr sz="2000"/>
            </a:b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Пьют уже донские кони</a:t>
            </a:r>
            <a:br>
              <a:rPr sz="2000"/>
            </a:b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Арпачайскую струю.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Приготовь же, Дон заветный,</a:t>
            </a: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Для наездников лихих</a:t>
            </a: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Сок кипучий, искрометный</a:t>
            </a:r>
            <a:br>
              <a:rPr sz="2800"/>
            </a:b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Виноградников т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3-11-22T16:59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