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D7B-4AA8-4C11-83BC-8A564CDE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678-B141-4474-81AF-C2FC3B5E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6A5-EE6A-474B-855A-92A9C6D4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36D-2232-41D2-8520-94FC498D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887-C1AB-46E0-92C6-6C3FB3BB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D79-755F-45EB-851E-39923882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532-85C1-487D-A91D-EF19AA0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E01-90C5-4F23-847D-3972167B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BB5-9002-4B08-AFDC-92EE1AD7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F19-A9CF-4A20-A58E-D79B1257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8A9-D61D-4FF4-8939-F594AFC5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E2D-E5A9-495B-8560-344D58F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1F1C-1648-435B-B33A-814F2D05F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ТЕАТР КУК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59280" y="2852640"/>
            <a:ext cx="3889440" cy="329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3889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746280"/>
            <a:ext cx="9144000" cy="53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83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67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Государственный академ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Центральный театр кук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мени С.В. Образцова!</a:t>
            </a:r>
            <a:br>
              <a:rPr sz="36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атр, созданный Сергеем Владимировичем Образцовым, стал одной из достопримечательностей нашей столицы. Сегодня ГАЦТК - мировой кукольный центр с двумя зданиями на Садовом кольце, двумя сценами, уникальной специализированной библиотекой и одним из крупнейших в мире Музеев театральных кук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793800"/>
            <a:ext cx="69120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2661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457200"/>
            <a:ext cx="6120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03640" y="1052640"/>
            <a:ext cx="3600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508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770040"/>
            <a:ext cx="6624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20:56:08Z</dcterms:created>
  <dc:creator>Ирина</dc:creator>
  <dc:description/>
  <dc:language>en-US</dc:language>
  <cp:lastModifiedBy>Ирина</cp:lastModifiedBy>
  <dcterms:modified xsi:type="dcterms:W3CDTF">2012-01-27T21:04:10Z</dcterms:modified>
  <cp:revision>2</cp:revision>
  <dc:subject/>
  <dc:title>ТЕАТР КУКОЛ</dc:title>
</cp:coreProperties>
</file>