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26A7-1964-4A9B-877D-02196F77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FC54-E7A4-4E11-B9B0-978F96BF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B645-F3E8-456F-8574-608CBCD9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2D9C-4E7A-4963-95FC-3484AD17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6E80-3F15-4F68-A6C5-88857520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6267-37F7-47F8-A9EC-859982FA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530B-E585-4341-86A1-A1B7CE1D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4CF0-BF16-4365-90ED-BFE523F2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BDEB-F10B-4E55-93BC-F58956D3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7B95-586A-45C9-9C65-F6F96F20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4D8D-1C0D-4C37-9996-622B60D0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EB9D-DE98-4291-89F1-E9D345C8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B9AD-DCE6-459E-BC6B-502A991A1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ТЕАТР КУКО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59280" y="2852640"/>
            <a:ext cx="3889440" cy="3295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388944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746280"/>
            <a:ext cx="9144000" cy="53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883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6676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Государственный академ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Центральный театр кук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имени С.В. Образцова!</a:t>
            </a:r>
            <a:br>
              <a:rPr sz="36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атр, созданный Сергеем Владимировичем Образцовым, стал одной из достопримечательностей нашей столицы. Сегодня ГАЦТК - мировой кукольный центр с двумя зданиями на Садовом кольце, двумя сценами, уникальной специализированной библиотекой и одним из крупнейших в мире Музеев театральных кук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32000" y="793800"/>
            <a:ext cx="69120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62661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16000" y="457200"/>
            <a:ext cx="61200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176720" cy="489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03640" y="1052640"/>
            <a:ext cx="3600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476280"/>
            <a:ext cx="5508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42920" y="770040"/>
            <a:ext cx="662472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20:56:08Z</dcterms:created>
  <dc:creator>Ирина</dc:creator>
  <dc:description/>
  <dc:language>en-US</dc:language>
  <cp:lastModifiedBy>Ирина</cp:lastModifiedBy>
  <dcterms:modified xsi:type="dcterms:W3CDTF">2012-01-27T21:04:10Z</dcterms:modified>
  <cp:revision>2</cp:revision>
  <dc:subject/>
  <dc:title>ТЕАТР КУКОЛ</dc:title>
</cp:coreProperties>
</file>