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A17-CFAA-4A08-AEEB-6E747C9D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B66-ECAC-4F44-B94C-B91C819D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86168-1ACA-40A8-9418-DC5FA7D9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FD65E-F1EE-4223-AC09-B663086E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DF26A-29A7-4A45-A02E-CA91F3E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87F67-5642-429E-B752-3A3CF984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B4630-815F-4F86-8A2A-6AF217F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94809-228C-4D56-8644-DF83EEC5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5C25C-9A0C-48EF-BF91-40221DFE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F42D3-F776-44B8-BEA8-094E614C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8C697-BF9F-446C-AF4A-0B2F3678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DE948-B044-4BE9-902E-1D2CFAAB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299-DBD0-49A1-BBA3-C0D93AD8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66E1D-60BE-452F-BC4F-C81FA7FA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21F33-5ADC-42A7-BFD4-747064EC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A0E2C-FBDA-47E1-92A0-C902D9CE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70C0E-3ED6-4429-8831-B2E56719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EBDF0-40E3-41D9-8E96-C3F9042B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ECBDD-BAC7-4E77-99C2-30ABEEAD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E0BA5-19FE-4BF9-9FAC-D47D838D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20350-94BA-4722-9077-4A569C1A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EC322-65CE-44A5-ACD6-A9439AA9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E3ACB6-496D-4CD5-81BB-724B166C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211-8FF2-4967-97C7-1DEC8D76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EAE6C-9D43-4930-9AED-E142CE35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3A883-9EA4-4CBB-A455-4ECE1117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9C12F-E6E8-4A2F-BB51-B7B1C70F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1A0CB-0785-41EB-8A70-70F4BD58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48E53-5CE9-48E4-95BF-A296E8AE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4465F-743D-4BD8-8424-448F070E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99A0D-D540-4F58-978F-08DDB17F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59025-EE89-4C3E-971C-AA483163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394BC-8E9F-4AD9-9F34-5685556F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51982-2BB6-47C0-8446-0B739C05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FF36-6FA8-455F-8F45-BF5625E0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2FE79-7234-4247-94E7-5127F5D6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9CFE3-1C27-413A-94F9-DD796A7F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74879-FBAA-49AE-BD1A-B29FF7EC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B1031-C2E6-4260-9E0F-EEDDCA90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8439C-C3CF-45F4-BBFC-E065B728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299BA-0E60-4C47-8626-4F4196EE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FC812-D3C2-4BEE-B792-295895FC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DE467-1C48-4694-A11B-5F6B2E46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C86C7-4CBB-48EF-BDF6-898993D2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1990A-672B-4B07-8F87-82D75D90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B258-7706-48C5-BFDE-124F4644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F9D82-C579-4C86-B1EE-DB577B89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89CFA-1E7C-406C-A838-588F797F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590A7-6FC7-4287-A361-4641D65B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913A8-7854-4E76-9B33-99664042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1126C-59A4-403C-A876-334616B4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95C8-2AB9-4AB2-9B7E-46699C40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E0B6-4014-4B57-8C12-EBC47078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1C61-6277-451C-BD43-5F1C4992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5928-2023-439C-B2A3-987FD382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276B-0DDC-402D-BD53-505E992A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845-DC42-4FDF-A90E-8E289479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3CBB-8F30-47EF-A385-A54AB838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AA5F-0E99-4D8D-9757-B8CC90B8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A5CA-EC08-469E-B974-1EDF4AB5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C104-7266-47EC-BFAC-560F80E3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55B5-6C6C-4FD9-8874-6FB3FC6C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90A4-06EA-451B-BB46-CD53F0B5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D737-083F-4E0A-883F-5F529E4E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5FDBA-BFBA-40B6-9BEE-2FF127A7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BF3E-273E-4D4F-B441-197CEE48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0B4F-EF65-48D9-ABCE-85F679C2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A91-C6C3-461E-9891-7C424651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3DCC-46EA-45BA-8F06-4F05CB92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F30C-2518-4D06-A3F1-454681D8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457E-6A12-4112-892A-B8325F9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5ADF0-F141-4601-A43B-3883D4BF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4F77-F4FC-4520-B62A-C8036918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7B438-8918-421D-8E20-01150238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2E14-C4B5-4AAC-88DA-03D4B3DA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2E768-21BF-49B6-8F7F-AF52772D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FEB44-5B51-42AF-8F60-410FEB1C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4867-5599-4070-A478-2AD3775B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1EB-9588-433A-B674-894549A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679E-E77C-4661-8CCA-610FF22C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F4367-CD60-4825-801D-C7299DF5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6677-5FC5-4CE3-A321-D075674A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B3B6-8671-4806-8EF8-AAB7729D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B61A1-B916-4E2B-9F38-372323E1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2E0CE-A52C-4B32-A831-7372FC07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8D2CC-4E32-4529-9E80-F8685EFB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52788-940B-4017-89F9-A014E816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DBBB-6241-4510-A3FE-E3F2B682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DF3AD-F90A-4172-80C9-08DAB133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88A-D40B-4CB0-BD1C-F9AE79EB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82B9-5466-4230-9BCB-54C610AA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0491B-238A-4AD8-9635-3EDF0ACC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0B15B-F4A2-4FC9-9DB6-B0BF7C1A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5BBEE-3335-43FC-A216-89766557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7BE6F-7069-4FA4-A5A0-B297AEDC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5BDEC-5705-4A04-A1F1-B5D6EBAA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85996-CDBC-43A9-A566-7B8055E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F17DF-A1E9-4E65-A8D2-171D80DF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23B95-F206-416F-B38E-2A0B3510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ADBF0-5887-4E5A-ADAA-673CDFFC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784-0661-49C5-9464-A0A739E7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90368-46BE-476E-BBA2-BBF3630F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E5C2C-3875-4154-B1CC-7CBAE132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C98EB-AC41-472F-B97E-CCCD8171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F6299-CFF6-4F7F-9E4C-A70B0706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AE5A0-8F94-4985-814C-DDC662B4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EAD2-A982-440A-B58B-DEA1E74B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F0F4D-769E-4FA9-981C-AB34D69A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8D535-8049-4C80-9E4E-715409D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C150A-25FD-4BF0-921A-2E0EBC84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99C2F-C344-44ED-A56B-E023AE99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0E7-6515-406B-AE59-41B9CA69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08A4D-6111-4594-A5F9-736CFEC2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D628F-00A6-4532-A233-25EF2018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4466F-88A7-4E3F-8204-F6D3365B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AE71-697D-4EB1-89EF-3751C1BB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A5697-BA7E-4EB5-A7DC-263CEE93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C4D26-7276-498F-AEE7-E04565EC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89324-E554-4BA7-B424-D432CACA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C6002-3CC6-4962-997B-B0F3E2B7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F1382-2E4F-4830-B775-1756A325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A0F58-6406-447A-A1AA-45F17334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929-463B-4565-A15B-2D09779C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C79EE-0597-406A-ABF3-1AD33FF1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7C627-269C-48F0-A1BC-67EF3CA5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7D26E-C817-434E-A05F-A0A849CE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1415F-0DFF-47E9-8324-678717DC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D4FF7-262E-4306-ABBB-7ECA31AB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75156-33CC-4B85-8F07-0D6D07C6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44559-8F80-4841-A25C-06EEF730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0E8B2-AF75-495F-A823-A64B730F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36E59-A601-4F9E-8031-095F78B4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F89C9-0B66-4B9F-8EC4-89C60C93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20B-688C-41D4-B033-01D6FFAC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1473D-6A52-4D08-AA4E-9A135266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14D2C-A21B-42A6-B993-916B0652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50201-4AF1-4081-968D-9F74B0DA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538B9-D260-452F-BA0B-90DDBDED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57482-89AB-4655-8842-2D25888F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1C7EB-6B4C-4D1C-9D5D-9E5F0700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FD1A9-56C9-4AEE-8A81-708AB0A0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55F07-7F36-464C-8D43-93AC5601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F7198-A9AE-423B-A6A3-95969E10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BA44C-FDFF-4605-B760-75B7817B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74DC-2F9E-44BC-A529-BE67E911588D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CF07-9449-48CA-AF3B-9D54AC2EE40B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E61B-4D1A-43A0-B5EE-642D58806858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0C15-FC55-4F92-8F52-92F70ED4DBE4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D836-16B3-458B-BB2D-F3F589B10B15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54DA-E7EE-4D84-8456-B59C7BA25D70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108A-3911-4EC9-AB7C-BCC61F04BC99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09BF-05C5-4DC3-A6CE-B113D5587D2A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E0D8-9090-4CC5-A601-866D2324CA81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66E8-0F33-4443-8B38-F688FAE9F774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54B0-422B-44D0-8183-564EEB752FE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47AA-027C-4368-B8E8-2464699F50F7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26920" y="27082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Georgia"/>
              </a:rPr>
              <a:t>ПРОБЛЕМНОЕ ОБУЧЕНИЕ</a:t>
            </a: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Georgia"/>
              </a:rPr>
              <a:t>НА УРОКАХ ИНФОРМАТИКИ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78920" y="1890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Georgia"/>
              </a:rPr>
              <a:t>МУНИЦИПАЛЬНОЕ БЮДЖЕТ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Georgia"/>
              </a:rPr>
              <a:t>«СРЕДНЯЯ ОБЩЕОБРАЗОВАТЕЛЬНАЯ ШКОЛА №6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учающиеся составят и введут в ячейки столбцов «Итого (рубли)» и «Итого (евро)» следующие формулы для первого артикул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539640" y="2997360"/>
          <a:ext cx="8209080" cy="3024000"/>
        </p:xfrm>
        <a:graphic>
          <a:graphicData uri="http://schemas.openxmlformats.org/drawingml/2006/table">
            <a:tbl>
              <a:tblPr/>
              <a:tblGrid>
                <a:gridCol w="1773360"/>
                <a:gridCol w="1603440"/>
                <a:gridCol w="1714320"/>
                <a:gridCol w="1594080"/>
                <a:gridCol w="1523880"/>
              </a:tblGrid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в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B5*C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D5*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9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-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7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-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ле копирования формул в нижестоящие ячейки результат их применения является недостоверным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684360" y="3141720"/>
          <a:ext cx="7775280" cy="2808360"/>
        </p:xfrm>
        <a:graphic>
          <a:graphicData uri="http://schemas.openxmlformats.org/drawingml/2006/table">
            <a:tbl>
              <a:tblPr/>
              <a:tblGrid>
                <a:gridCol w="1679400"/>
                <a:gridCol w="1519200"/>
                <a:gridCol w="1623960"/>
                <a:gridCol w="1509840"/>
                <a:gridCol w="1442880"/>
              </a:tblGrid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в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9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-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7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0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ЗНАЧ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4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-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8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Тема “Построение диаграмм в табличном процессоре”</a:t>
            </a:r>
            <a:endParaRPr b="0" lang="en-US" sz="28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учая эту тему,  учащиеся уже знакомы с понятием ячейки, диапазоном ячеек, с принципом “выделить и обработать”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ащимся предлагается для построения диаграмм следующая таблиц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468360" y="3068640"/>
          <a:ext cx="8207280" cy="3365640"/>
        </p:xfrm>
        <a:graphic>
          <a:graphicData uri="http://schemas.openxmlformats.org/drawingml/2006/table">
            <a:tbl>
              <a:tblPr/>
              <a:tblGrid>
                <a:gridCol w="3387600"/>
                <a:gridCol w="2338560"/>
                <a:gridCol w="2481120"/>
              </a:tblGrid>
              <a:tr h="2804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зарегистрировано  легковых автомобилей, мл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лет наз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ру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йца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мулировка проблемной ситуации: учащиеся должны представить числовые данные, приведенные в таблице, в графическом виде. Что для этого следует сделать? Как правильно выбрать ту или иную диаграмму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щиеся выбирают различные типы диаграмм, представляют в готовом виде, сравнивают, какой путь решения самый подходящ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иски заданий можно варьировать, добавляя другие типы диаграмм. Главное, чтобы дети научились выбирать данные из таблицы для диаграмм различных видов (гистограмма, круговая диаграмма, график и так далее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1"/>
          <p:cNvSpPr/>
          <p:nvPr/>
        </p:nvSpPr>
        <p:spPr>
          <a:xfrm>
            <a:off x="684360" y="63936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тоянная постановка перед ребенком проблемных ситуаций приводит к тому, что он не «пасует» перед проблемами, а стремится их разрешить, тем самым мы воспитываем творческую личность всегда способную к поис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9" name="Содержимое 5" descr=""/>
          <p:cNvPicPr/>
          <p:nvPr/>
        </p:nvPicPr>
        <p:blipFill>
          <a:blip r:embed="rId1"/>
          <a:stretch/>
        </p:blipFill>
        <p:spPr>
          <a:xfrm>
            <a:off x="219240" y="1523880"/>
            <a:ext cx="869292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Технология проблемного обучения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Проблемное обучение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система методов и средств, обеспечивающих возможности творческого участия учащихся в процессе усвоения новых знаний, формирование творческого мышления и познавательных интересов личности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од проблемным обучением понимается такая организация учебных занятий, которая предполагает создание под руководством учителя проблемных ситуаций и активную самостоятельную деятельность учащихся по их разрешению, в результате чего и происходит творческое овладение профессиональными знаниями, навыками, умениями и развитие мыслительных способносте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8a44d"/>
                </a:solidFill>
                <a:latin typeface="Georgia"/>
              </a:rPr>
              <a:t>Три основных уровня проблемных ситуаций: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блемное изложение, при котором сам преподаватель ставит проблему и находи ее решени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блемная ситуация, при которой преподаватель ставит проблему, а поиск ее решения осуществляется совместно с учащимися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творческое обучение, предполагающее активное участие учащихся в формулировании проблемы и поиска ее решения. Эта форма обучения наиболее целесообразна при организации и проведении учебно – исследовательских работ и научных работ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8a44d"/>
                </a:solidFill>
                <a:latin typeface="Georgia"/>
              </a:rPr>
              <a:t>Методических приемов создания проблемных ситуаций множество: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читель подводит школьников к противоречию и предлагает им самим найти способ его разрешения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талкивает противоречия практической деятельности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злагает различные точки зрения на один и тот же вопрос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едлагает классу рассмотреть явление с различных позиций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буждает учащихся делать сравнения, обобщения, выводы из ситуаций, сопоставлять факты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тавит конкретные вопросы на обобщение, обоснование, конкретизацию, логику рассуждения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пределяет проблемные теоретические и практические задания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тавит проблемные задачи с недостаточными или избыточными исходными данными, с неопределенностью в постановке вопроса, с противоречивыми данными, с заведомо допущенными ошибками, с ограниченным временем решения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4"/>
          <p:cNvSpPr/>
          <p:nvPr/>
        </p:nvSpPr>
        <p:spPr>
          <a:xfrm>
            <a:off x="611280" y="20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блемные ситу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 изучении отдельных тем курса информат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a44d"/>
                </a:solidFill>
                <a:latin typeface="Georgia"/>
              </a:rPr>
              <a:t>Тема «Использование абсолютных и относительных ссылок в формулах в среде табличного процессора»</a:t>
            </a:r>
            <a:endParaRPr b="0" lang="en-US" sz="2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учающиеся к этому уроку умеют составлять простейшие формулы, используя ссылки. Обучающимся предлагается решить следующую задачу, которая создаст проблемную ситуацию и позволит познакомить их с различными видами ссылок, используемых в формула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Задача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  представленной таблице указаны артикулы товаров, стоимость каждого артикула в рублях, количество приобретенных артикулов, а также  текущий курс евро. Требуется составить таблицу для автоматического подсчета затрат на приобретение каждого артикула в рублях и евро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имечание: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оставленные формулы для артикула Т-246  в столбце «Итого (рубли)» и «Итого (евро)» обязательно должны быть скопированы в нижестоящие ячейки для других артикулов товар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84360" y="3789360"/>
          <a:ext cx="8064360" cy="2523960"/>
        </p:xfrm>
        <a:graphic>
          <a:graphicData uri="http://schemas.openxmlformats.org/drawingml/2006/table">
            <a:tbl>
              <a:tblPr/>
              <a:tblGrid>
                <a:gridCol w="1741320"/>
                <a:gridCol w="1576440"/>
                <a:gridCol w="1682640"/>
                <a:gridCol w="1567080"/>
                <a:gridCol w="1496880"/>
              </a:tblGrid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в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8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9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-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7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-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5:25:36Z</dcterms:created>
  <dc:creator>Домашний</dc:creator>
  <dc:description/>
  <dc:language>en-US</dc:language>
  <cp:lastModifiedBy>Елена</cp:lastModifiedBy>
  <dcterms:modified xsi:type="dcterms:W3CDTF">2013-12-16T18:28:08Z</dcterms:modified>
  <cp:revision>91</cp:revision>
  <dc:subject/>
  <dc:title>Слайд 1</dc:title>
</cp:coreProperties>
</file>