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A15-7D44-4E80-B6DB-41D5FD37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A60-D8B7-44A5-BB6A-192095D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F7339-783E-41DF-9CF4-8490270D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3B193-AFBC-4187-8CBE-DED5CB7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B69D7-FA6D-476A-98E3-037C903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AAB9A-D9FB-43FB-AC58-062645FF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70EA3-B221-48EF-BCAF-D193512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5EEB8C-C327-4E61-94F1-B2EC47C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D5981-2A14-4941-A895-B5BD07D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7A2EA-CAD4-4229-A765-13C8EAD2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6BF77-70B5-48D4-A05A-68739132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78364-4209-43EB-AD61-98DDF8B0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D9D-B726-40C5-8D2C-4559034F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1D6CB-F593-410B-BB8A-E138762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31314-E72A-47BA-865C-C365F48B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AB4EF-00AB-4428-9E07-A4FF95C7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E9C4A-0082-4B73-9487-E9634C0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4EF79-C9C7-475D-86DA-B99C64F6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282B2-C85C-4070-91A2-FD5DC29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9D166-D29D-44B5-A4C2-6906CC9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9D528-51FF-4E30-86C9-1224F6B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573F8-B42A-40CF-8CC2-04B7AA29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C1259-6ABE-4B5B-8FDE-7F3CE742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1C1-1CE2-4FF9-B7A2-B657DB7E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1958B-F5E9-4F4A-9390-4AC5AD68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F5F8D-EB4F-460C-A375-08374FC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8598-C2ED-4C9B-9A83-FBF85DE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A83DB-BD03-4F94-892D-9887FF2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190F7-60AF-4DBB-9FAF-D21D5DC7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42DB8-8956-4F55-BA3D-5784BE8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E0435-97AE-4149-956B-92596038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9E21-8565-48E3-9595-55DB264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389B-AFCE-4BA7-8FA6-B649F7B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749C3-CE09-4FA0-9807-0A7B76D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C39-00D2-431D-8A58-9F99052C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7E7D1-1BF8-4A3B-B600-94732518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0633-33E2-495A-85B3-E8B9DCC7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EA2FA-109B-407B-B10F-5DDFCA2A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AB486-E8F9-4038-AA94-CF7D713F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6F467-EE45-4BA2-8ADB-66E04A71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0389C-F2C7-4461-A349-C7C6345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19B46-3194-4F76-9D7C-12C8A7A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12F51-2644-4697-93E0-6555D2A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B5D1D-DEDD-49B6-A212-4A02E59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D7D60-0AFC-40F2-88EF-27F87C2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6C3-098A-41FC-A5BE-422C4A2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07FCB-93D7-4728-A512-AE64CBBD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E0C76-50AF-448A-A442-933A951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BCD16-D7BE-4B24-9ADB-739F569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12667-26D2-498A-8718-585A916C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B659C-6C15-4AA4-AB6A-72E2A1A7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76EF-F4D7-4FF2-BE23-41A4AAF5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1E7-028A-46F4-9788-EA87F37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52D-90F2-4634-8D17-43A5FD5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5D38-3CD3-41DB-88DC-8592C33E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739-6A00-4CD1-AD0E-8143961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094-8161-44EA-8781-1E3F2DA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0CC3-92E5-421B-9536-C46735D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4A57-625F-473F-A143-E96AE81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9B9-5EE3-4DB7-8ADF-35E4198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EAB3-BE30-4DA3-829E-3FD14F20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6BF5-359C-4532-8D70-DCAE5FAA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8B8A-B474-4729-B75F-5650B59F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9E02-5CEF-4C34-9747-1BB34D1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4249-D998-4E5D-A6E0-5F1B961D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B95F-9E69-448B-A1EE-E862175F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2291-A8CD-4700-9C94-20D40E80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A83-3763-46BE-BFE0-73A01B6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4461-0332-4B17-8989-55EF6C7E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4E78-D27D-4BD5-9249-C3233A5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FB3C-D406-4FC7-9B2A-BB38F78C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7E9C-9BDC-428B-81EE-64DFDDF9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0AB1-1271-4AAA-A0AF-954B4B4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6EED-E7B0-49E2-9137-6C0587B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E894-98AB-4FE7-BB78-4749BEF3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76F8-D155-4714-B460-3DCC85F6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3FD4-5A6F-4037-8785-420BBE6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D000-4227-467B-AF22-1BC63BAE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FA7-8924-4FB4-BEBE-DF55DCE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BD48-30C4-4A06-AB0D-09557AF1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803DE-2EF5-4859-86C6-A256BC1A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BD99-56B6-4427-A04C-7B29F870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7347-838F-40B6-A018-73B871D6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6C9B-BDED-4E7D-AB32-10B33A4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E840-2905-4F0D-A245-2636391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893C-ADBD-4533-B092-3D975E91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2D09-2618-4EE7-82C2-B920BEA4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1B4A-AAC1-4557-A43A-9288AADF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15DB-D090-4FE6-9C88-527F0BFD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29F-3394-4A24-8B2C-493E7C8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57EE7-AEF7-4E2F-AD54-859D5E4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E16C-DB6A-468F-854F-13332E2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626E-CF9F-4A04-9323-B0802367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B495-B4EE-4679-9D11-602AA42B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F1F2-C4F6-4094-A265-1F01984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3D1E-6A45-4D7C-B2F0-93B9422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C6AA-4D60-489A-99E8-5CF6CA72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C3193-DD76-4E7F-8201-88E033A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42D7-34C4-4C0D-8C17-7EDEA1E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5E9F-2610-4B71-B8D3-CB52153D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39D-5AC1-4470-8650-DAAEAC6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9F0FF-8ADC-404A-9B10-0B9185BA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EF00-D0DD-47DF-8247-B3D5455D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FA135-1A77-449E-AD2C-059D1472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24EE1-E37B-4F8B-8F3D-1BDA292B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77F6-EDF4-47AB-8FFD-4D41251C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BD03-CA4F-449D-9DEA-E4B4ED2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381D-3E61-4C14-8039-FDE43A48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0EAE-2CC6-4C12-ABDA-8CBE35C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B4CE-7F30-4E8F-95B1-AA0A2CC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00DF4-B4BB-4544-9FFA-5CD1310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0A2-23D7-483E-A9E9-FA3F942F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67811-23E6-400E-BDA4-B18FB0E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2474-B304-4069-A722-75B28C72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F80B2-9737-4C24-806E-EF7BE100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5017-A1FE-4418-AD12-B949484B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41633-0CD0-4102-A5A9-C224BF5D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D3AB-FA4F-4760-8667-352BAA85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9951-91D5-4E50-9B9F-B229C3D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2F11-801B-471A-802F-010786A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3E05-2770-4C8F-98E4-E7B6EE2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B2C2-BB4A-4F1F-A889-FE00213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EDA6-97EA-4F9A-94EC-8C206B4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A28C-7BB3-4BE5-A944-670DB66F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8C4F1-526F-4373-9D13-9C343A1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30ACE-1DD7-4F7E-A59E-A58C0834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D96A-53C6-41B4-8408-09EAB94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F8EB-82C0-4A4D-A636-3B459775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910DB-AEFA-449D-B0A8-DBAC8826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3A1C-9868-479C-BC9D-78CEE21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BAF17-510F-4733-A6E0-624B716A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C96F-1465-47FC-82D1-F2A3EBB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C1312-AC1A-4982-B03E-61239B36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7AA-9A5F-4994-8B89-C097DE4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C056C-BAF5-432C-96BF-6C4017C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725E1-E3FD-4550-9DDD-73829DD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9A7D-99D3-4E1D-A3B1-F0C1EA06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E9E74-7BA0-4735-B991-E0C8FD8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6FA3D-5311-4B79-A66D-A02C003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A55A-5C4E-43A0-9C28-6FF41D5F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D79C-1E8F-419C-80AB-418B97BE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D0D33-E0A9-4DBB-87C5-9EAA8CE7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9AA917-2EFE-4DB6-B3D3-93C34E0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09186-5226-41F0-B4FF-C28F69A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64B5-EF01-4088-8F06-EC7B06D24A1F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B1E-9997-4AEB-BC33-8590977EB83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32F-E7D8-4C38-B7E6-C678A808F3D3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887-E264-45F9-822F-7F1332E21365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B9B-2EED-4E22-A4E6-354AD0A1958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734-8B4C-4396-A25F-0E942AFDA2F9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83A-BCD8-4302-BA7F-777D6ADD981B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35A3-240A-450F-8322-769D05A280E4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25C-1A93-4F03-8D9F-33C11F72773C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B3D-7145-4CF5-9916-A4686CAE520A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B55-5CE0-4452-A510-A79569CD077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A296-4FCF-4447-9C77-2FCD4CE5CF6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26920" y="2708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Georgia"/>
              </a:rPr>
              <a:t>ПРОБЛЕМНОЕ ОБУЧЕНИЕ</a:t>
            </a: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Georgia"/>
              </a:rPr>
              <a:t>НА УРОКАХ ИНФОРМАТИКИ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Georgia"/>
              </a:rPr>
              <a:t>«СРЕДНЯЯ ОБЩЕОБРАЗОВАТЕЛЬНАЯ ШКОЛА №6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учающиеся составят и введут в ячейки столбцов «Итого (рубли)» и «Итого (евро)» следующие формулы для первого артикул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539640" y="2997360"/>
          <a:ext cx="8209080" cy="3024000"/>
        </p:xfrm>
        <a:graphic>
          <a:graphicData uri="http://schemas.openxmlformats.org/drawingml/2006/table">
            <a:tbl>
              <a:tblPr/>
              <a:tblGrid>
                <a:gridCol w="1773360"/>
                <a:gridCol w="1603440"/>
                <a:gridCol w="1714320"/>
                <a:gridCol w="1594080"/>
                <a:gridCol w="1523880"/>
              </a:tblGrid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B5*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D5*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копирования формул в нижестоящие ячейки результат их применения является недостоверным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684360" y="3141720"/>
          <a:ext cx="7775280" cy="2808360"/>
        </p:xfrm>
        <a:graphic>
          <a:graphicData uri="http://schemas.openxmlformats.org/drawingml/2006/table">
            <a:tbl>
              <a:tblPr/>
              <a:tblGrid>
                <a:gridCol w="1679400"/>
                <a:gridCol w="1519200"/>
                <a:gridCol w="1623960"/>
                <a:gridCol w="1509840"/>
                <a:gridCol w="1442880"/>
              </a:tblGrid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0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ЗНАЧ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8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a44d"/>
                </a:solidFill>
                <a:latin typeface="Georgia"/>
              </a:rPr>
              <a:t>Тема “Построение диаграмм в табличном процессоре”</a:t>
            </a: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учая эту тему,  учащиеся уже знакомы с понятием ячейки, диапазоном ячеек, с принципом “выделить и обработать”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ащимся предлагается для построения диаграмм следующая таблиц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68360" y="3068640"/>
          <a:ext cx="8207280" cy="3365640"/>
        </p:xfrm>
        <a:graphic>
          <a:graphicData uri="http://schemas.openxmlformats.org/drawingml/2006/table">
            <a:tbl>
              <a:tblPr/>
              <a:tblGrid>
                <a:gridCol w="3387600"/>
                <a:gridCol w="2338560"/>
                <a:gridCol w="2481120"/>
              </a:tblGrid>
              <a:tr h="2804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зарегистрировано  легковых автомобилей, мл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 наз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ру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ца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мулировка проблемной ситуации: учащиеся должны представить числовые данные, приведенные в таблице, в графическом виде. Что для этого следует сделать? Как правильно выбрать ту или иную диаграм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выбирают различные типы диаграмм, представляют в готовом виде, сравнивают, какой путь решения самый подходящ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ки заданий можно варьировать, добавляя другие типы диаграмм. Главное, чтобы дети научились выбирать данные из таблицы для диаграмм различных видов (гистограмма, круговая диаграмма, график и так дале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"/>
          <p:cNvSpPr/>
          <p:nvPr/>
        </p:nvSpPr>
        <p:spPr>
          <a:xfrm>
            <a:off x="684360" y="63936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оянная постановка перед ребенком проблемных ситуаций приводит к тому, что он не «пасует» перед проблемами, а стремится их разрешить, тем самым мы воспитываем творческую личность всегда способную к поис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9" name="Содержимое 5" descr=""/>
          <p:cNvPicPr/>
          <p:nvPr/>
        </p:nvPicPr>
        <p:blipFill>
          <a:blip r:embed="rId1"/>
          <a:stretch/>
        </p:blipFill>
        <p:spPr>
          <a:xfrm>
            <a:off x="219240" y="1523880"/>
            <a:ext cx="86929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ехнология проблемного обучения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роблемное обучение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система методов и средств, обеспечивающих возможности творческого участия учащихся в процессе усвоения новых знаний, формирование творческого мышления и познавательных интересов личности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д проблемным обучением понимается такая организация учебных занятий, которая предполагает создание под руководством учителя проблемных ситуаций и активную самостоятельную деятельность учащихся по их разрешению, в результате чего и происходит творческое овладение профессиональными знаниями, навыками, умениями и развитие мыслительных способносте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8a44d"/>
                </a:solidFill>
                <a:latin typeface="Georgia"/>
              </a:rPr>
              <a:t>Три основных уровня проблемных ситуаций: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блемное изложение, при котором сам преподаватель ставит проблему и находи ее реш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блемная ситуация, при которой преподаватель ставит проблему, а поиск ее решения осуществляется совместно с учащимися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творческое обучение, предполагающее активное участие учащихся в формулировании проблемы и поиска ее решения. Эта форма обучения наиболее целесообразна при организации и проведении учебно – исследовательских работ и научных работ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8a44d"/>
                </a:solidFill>
                <a:latin typeface="Georgia"/>
              </a:rPr>
              <a:t>Методических приемов создания проблемных ситуаций множество: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читель подводит школьников к противоречию и предлагает им самим найти способ его разреш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лкивает противоречия практической деятельност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злагает различные точки зрения на один и тот же вопрос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едлагает классу рассмотреть явление с различных позиций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буждает учащихся делать сравнения, обобщения, выводы из ситуаций, сопоставлять факты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вит конкретные вопросы на обобщение, обоснование, конкретизацию, логику рассужде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пределяет проблемные теоретические и практические задания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тавит проблемные задачи с недостаточными или избыточными исходными данными, с неопределенностью в постановке вопроса, с противоречивыми данными, с заведомо допущенными ошибками, с ограниченным временем решения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5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"/>
          <p:cNvSpPr/>
          <p:nvPr/>
        </p:nvSpPr>
        <p:spPr>
          <a:xfrm>
            <a:off x="611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 изучении отдельных тем курса информат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a44d"/>
                </a:solidFill>
                <a:latin typeface="Georgia"/>
              </a:rPr>
              <a:t>Тема «Использование абсолютных и относительных ссылок в формулах в среде табличного процессора»</a:t>
            </a:r>
            <a:endParaRPr b="0" lang="en-US" sz="24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учающиеся к этому уроку умеют составлять простейшие формулы, используя ссылки. Обучающимся предлагается решить следующую задачу, которая создаст проблемную ситуацию и позволит познакомить их с различными видами ссылок, используемых в формула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Задача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  представленной таблице указаны артикулы товаров, стоимость каждого артикула в рублях, количество приобретенных артикулов, а также  текущий курс евро. Требуется составить таблицу для автоматического подсчета затрат на приобретение каждого артикула в рублях и евр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имечание: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ставленные формулы для артикула Т-246  в столбце «Итого (рубли)» и «Итого (евро)» обязательно должны быть скопированы в нижестоящие ячейки для других артикулов товар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4360" y="3789360"/>
          <a:ext cx="8064360" cy="2523960"/>
        </p:xfrm>
        <a:graphic>
          <a:graphicData uri="http://schemas.openxmlformats.org/drawingml/2006/table">
            <a:tbl>
              <a:tblPr/>
              <a:tblGrid>
                <a:gridCol w="1741320"/>
                <a:gridCol w="1576440"/>
                <a:gridCol w="1682640"/>
                <a:gridCol w="1567080"/>
                <a:gridCol w="1496880"/>
              </a:tblGrid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с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-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-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5:25:36Z</dcterms:created>
  <dc:creator>Домашний</dc:creator>
  <dc:description/>
  <dc:language>en-US</dc:language>
  <cp:lastModifiedBy>Елена</cp:lastModifiedBy>
  <dcterms:modified xsi:type="dcterms:W3CDTF">2013-12-16T18:28:08Z</dcterms:modified>
  <cp:revision>91</cp:revision>
  <dc:subject/>
  <dc:title>Слайд 1</dc:title>
</cp:coreProperties>
</file>