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7.png" ContentType="image/png"/>
  <Override PartName="/ppt/media/image24.gif" ContentType="image/gif"/>
  <Override PartName="/ppt/media/image21.jpeg" ContentType="image/jpeg"/>
  <Override PartName="/ppt/media/image19.png" ContentType="image/png"/>
  <Override PartName="/ppt/media/image26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22.gif" ContentType="image/gif"/>
  <Override PartName="/ppt/media/image20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2.jpeg" ContentType="image/jpeg"/>
  <Override PartName="/ppt/media/image34.png" ContentType="image/png"/>
  <Override PartName="/ppt/media/image31.png" ContentType="image/png"/>
  <Override PartName="/ppt/media/image35.png" ContentType="image/png"/>
  <Override PartName="/ppt/media/image5.jpeg" ContentType="image/jpeg"/>
  <Override PartName="/ppt/media/image37.gif" ContentType="image/gif"/>
  <Override PartName="/ppt/media/image39.png" ContentType="image/png"/>
  <Override PartName="/ppt/media/image6.png" ContentType="image/png"/>
  <Override PartName="/ppt/media/image36.png" ContentType="image/png"/>
  <Override PartName="/ppt/media/image18.png" ContentType="image/png"/>
  <Override PartName="/ppt/media/image25.gif" ContentType="image/gif"/>
  <Override PartName="/ppt/media/image7.jpeg" ContentType="image/jpeg"/>
  <Override PartName="/ppt/media/image28.png" ContentType="image/png"/>
  <Override PartName="/ppt/media/image14.png" ContentType="image/png"/>
  <Override PartName="/ppt/media/image10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FB72-6638-4F73-91A2-18C08B14F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D23E-723C-4720-9E5C-B9FCACF89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140-9EE3-4D43-9428-F2956011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FA8-B622-4BB2-AB80-AAE85006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CC7-2496-4CB4-ADC4-D1D8A1B7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C62-762D-4130-A92E-DDBEE2DF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49F-743D-4F63-8772-1ABF027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941-8A83-49ED-BFA9-DBECB618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FB0-8691-43AD-A19B-6E4AC250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EFA-8311-418B-944F-4F24BE80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FFA-B462-4D5E-B4CB-6F4326B7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93A-B6A3-43AC-94C6-975CA828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76A-4CD4-4294-8732-D07565B9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DD1-7EE4-4CC5-B820-5FF760D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65CD-74A1-4797-89E5-D22EBCCA1E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gif"/><Relationship Id="rId15" Type="http://schemas.openxmlformats.org/officeDocument/2006/relationships/image" Target="../media/image30.gif"/><Relationship Id="rId16" Type="http://schemas.openxmlformats.org/officeDocument/2006/relationships/image" Target="../media/image23.gif"/><Relationship Id="rId17" Type="http://schemas.openxmlformats.org/officeDocument/2006/relationships/image" Target="../media/image23.gif"/><Relationship Id="rId18" Type="http://schemas.openxmlformats.org/officeDocument/2006/relationships/image" Target="../media/image23.gif"/><Relationship Id="rId19" Type="http://schemas.openxmlformats.org/officeDocument/2006/relationships/image" Target="../media/image23.gif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0920" y="1268280"/>
            <a:ext cx="8710560" cy="244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00"/>
                </a:solidFill>
                <a:uFillTx/>
                <a:latin typeface="Calibri"/>
              </a:rPr>
              <a:t>Управление компьютером с помощью мен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0" y="44280"/>
            <a:ext cx="22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.14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3924360" y="4444920"/>
            <a:ext cx="554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цюк Окс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Радужный, обл. Тюменская, ХМАО-Ю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5"/>
          <p:cNvSpPr/>
          <p:nvPr/>
        </p:nvSpPr>
        <p:spPr>
          <a:xfrm>
            <a:off x="324000" y="83664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,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" descr="флажок.jpg"/>
          <p:cNvPicPr/>
          <p:nvPr/>
        </p:nvPicPr>
        <p:blipFill>
          <a:blip r:embed="rId1"/>
          <a:stretch/>
        </p:blipFill>
        <p:spPr>
          <a:xfrm>
            <a:off x="500040" y="2071800"/>
            <a:ext cx="8072640" cy="441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Заголовок 5"/>
          <p:cNvSpPr/>
          <p:nvPr/>
        </p:nvSpPr>
        <p:spPr>
          <a:xfrm>
            <a:off x="5715000" y="521496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6"/>
          <p:cNvSpPr/>
          <p:nvPr/>
        </p:nvSpPr>
        <p:spPr>
          <a:xfrm rot="12275400">
            <a:off x="3097080" y="4563360"/>
            <a:ext cx="2802240" cy="415800"/>
          </a:xfrm>
          <a:custGeom>
            <a:avLst/>
            <a:gdLst/>
            <a:ahLst/>
            <a:rect l="l" t="t" r="r" b="b"/>
            <a:pathLst>
              <a:path w="2801937" h="415925">
                <a:moveTo>
                  <a:pt x="0" y="160541"/>
                </a:moveTo>
                <a:lnTo>
                  <a:pt x="12998" y="160541"/>
                </a:lnTo>
                <a:lnTo>
                  <a:pt x="12998" y="255384"/>
                </a:lnTo>
                <a:lnTo>
                  <a:pt x="0" y="255384"/>
                </a:lnTo>
                <a:lnTo>
                  <a:pt x="0" y="160541"/>
                </a:lnTo>
                <a:close/>
                <a:moveTo>
                  <a:pt x="25995" y="160541"/>
                </a:moveTo>
                <a:lnTo>
                  <a:pt x="51991" y="160541"/>
                </a:lnTo>
                <a:lnTo>
                  <a:pt x="51991" y="255384"/>
                </a:lnTo>
                <a:lnTo>
                  <a:pt x="25995" y="255384"/>
                </a:lnTo>
                <a:lnTo>
                  <a:pt x="25995" y="160541"/>
                </a:lnTo>
                <a:close/>
                <a:moveTo>
                  <a:pt x="64988" y="160541"/>
                </a:moveTo>
                <a:lnTo>
                  <a:pt x="437803" y="160541"/>
                </a:lnTo>
                <a:lnTo>
                  <a:pt x="437803" y="0"/>
                </a:lnTo>
                <a:lnTo>
                  <a:pt x="2801937" y="207963"/>
                </a:lnTo>
                <a:lnTo>
                  <a:pt x="437803" y="415925"/>
                </a:lnTo>
                <a:lnTo>
                  <a:pt x="437803" y="255384"/>
                </a:lnTo>
                <a:lnTo>
                  <a:pt x="64988" y="255384"/>
                </a:lnTo>
                <a:lnTo>
                  <a:pt x="64988" y="16054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6"/>
          <p:cNvSpPr/>
          <p:nvPr/>
        </p:nvSpPr>
        <p:spPr>
          <a:xfrm rot="13292400">
            <a:off x="3938400" y="4519080"/>
            <a:ext cx="2152440" cy="414360"/>
          </a:xfrm>
          <a:custGeom>
            <a:avLst/>
            <a:gdLst/>
            <a:ahLst/>
            <a:rect l="l" t="t" r="r" b="b"/>
            <a:pathLst>
              <a:path w="2152650" h="414337">
                <a:moveTo>
                  <a:pt x="0" y="159928"/>
                </a:moveTo>
                <a:lnTo>
                  <a:pt x="12948" y="159928"/>
                </a:lnTo>
                <a:lnTo>
                  <a:pt x="12948" y="254409"/>
                </a:lnTo>
                <a:lnTo>
                  <a:pt x="0" y="254409"/>
                </a:lnTo>
                <a:lnTo>
                  <a:pt x="0" y="159928"/>
                </a:lnTo>
                <a:close/>
                <a:moveTo>
                  <a:pt x="25896" y="159928"/>
                </a:moveTo>
                <a:lnTo>
                  <a:pt x="51792" y="159928"/>
                </a:lnTo>
                <a:lnTo>
                  <a:pt x="51792" y="254409"/>
                </a:lnTo>
                <a:lnTo>
                  <a:pt x="25896" y="254409"/>
                </a:lnTo>
                <a:lnTo>
                  <a:pt x="25896" y="159928"/>
                </a:lnTo>
                <a:close/>
                <a:moveTo>
                  <a:pt x="64740" y="159928"/>
                </a:moveTo>
                <a:lnTo>
                  <a:pt x="336352" y="159928"/>
                </a:lnTo>
                <a:lnTo>
                  <a:pt x="336352" y="0"/>
                </a:lnTo>
                <a:lnTo>
                  <a:pt x="2152650" y="207169"/>
                </a:lnTo>
                <a:lnTo>
                  <a:pt x="336352" y="414337"/>
                </a:lnTo>
                <a:lnTo>
                  <a:pt x="336352" y="254409"/>
                </a:lnTo>
                <a:lnTo>
                  <a:pt x="64740" y="254409"/>
                </a:lnTo>
                <a:lnTo>
                  <a:pt x="64740" y="15992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кладки, переключ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6" descr="вкладки, переключатели.jpg"/>
          <p:cNvPicPr/>
          <p:nvPr/>
        </p:nvPicPr>
        <p:blipFill>
          <a:blip r:embed="rId1"/>
          <a:stretch/>
        </p:blipFill>
        <p:spPr>
          <a:xfrm>
            <a:off x="2571840" y="1214280"/>
            <a:ext cx="4286160" cy="526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Штриховая стрелка вправо 3"/>
          <p:cNvSpPr/>
          <p:nvPr/>
        </p:nvSpPr>
        <p:spPr>
          <a:xfrm rot="11629200">
            <a:off x="5182920" y="1785600"/>
            <a:ext cx="3071880" cy="708120"/>
          </a:xfrm>
          <a:custGeom>
            <a:avLst/>
            <a:gdLst/>
            <a:ahLst/>
            <a:rect l="l" t="t" r="r" b="b"/>
            <a:pathLst>
              <a:path w="3071812" h="708025">
                <a:moveTo>
                  <a:pt x="0" y="273287"/>
                </a:moveTo>
                <a:lnTo>
                  <a:pt x="22126" y="273287"/>
                </a:lnTo>
                <a:lnTo>
                  <a:pt x="22126" y="434738"/>
                </a:lnTo>
                <a:lnTo>
                  <a:pt x="0" y="434738"/>
                </a:lnTo>
                <a:lnTo>
                  <a:pt x="0" y="273287"/>
                </a:lnTo>
                <a:close/>
                <a:moveTo>
                  <a:pt x="44252" y="273287"/>
                </a:moveTo>
                <a:lnTo>
                  <a:pt x="88503" y="273287"/>
                </a:lnTo>
                <a:lnTo>
                  <a:pt x="88503" y="434738"/>
                </a:lnTo>
                <a:lnTo>
                  <a:pt x="44252" y="434738"/>
                </a:lnTo>
                <a:lnTo>
                  <a:pt x="44252" y="273287"/>
                </a:lnTo>
                <a:close/>
                <a:moveTo>
                  <a:pt x="110629" y="273287"/>
                </a:moveTo>
                <a:lnTo>
                  <a:pt x="851509" y="273287"/>
                </a:lnTo>
                <a:lnTo>
                  <a:pt x="851509" y="0"/>
                </a:lnTo>
                <a:lnTo>
                  <a:pt x="3071812" y="354013"/>
                </a:lnTo>
                <a:lnTo>
                  <a:pt x="851509" y="708025"/>
                </a:lnTo>
                <a:lnTo>
                  <a:pt x="851509" y="434738"/>
                </a:lnTo>
                <a:lnTo>
                  <a:pt x="110629" y="434738"/>
                </a:lnTo>
                <a:lnTo>
                  <a:pt x="110629" y="273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Штриховая стрелка вправо 4"/>
          <p:cNvSpPr/>
          <p:nvPr/>
        </p:nvSpPr>
        <p:spPr>
          <a:xfrm rot="900000">
            <a:off x="558720" y="3600360"/>
            <a:ext cx="1963800" cy="706680"/>
          </a:xfrm>
          <a:custGeom>
            <a:avLst/>
            <a:gdLst/>
            <a:ahLst/>
            <a:rect l="l" t="t" r="r" b="b"/>
            <a:pathLst>
              <a:path w="1963738" h="706438">
                <a:moveTo>
                  <a:pt x="0" y="272674"/>
                </a:moveTo>
                <a:lnTo>
                  <a:pt x="22076" y="272674"/>
                </a:lnTo>
                <a:lnTo>
                  <a:pt x="22076" y="433764"/>
                </a:lnTo>
                <a:lnTo>
                  <a:pt x="0" y="433764"/>
                </a:lnTo>
                <a:lnTo>
                  <a:pt x="0" y="272674"/>
                </a:lnTo>
                <a:close/>
                <a:moveTo>
                  <a:pt x="44152" y="272674"/>
                </a:moveTo>
                <a:lnTo>
                  <a:pt x="88305" y="272674"/>
                </a:lnTo>
                <a:lnTo>
                  <a:pt x="88305" y="433764"/>
                </a:lnTo>
                <a:lnTo>
                  <a:pt x="44152" y="433764"/>
                </a:lnTo>
                <a:lnTo>
                  <a:pt x="44152" y="272674"/>
                </a:lnTo>
                <a:close/>
                <a:moveTo>
                  <a:pt x="110381" y="272674"/>
                </a:moveTo>
                <a:lnTo>
                  <a:pt x="306834" y="272674"/>
                </a:lnTo>
                <a:lnTo>
                  <a:pt x="306834" y="0"/>
                </a:lnTo>
                <a:lnTo>
                  <a:pt x="1963738" y="353219"/>
                </a:lnTo>
                <a:lnTo>
                  <a:pt x="306834" y="706438"/>
                </a:lnTo>
                <a:lnTo>
                  <a:pt x="306834" y="433764"/>
                </a:lnTo>
                <a:lnTo>
                  <a:pt x="110381" y="433764"/>
                </a:lnTo>
                <a:lnTo>
                  <a:pt x="110381" y="27267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5"/>
          <p:cNvSpPr/>
          <p:nvPr/>
        </p:nvSpPr>
        <p:spPr>
          <a:xfrm>
            <a:off x="6357960" y="271476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ад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5"/>
          <p:cNvSpPr/>
          <p:nvPr/>
        </p:nvSpPr>
        <p:spPr>
          <a:xfrm>
            <a:off x="0" y="307188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ключ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нтекстное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7" descr="МК.jpg"/>
          <p:cNvPicPr/>
          <p:nvPr/>
        </p:nvPicPr>
        <p:blipFill>
          <a:blip r:embed="rId1"/>
          <a:srcRect l="1859" t="0" r="7404" b="0"/>
          <a:stretch/>
        </p:blipFill>
        <p:spPr>
          <a:xfrm>
            <a:off x="214200" y="1928880"/>
            <a:ext cx="3500640" cy="46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Рисунок 3" descr="иг.jpg"/>
          <p:cNvPicPr/>
          <p:nvPr/>
        </p:nvPicPr>
        <p:blipFill>
          <a:blip r:embed="rId2"/>
          <a:srcRect l="1690" t="1838" r="3391" b="2295"/>
          <a:stretch/>
        </p:blipFill>
        <p:spPr>
          <a:xfrm>
            <a:off x="3714840" y="1071720"/>
            <a:ext cx="4000320" cy="371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Рисунок 4" descr="пуск.jpg"/>
          <p:cNvPicPr/>
          <p:nvPr/>
        </p:nvPicPr>
        <p:blipFill>
          <a:blip r:embed="rId3"/>
          <a:srcRect l="0" t="2226" r="1851" b="0"/>
          <a:stretch/>
        </p:blipFill>
        <p:spPr>
          <a:xfrm>
            <a:off x="4786200" y="3500280"/>
            <a:ext cx="4071960" cy="314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Рамка 1"/>
          <p:cNvGrpSpPr/>
          <p:nvPr/>
        </p:nvGrpSpPr>
        <p:grpSpPr>
          <a:xfrm>
            <a:off x="-285840" y="-262080"/>
            <a:ext cx="9715680" cy="7437600"/>
            <a:chOff x="-285840" y="-262080"/>
            <a:chExt cx="9715680" cy="7437600"/>
          </a:xfrm>
        </p:grpSpPr>
        <p:pic>
          <p:nvPicPr>
            <p:cNvPr id="114" name="Рамка 1" descr=""/>
            <p:cNvPicPr/>
            <p:nvPr/>
          </p:nvPicPr>
          <p:blipFill>
            <a:blip r:embed="rId1"/>
            <a:stretch/>
          </p:blipFill>
          <p:spPr>
            <a:xfrm>
              <a:off x="-285840" y="-262080"/>
              <a:ext cx="9715680" cy="743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60280" y="260280"/>
              <a:ext cx="862344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Рисунок 1" descr="Копия DSC00106.JPG"/>
          <p:cNvPicPr/>
          <p:nvPr/>
        </p:nvPicPr>
        <p:blipFill>
          <a:blip r:embed="rId2"/>
          <a:srcRect l="1083" t="0" r="5992" b="0"/>
          <a:stretch/>
        </p:blipFill>
        <p:spPr>
          <a:xfrm>
            <a:off x="324000" y="2349360"/>
            <a:ext cx="8496000" cy="25704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3" descr=""/>
          <p:cNvPicPr/>
          <p:nvPr/>
        </p:nvPicPr>
        <p:blipFill>
          <a:blip r:embed="rId3"/>
          <a:stretch/>
        </p:blipFill>
        <p:spPr>
          <a:xfrm>
            <a:off x="2298600" y="4876920"/>
            <a:ext cx="4711680" cy="207792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5" descr=""/>
          <p:cNvPicPr/>
          <p:nvPr/>
        </p:nvPicPr>
        <p:blipFill>
          <a:blip r:embed="rId4"/>
          <a:stretch/>
        </p:blipFill>
        <p:spPr>
          <a:xfrm>
            <a:off x="-73080" y="-360360"/>
            <a:ext cx="93027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detskie_pesni_-_pesenka_o_lete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50518004ba82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Картинка 171 из 204"/>
          <p:cNvPicPr/>
          <p:nvPr/>
        </p:nvPicPr>
        <p:blipFill>
          <a:blip r:embed="rId3"/>
          <a:stretch/>
        </p:blipFill>
        <p:spPr>
          <a:xfrm>
            <a:off x="571680" y="455292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ртинка 171 из 204"/>
          <p:cNvPicPr/>
          <p:nvPr/>
        </p:nvPicPr>
        <p:blipFill>
          <a:blip r:embed="rId4"/>
          <a:stretch/>
        </p:blipFill>
        <p:spPr>
          <a:xfrm>
            <a:off x="4643280" y="3000240"/>
            <a:ext cx="1467000" cy="180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Картинка 171 из 204"/>
          <p:cNvPicPr/>
          <p:nvPr/>
        </p:nvPicPr>
        <p:blipFill>
          <a:blip r:embed="rId5"/>
          <a:stretch/>
        </p:blipFill>
        <p:spPr>
          <a:xfrm flipH="1">
            <a:off x="7000560" y="36432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Картинка 171 из 204"/>
          <p:cNvPicPr/>
          <p:nvPr/>
        </p:nvPicPr>
        <p:blipFill>
          <a:blip r:embed="rId6"/>
          <a:stretch/>
        </p:blipFill>
        <p:spPr>
          <a:xfrm flipH="1">
            <a:off x="213840" y="3071880"/>
            <a:ext cx="1236600" cy="13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пчёлка"/>
          <p:cNvPicPr/>
          <p:nvPr/>
        </p:nvPicPr>
        <p:blipFill>
          <a:blip r:embed="rId7"/>
          <a:stretch/>
        </p:blipFill>
        <p:spPr>
          <a:xfrm>
            <a:off x="-1332000" y="981000"/>
            <a:ext cx="99396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Картинка 15 из 21"/>
          <p:cNvPicPr/>
          <p:nvPr/>
        </p:nvPicPr>
        <p:blipFill>
          <a:blip r:embed="rId8"/>
          <a:stretch/>
        </p:blipFill>
        <p:spPr>
          <a:xfrm>
            <a:off x="9468000" y="1052640"/>
            <a:ext cx="194436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Ins08.gif"/>
          <p:cNvPicPr/>
          <p:nvPr/>
        </p:nvPicPr>
        <p:blipFill>
          <a:blip r:embed="rId9"/>
          <a:stretch/>
        </p:blipFill>
        <p:spPr>
          <a:xfrm>
            <a:off x="3286080" y="4429080"/>
            <a:ext cx="2798640" cy="2122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0" descr="DOVE2.gif"/>
          <p:cNvPicPr/>
          <p:nvPr/>
        </p:nvPicPr>
        <p:blipFill>
          <a:blip r:embed="rId10"/>
          <a:stretch/>
        </p:blipFill>
        <p:spPr>
          <a:xfrm>
            <a:off x="8643960" y="785880"/>
            <a:ext cx="2765520" cy="2043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1" descr="DOVE2.gif"/>
          <p:cNvPicPr/>
          <p:nvPr/>
        </p:nvPicPr>
        <p:blipFill>
          <a:blip r:embed="rId11"/>
          <a:stretch/>
        </p:blipFill>
        <p:spPr>
          <a:xfrm flipH="1">
            <a:off x="-1643040" y="571680"/>
            <a:ext cx="2509920" cy="2043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j0438023.png"/>
          <p:cNvPicPr/>
          <p:nvPr/>
        </p:nvPicPr>
        <p:blipFill>
          <a:blip r:embed="rId12"/>
          <a:stretch/>
        </p:blipFill>
        <p:spPr>
          <a:xfrm>
            <a:off x="-2743200" y="4500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3" descr="j0432587.png"/>
          <p:cNvPicPr/>
          <p:nvPr/>
        </p:nvPicPr>
        <p:blipFill>
          <a:blip r:embed="rId13"/>
          <a:stretch/>
        </p:blipFill>
        <p:spPr>
          <a:xfrm>
            <a:off x="714240" y="428760"/>
            <a:ext cx="2772000" cy="2771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14"/>
          <a:stretch/>
        </p:blipFill>
        <p:spPr>
          <a:xfrm>
            <a:off x="-1476360" y="2997360"/>
            <a:ext cx="1476360" cy="107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B_Fly04"/>
          <p:cNvPicPr/>
          <p:nvPr/>
        </p:nvPicPr>
        <p:blipFill>
          <a:blip r:embed="rId15"/>
          <a:stretch/>
        </p:blipFill>
        <p:spPr>
          <a:xfrm>
            <a:off x="-1765440" y="2060640"/>
            <a:ext cx="1765440" cy="100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пчёлка"/>
          <p:cNvPicPr/>
          <p:nvPr/>
        </p:nvPicPr>
        <p:blipFill>
          <a:blip r:embed="rId16"/>
          <a:stretch/>
        </p:blipFill>
        <p:spPr>
          <a:xfrm flipH="1">
            <a:off x="8072280" y="285840"/>
            <a:ext cx="857520" cy="753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пчёлка"/>
          <p:cNvPicPr/>
          <p:nvPr/>
        </p:nvPicPr>
        <p:blipFill>
          <a:blip r:embed="rId17"/>
          <a:stretch/>
        </p:blipFill>
        <p:spPr>
          <a:xfrm>
            <a:off x="214200" y="214200"/>
            <a:ext cx="785880" cy="790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пчёлка"/>
          <p:cNvPicPr/>
          <p:nvPr/>
        </p:nvPicPr>
        <p:blipFill>
          <a:blip r:embed="rId18"/>
          <a:stretch/>
        </p:blipFill>
        <p:spPr>
          <a:xfrm flipH="1">
            <a:off x="7897320" y="6119640"/>
            <a:ext cx="1143000" cy="1006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пчёлка"/>
          <p:cNvPicPr/>
          <p:nvPr/>
        </p:nvPicPr>
        <p:blipFill>
          <a:blip r:embed="rId19"/>
          <a:stretch/>
        </p:blipFill>
        <p:spPr>
          <a:xfrm>
            <a:off x="214200" y="6215040"/>
            <a:ext cx="785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508 C 0.00486 0.0037 0.00313 0.0074 0.0099 0.01341 C 0.01129 0.02289 0.01076 0.03283 0.01302 0.04208 C 0.01372 0.04486 0.01632 0.04601 0.01754 0.04833 C 0.01892 0.05087 0.01962 0.05364 0.02066 0.05642 C 0.02118 0.05919 0.02083 0.06243 0.02222 0.06474 C 0.02326 0.06636 0.02587 0.06497 0.02674 0.06682 C 0.0283 0.07052 0.02743 0.07515 0.0283 0.07908 C 0.03004 0.0874 0.03125 0.08902 0.03455 0.09549 C 0.03819 0.11145 0.03212 0.08925 0.04219 0.10775 C 0.05156 0.12509 0.03559 0.10821 0.04826 0.12 C 0.04931 0.12347 0.04965 0.1274 0.05139 0.13018 C 0.05295 0.13249 0.05625 0.13179 0.05747 0.13434 C 0.07292 0.1674 0.04722 0.13087 0.06372 0.15283 C 0.06424 0.15769 0.06441 0.16255 0.06528 0.16717 C 0.06649 0.17341 0.06979 0.18567 0.06979 0.1859 C 0.07344 0.22821 0.06754 0.18729 0.07604 0.21226 C 0.08004 0.22382 0.07726 0.22729 0.08368 0.23885 C 0.08542 0.24671 0.08611 0.25572 0.08819 0.26336 C 0.0908 0.2726 0.09583 0.28116 0.09913 0.28994 C 0.10052 0.30081 0.09896 0.30497 0.10677 0.30844 C 0.10799 0.31399 0.1099 0.32971 0.11146 0.33318 C 0.1125 0.33596 0.11545 0.33711 0.11736 0.33919 C 0.12274 0.34983 0.11927 0.35399 0.12674 0.36393 C 0.12934 0.3859 0.13004 0.39908 0.1375 0.41919 C 0.14375 0.437 0.13559 0.43145 0.14514 0.43561 C 0.14757 0.44601 0.15347 0.44509 0.16042 0.44994 C 0.16719 0.46289 0.15885 0.44948 0.17274 0.45804 C 0.17483 0.45919 0.17552 0.46289 0.17726 0.46428 C 0.18403 0.46867 0.19757 0.4696 0.20504 0.47237 C 0.20625 0.4696 0.20747 0.46705 0.20833 0.46428 C 0.20903 0.46151 0.20868 0.45827 0.2099 0.45596 C 0.21076 0.45388 0.21285 0.45364 0.21441 0.45203 C 0.21615 0.45018 0.21736 0.44786 0.2191 0.44578 C 0.22222 0.42937 0.23264 0.42544 0.24375 0.41919 C 0.25 0.41041 0.2566 0.40856 0.2651 0.40486 C 0.27587 0.38983 0.30191 0.38636 0.31736 0.37619 C 0.31945 0.37341 0.32118 0.36994 0.32344 0.36786 C 0.32604 0.36578 0.32917 0.36625 0.33125 0.36393 C 0.33247 0.36255 0.33142 0.35885 0.33281 0.35769 C 0.33507 0.35584 0.33785 0.3563 0.34045 0.35561 C 0.34427 0.34844 0.35052 0.33966 0.3559 0.33503 C 0.35816 0.33295 0.36129 0.33272 0.36372 0.3311 C 0.38212 0.31792 0.36945 0.32278 0.38212 0.31885 C 0.38941 0.31145 0.39462 0.30821 0.40365 0.30451 C 0.41406 0.29064 0.41979 0.28671 0.43438 0.28185 C 0.45156 0.27029 0.44392 0.27353 0.4559 0.2696 C 0.46076 0.25942 0.45781 0.26336 0.46962 0.25734 C 0.4842 0.24994 0.49844 0.24023 0.51285 0.23468 C 0.5184 0.23006 0.52743 0.22151 0.53455 0.21827 C 0.54462 0.21318 0.55642 0.21203 0.56684 0.20601 C 0.57622 0.20046 0.58594 0.19515 0.59601 0.19168 C 0.61771 0.1933 0.63872 0.19769 0.66059 0.2 C 0.67639 0.20463 0.66979 0.20231 0.68021 0.20601 C 0.68177 0.2074 0.68333 0.20902 0.68524 0.21018 C 0.68663 0.2111 0.68837 0.2111 0.68976 0.21226 C 0.69149 0.21388 0.69271 0.21665 0.69445 0.21827 C 0.69757 0.22151 0.70139 0.22336 0.70504 0.22659 C 0.71007 0.2363 0.7066 0.23769 0.7158 0.24093 C 0.72396 0.25133 0.71788 0.25249 0.7283 0.25942 C 0.73247 0.26682 0.73906 0.27283 0.74063 0.28185 C 0.74115 0.28532 0.7408 0.28925 0.74219 0.29203 C 0.74306 0.29388 0.74514 0.29341 0.74653 0.29411 C 0.74879 0.29619 0.75139 0.29757 0.75295 0.30035 C 0.76233 0.31769 0.74635 0.30081 0.75885 0.3126 C 0.76406 0.32208 0.76858 0.33249 0.77448 0.34127 C 0.77604 0.34359 0.77899 0.34312 0.78038 0.34544 C 0.78385 0.35075 0.78524 0.35838 0.7882 0.36393 C 0.79045 0.37457 0.79132 0.38567 0.79271 0.39653 C 0.79427 0.42451 0.79757 0.45388 0.78993 0.4807 C 0.78646 0.50775 0.78264 0.51145 0.76198 0.51769 C 0.76007 0.51862 0.75799 0.51977 0.75608 0.52139 C 0.75434 0.52301 0.75313 0.52625 0.75139 0.5274 C 0.74201 0.5348 0.73108 0.53827 0.72049 0.53989 C 0.69601 0.55353 0.68559 0.54659 0.65451 0.5422 C 0.64531 0.53942 0.63733 0.53457 0.62986 0.5274 C 0.62153 0.51214 0.61563 0.50775 0.60347 0.50104 C 0.60122 0.49318 0.59219 0.48162 0.58681 0.47653 C 0.58542 0.47376 0.58507 0.47029 0.58368 0.46821 C 0.58177 0.46613 0.57865 0.46659 0.5776 0.46428 C 0.5724 0.45619 0.57899 0.45272 0.56823 0.44786 C 0.56406 0.43099 0.56962 0.45203 0.55608 0.41919 C 0.54879 0.40208 0.55573 0.40694 0.54653 0.40278 C 0.54045 0.39145 0.53872 0.37827 0.53142 0.36786 C 0.52813 0.35584 0.52274 0.34497 0.5191 0.33318 C 0.51754 0.32 0.51424 0.31029 0.51146 0.29827 C 0.51007 0.29295 0.50833 0.28185 0.50833 0.28208 C 0.50451 0.24347 0.50538 0.20648 0.5191 0.17133 C 0.52066 0.16231 0.52274 0.15445 0.52656 0.14659 C 0.52726 0.14312 0.52674 0.13942 0.52813 0.13642 C 0.53021 0.13179 0.53507 0.13064 0.53733 0.12625 C 0.53872 0.1237 0.53872 0.12023 0.54063 0.11792 C 0.54219 0.11584 0.54462 0.11538 0.54653 0.11376 C 0.55538 0.10682 0.55712 0.10474 0.56684 0.10151 C 0.5816 0.08671 0.60955 0.0844 0.62813 0.08116 C 0.65226 0.08185 0.67726 0.07584 0.70052 0.08509 C 0.72326 0.09434 0.68524 0.0844 0.7158 0.09133 C 0.72222 0.10405 0.71528 0.09341 0.73142 0.09942 C 0.73455 0.10058 0.73733 0.10405 0.74063 0.10567 C 0.74306 0.10682 0.74566 0.10705 0.74826 0.10775 C 0.75122 0.11885 0.75833 0.11607 0.76667 0.11792 C 0.7684 0.11931 0.77014 0.12046 0.77118 0.12208 C 0.7724 0.1237 0.77292 0.12671 0.77448 0.12809 C 0.78108 0.13411 0.79132 0.14058 0.79913 0.14451 C 0.80451 0.15214 0.80938 0.15237 0.81597 0.15885 C 0.81771 0.1607 0.81892 0.16347 0.82066 0.16509 C 0.82656 0.17087 0.83403 0.17457 0.84063 0.17942 C 0.84844 0.18544 0.85504 0.19422 0.86354 0.19792 C 0.8691 0.20879 0.87917 0.22035 0.8882 0.22451 C 0.89549 0.23931 0.89167 0.2333 0.89913 0.24278 C 0.9026 0.25734 0.8974 0.23977 0.90521 0.25503 C 0.90729 0.25942 0.90573 0.26567 0.90833 0.2696 C 0.90955 0.27168 0.91215 0.27237 0.91441 0.27376 C 0.91493 0.27723 0.91441 0.28116 0.9158 0.28393 C 0.91806 0.28786 0.925 0.29203 0.925 0.29226 C 0.92986 0.30497 0.9342 0.31677 0.94045 0.32902 C 0.94149 0.3311 0.94254 0.33295 0.94358 0.33503 C 0.94479 0.33711 0.94479 0.34081 0.94653 0.34127 C 0.94913 0.34197 0.95174 0.34243 0.95451 0.34336 C 0.95729 0.34451 0.96372 0.34752 0.96372 0.34775 C 0.96632 0.33364 0.97031 0.33665 0.97743 0.32694 C 0.98316 0.29734 1.01788 0.28555 1.0375 0.28185 C 1.0434 0.2807 1.04983 0.28046 1.05608 0.27977 C 1.06389 0.27723 1.07135 0.27515 1.07899 0.27168 C 1.08524 0.26266 1.08906 0.26497 1.0974 0.26104 C 1.10625 0.25249 1.1151 0.24694 1.125 0.24093 C 1.13177 0.23677 1.13611 0.2326 1.14358 0.2326 E">
                                      <p:cBhvr>
                                        <p:cTn id="175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97688E-006 C -0.01181 -0.00508 -0.02327 -0.01063 -0.0349 -0.01687 C -0.04427 -0.0289 -0.03472 -0.01849 -0.05087 -0.02751 C -0.05816 -0.03167 -0.06302 -0.03976 -0.06997 -0.04439 C -0.07153 -0.04554 -0.08333 -0.04832 -0.0842 -0.04855 C -0.09705 -0.0571 -0.10174 -0.05618 -0.1191 -0.05918 C -0.13733 -0.06635 -0.14705 -0.06797 -0.16667 -0.06982 C -0.1875 -0.07398 -0.22292 -0.08716 -0.23663 -0.06127 C -0.24028 -0.04647 -0.23507 -0.06427 -0.24288 -0.04855 C -0.24497 -0.04416 -0.24393 -0.03791 -0.24601 -0.03375 C -0.24705 -0.03167 -0.24931 -0.03098 -0.25087 -0.02959 C -0.2592 -0.01248 -0.2625 0.00972 -0.26511 0.0296 C -0.26788 0.0511 -0.26389 0.04093 -0.26997 0.05295 C -0.27934 0.09041 -0.2809 0.13272 -0.28733 0.17134 C -0.28993 0.18683 -0.28958 0.19862 -0.29688 0.21134 C -0.29896 0.21966 -0.3 0.22821 -0.30156 0.23677 C -0.30104 0.2481 -0.30122 0.25943 -0.3 0.27053 C -0.29965 0.27376 -0.29774 0.27608 -0.29688 0.27908 C -0.29375 0.28995 -0.29375 0.2918 -0.29219 0.30243 C -0.29983 0.32671 -0.29254 0.317 -0.30156 0.31284 C -0.30469 0.31145 -0.30799 0.31145 -0.31111 0.31076 C -0.31788 0.30428 -0.32361 0.29873 -0.33177 0.29596 C -0.33333 0.29388 -0.33472 0.29134 -0.33663 0.28972 C -0.33906 0.28764 -0.34219 0.28764 -0.34445 0.28532 C -0.3533 0.27631 -0.36198 0.2622 -0.36997 0.25157 C -0.37257 0.2481 -0.37274 0.24116 -0.37622 0.23885 C -0.37934 0.23677 -0.38264 0.23469 -0.38577 0.23261 C -0.38768 0.2222 -0.39028 0.21943 -0.39688 0.21365 C -0.40052 0.19862 -0.39531 0.21527 -0.4033 0.20301 C -0.41042 0.19191 -0.41059 0.18451 -0.42066 0.1755 C -0.42379 0.15862 -0.41962 0.17457 -0.42708 0.1607 C -0.43108 0.1533 -0.43281 0.14267 -0.43663 0.13527 C -0.44271 0.12301 -0.45261 0.11353 -0.45886 0.10151 C -0.46476 0.09018 -0.46997 0.07584 -0.47465 0.06336 C -0.47535 0.06128 -0.47518 0.05873 -0.47622 0.05712 C -0.47795 0.05434 -0.48056 0.05295 -0.48264 0.05087 C -0.48681 0.03099 -0.48299 0.04001 -0.49375 0.02544 C -0.49583 0.02267 -0.49792 0.01966 -0.5 0.01688 C -0.50156 0.0148 -0.50486 0.01064 -0.50486 0.01064 C -0.51146 -0.00716 -0.50886 0.000699999999999999 -0.5191 -0.00832 C -0.52014 -0.0104 -0.52101 -0.01294 -0.52222 -0.01479 C -0.52518 -0.01918 -0.52934 -0.02242 -0.53177 -0.02751 C -0.53281 -0.02959 -0.53316 -0.03283 -0.5349 -0.03375 C -0.53993 -0.03653 -0.55087 -0.03791 -0.55087 -0.03791 C -0.56146 -0.03722 -0.57205 -0.03745 -0.58264 -0.03583 C -0.58542 -0.03537 -0.58785 -0.03283 -0.59045 -0.03167 C -0.59358 -0.03005 -0.6 -0.02751 -0.6 -0.02751 C -0.6092 -0.01918 -0.61945 -0.0141 -0.63021 -0.01063 C -0.63577 -0.00554 -0.63906 0.00093 -0.64445 0.00648 C -0.64757 0.03168 -0.64236 0.00995 -0.65243 0.02336 C -0.6559 0.02798 -0.65469 0.03423 -0.65886 0.03816 C -0.66111 0.04024 -0.66406 0.04093 -0.66667 0.04232 C -0.67274 0.05226 -0.67674 0.05735 -0.68577 0.06128 C -0.69705 0.07191 -0.70729 0.08694 -0.72066 0.09295 C -0.72587 0.10151 -0.72882 0.10891 -0.73663 0.11214 C -0.7408 0.11769 -0.74445 0.12209 -0.74774 0.12902 C -0.74861 0.13087 -0.74809 0.13365 -0.74931 0.13527 C -0.75087 0.13758 -0.75365 0.13781 -0.75556 0.13966 C -0.75799 0.14197 -0.7599 0.14521 -0.76198 0.14798 C -0.76406 0.15353 -0.7658 0.15954 -0.76823 0.16486 C -0.76962 0.16787 -0.77188 0.17018 -0.77309 0.17342 C -0.77691 0.1829 -0.77708 0.19353 -0.78264 0.20093 C -0.7849 0.20972 -0.78733 0.21781 -0.79045 0.22613 C -0.79375 0.24671 -0.79809 0.2666 -0.8 0.28764 C -0.79792 0.3207 -0.80035 0.35978 -0.78577 0.38891 C -0.78229 0.40324 -0.77761 0.41342 -0.76823 0.4229 C -0.75452 0.4555 -0.76927 0.42683 -0.75556 0.44186 C -0.74531 0.45295 -0.75972 0.44463 -0.74774 0.45041 C -0.74219 0.45758 -0.7382 0.45758 -0.73177 0.4629 C -0.72448 0.46891 -0.7191 0.47862 -0.71111 0.48209 C -0.70608 0.48879 -0.70365 0.49596 -0.69688 0.49897 C -0.69063 0.50729 -0.68577 0.51053 -0.67778 0.51584 C -0.66979 0.52671 -0.66198 0.53388 -0.65087 0.53688 C -0.64358 0.54983 -0.64045 0.54382 -0.63177 0.55399 C -0.61997 0.56787 -0.60712 0.5755 -0.59219 0.58128 C -0.58733 0.58313 -0.58264 0.58567 -0.57778 0.58775 C -0.56719 0.59214 -0.55677 0.59677 -0.54601 0.60047 C -0.53212 0.60532 -0.51754 0.60486 -0.5033 0.60671 C -0.48785 0.60347 -0.47257 0.60093 -0.45712 0.59839 C -0.45295 0.59631 -0.44827 0.59492 -0.44445 0.59191 C -0.42708 0.57781 -0.45486 0.59168 -0.43663 0.58359 C -0.43247 0.5792 -0.42708 0.57642 -0.42379 0.57087 C -0.42274 0.56902 -0.42344 0.56602 -0.42222 0.5644 C -0.41528 0.55584 -0.40747 0.54891 -0.4 0.54128 C -0.38698 0.51168 -0.37674 0.4807 -0.36823 0.4481 C -0.35556 0.39954 -0.3691 0.43816 -0.36042 0.41434 C -0.3592 0.36463 -0.35886 0.31769 -0.36354 0.26845 C -0.3684 0.21897 -0.37049 0.1718 -0.38733 0.12694 C -0.39063 0.10058 -0.3875 0.11816 -0.40156 0.07608 C -0.40399 0.06845 -0.40486 0.06012 -0.40799 0.05295 C -0.41024 0.04787 -0.41754 0.04024 -0.41754 0.04024 C -0.42205 0.02174 -0.42136 0.02752 -0.43021 0.0148 C -0.44011 0.00047 -0.44688 -0.01456 -0.45886 -0.02543 C -0.46771 -0.04878 -0.48802 -0.0608 -0.50486 -0.0719 C -0.50868 -0.07444 -0.51233 -0.07722 -0.51597 -0.08022 C -0.51823 -0.08207 -0.51979 -0.08508 -0.52222 -0.0867 C -0.53542 -0.09549 -0.54983 -0.10404 -0.56354 -0.1119 C -0.57691 -0.11953 -0.58611 -0.12947 -0.6 -0.13317 C -0.62379 -0.15329 -0.60087 -0.13733 -0.62708 -0.14589 C -0.6309 -0.14728 -0.6342 -0.15098 -0.6382 -0.15213 C -0.65139 -0.15629 -0.66893 -0.15884 -0.68264 -0.16069 C -0.71389 -0.17456 -0.74184 -0.16231 -0.76997 -0.15005 C -0.77465 -0.14589 -0.77986 -0.14427 -0.7842 -0.13942 C -0.79358 -0.12855 -0.78646 -0.13271 -0.79531 -0.12901 C -0.79792 -0.12624 -0.80035 -0.12277 -0.8033 -0.12046 C -0.80469 -0.1193 -0.8066 -0.11976 -0.80799 -0.11838 C -0.82222 -0.10427 -0.80972 -0.10982 -0.82222 -0.10566 C -0.82934 -0.09618 -0.83629 -0.08254 -0.84601 -0.07814 C -0.84809 -0.07537 -0.85 -0.07213 -0.85243 -0.06982 C -0.85434 -0.06797 -0.85712 -0.06774 -0.85886 -0.06543 C -0.86007 -0.06381 -0.8592 -0.0608 -0.86042 -0.05918 C -0.86372 -0.05479 -0.87465 -0.04439 -0.87934 -0.04231 C -0.88281 -0.03306 -0.8875 -0.02705 -0.89219 -0.01895 C -0.89653 -0.00184 -0.88993 -0.02219 -0.89844 -0.01063 C -0.89965 -0.00901 -0.89931 -0.00624 -0.9 -0.00416 C -0.90295 0.00347 -0.90382 0.00232 -0.90955 0.00648 C -0.91372 0.02336 -0.90729 0.00324 -0.91597 0.0148 C -0.91858 0.01827 -0.92101 0.02267 -0.92222 0.02752 C -0.92274 0.0296 -0.92274 0.03214 -0.92379 0.03376 C -0.92656 0.03839 -0.93333 0.04648 -0.93333 0.04648 C -0.93559 0.05596 -0.93368 0.05989 -0.94132 0.06336 C -0.9434 0.07723 -0.94965 0.08556 -0.95556 0.09735 C -0.95903 0.10428 -0.96077 0.11261 -0.96511 0.11839 C -0.97396 0.13018 -0.97952 0.14243 -0.98577 0.15654 C -0.98941 0.17596 -0.98646 0.16879 -0.99219 0.17966 C -0.99358 0.19168 -0.99722 0.20001 -1 0.21134 C -1.00382 0.24879 -1.0033 0.23261 -1.0033 0.26012 E">
                                      <p:cBhvr>
                                        <p:cTn id="178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38728E-006 L -1.25799 0.01596 E">
                                      <p:cBhvr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09249E-007 L 0.92934 -0.01064 E">
                                      <p:cBhvr>
                                        <p:cTn id="21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0.05295 L 0.26198 -0.15468 L 0.51319 0.08462 L 0.78958 -0.37202 L 1.27396 0.04324 L 1.29566 0.04832 E">
                                      <p:cBhvr>
                                        <p:cTn id="221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2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91 -0.03399 C 0.31111 -0.19422 0.52673 -0.18474 0.60625 -0.01896 C 0.68559 0.14682 0.59687 0.41225 0.40885 0.57225 C 0.22048 0.73248 0.00260000000000001 0.72786 -0.07691 0.56208 C -0.1566 0.39653 -0.06563 0.12624 0.13646 -0.02914 E"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1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21387E-006 C -8.33333E-007 0.16694 0.11059 0.30428 0.24549 0.30428 C 0.40434 0.30428 0.46181 0.15214 0.48594 0.06035 L 0.51076 -0.06058 C 0.53559 -0.15214 0.5967 -0.30405 0.77604 -0.30405 C 0.89115 -0.30405 1.0217 -0.16717 1.0217 -1.21387E-006 C 1.0217 0.16694 0.89115 0.30428 0.77604 0.30428 C 0.5967 0.30428 0.53559 0.15214 0.51076 0.06035 L 0.48594 -0.06058 C 0.46181 -0.15214 0.40434 -0.30405 0.24549 -0.30405 C 0.11059 -0.30405 -8.33333E-007 -0.16717 -8.33333E-007 -1.21387E-006 Z">
                                      <p:cBhvr>
                                        <p:cTn id="242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25434E-006 C 0.04497 -0.04832 0.09011 -0.09664 0.13803 -0.12277 C 0.18594 -0.1489 0.24271 -0.17086 0.28733 -0.15653 C 0.33195 -0.14219 0.37744 -0.04809 0.40626 -0.03607 C 0.43507 -0.02404 0.43455 -0.05086 0.46025 -0.08462 C 0.48594 -0.11838 0.52344 -0.21271 0.56025 -0.23884 C 0.59705 -0.26497 0.64323 -0.25341 0.68091 -0.24115 C 0.71858 -0.2289 0.76702 -0.19514 0.78577 -0.16485 C 0.80452 -0.13456 0.80938 -0.08347 0.79358 -0.05919 C 0.77778 -0.03491 0.71563 -0.03953 0.69046 -0.01919 C 0.66528 0.00116 0.67466 0.0333 0.64289 0.06336 C 0.61112 0.09341 0.52362 0.14127 0.50001 0.1607 C 0.47639 0.18012 0.50139 0.17688 0.50157 0.17966 E">
                                      <p:cBhvr>
                                        <p:cTn id="245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097 0.18127 C 0.51632 0.15399 0.49184 0.12694 0.48334 0.08439 C 0.47466 0.04185 0.48976 -0.03838 0.48959 -0.07376 C 0.48941 -0.10913 0.48993 -0.10705 0.48177 -0.12717 C 0.47344 -0.14728 0.46389 -0.17734 0.44011 -0.19445 C 0.41632 -0.21156 0.36233 -0.23353 0.33924 -0.23006 C 0.31615 -0.22636 0.31615 -0.20855 0.30104 -0.17272 C 0.28577 -0.13665 0.25781 -0.05549 0.24809 -0.01457 C 0.23854 0.02659 0.24531 0.04578 0.24323 0.07468 C 0.24115 0.10335 0.23663 0.13179 0.23542 0.15769 C 0.2342 0.18382 0.23542 0.21873 0.23542 0.23098 E">
                                      <p:cBhvr>
                                        <p:cTn id="248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542 0.23098 C 0.2533 0.18797 0.27153 0.14497 0.28872 0.09988 C 0.30573 0.05526 0.31216 0.00277 0.33889 -0.03885 C 0.36545 -0.08024 0.41233 -0.13318 0.44844 -0.14891 C 0.48507 -0.16486 0.52396 -0.13318 0.55695 -0.13411 C 0.59011 -0.13526 0.61858 -0.14474 0.64775 -0.15469 C 0.67691 -0.16486 0.71129 -0.20278 0.73247 -0.19584 C 0.75417 -0.18868 0.77188 -0.16 0.77656 -0.11145 C 0.78143 -0.06336 0.78125 0.05618 0.76268 0.09433 C 0.74393 0.13248 0.69566 0.12254 0.66528 0.11838 C 0.63455 0.11445 0.59479 0.09433 0.58056 0.06982 C 0.56597 0.04531 0.57587 0.003 0.57743 -0.02729 C 0.579 -0.05804 0.58542 -0.09318 0.58959 -0.11353 C 0.59462 -0.13411 0.58334 -0.13827 0.60556 -0.15099 C 0.62778 -0.1637 0.68698 -0.19029 0.72327 -0.19006 C 0.75938 -0.19006 0.80139 -0.17642 0.82379 -0.14891 C 0.84618 -0.12185 0.84827 -0.06359 0.85834 -0.02544 C 0.86858 0.01248 0.87275 0.04994 0.88507 0.07953 C 0.8974 0.10843 0.92917 0.12115 0.93212 0.15052 C 0.93507 0.17988 0.91684 0.23005 0.90226 0.25549 C 0.88768 0.28092 0.85382 0.29479 0.84427 0.30427 E">
                                      <p:cBhvr>
                                        <p:cTn id="251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428 0.30428 C 0.84341 0.18451 0.84271 0.06474 0.84428 -0.01272 C 0.84584 -0.09017 0.83976 -0.12717 0.85382 -0.16069 C 0.86789 -0.19422 0.88108 -0.22058 0.92848 -0.21364 C 0.97587 -0.2067 1.07969 -0.14173 1.13785 -0.11838 C 1.19601 -0.09503 1.23681 -0.08462 1.27761 -0.07399 E">
                                      <p:cBhvr>
                                        <p:cTn id="254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9827E-006 L -0.37795 0.41942 E">
                                      <p:cBhvr>
                                        <p:cTn id="26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61000"/>
                            </p:stCondLst>
                            <p:childTnLst>
                              <p:par>
                                <p:cTn id="263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0.0645 L 0.47309 0.44208 E">
                                      <p:cBhvr>
                                        <p:cTn id="27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275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89017E-007 L 0.39375 -0.43005 E">
                                      <p:cBhvr>
                                        <p:cTn id="28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9000"/>
                            </p:stCondLst>
                            <p:childTnLst>
                              <p:par>
                                <p:cTn id="287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27 -0.07722 L -0.379 -0.42335 E">
                                      <p:cBhvr>
                                        <p:cTn id="29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3000"/>
                            </p:stCondLst>
                            <p:childTnLst>
                              <p:par>
                                <p:cTn id="29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55640" y="119700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23 с.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те стрелками надписи с соответствующими им элементами рисунка.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8601" t="15455" r="57809" b="54191"/>
          <a:stretch/>
        </p:blipFill>
        <p:spPr>
          <a:xfrm>
            <a:off x="2666880" y="3505320"/>
            <a:ext cx="4037040" cy="24382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41" name="Text Box 5"/>
          <p:cNvSpPr/>
          <p:nvPr/>
        </p:nvSpPr>
        <p:spPr>
          <a:xfrm>
            <a:off x="3505320" y="27432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звание открытого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62120" y="3352680"/>
            <a:ext cx="16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бранный пункт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858000" y="2743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рока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781680" y="40384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крытое 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62164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ункт меню, выбор которого приведет к появлению диалогового ок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700200" y="54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24 с.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те стрелками надписи с соответствующими им элементами рисунка.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79600" y="1989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доступные для выполнения команды меню П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25600" y="2925720"/>
            <a:ext cx="169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звание открытого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622920" y="262080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бинация клавиш, соответствующая команде Выделить 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732720" y="457056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ункты меню, выбор которых приведет к появлению диалоговых о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28600" y="450864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анда соответствующая клавиатурной комбина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{Ctrl+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rcRect l="8601" t="15652" r="56248" b="45824"/>
          <a:stretch/>
        </p:blipFill>
        <p:spPr>
          <a:xfrm>
            <a:off x="2514600" y="3005280"/>
            <a:ext cx="3809880" cy="3132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38080" y="1600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25 с.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те стрелками надписи с соответствующими им элементами рисунка.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04920" y="3352680"/>
            <a:ext cx="21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крывающиеся сп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781680" y="4952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андные кно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9480" y="54864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Фла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419360" cy="3343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7000920" y="27860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п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681120" y="33984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26 с.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те стрелками надписи с соответствующими им элементами рисунка.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8580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Флаж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934320" y="3429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ле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362320" y="5943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андные кно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934320" y="4952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ереключ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rcRect l="23438" t="29168" r="36720" b="36462"/>
          <a:stretch/>
        </p:blipFill>
        <p:spPr>
          <a:xfrm>
            <a:off x="1943280" y="1957320"/>
            <a:ext cx="46479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900000" y="1916280"/>
            <a:ext cx="7772400" cy="201276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рактическ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Клавиатурный тренаж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755640" y="2293920"/>
            <a:ext cx="8064360" cy="1373760"/>
          </a:xfrm>
          <a:prstGeom prst="rect">
            <a:avLst/>
          </a:prstGeom>
          <a:gradFill rotWithShape="0">
            <a:gsLst>
              <a:gs pos="0">
                <a:srgbClr val="3be543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знать, разновидности мен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ся применять разли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96960" y="723960"/>
            <a:ext cx="7772400" cy="194472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Домашнее зад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Р.Т.стр 69(27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3" descr="Девочка пишет в тетради.jpg"/>
          <p:cNvPicPr/>
          <p:nvPr/>
        </p:nvPicPr>
        <p:blipFill>
          <a:blip r:embed="rId1"/>
          <a:stretch/>
        </p:blipFill>
        <p:spPr>
          <a:xfrm>
            <a:off x="2843280" y="2997360"/>
            <a:ext cx="3878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571680" y="1494720"/>
            <a:ext cx="78580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Сегодня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я узнал (узнала)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я научился (научилась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самым легким при выполнении практической работы для меня бы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самым трудным на уроке оказа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000080" y="100008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Продолжи фр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395280" y="333360"/>
            <a:ext cx="7416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Picture 3" descr="pt08"/>
          <p:cNvPicPr/>
          <p:nvPr/>
        </p:nvPicPr>
        <p:blipFill>
          <a:blip r:embed="rId3"/>
          <a:stretch/>
        </p:blipFill>
        <p:spPr>
          <a:xfrm>
            <a:off x="3429000" y="3929040"/>
            <a:ext cx="2374920" cy="166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pt09"/>
          <p:cNvPicPr/>
          <p:nvPr/>
        </p:nvPicPr>
        <p:blipFill>
          <a:blip r:embed="rId4"/>
          <a:stretch/>
        </p:blipFill>
        <p:spPr>
          <a:xfrm>
            <a:off x="5292720" y="260280"/>
            <a:ext cx="838080" cy="638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pt09"/>
          <p:cNvPicPr/>
          <p:nvPr/>
        </p:nvPicPr>
        <p:blipFill>
          <a:blip r:embed="rId5"/>
          <a:stretch/>
        </p:blipFill>
        <p:spPr>
          <a:xfrm>
            <a:off x="5643720" y="5214960"/>
            <a:ext cx="838080" cy="6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pt09"/>
          <p:cNvPicPr/>
          <p:nvPr/>
        </p:nvPicPr>
        <p:blipFill>
          <a:blip r:embed="rId6"/>
          <a:stretch/>
        </p:blipFill>
        <p:spPr>
          <a:xfrm>
            <a:off x="1857240" y="428760"/>
            <a:ext cx="838440" cy="637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pt09"/>
          <p:cNvPicPr/>
          <p:nvPr/>
        </p:nvPicPr>
        <p:blipFill>
          <a:blip r:embed="rId7"/>
          <a:stretch/>
        </p:blipFill>
        <p:spPr>
          <a:xfrm>
            <a:off x="785880" y="5429160"/>
            <a:ext cx="838080" cy="63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pt04"/>
          <p:cNvPicPr/>
          <p:nvPr/>
        </p:nvPicPr>
        <p:blipFill>
          <a:blip r:embed="rId8"/>
          <a:stretch/>
        </p:blipFill>
        <p:spPr>
          <a:xfrm>
            <a:off x="7286760" y="492912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pt04"/>
          <p:cNvPicPr/>
          <p:nvPr/>
        </p:nvPicPr>
        <p:blipFill>
          <a:blip r:embed="rId9"/>
          <a:stretch/>
        </p:blipFill>
        <p:spPr>
          <a:xfrm>
            <a:off x="4286160" y="400068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pt04"/>
          <p:cNvPicPr/>
          <p:nvPr/>
        </p:nvPicPr>
        <p:blipFill>
          <a:blip r:embed="rId10"/>
          <a:stretch/>
        </p:blipFill>
        <p:spPr>
          <a:xfrm>
            <a:off x="3429000" y="10717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pt04"/>
          <p:cNvPicPr/>
          <p:nvPr/>
        </p:nvPicPr>
        <p:blipFill>
          <a:blip r:embed="rId11"/>
          <a:stretch/>
        </p:blipFill>
        <p:spPr>
          <a:xfrm>
            <a:off x="500040" y="121428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pt04"/>
          <p:cNvPicPr/>
          <p:nvPr/>
        </p:nvPicPr>
        <p:blipFill>
          <a:blip r:embed="rId12"/>
          <a:stretch/>
        </p:blipFill>
        <p:spPr>
          <a:xfrm>
            <a:off x="6786720" y="78588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pt04"/>
          <p:cNvPicPr/>
          <p:nvPr/>
        </p:nvPicPr>
        <p:blipFill>
          <a:blip r:embed="rId13"/>
          <a:stretch/>
        </p:blipFill>
        <p:spPr>
          <a:xfrm>
            <a:off x="571680" y="378612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pt04"/>
          <p:cNvPicPr/>
          <p:nvPr/>
        </p:nvPicPr>
        <p:blipFill>
          <a:blip r:embed="rId14"/>
          <a:stretch/>
        </p:blipFill>
        <p:spPr>
          <a:xfrm>
            <a:off x="6715080" y="328608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&amp;Ocy;&amp;scy;&amp;ncy;&amp;ocy;&amp;vcy;&amp;ncy;&amp;ycy;&amp;iecy; &amp;ecy;&amp;lcy;&amp;iecy;&amp;mcy;&amp;iecy;&amp;ncy;&amp;tcy;&amp;ycy; &amp;ocy;&amp;kcy;&amp;ncy;&amp;acy; &amp;pcy;&amp;rcy;&amp;ocy;&amp;gcy;&amp;rcy;&amp;acy;&amp;mcy;&amp;mcy;&amp;ycy; WordPad"/>
          <p:cNvPicPr/>
          <p:nvPr/>
        </p:nvPicPr>
        <p:blipFill>
          <a:blip r:embed="rId1"/>
          <a:stretch/>
        </p:blipFill>
        <p:spPr>
          <a:xfrm>
            <a:off x="1042920" y="2678040"/>
            <a:ext cx="4637160" cy="2879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496440" y="197964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3121920" y="14130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855040" y="19684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ывающая кн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6058440" y="30686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рачивающая кн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6059160" y="41180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орачивающая кн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4363920" y="59817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осы прокру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1337760" y="602136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мка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6538320" y="5187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276120" y="260280"/>
            <a:ext cx="88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Соедините стрелками надписи с соответствующими им 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основными элементами окна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По способу перехода к меню различ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858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Раскрывающиеся меню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(щелкнуть на его название в строке мен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292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Контекстные меню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(вызывается щелчком правой кнопки мыш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75580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9621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5"/>
          <p:cNvSpPr/>
          <p:nvPr/>
        </p:nvSpPr>
        <p:spPr>
          <a:xfrm>
            <a:off x="250920" y="105264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7" descr="окно блокнота.jpg"/>
          <p:cNvPicPr/>
          <p:nvPr/>
        </p:nvPicPr>
        <p:blipFill>
          <a:blip r:embed="rId1"/>
          <a:stretch/>
        </p:blipFill>
        <p:spPr>
          <a:xfrm>
            <a:off x="324000" y="2133720"/>
            <a:ext cx="8069040" cy="444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Штриховая стрелка вправо 3"/>
          <p:cNvSpPr/>
          <p:nvPr/>
        </p:nvSpPr>
        <p:spPr>
          <a:xfrm rot="14173200">
            <a:off x="888120" y="3515040"/>
            <a:ext cx="3071520" cy="857160"/>
          </a:xfrm>
          <a:custGeom>
            <a:avLst/>
            <a:gdLst/>
            <a:ahLst/>
            <a:rect l="l" t="t" r="r" b="b"/>
            <a:pathLst>
              <a:path w="3071812" h="857250">
                <a:moveTo>
                  <a:pt x="0" y="330886"/>
                </a:moveTo>
                <a:lnTo>
                  <a:pt x="26789" y="330886"/>
                </a:lnTo>
                <a:lnTo>
                  <a:pt x="26789" y="526364"/>
                </a:lnTo>
                <a:lnTo>
                  <a:pt x="0" y="526364"/>
                </a:lnTo>
                <a:lnTo>
                  <a:pt x="0" y="330886"/>
                </a:lnTo>
                <a:close/>
                <a:moveTo>
                  <a:pt x="53578" y="330886"/>
                </a:moveTo>
                <a:lnTo>
                  <a:pt x="107156" y="330886"/>
                </a:lnTo>
                <a:lnTo>
                  <a:pt x="107156" y="526364"/>
                </a:lnTo>
                <a:lnTo>
                  <a:pt x="53578" y="526364"/>
                </a:lnTo>
                <a:lnTo>
                  <a:pt x="53578" y="330886"/>
                </a:lnTo>
                <a:close/>
                <a:moveTo>
                  <a:pt x="133945" y="330886"/>
                </a:moveTo>
                <a:lnTo>
                  <a:pt x="1125057" y="330886"/>
                </a:lnTo>
                <a:lnTo>
                  <a:pt x="1125057" y="0"/>
                </a:lnTo>
                <a:lnTo>
                  <a:pt x="3071812" y="428625"/>
                </a:lnTo>
                <a:lnTo>
                  <a:pt x="1125057" y="857250"/>
                </a:lnTo>
                <a:lnTo>
                  <a:pt x="1125057" y="526364"/>
                </a:lnTo>
                <a:lnTo>
                  <a:pt x="133945" y="526364"/>
                </a:lnTo>
                <a:lnTo>
                  <a:pt x="133945" y="33088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оловок 5"/>
          <p:cNvSpPr/>
          <p:nvPr/>
        </p:nvSpPr>
        <p:spPr>
          <a:xfrm>
            <a:off x="3571920" y="5072040"/>
            <a:ext cx="3286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в строке 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5"/>
          <p:cNvSpPr/>
          <p:nvPr/>
        </p:nvSpPr>
        <p:spPr>
          <a:xfrm>
            <a:off x="468360" y="83664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меню файл.jpg"/>
          <p:cNvPicPr/>
          <p:nvPr/>
        </p:nvPicPr>
        <p:blipFill>
          <a:blip r:embed="rId1"/>
          <a:stretch/>
        </p:blipFill>
        <p:spPr>
          <a:xfrm>
            <a:off x="500040" y="2143080"/>
            <a:ext cx="807264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Штриховая стрелка вправо 3"/>
          <p:cNvSpPr/>
          <p:nvPr/>
        </p:nvSpPr>
        <p:spPr>
          <a:xfrm rot="10974600">
            <a:off x="2513880" y="2648880"/>
            <a:ext cx="3071880" cy="654120"/>
          </a:xfrm>
          <a:custGeom>
            <a:avLst/>
            <a:gdLst/>
            <a:ahLst/>
            <a:rect l="l" t="t" r="r" b="b"/>
            <a:pathLst>
              <a:path w="3071813" h="654050">
                <a:moveTo>
                  <a:pt x="0" y="252453"/>
                </a:moveTo>
                <a:lnTo>
                  <a:pt x="20439" y="252453"/>
                </a:lnTo>
                <a:lnTo>
                  <a:pt x="20439" y="401597"/>
                </a:lnTo>
                <a:lnTo>
                  <a:pt x="0" y="401597"/>
                </a:lnTo>
                <a:lnTo>
                  <a:pt x="0" y="252453"/>
                </a:lnTo>
                <a:close/>
                <a:moveTo>
                  <a:pt x="40878" y="252453"/>
                </a:moveTo>
                <a:lnTo>
                  <a:pt x="81756" y="252453"/>
                </a:lnTo>
                <a:lnTo>
                  <a:pt x="81756" y="401597"/>
                </a:lnTo>
                <a:lnTo>
                  <a:pt x="40878" y="401597"/>
                </a:lnTo>
                <a:lnTo>
                  <a:pt x="40878" y="252453"/>
                </a:lnTo>
                <a:close/>
                <a:moveTo>
                  <a:pt x="102195" y="252453"/>
                </a:moveTo>
                <a:lnTo>
                  <a:pt x="839468" y="252453"/>
                </a:lnTo>
                <a:lnTo>
                  <a:pt x="839468" y="0"/>
                </a:lnTo>
                <a:lnTo>
                  <a:pt x="3071813" y="327025"/>
                </a:lnTo>
                <a:lnTo>
                  <a:pt x="839468" y="654050"/>
                </a:lnTo>
                <a:lnTo>
                  <a:pt x="839468" y="401597"/>
                </a:lnTo>
                <a:lnTo>
                  <a:pt x="102195" y="401597"/>
                </a:lnTo>
                <a:lnTo>
                  <a:pt x="102195" y="25245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триховая стрелка вправо 4"/>
          <p:cNvSpPr/>
          <p:nvPr/>
        </p:nvSpPr>
        <p:spPr>
          <a:xfrm rot="16020000">
            <a:off x="667080" y="4629600"/>
            <a:ext cx="2597400" cy="655560"/>
          </a:xfrm>
          <a:custGeom>
            <a:avLst/>
            <a:gdLst/>
            <a:ahLst/>
            <a:rect l="l" t="t" r="r" b="b"/>
            <a:pathLst>
              <a:path w="2597150" h="655638">
                <a:moveTo>
                  <a:pt x="0" y="253066"/>
                </a:moveTo>
                <a:lnTo>
                  <a:pt x="20489" y="253066"/>
                </a:lnTo>
                <a:lnTo>
                  <a:pt x="20489" y="402572"/>
                </a:lnTo>
                <a:lnTo>
                  <a:pt x="0" y="402572"/>
                </a:lnTo>
                <a:lnTo>
                  <a:pt x="0" y="253066"/>
                </a:lnTo>
                <a:close/>
                <a:moveTo>
                  <a:pt x="40977" y="253066"/>
                </a:moveTo>
                <a:lnTo>
                  <a:pt x="81955" y="253066"/>
                </a:lnTo>
                <a:lnTo>
                  <a:pt x="81955" y="402572"/>
                </a:lnTo>
                <a:lnTo>
                  <a:pt x="40977" y="402572"/>
                </a:lnTo>
                <a:lnTo>
                  <a:pt x="40977" y="253066"/>
                </a:lnTo>
                <a:close/>
                <a:moveTo>
                  <a:pt x="102443" y="253066"/>
                </a:moveTo>
                <a:lnTo>
                  <a:pt x="405805" y="253066"/>
                </a:lnTo>
                <a:lnTo>
                  <a:pt x="405805" y="0"/>
                </a:lnTo>
                <a:lnTo>
                  <a:pt x="2597150" y="327819"/>
                </a:lnTo>
                <a:lnTo>
                  <a:pt x="405805" y="655638"/>
                </a:lnTo>
                <a:lnTo>
                  <a:pt x="405805" y="402572"/>
                </a:lnTo>
                <a:lnTo>
                  <a:pt x="102443" y="402572"/>
                </a:lnTo>
                <a:lnTo>
                  <a:pt x="102443" y="25306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5"/>
          <p:cNvSpPr/>
          <p:nvPr/>
        </p:nvSpPr>
        <p:spPr>
          <a:xfrm>
            <a:off x="5643720" y="2857680"/>
            <a:ext cx="2571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виатур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бин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5"/>
          <p:cNvSpPr/>
          <p:nvPr/>
        </p:nvSpPr>
        <p:spPr>
          <a:xfrm>
            <a:off x="2286000" y="585792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итель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5429160" y="3500280"/>
            <a:ext cx="2495520" cy="3002040"/>
          </a:xfrm>
          <a:prstGeom prst="rect">
            <a:avLst/>
          </a:prstGeom>
          <a:ln w="0">
            <a:noFill/>
          </a:ln>
        </p:spPr>
      </p:pic>
      <p:sp>
        <p:nvSpPr>
          <p:cNvPr id="79" name="Штриховая стрелка вправо 8"/>
          <p:cNvSpPr/>
          <p:nvPr/>
        </p:nvSpPr>
        <p:spPr>
          <a:xfrm rot="8834400">
            <a:off x="4436640" y="5098680"/>
            <a:ext cx="1257480" cy="347760"/>
          </a:xfrm>
          <a:custGeom>
            <a:avLst/>
            <a:gdLst/>
            <a:ahLst/>
            <a:rect l="l" t="t" r="r" b="b"/>
            <a:pathLst>
              <a:path w="1257300" h="347663">
                <a:moveTo>
                  <a:pt x="0" y="134193"/>
                </a:moveTo>
                <a:lnTo>
                  <a:pt x="10864" y="134193"/>
                </a:lnTo>
                <a:lnTo>
                  <a:pt x="10864" y="213470"/>
                </a:lnTo>
                <a:lnTo>
                  <a:pt x="0" y="213470"/>
                </a:lnTo>
                <a:lnTo>
                  <a:pt x="0" y="134193"/>
                </a:lnTo>
                <a:close/>
                <a:moveTo>
                  <a:pt x="21729" y="134193"/>
                </a:moveTo>
                <a:lnTo>
                  <a:pt x="43458" y="134193"/>
                </a:lnTo>
                <a:lnTo>
                  <a:pt x="43458" y="213470"/>
                </a:lnTo>
                <a:lnTo>
                  <a:pt x="21729" y="213470"/>
                </a:lnTo>
                <a:lnTo>
                  <a:pt x="21729" y="134193"/>
                </a:lnTo>
                <a:close/>
                <a:moveTo>
                  <a:pt x="54322" y="134193"/>
                </a:moveTo>
                <a:lnTo>
                  <a:pt x="196453" y="134193"/>
                </a:lnTo>
                <a:lnTo>
                  <a:pt x="196453" y="0"/>
                </a:lnTo>
                <a:lnTo>
                  <a:pt x="1257300" y="173832"/>
                </a:lnTo>
                <a:lnTo>
                  <a:pt x="196453" y="347663"/>
                </a:lnTo>
                <a:lnTo>
                  <a:pt x="196453" y="213470"/>
                </a:lnTo>
                <a:lnTo>
                  <a:pt x="54322" y="213470"/>
                </a:lnTo>
                <a:lnTo>
                  <a:pt x="54322" y="13419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5"/>
          <p:cNvSpPr/>
          <p:nvPr/>
        </p:nvSpPr>
        <p:spPr>
          <a:xfrm>
            <a:off x="2643120" y="4071960"/>
            <a:ext cx="2571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логовое 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Штриховая стрелка вправо 10"/>
          <p:cNvSpPr/>
          <p:nvPr/>
        </p:nvSpPr>
        <p:spPr>
          <a:xfrm rot="8834400">
            <a:off x="4470120" y="3749760"/>
            <a:ext cx="1257120" cy="255600"/>
          </a:xfrm>
          <a:custGeom>
            <a:avLst/>
            <a:gdLst/>
            <a:ahLst/>
            <a:rect l="l" t="t" r="r" b="b"/>
            <a:pathLst>
              <a:path w="1257300" h="255588">
                <a:moveTo>
                  <a:pt x="0" y="98653"/>
                </a:moveTo>
                <a:lnTo>
                  <a:pt x="7987" y="98653"/>
                </a:lnTo>
                <a:lnTo>
                  <a:pt x="7987" y="156935"/>
                </a:lnTo>
                <a:lnTo>
                  <a:pt x="0" y="156935"/>
                </a:lnTo>
                <a:lnTo>
                  <a:pt x="0" y="98653"/>
                </a:lnTo>
                <a:close/>
                <a:moveTo>
                  <a:pt x="15974" y="98653"/>
                </a:moveTo>
                <a:lnTo>
                  <a:pt x="31949" y="98653"/>
                </a:lnTo>
                <a:lnTo>
                  <a:pt x="31949" y="156935"/>
                </a:lnTo>
                <a:lnTo>
                  <a:pt x="15974" y="156935"/>
                </a:lnTo>
                <a:lnTo>
                  <a:pt x="15974" y="98653"/>
                </a:lnTo>
                <a:close/>
                <a:moveTo>
                  <a:pt x="39936" y="98653"/>
                </a:moveTo>
                <a:lnTo>
                  <a:pt x="384950" y="98653"/>
                </a:lnTo>
                <a:lnTo>
                  <a:pt x="384950" y="0"/>
                </a:lnTo>
                <a:lnTo>
                  <a:pt x="1257300" y="127794"/>
                </a:lnTo>
                <a:lnTo>
                  <a:pt x="384950" y="255588"/>
                </a:lnTo>
                <a:lnTo>
                  <a:pt x="384950" y="156935"/>
                </a:lnTo>
                <a:lnTo>
                  <a:pt x="39936" y="156935"/>
                </a:lnTo>
                <a:lnTo>
                  <a:pt x="39936" y="9865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5"/>
          <p:cNvSpPr/>
          <p:nvPr/>
        </p:nvSpPr>
        <p:spPr>
          <a:xfrm>
            <a:off x="357120" y="28584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6" descr="печать.jpg"/>
          <p:cNvPicPr/>
          <p:nvPr/>
        </p:nvPicPr>
        <p:blipFill>
          <a:blip r:embed="rId1"/>
          <a:stretch/>
        </p:blipFill>
        <p:spPr>
          <a:xfrm>
            <a:off x="500040" y="2143080"/>
            <a:ext cx="8072640" cy="441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Штриховая стрелка вправо 3"/>
          <p:cNvSpPr/>
          <p:nvPr/>
        </p:nvSpPr>
        <p:spPr>
          <a:xfrm rot="14173200">
            <a:off x="1278720" y="4642200"/>
            <a:ext cx="2946240" cy="696960"/>
          </a:xfrm>
          <a:custGeom>
            <a:avLst/>
            <a:gdLst/>
            <a:ahLst/>
            <a:rect l="l" t="t" r="r" b="b"/>
            <a:pathLst>
              <a:path w="2946400" h="696913">
                <a:moveTo>
                  <a:pt x="0" y="268998"/>
                </a:moveTo>
                <a:lnTo>
                  <a:pt x="21779" y="268998"/>
                </a:lnTo>
                <a:lnTo>
                  <a:pt x="21779" y="427915"/>
                </a:lnTo>
                <a:lnTo>
                  <a:pt x="0" y="427915"/>
                </a:lnTo>
                <a:lnTo>
                  <a:pt x="0" y="268998"/>
                </a:lnTo>
                <a:close/>
                <a:moveTo>
                  <a:pt x="43557" y="268998"/>
                </a:moveTo>
                <a:lnTo>
                  <a:pt x="87114" y="268998"/>
                </a:lnTo>
                <a:lnTo>
                  <a:pt x="87114" y="427915"/>
                </a:lnTo>
                <a:lnTo>
                  <a:pt x="43557" y="427915"/>
                </a:lnTo>
                <a:lnTo>
                  <a:pt x="43557" y="268998"/>
                </a:lnTo>
                <a:close/>
                <a:moveTo>
                  <a:pt x="108893" y="268998"/>
                </a:moveTo>
                <a:lnTo>
                  <a:pt x="585182" y="268998"/>
                </a:lnTo>
                <a:lnTo>
                  <a:pt x="585182" y="0"/>
                </a:lnTo>
                <a:lnTo>
                  <a:pt x="2946400" y="348457"/>
                </a:lnTo>
                <a:lnTo>
                  <a:pt x="585182" y="696913"/>
                </a:lnTo>
                <a:lnTo>
                  <a:pt x="585182" y="427915"/>
                </a:lnTo>
                <a:lnTo>
                  <a:pt x="108893" y="427915"/>
                </a:lnTo>
                <a:lnTo>
                  <a:pt x="108893" y="2689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5"/>
          <p:cNvSpPr/>
          <p:nvPr/>
        </p:nvSpPr>
        <p:spPr>
          <a:xfrm>
            <a:off x="3071880" y="5857920"/>
            <a:ext cx="4357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ор пункта из раскрывающегося 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2786040" y="1000080"/>
            <a:ext cx="56484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Заголовок 5"/>
          <p:cNvSpPr/>
          <p:nvPr/>
        </p:nvSpPr>
        <p:spPr>
          <a:xfrm>
            <a:off x="4143240" y="5143680"/>
            <a:ext cx="4357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андные кно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Штриховая стрелка вправо 7"/>
          <p:cNvSpPr/>
          <p:nvPr/>
        </p:nvSpPr>
        <p:spPr>
          <a:xfrm rot="17925000">
            <a:off x="7320240" y="4646160"/>
            <a:ext cx="952200" cy="218880"/>
          </a:xfrm>
          <a:custGeom>
            <a:avLst/>
            <a:gdLst/>
            <a:ahLst/>
            <a:rect l="l" t="t" r="r" b="b"/>
            <a:pathLst>
              <a:path w="952500" h="219075">
                <a:moveTo>
                  <a:pt x="0" y="84560"/>
                </a:moveTo>
                <a:lnTo>
                  <a:pt x="6846" y="84560"/>
                </a:lnTo>
                <a:lnTo>
                  <a:pt x="6846" y="134515"/>
                </a:lnTo>
                <a:lnTo>
                  <a:pt x="0" y="134515"/>
                </a:lnTo>
                <a:lnTo>
                  <a:pt x="0" y="84560"/>
                </a:lnTo>
                <a:close/>
                <a:moveTo>
                  <a:pt x="13692" y="84560"/>
                </a:moveTo>
                <a:lnTo>
                  <a:pt x="27384" y="84560"/>
                </a:lnTo>
                <a:lnTo>
                  <a:pt x="27384" y="134515"/>
                </a:lnTo>
                <a:lnTo>
                  <a:pt x="13692" y="134515"/>
                </a:lnTo>
                <a:lnTo>
                  <a:pt x="13692" y="84560"/>
                </a:lnTo>
                <a:close/>
                <a:moveTo>
                  <a:pt x="34230" y="84560"/>
                </a:moveTo>
                <a:lnTo>
                  <a:pt x="210250" y="84560"/>
                </a:lnTo>
                <a:lnTo>
                  <a:pt x="210250" y="0"/>
                </a:lnTo>
                <a:lnTo>
                  <a:pt x="952500" y="109538"/>
                </a:lnTo>
                <a:lnTo>
                  <a:pt x="210250" y="219075"/>
                </a:lnTo>
                <a:lnTo>
                  <a:pt x="210250" y="134515"/>
                </a:lnTo>
                <a:lnTo>
                  <a:pt x="34230" y="134515"/>
                </a:lnTo>
                <a:lnTo>
                  <a:pt x="34230" y="8456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Штриховая стрелка вправо 8"/>
          <p:cNvSpPr/>
          <p:nvPr/>
        </p:nvSpPr>
        <p:spPr>
          <a:xfrm rot="17925000">
            <a:off x="6563520" y="4646880"/>
            <a:ext cx="952200" cy="217440"/>
          </a:xfrm>
          <a:custGeom>
            <a:avLst/>
            <a:gdLst/>
            <a:ahLst/>
            <a:rect l="l" t="t" r="r" b="b"/>
            <a:pathLst>
              <a:path w="952500" h="217488">
                <a:moveTo>
                  <a:pt x="0" y="83947"/>
                </a:moveTo>
                <a:lnTo>
                  <a:pt x="6797" y="83947"/>
                </a:lnTo>
                <a:lnTo>
                  <a:pt x="6797" y="133541"/>
                </a:lnTo>
                <a:lnTo>
                  <a:pt x="0" y="133541"/>
                </a:lnTo>
                <a:lnTo>
                  <a:pt x="0" y="83947"/>
                </a:lnTo>
                <a:close/>
                <a:moveTo>
                  <a:pt x="13593" y="83947"/>
                </a:moveTo>
                <a:lnTo>
                  <a:pt x="27186" y="83947"/>
                </a:lnTo>
                <a:lnTo>
                  <a:pt x="27186" y="133541"/>
                </a:lnTo>
                <a:lnTo>
                  <a:pt x="13593" y="133541"/>
                </a:lnTo>
                <a:lnTo>
                  <a:pt x="13593" y="83947"/>
                </a:lnTo>
                <a:close/>
                <a:moveTo>
                  <a:pt x="33983" y="83947"/>
                </a:moveTo>
                <a:lnTo>
                  <a:pt x="215627" y="83947"/>
                </a:lnTo>
                <a:lnTo>
                  <a:pt x="215627" y="0"/>
                </a:lnTo>
                <a:lnTo>
                  <a:pt x="952500" y="108744"/>
                </a:lnTo>
                <a:lnTo>
                  <a:pt x="215627" y="217488"/>
                </a:lnTo>
                <a:lnTo>
                  <a:pt x="215627" y="133541"/>
                </a:lnTo>
                <a:lnTo>
                  <a:pt x="33983" y="133541"/>
                </a:lnTo>
                <a:lnTo>
                  <a:pt x="33983" y="8394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5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6" descr="неактивные.jpg"/>
          <p:cNvPicPr/>
          <p:nvPr/>
        </p:nvPicPr>
        <p:blipFill>
          <a:blip r:embed="rId1"/>
          <a:stretch/>
        </p:blipFill>
        <p:spPr>
          <a:xfrm>
            <a:off x="511200" y="2057400"/>
            <a:ext cx="809460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Штриховая стрелка вправо 3"/>
          <p:cNvSpPr/>
          <p:nvPr/>
        </p:nvSpPr>
        <p:spPr>
          <a:xfrm rot="11629200">
            <a:off x="2336400" y="3342960"/>
            <a:ext cx="3071880" cy="708120"/>
          </a:xfrm>
          <a:custGeom>
            <a:avLst/>
            <a:gdLst/>
            <a:ahLst/>
            <a:rect l="l" t="t" r="r" b="b"/>
            <a:pathLst>
              <a:path w="3071813" h="708025">
                <a:moveTo>
                  <a:pt x="0" y="273287"/>
                </a:moveTo>
                <a:lnTo>
                  <a:pt x="22126" y="273287"/>
                </a:lnTo>
                <a:lnTo>
                  <a:pt x="22126" y="434738"/>
                </a:lnTo>
                <a:lnTo>
                  <a:pt x="0" y="434738"/>
                </a:lnTo>
                <a:lnTo>
                  <a:pt x="0" y="273287"/>
                </a:lnTo>
                <a:close/>
                <a:moveTo>
                  <a:pt x="44252" y="273287"/>
                </a:moveTo>
                <a:lnTo>
                  <a:pt x="88503" y="273287"/>
                </a:lnTo>
                <a:lnTo>
                  <a:pt x="88503" y="434738"/>
                </a:lnTo>
                <a:lnTo>
                  <a:pt x="44252" y="434738"/>
                </a:lnTo>
                <a:lnTo>
                  <a:pt x="44252" y="273287"/>
                </a:lnTo>
                <a:close/>
                <a:moveTo>
                  <a:pt x="110629" y="273287"/>
                </a:moveTo>
                <a:lnTo>
                  <a:pt x="851510" y="273287"/>
                </a:lnTo>
                <a:lnTo>
                  <a:pt x="851510" y="0"/>
                </a:lnTo>
                <a:lnTo>
                  <a:pt x="3071813" y="354013"/>
                </a:lnTo>
                <a:lnTo>
                  <a:pt x="851510" y="708025"/>
                </a:lnTo>
                <a:lnTo>
                  <a:pt x="851510" y="434738"/>
                </a:lnTo>
                <a:lnTo>
                  <a:pt x="110629" y="434738"/>
                </a:lnTo>
                <a:lnTo>
                  <a:pt x="110629" y="273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Заголовок 5"/>
          <p:cNvSpPr/>
          <p:nvPr/>
        </p:nvSpPr>
        <p:spPr>
          <a:xfrm>
            <a:off x="5511960" y="3843360"/>
            <a:ext cx="2571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активные кноп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5"/>
          <p:cNvSpPr/>
          <p:nvPr/>
        </p:nvSpPr>
        <p:spPr>
          <a:xfrm>
            <a:off x="395280" y="54936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флажок.jpg"/>
          <p:cNvPicPr/>
          <p:nvPr/>
        </p:nvPicPr>
        <p:blipFill>
          <a:blip r:embed="rId1"/>
          <a:stretch/>
        </p:blipFill>
        <p:spPr>
          <a:xfrm>
            <a:off x="511200" y="1797120"/>
            <a:ext cx="8072280" cy="441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Штриховая стрелка вправо 3"/>
          <p:cNvSpPr/>
          <p:nvPr/>
        </p:nvSpPr>
        <p:spPr>
          <a:xfrm rot="11629200">
            <a:off x="2693520" y="2440080"/>
            <a:ext cx="3071880" cy="707760"/>
          </a:xfrm>
          <a:custGeom>
            <a:avLst/>
            <a:gdLst/>
            <a:ahLst/>
            <a:rect l="l" t="t" r="r" b="b"/>
            <a:pathLst>
              <a:path w="3071812" h="708025">
                <a:moveTo>
                  <a:pt x="0" y="273287"/>
                </a:moveTo>
                <a:lnTo>
                  <a:pt x="22126" y="273287"/>
                </a:lnTo>
                <a:lnTo>
                  <a:pt x="22126" y="434738"/>
                </a:lnTo>
                <a:lnTo>
                  <a:pt x="0" y="434738"/>
                </a:lnTo>
                <a:lnTo>
                  <a:pt x="0" y="273287"/>
                </a:lnTo>
                <a:close/>
                <a:moveTo>
                  <a:pt x="44252" y="273287"/>
                </a:moveTo>
                <a:lnTo>
                  <a:pt x="88503" y="273287"/>
                </a:lnTo>
                <a:lnTo>
                  <a:pt x="88503" y="434738"/>
                </a:lnTo>
                <a:lnTo>
                  <a:pt x="44252" y="434738"/>
                </a:lnTo>
                <a:lnTo>
                  <a:pt x="44252" y="273287"/>
                </a:lnTo>
                <a:close/>
                <a:moveTo>
                  <a:pt x="110629" y="273287"/>
                </a:moveTo>
                <a:lnTo>
                  <a:pt x="851509" y="273287"/>
                </a:lnTo>
                <a:lnTo>
                  <a:pt x="851509" y="0"/>
                </a:lnTo>
                <a:lnTo>
                  <a:pt x="3071812" y="354013"/>
                </a:lnTo>
                <a:lnTo>
                  <a:pt x="851509" y="708025"/>
                </a:lnTo>
                <a:lnTo>
                  <a:pt x="851509" y="434738"/>
                </a:lnTo>
                <a:lnTo>
                  <a:pt x="110629" y="434738"/>
                </a:lnTo>
                <a:lnTo>
                  <a:pt x="110629" y="273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5"/>
          <p:cNvSpPr/>
          <p:nvPr/>
        </p:nvSpPr>
        <p:spPr>
          <a:xfrm>
            <a:off x="5797440" y="294012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ленный флаж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00:28:59Z</dcterms:created>
  <dc:creator>Пользователь</dc:creator>
  <dc:description/>
  <dc:language>en-US</dc:language>
  <cp:lastModifiedBy>Oksana</cp:lastModifiedBy>
  <dcterms:modified xsi:type="dcterms:W3CDTF">2014-01-26T03:58:15Z</dcterms:modified>
  <cp:revision>15</cp:revision>
  <dc:subject/>
  <dc:title>Слайд 1</dc:title>
</cp:coreProperties>
</file>