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D2E-12EF-4AE2-9840-EE306CBD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878-211A-450F-81C8-A7E8642E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AC8-2417-4690-B022-E2A9BCEC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6A2-90A6-4E65-B720-20D17160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DE99-008C-4F98-9744-8E931291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5A6C-FB13-422C-A8FC-29871567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45A2-86C8-4A43-AB88-18FFFDDD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39F9-1CB1-45AC-B796-8AAACDFB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DDF8-A2C2-4818-9449-E7353372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08FF-D855-4342-92FE-7B06A141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7B5B-57E3-472A-9D10-33AF453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9DD-F421-4848-8369-A45AA0C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42A3-B16F-48AE-80AB-6C9F8A4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ED2A-6E7D-498F-977C-9DEAC58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121F-1BBF-4321-A221-1D663FE1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08D0-629E-4482-A80F-A54716BB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54A3-EFE5-4618-A07E-888D8BD0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FA0F-696A-441B-9268-011E687E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A568-DEB9-4C36-9734-A36B126A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B3F6-3875-4287-9570-36FFADC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8B9B-4A84-43AB-AA16-085F83F8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9205-F229-42A0-9931-81376BE0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2D1-A747-4E60-B4D6-52086DF9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E995-7A37-45B2-8258-537BC773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23F8-4318-4E90-8A48-E8697FE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A88E-02A6-43BB-82A5-34D8065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0F8B-1720-4649-82EB-994A10D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9EC7-97A3-435F-A3BA-477ADC9E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BB86-30E4-4AAD-9F88-F88A3527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75DE-E922-4447-80AA-320BACA0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1B5B-A12F-4FDA-8E53-B5A342B2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709D-732A-4075-9CC7-2399EC5C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AB1E-0D20-4C25-A62F-2EB9AA0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D53-7774-4703-B12D-C63C630F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7143F-37B0-41E5-A08B-E64D4DE8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394F-E158-4D08-B291-B541ABF4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7EAF-DA44-4978-ABF6-5F30A89A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BF99-2463-4659-9E45-E014AAE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C54FC-376D-4AD6-BB54-736D81C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46F2-9BF1-4B34-BA35-E6404F4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D9BF0-37B6-4270-9EFC-961DD83D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5CE8-9966-4E83-8635-0B449C03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98B9-B0FA-4F3E-956F-AA0D50DF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343-2069-49AF-9311-8DB267A0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F3E-4A4D-4808-BFDA-9648F4EF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A22-9740-47AA-9E6C-A3181246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43D-F8DD-4778-8B85-377E1C26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6D5-2569-4F71-92FA-CB9D46C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295A0-51AE-43A1-AD1C-80001A732B4A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6A7AC-4877-439A-A67B-65683FB54848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B0FE3-F120-4E1E-8112-0AD457453BA4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3BE36-9307-42CA-B1B3-CF00B723E915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6200" y="452520"/>
            <a:ext cx="26287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Задача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выданном вам тексте найти информацию о тех звездах, которые удалены от земли больше чем на 300 световых лет, а также ярче солнца более чем в 7000 раз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Одна минута Вам на размышление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644400" y="789120"/>
            <a:ext cx="940608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Ответ</a:t>
            </a: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Объект 2"/>
          <p:cNvSpPr/>
          <p:nvPr/>
        </p:nvSpPr>
        <p:spPr>
          <a:xfrm>
            <a:off x="466560" y="2052720"/>
            <a:ext cx="1122552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Бетельгейзе – расстояние от земли 650 св. лет, ярче солнца в 22000 раз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Ригель – расстояние от земли 820 св. лет, ярче солнца в 55000 раз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енеб – расстояние от земли 1600 св. лет, ярче солнца в 725000 раз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Третий способ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ля построения сложных таблиц используется функция «Нарисовать таблицу»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ля удобства редактирование нарисованной таблицы испольцуйте функцию «Ластик»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3" name="Рисунок 4" descr=""/>
          <p:cNvPicPr/>
          <p:nvPr/>
        </p:nvPicPr>
        <p:blipFill>
          <a:blip r:embed="rId1"/>
          <a:stretch/>
        </p:blipFill>
        <p:spPr>
          <a:xfrm>
            <a:off x="7856640" y="2978280"/>
            <a:ext cx="801720" cy="8715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"/>
          <p:cNvPicPr/>
          <p:nvPr/>
        </p:nvPicPr>
        <p:blipFill>
          <a:blip r:embed="rId2"/>
          <a:stretch/>
        </p:blipFill>
        <p:spPr>
          <a:xfrm>
            <a:off x="9863280" y="4676760"/>
            <a:ext cx="644400" cy="69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Форматирование таблиц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45840" y="2052360"/>
            <a:ext cx="1074564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изводится на закладке «КОНСТРУКТОР», которая появляется только при нажатии на таблицу в документ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ней можно изменить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тиль таблиц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лив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тиль оформления гран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Толщину, цвет и тип пер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Редактирование таблиц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84040" y="1558440"/>
            <a:ext cx="89470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изводится на закладке «МАКЕТ», которая появляется при выделении таблиц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96720" y="2393640"/>
            <a:ext cx="6056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ebebeb"/>
                </a:solidFill>
                <a:latin typeface="Century Gothic"/>
              </a:rPr>
              <a:t>Вопросы</a:t>
            </a:r>
            <a:endParaRPr b="0" lang="en-US" sz="9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Заголовок 1"/>
          <p:cNvSpPr/>
          <p:nvPr/>
        </p:nvSpPr>
        <p:spPr>
          <a:xfrm>
            <a:off x="1074600" y="2565360"/>
            <a:ext cx="9406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Какие были затруднения при выполнении задания?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Заголовок 1"/>
          <p:cNvSpPr/>
          <p:nvPr/>
        </p:nvSpPr>
        <p:spPr>
          <a:xfrm>
            <a:off x="1227240" y="2717640"/>
            <a:ext cx="940572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Предположите, как можно упростить решение такого вида задач?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9" name="Рисунок 2" descr=""/>
          <p:cNvPicPr/>
          <p:nvPr/>
        </p:nvPicPr>
        <p:blipFill>
          <a:blip r:embed="rId1"/>
          <a:stretch/>
        </p:blipFill>
        <p:spPr>
          <a:xfrm>
            <a:off x="1495440" y="2060640"/>
            <a:ext cx="9435960" cy="3255840"/>
          </a:xfrm>
          <a:prstGeom prst="rect">
            <a:avLst/>
          </a:prstGeom>
          <a:ln w="0">
            <a:noFill/>
          </a:ln>
        </p:spPr>
      </p:pic>
      <p:sp>
        <p:nvSpPr>
          <p:cNvPr id="210" name="Заголовок 1"/>
          <p:cNvSpPr/>
          <p:nvPr/>
        </p:nvSpPr>
        <p:spPr>
          <a:xfrm>
            <a:off x="1379520" y="2870280"/>
            <a:ext cx="9406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Какую тему мы будем сегодня изучать?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7840" y="801720"/>
            <a:ext cx="1180296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ebebeb"/>
                </a:solidFill>
                <a:latin typeface="Century Gothic"/>
              </a:rPr>
              <a:t>Создание и форматирование таблиц в </a:t>
            </a:r>
            <a:r>
              <a:rPr b="1" lang="en-US" sz="6000" spc="-1" strike="noStrike">
                <a:solidFill>
                  <a:srgbClr val="ebebeb"/>
                </a:solidFill>
                <a:latin typeface="Century Gothic"/>
              </a:rPr>
              <a:t>Microsoft Office Word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741480" y="5052600"/>
            <a:ext cx="845028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Материал подготовил: учитель информатики и икт Груздев Николай Андреевич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Муниципальное автономное 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«Средняя общеобразовательная школа № 43»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етропавловск-Камчатского городского окру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9440" y="3557160"/>
            <a:ext cx="9404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Цель урока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66640" y="4457520"/>
            <a:ext cx="894708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рассмотреть различные способы создания таблиц, методы их редактирования и форматирования; научить составлять, заполнять и редактировать таблиц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1009800" y="287280"/>
            <a:ext cx="94042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Задача урока: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Объект 2"/>
          <p:cNvSpPr/>
          <p:nvPr/>
        </p:nvSpPr>
        <p:spPr>
          <a:xfrm>
            <a:off x="1467000" y="1171440"/>
            <a:ext cx="89470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должить изучение текстового процессора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crosoft Office Wor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должить развитие практических навыков в работе с табличным процессором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crosoft Office Wor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7120" y="306360"/>
            <a:ext cx="940428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Элементы таблиц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1560" y="1700280"/>
          <a:ext cx="3429000" cy="170820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160"/>
                <a:gridCol w="857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459560" y="2881440"/>
          <a:ext cx="3429000" cy="17208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182600" y="4745160"/>
          <a:ext cx="3353040" cy="170640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Line 137"/>
          <p:cNvSpPr/>
          <p:nvPr/>
        </p:nvSpPr>
        <p:spPr>
          <a:xfrm flipH="1">
            <a:off x="4417920" y="2309760"/>
            <a:ext cx="1828800" cy="0"/>
          </a:xfrm>
          <a:prstGeom prst="line">
            <a:avLst/>
          </a:prstGeom>
          <a:ln cap="rnd" w="28440">
            <a:solidFill>
              <a:srgbClr val="e6b7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Line 138"/>
          <p:cNvSpPr/>
          <p:nvPr/>
        </p:nvSpPr>
        <p:spPr>
          <a:xfrm>
            <a:off x="5935680" y="3948120"/>
            <a:ext cx="1676520" cy="0"/>
          </a:xfrm>
          <a:prstGeom prst="line">
            <a:avLst/>
          </a:prstGeom>
          <a:ln cap="rnd" w="28440">
            <a:solidFill>
              <a:srgbClr val="e6b7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Line 139"/>
          <p:cNvSpPr/>
          <p:nvPr/>
        </p:nvSpPr>
        <p:spPr>
          <a:xfrm flipH="1">
            <a:off x="3468240" y="5811840"/>
            <a:ext cx="2514600" cy="0"/>
          </a:xfrm>
          <a:prstGeom prst="line">
            <a:avLst/>
          </a:prstGeom>
          <a:ln cap="rnd" w="28440">
            <a:solidFill>
              <a:srgbClr val="e6b7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140"/>
          <p:cNvSpPr/>
          <p:nvPr/>
        </p:nvSpPr>
        <p:spPr>
          <a:xfrm>
            <a:off x="5088240" y="1852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ячей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Text Box 141"/>
          <p:cNvSpPr/>
          <p:nvPr/>
        </p:nvSpPr>
        <p:spPr>
          <a:xfrm>
            <a:off x="5853600" y="3490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стро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 Box 142"/>
          <p:cNvSpPr/>
          <p:nvPr/>
        </p:nvSpPr>
        <p:spPr>
          <a:xfrm>
            <a:off x="4684680" y="52783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столбец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Line 150"/>
          <p:cNvSpPr/>
          <p:nvPr/>
        </p:nvSpPr>
        <p:spPr>
          <a:xfrm flipH="1">
            <a:off x="6926040" y="3490920"/>
            <a:ext cx="7596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Line 151"/>
          <p:cNvSpPr/>
          <p:nvPr/>
        </p:nvSpPr>
        <p:spPr>
          <a:xfrm flipH="1">
            <a:off x="5754600" y="5278320"/>
            <a:ext cx="7632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Line 152"/>
          <p:cNvSpPr/>
          <p:nvPr/>
        </p:nvSpPr>
        <p:spPr>
          <a:xfrm flipH="1">
            <a:off x="5713200" y="1852560"/>
            <a:ext cx="7596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ebeb"/>
                </a:solidFill>
                <a:latin typeface="Century Gothic"/>
              </a:rPr>
              <a:t>Создание таблицы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1720" y="1574280"/>
            <a:ext cx="106822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 панели инстру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брать закладку «ВСТАВКА» и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йти там кнопку «Таблиц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жав на нее появляется окно с несколькими вариантами создания таблиц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9136080" y="2611440"/>
            <a:ext cx="749160" cy="91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Первый способ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309760" y="2327040"/>
            <a:ext cx="4672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ыбрать нужно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оличество строк и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толбцов н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инитаблиц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Рисунок 3" descr=""/>
          <p:cNvPicPr/>
          <p:nvPr/>
        </p:nvPicPr>
        <p:blipFill>
          <a:blip r:embed="rId1"/>
          <a:stretch/>
        </p:blipFill>
        <p:spPr>
          <a:xfrm>
            <a:off x="6586560" y="2166840"/>
            <a:ext cx="153360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Второй способ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31480" y="2678040"/>
            <a:ext cx="675324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о нажатии кнопки «ТАБЛИЦА»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брать «Вставить таблицу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7816680" y="2357280"/>
            <a:ext cx="1602000" cy="292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3480" y="634680"/>
            <a:ext cx="1027116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появившемся окне ввести нужное количество столбцов и строк, а также определить ширину столбцов из предложенных вариант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1"/>
          <a:stretch/>
        </p:blipFill>
        <p:spPr>
          <a:xfrm>
            <a:off x="4441680" y="2413080"/>
            <a:ext cx="2633760" cy="306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8:43:43Z</dcterms:created>
  <dc:creator>Администратор</dc:creator>
  <dc:description/>
  <dc:language>en-US</dc:language>
  <cp:lastModifiedBy>XTreme.ws</cp:lastModifiedBy>
  <dcterms:modified xsi:type="dcterms:W3CDTF">2014-01-26T07:35:19Z</dcterms:modified>
  <cp:revision>33</cp:revision>
  <dc:subject/>
  <dc:title>Создание и форматирование таблиц в Microsoft Office Word</dc:title>
</cp:coreProperties>
</file>