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EBF-F86A-4D49-ADC6-20408180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C52-C46C-4D2D-8478-9616C494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516-1EC4-4BDA-ACF2-96D5F897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309-B0BD-4A3E-9EDD-2E1253BA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3DA0-CD5E-4530-96D0-97EFFD17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4883-BE2B-41ED-82E0-BBF9F705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78B9-4321-4B85-BB7B-8FC95B5A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64EF-4675-4E47-8F2D-87278879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30A7-6974-44F7-9CD5-C8426CDE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B9D3-61AE-473B-B59F-DBD0D78F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D592-0DEE-478B-BD71-56B2B4F8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DDA-D083-41E0-A31D-5DF9E41F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AF6D-1BD9-40A8-BB66-6F3F19D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4E65-B53B-46FE-9163-E534FCD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FCD2-B005-4DF4-BDD8-208CC11C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92C1-030A-4895-84B5-4FC51EDC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3E8E-954D-4EE3-AE65-704D73EB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CC4C-5A9B-4DB6-8ED0-420C87CC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2693-B379-4EC5-B953-58E7F6FD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06AB-0EEA-4609-8184-09F53635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29F9-DE81-4150-BE69-D4793DE3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05D2-74A0-470A-994C-58C3FDD1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B7F-4745-4931-87B9-09B05104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F027-9155-4EC6-80DE-3256AD73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F796-A921-4445-A115-5D67AE66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AB4D-A2C2-4A28-981F-24AD709A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5662-C7C7-47B0-9B60-594841E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32A6-AA69-4D9B-8D08-B6091CA1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C6390-609D-48B2-A575-2046AFE0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32A7-A498-460B-BBB6-82FC7FC8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1AD6-4E7C-4122-A98C-8C243E6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CE93A-AAE5-46C3-82AB-6A375949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44F8-68FE-4428-BAE1-B0FB13E7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8CE-81E9-4946-B2AA-BCB1E77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D4F1-3DF5-49E2-981A-1D972634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8EF8A-6649-43D1-AED8-BEAB8FF7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CB47-4050-4B66-BC23-F4D9661F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ABB9-63D7-4244-9AF0-89FEE8C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416AA-B2B0-41DA-A964-5EAB806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FB8DD-2E61-4928-BA98-7811BB0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DEC3-1376-4FF2-A12E-8E12ADE0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CF44-91CD-462D-9823-C8674110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0FFF-7F23-40B0-A688-A8FFA2B3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D44-1153-4869-BF51-89B434A0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2AF-7D57-45C7-BC24-E9D6C7F2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7B6-4EE5-48A8-B106-7EE5C683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2C3-BCFA-4933-B401-B5C6BB1D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3AA-1BC4-4ABC-B449-5451983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060C2-58CA-4953-A639-FF1BDFF3DE3F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45B10-04C0-49DC-917F-57A072CA7DF1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0C19F-3D8D-41BD-A628-B41FFDE4559F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5FDC9-AD3F-4712-9BC4-318FAEA9E493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6200" y="452520"/>
            <a:ext cx="26287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Задача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выданном вам тексте найти информацию о тех звездах, которые удалены от земли больше чем на 300 световых лет, а также ярче солнца более чем в 7000 раз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Одна минута Вам на размышление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644400" y="789120"/>
            <a:ext cx="940608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Ответ</a:t>
            </a: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Объект 2"/>
          <p:cNvSpPr/>
          <p:nvPr/>
        </p:nvSpPr>
        <p:spPr>
          <a:xfrm>
            <a:off x="466560" y="2052720"/>
            <a:ext cx="1122552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Бетельгейзе – расстояние от земли 650 св. лет, ярче солнца в 22000 раз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Ригель – расстояние от земли 820 св. лет, ярче солнца в 55000 раз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енеб – расстояние от земли 1600 св. лет, ярче солнца в 725000 раз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Третий способ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ля построения сложных таблиц используется функция «Нарисовать таблицу»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ля удобства редактирование нарисованной таблицы испольцуйте функцию «Ластик»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3" name="Рисунок 4" descr=""/>
          <p:cNvPicPr/>
          <p:nvPr/>
        </p:nvPicPr>
        <p:blipFill>
          <a:blip r:embed="rId1"/>
          <a:stretch/>
        </p:blipFill>
        <p:spPr>
          <a:xfrm>
            <a:off x="7856640" y="2978280"/>
            <a:ext cx="801720" cy="8715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"/>
          <p:cNvPicPr/>
          <p:nvPr/>
        </p:nvPicPr>
        <p:blipFill>
          <a:blip r:embed="rId2"/>
          <a:stretch/>
        </p:blipFill>
        <p:spPr>
          <a:xfrm>
            <a:off x="9863280" y="4676760"/>
            <a:ext cx="644400" cy="69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Форматирование таблиц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45840" y="2052360"/>
            <a:ext cx="1074564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оизводится на закладке «КОНСТРУКТОР», которая появляется только при нажатии на таблицу в документ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ней можно изменить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тиль таблиц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аливк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тиль оформления гран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Толщину, цвет и тип пер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Редактирование таблиц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84040" y="1558440"/>
            <a:ext cx="89470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оизводится на закладке «МАКЕТ», которая появляется при выделении таблиц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96720" y="2393640"/>
            <a:ext cx="6056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ebebeb"/>
                </a:solidFill>
                <a:latin typeface="Century Gothic"/>
              </a:rPr>
              <a:t>Вопросы</a:t>
            </a:r>
            <a:endParaRPr b="0" lang="en-US" sz="9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Заголовок 1"/>
          <p:cNvSpPr/>
          <p:nvPr/>
        </p:nvSpPr>
        <p:spPr>
          <a:xfrm>
            <a:off x="1074600" y="2565360"/>
            <a:ext cx="94060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Какие были затруднения при выполнении задания?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Заголовок 1"/>
          <p:cNvSpPr/>
          <p:nvPr/>
        </p:nvSpPr>
        <p:spPr>
          <a:xfrm>
            <a:off x="1227240" y="2717640"/>
            <a:ext cx="940572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Предположите, как можно упростить решение такого вида задач?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9" name="Рисунок 2" descr=""/>
          <p:cNvPicPr/>
          <p:nvPr/>
        </p:nvPicPr>
        <p:blipFill>
          <a:blip r:embed="rId1"/>
          <a:stretch/>
        </p:blipFill>
        <p:spPr>
          <a:xfrm>
            <a:off x="1495440" y="2060640"/>
            <a:ext cx="9435960" cy="3255840"/>
          </a:xfrm>
          <a:prstGeom prst="rect">
            <a:avLst/>
          </a:prstGeom>
          <a:ln w="0">
            <a:noFill/>
          </a:ln>
        </p:spPr>
      </p:pic>
      <p:sp>
        <p:nvSpPr>
          <p:cNvPr id="210" name="Заголовок 1"/>
          <p:cNvSpPr/>
          <p:nvPr/>
        </p:nvSpPr>
        <p:spPr>
          <a:xfrm>
            <a:off x="1379520" y="2870280"/>
            <a:ext cx="94060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Какую тему мы будем сегодня изучать?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7840" y="801720"/>
            <a:ext cx="11802960" cy="40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ebebeb"/>
                </a:solidFill>
                <a:latin typeface="Century Gothic"/>
              </a:rPr>
              <a:t>Создание и форматирование таблиц в </a:t>
            </a:r>
            <a:r>
              <a:rPr b="1" lang="en-US" sz="6000" spc="-1" strike="noStrike">
                <a:solidFill>
                  <a:srgbClr val="ebebeb"/>
                </a:solidFill>
                <a:latin typeface="Century Gothic"/>
              </a:rPr>
              <a:t>Microsoft Office Word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741480" y="5052600"/>
            <a:ext cx="845028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Материал подготовил: учитель информатики и икт Груздев Николай Андреевич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Муниципальное автономное образовательное учреждение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«Средняя общеобразовательная школа № 43»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етропавловск-Камчатского городского окру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9440" y="3557160"/>
            <a:ext cx="9404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Цель урока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66640" y="4457520"/>
            <a:ext cx="894708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рассмотреть различные способы создания таблиц, методы их редактирования и форматирования; научить составлять, заполнять и редактировать таблиц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1009800" y="287280"/>
            <a:ext cx="94042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Задача урока: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Объект 2"/>
          <p:cNvSpPr/>
          <p:nvPr/>
        </p:nvSpPr>
        <p:spPr>
          <a:xfrm>
            <a:off x="1467000" y="1171440"/>
            <a:ext cx="894708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одолжить изучение текстового процессора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crosoft Office Wor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родолжить развитие практических навыков в работе с табличным процессором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crosoft Office Wor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7120" y="306360"/>
            <a:ext cx="940428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Элементы таблиц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1560" y="1700280"/>
          <a:ext cx="3429000" cy="170820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160"/>
                <a:gridCol w="857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7459560" y="2881440"/>
          <a:ext cx="3429000" cy="172080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182600" y="4745160"/>
          <a:ext cx="3353040" cy="170640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282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Line 137"/>
          <p:cNvSpPr/>
          <p:nvPr/>
        </p:nvSpPr>
        <p:spPr>
          <a:xfrm flipH="1">
            <a:off x="4417920" y="2309760"/>
            <a:ext cx="1828800" cy="0"/>
          </a:xfrm>
          <a:prstGeom prst="line">
            <a:avLst/>
          </a:prstGeom>
          <a:ln cap="rnd" w="28440">
            <a:solidFill>
              <a:srgbClr val="e6b7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Line 138"/>
          <p:cNvSpPr/>
          <p:nvPr/>
        </p:nvSpPr>
        <p:spPr>
          <a:xfrm>
            <a:off x="5935680" y="3948120"/>
            <a:ext cx="1676520" cy="0"/>
          </a:xfrm>
          <a:prstGeom prst="line">
            <a:avLst/>
          </a:prstGeom>
          <a:ln cap="rnd" w="28440">
            <a:solidFill>
              <a:srgbClr val="e6b7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Line 139"/>
          <p:cNvSpPr/>
          <p:nvPr/>
        </p:nvSpPr>
        <p:spPr>
          <a:xfrm flipH="1">
            <a:off x="3468240" y="5811840"/>
            <a:ext cx="2514600" cy="0"/>
          </a:xfrm>
          <a:prstGeom prst="line">
            <a:avLst/>
          </a:prstGeom>
          <a:ln cap="rnd" w="28440">
            <a:solidFill>
              <a:srgbClr val="e6b7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140"/>
          <p:cNvSpPr/>
          <p:nvPr/>
        </p:nvSpPr>
        <p:spPr>
          <a:xfrm>
            <a:off x="5088240" y="18525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ячейк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Text Box 141"/>
          <p:cNvSpPr/>
          <p:nvPr/>
        </p:nvSpPr>
        <p:spPr>
          <a:xfrm>
            <a:off x="5853600" y="3490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строк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 Box 142"/>
          <p:cNvSpPr/>
          <p:nvPr/>
        </p:nvSpPr>
        <p:spPr>
          <a:xfrm>
            <a:off x="4684680" y="52783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столбец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Line 150"/>
          <p:cNvSpPr/>
          <p:nvPr/>
        </p:nvSpPr>
        <p:spPr>
          <a:xfrm flipH="1">
            <a:off x="6926040" y="3490920"/>
            <a:ext cx="7596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Line 151"/>
          <p:cNvSpPr/>
          <p:nvPr/>
        </p:nvSpPr>
        <p:spPr>
          <a:xfrm flipH="1">
            <a:off x="5754600" y="5278320"/>
            <a:ext cx="7632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Line 152"/>
          <p:cNvSpPr/>
          <p:nvPr/>
        </p:nvSpPr>
        <p:spPr>
          <a:xfrm flipH="1">
            <a:off x="5713200" y="1852560"/>
            <a:ext cx="7596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ebeb"/>
                </a:solidFill>
                <a:latin typeface="Century Gothic"/>
              </a:rPr>
              <a:t>Создание таблицы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1720" y="1574280"/>
            <a:ext cx="106822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 панели инстру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брать закладку «ВСТАВКА» и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йти там кнопку «Таблица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жав на нее появляется окно с несколькими вариантами создания таблиц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9136080" y="2611440"/>
            <a:ext cx="749160" cy="91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Первый способ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309760" y="2327040"/>
            <a:ext cx="4672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ыбрать нужное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количество строк и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толбцов на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инитаблиц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Рисунок 3" descr=""/>
          <p:cNvPicPr/>
          <p:nvPr/>
        </p:nvPicPr>
        <p:blipFill>
          <a:blip r:embed="rId1"/>
          <a:stretch/>
        </p:blipFill>
        <p:spPr>
          <a:xfrm>
            <a:off x="6586560" y="2166840"/>
            <a:ext cx="153360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Второй способ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31480" y="2678040"/>
            <a:ext cx="675324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о нажатии кнопки «ТАБЛИЦА»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брать «Вставить таблицу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7816680" y="2357280"/>
            <a:ext cx="1602000" cy="292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3480" y="634680"/>
            <a:ext cx="1027116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появившемся окне ввести нужное количество столбцов и строк, а также определить ширину столбцов из предложенных вариантов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1"/>
          <a:stretch/>
        </p:blipFill>
        <p:spPr>
          <a:xfrm>
            <a:off x="4441680" y="2413080"/>
            <a:ext cx="2633760" cy="306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8:43:43Z</dcterms:created>
  <dc:creator>Администратор</dc:creator>
  <dc:description/>
  <dc:language>en-US</dc:language>
  <cp:lastModifiedBy>XTreme.ws</cp:lastModifiedBy>
  <dcterms:modified xsi:type="dcterms:W3CDTF">2014-01-26T07:35:19Z</dcterms:modified>
  <cp:revision>33</cp:revision>
  <dc:subject/>
  <dc:title>Создание и форматирование таблиц в Microsoft Office Word</dc:title>
</cp:coreProperties>
</file>