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012-7528-4D42-89D4-62271AB9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3B5-B61B-4687-973F-7E2B36B0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304-8E02-4780-B62B-F722779A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65C-DF1B-4DFA-ADF5-59478B32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977-E82C-4289-84C4-769B108C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A0BC-3C3F-4799-8A54-B1C9EB2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D02-44E0-4813-A87F-D46C2C62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582E-D458-4CE7-8E5D-EC829EA2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2B57-AA22-4962-AF56-64697E9B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F59A-B258-431F-96EE-36427485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B387-9FDD-42B1-93C0-02F5F5C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2D6-3A21-43A0-B231-3CF12D8D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4BA6-CD48-4933-BCC9-14FEB55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7C23-104E-4ED6-8BC8-852D9DA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D35C-99E8-4075-9E47-C1779A9E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EC6-0681-4917-93BA-B1CFC409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296E-ADED-43F1-A6D0-F922B764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37F-B8AA-4985-95E8-BC166A6C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89D-B53A-40A1-B154-22FDF6A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30A-42CC-473C-80DD-BCF781D2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995-ABBA-401B-952F-F1E10345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E95-327B-4B84-81FE-1D597371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A07-61D8-4D0C-B4D4-CF7E2A91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55B-E0D8-4C96-805C-AF43E14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C29B-62B5-408B-A231-0867AFB34D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AC9-42B0-41CA-AD67-71B7CB94D5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 Narrow"/>
              </a:rPr>
              <a:t>Решение задач на движение с помощью графов.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795-92A4-471B-A43B-62516D0088BA}" type="slidenum">
              <a:t>1</a:t>
            </a:fld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2492280"/>
            <a:ext cx="128448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49228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0720" y="479736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48360" y="472428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6400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333360"/>
            <a:ext cx="716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164360" y="5300640"/>
                <a:ext cx="93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643280" y="5408640"/>
                <a:ext cx="10810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020000" y="2852640"/>
                <a:ext cx="100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03640" y="3068640"/>
                <a:ext cx="792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2916360" y="2492280"/>
            <a:ext cx="136836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360</a:t>
            </a:r>
            <a:r>
              <a:rPr b="0" lang="en-US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92360" y="3573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3573360"/>
            <a:ext cx="1871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1E4-CAFA-460B-BDD6-5157CFD9A598}" type="slidenum">
              <a:t>10</a:t>
            </a:fld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 часа со скоростью  65 км/ч и 2 часа со скоростью 60 км/ч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Какой путь она пройдет за эти 5  часов?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16080" y="2212920"/>
            <a:ext cx="1900440" cy="1165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621-3373-44B0-BFCD-4C1B0C78DF42}" type="slidenum">
              <a:t>11</a:t>
            </a:fld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68360" y="2205000"/>
            <a:ext cx="128448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6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77080" y="220500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3789360"/>
            <a:ext cx="1295640" cy="135900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8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43280" y="386064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93080" y="393372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0360" y="4581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2205000"/>
            <a:ext cx="128412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59280" y="2997360"/>
                <a:ext cx="720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484360" y="2997360"/>
            <a:ext cx="482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984200">
            <a:off x="0" y="306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300640"/>
            <a:ext cx="128412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об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1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00360" y="4581360"/>
            <a:ext cx="863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941720" y="4581360"/>
                <a:ext cx="771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484360" y="2997360"/>
            <a:ext cx="21600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75D-1EBF-4030-AE73-FE0D14AAB02E}" type="slidenum">
              <a:t>12</a:t>
            </a:fld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линингра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227400" cy="1935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195640" y="4508640"/>
            <a:ext cx="2808000" cy="2097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867280" y="4221000"/>
            <a:ext cx="2735280" cy="20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2D2-780A-4EA4-8CDC-4A870B3F281F}" type="slidenum">
              <a:t>2</a:t>
            </a:fld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енигсбергские мос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6613560" cy="265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B35-D96C-4315-8392-84C93AB3A879}" type="slidenum">
              <a:t>3</a:t>
            </a:fld>
          </a:p>
        </p:txBody>
      </p:sp>
    </p:spTree>
  </p:cSld>
  <p:transition spd="med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3195720" cy="3555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24000" y="5805360"/>
            <a:ext cx="66261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Российский ученый — математик, механик, физик и астро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189000"/>
            <a:ext cx="4824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ЛЕОНАРД ЭЙ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1707-17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909-1CD8-446C-8482-0A82D04D24AA}" type="slidenum">
              <a:t>4</a:t>
            </a:fld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404280"/>
            <a:ext cx="7162560" cy="11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Алгоритм  составления граф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7640" y="1557000"/>
            <a:ext cx="6985080" cy="486900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аком процессе идет речь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величины характеризуют данный процесс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м соотношением связаны эти величины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процессов описывается в задаче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ли связь между элементами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B98-5E94-4CC9-882B-7F36889AB9DA}" type="slidenum">
              <a:t>5</a:t>
            </a:fld>
          </a:p>
        </p:txBody>
      </p:sp>
    </p:spTree>
  </p:cSld>
  <p:transition spd="med">
    <p:diamond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115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а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03640" y="2565000"/>
            <a:ext cx="2520720" cy="36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тов.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40 км/ч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тов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= 9 ч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динаков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ас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- 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ас.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= 6 ч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521080" cy="1866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67280" y="4508640"/>
            <a:ext cx="2489400" cy="1866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88108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CC0-2038-48DF-8276-3BA562BAF2C6}" type="slidenum">
              <a:t>6</a:t>
            </a:fld>
          </a:p>
        </p:txBody>
      </p:sp>
    </p:spTree>
  </p:cSld>
  <p:transition spd="med"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68360" y="2637000"/>
            <a:ext cx="128448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77080" y="2637000"/>
            <a:ext cx="1284120" cy="135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95640" y="4653000"/>
            <a:ext cx="1284120" cy="135900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00720" y="465300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458136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43280" y="5373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2637000"/>
            <a:ext cx="128412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84640"/>
            <a:ext cx="482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380880"/>
            <a:ext cx="71625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43280" y="4076640"/>
                <a:ext cx="1368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F31-EE86-4207-A52C-449426437C4B}" type="slidenum">
              <a:t>7</a:t>
            </a:fld>
          </a:p>
        </p:txBody>
      </p:sp>
    </p:spTree>
  </p:cSld>
  <p:transition spd="med"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2637000"/>
            <a:ext cx="1295640" cy="135864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7640" y="2565360"/>
            <a:ext cx="1284120" cy="136836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2637000"/>
            <a:ext cx="1284120" cy="135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3500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479736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8360" y="4724280"/>
            <a:ext cx="128448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350028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33360"/>
            <a:ext cx="716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164360" y="5300640"/>
                <a:ext cx="93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643280" y="5408640"/>
                <a:ext cx="10810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20000" y="2997360"/>
                <a:ext cx="100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A1B-E42B-4888-994F-63069B4AD893}" type="slidenum">
              <a:t>8</a:t>
            </a:fld>
          </a:p>
        </p:txBody>
      </p:sp>
    </p:spTree>
  </p:cSld>
  <p:transition spd="med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68360" y="2276640"/>
            <a:ext cx="1284480" cy="129528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360</a:t>
            </a:r>
            <a:r>
              <a:rPr b="0" lang="en-US" sz="18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Arial Narrow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276640"/>
            <a:ext cx="1284120" cy="135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04240" y="2276640"/>
            <a:ext cx="1284120" cy="129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9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299736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93080" y="4292640"/>
            <a:ext cx="12841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6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4292640"/>
            <a:ext cx="1284480" cy="135900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3300"/>
                </a:solidFill>
                <a:latin typeface="Arial Narrow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292640"/>
            <a:ext cx="1366920" cy="135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,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6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5013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716360" y="3711600"/>
                <a:ext cx="11509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859280" y="2979720"/>
                <a:ext cx="793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643280" y="5734080"/>
                <a:ext cx="16574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4975200"/>
                <a:ext cx="792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км</m:t>
                    </m:r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5A2-F842-49B1-B09C-EBBAC550AEE0}" type="slidenum">
              <a:t>9</a:t>
            </a:fld>
          </a:p>
        </p:txBody>
      </p:sp>
    </p:spTree>
  </p:cSld>
  <p:transition spd="med">
    <p:diamond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43:40Z</dcterms:created>
  <dc:creator>мама</dc:creator>
  <dc:description/>
  <dc:language>en-US</dc:language>
  <cp:lastModifiedBy>User</cp:lastModifiedBy>
  <dcterms:modified xsi:type="dcterms:W3CDTF">2008-04-14T15:35:57Z</dcterms:modified>
  <cp:revision>73</cp:revision>
  <dc:subject/>
  <dc:title>ПОРЯДОК,                        КРАСОТА                И        СОВЕРШЕНСТВО.</dc:title>
</cp:coreProperties>
</file>