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60E-2F07-4524-B9B4-5C765C8F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676-A787-463A-B887-61F4354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6DF-FD0B-4B16-878F-877AD0BB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E77-1444-4393-9FE8-99F13E02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AC16-7B36-4562-8589-62338BDA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768-7350-4C3B-86D2-0816DF37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3193-19BA-4E68-B521-17EACE0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BB0B-30B0-4E65-83DE-B81BF9CF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3FDC-6831-4593-BA6E-63480084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E2C-9192-4F10-A7A1-8D8A28E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EA6-6A82-49D3-8738-6FF3D81A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15C-CB13-4EDE-AE20-2531CB9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068-6318-4BA1-84F0-06D0AD9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EA1C-77AB-4905-9226-7FEED17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2D8F-B4B7-4E28-AACE-F64A40E2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6B77-6A5C-4C56-A716-054D0FC2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1849-6027-42DD-9DCD-1C098957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E1A-E599-4FCB-8572-891740CF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58C-ED19-4502-8941-D3CE35C5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B57-7927-48B6-9EAB-EE5E7196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571-F526-45C5-80C2-4981FB52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C15-E58D-469B-A281-BBD328E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148-1F76-4830-90E8-55A1150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964-E08C-4797-AE27-AC1E9432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7582-FA79-46FF-975E-8569D1EF85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F4C-6B72-4BA0-AF7C-9835067B6C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 Narrow"/>
              </a:rPr>
              <a:t>Решение задач на движение с помощью графов.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157-AE39-44C8-BE57-5E3C79130BBC}" type="slidenum">
              <a:t>1</a:t>
            </a:fld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2492280"/>
            <a:ext cx="128448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49228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0720" y="479736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48360" y="472428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400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333360"/>
            <a:ext cx="716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164360" y="5300640"/>
                <a:ext cx="93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643280" y="5408640"/>
                <a:ext cx="1081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020000" y="2852640"/>
                <a:ext cx="100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03640" y="3068640"/>
                <a:ext cx="792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2916360" y="2492280"/>
            <a:ext cx="136836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360</a:t>
            </a:r>
            <a:r>
              <a:rPr b="0" lang="en-US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92360" y="3573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3573360"/>
            <a:ext cx="1871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D5E-7FBC-4E5C-8E0F-312067502502}" type="slidenum">
              <a:t>10</a:t>
            </a:fld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 часа со скоростью  65 км/ч и 2 часа со скоростью 60 км/ч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акой путь она пройдет за эти 5  часов?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16080" y="2212920"/>
            <a:ext cx="1900440" cy="1165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6E3-73D1-4782-A03A-9EC840E45CF7}" type="slidenum">
              <a:t>11</a:t>
            </a:fld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68360" y="2205000"/>
            <a:ext cx="128448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6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7080" y="220500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3789360"/>
            <a:ext cx="1295640" cy="135900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8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3280" y="386064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393372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4581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2205000"/>
            <a:ext cx="128412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59280" y="2997360"/>
                <a:ext cx="720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484360" y="2997360"/>
            <a:ext cx="482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984200">
            <a:off x="0" y="306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300640"/>
            <a:ext cx="128412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б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1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00360" y="4581360"/>
            <a:ext cx="863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941720" y="4581360"/>
                <a:ext cx="771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484360" y="2997360"/>
            <a:ext cx="21600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E84-0B42-48FD-B8BF-961AA0F48BAB}" type="slidenum">
              <a:t>12</a:t>
            </a:fld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линингра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227400" cy="193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195640" y="4508640"/>
            <a:ext cx="2808000" cy="2097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273528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346-9A68-426D-A545-B282602B3493}" type="slidenum">
              <a:t>2</a:t>
            </a:fld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енигсбергские мос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6613560" cy="26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1A7-E4B8-4054-B268-028E2410BF89}" type="slidenum">
              <a:t>3</a:t>
            </a:fld>
          </a:p>
        </p:txBody>
      </p:sp>
    </p:spTree>
  </p:cSld>
  <p:transition spd="med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3195720" cy="35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24000" y="5805360"/>
            <a:ext cx="66261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Российский ученый — математик, механик, физик и астро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89000"/>
            <a:ext cx="4824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ЛЕОНАРД ЭЙ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170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978-9555-4A33-B877-6E54F378F811}" type="slidenum">
              <a:t>4</a:t>
            </a:fld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404280"/>
            <a:ext cx="7162560" cy="11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Алгоритм  составления граф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7640" y="1557000"/>
            <a:ext cx="6985080" cy="486900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аком процессе идет речь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величины характеризуют данный процесс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м соотношением связаны эти величины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процессов описывается в задаче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ли связь между элементами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F6A-1421-4383-8556-A9AF38787EFC}" type="slidenum">
              <a:t>5</a:t>
            </a:fld>
          </a:p>
        </p:txBody>
      </p:sp>
    </p:spTree>
  </p:cSld>
  <p:transition spd="med">
    <p:diamond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115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а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03640" y="2565000"/>
            <a:ext cx="2520720" cy="36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ов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40 км/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ов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= 9 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динаков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с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с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= 6 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52108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67280" y="4508640"/>
            <a:ext cx="2489400" cy="1866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8810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246-1E3C-4D40-BCDA-A63AAA9C7890}" type="slidenum">
              <a:t>6</a:t>
            </a:fld>
          </a:p>
        </p:txBody>
      </p:sp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68360" y="2637000"/>
            <a:ext cx="128448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77080" y="2637000"/>
            <a:ext cx="1284120" cy="135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653000"/>
            <a:ext cx="1284120" cy="135900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0720" y="465300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458136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43280" y="5373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2637000"/>
            <a:ext cx="128412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84640"/>
            <a:ext cx="482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380880"/>
            <a:ext cx="7162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43280" y="4076640"/>
                <a:ext cx="1368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B6A-5A18-4042-89E9-1F675878D232}" type="slidenum">
              <a:t>7</a:t>
            </a:fld>
          </a:p>
        </p:txBody>
      </p:sp>
    </p:spTree>
  </p:cSld>
  <p:transition spd="med"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2637000"/>
            <a:ext cx="1295640" cy="135864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7640" y="2565360"/>
            <a:ext cx="128412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2637000"/>
            <a:ext cx="1284120" cy="135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3500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479736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8360" y="472428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50028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33360"/>
            <a:ext cx="716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164360" y="5300640"/>
                <a:ext cx="93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643280" y="5408640"/>
                <a:ext cx="1081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2997360"/>
                <a:ext cx="100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89A-A57F-4983-8F4F-036A495BAF23}" type="slidenum">
              <a:t>8</a:t>
            </a:fld>
          </a:p>
        </p:txBody>
      </p:sp>
    </p:spTree>
  </p:cSld>
  <p:transition spd="med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68360" y="2276640"/>
            <a:ext cx="1284480" cy="129528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360</a:t>
            </a:r>
            <a:r>
              <a:rPr b="0" lang="en-US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276640"/>
            <a:ext cx="1284120" cy="135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04240" y="2276640"/>
            <a:ext cx="1284120" cy="129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9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299736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93080" y="429264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6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4292640"/>
            <a:ext cx="1284480" cy="135900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292640"/>
            <a:ext cx="13669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6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5013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716360" y="3711600"/>
                <a:ext cx="11509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859280" y="2979720"/>
                <a:ext cx="793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643280" y="5734080"/>
                <a:ext cx="16574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4975200"/>
                <a:ext cx="792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693-49ED-4F0D-B544-726BE6ED956F}" type="slidenum">
              <a:t>9</a:t>
            </a:fld>
          </a:p>
        </p:txBody>
      </p:sp>
    </p:spTree>
  </p:cSld>
  <p:transition spd="med">
    <p:diamond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43:40Z</dcterms:created>
  <dc:creator>мама</dc:creator>
  <dc:description/>
  <dc:language>en-US</dc:language>
  <cp:lastModifiedBy>User</cp:lastModifiedBy>
  <dcterms:modified xsi:type="dcterms:W3CDTF">2008-04-14T15:35:57Z</dcterms:modified>
  <cp:revision>73</cp:revision>
  <dc:subject/>
  <dc:title>ПОРЯДОК,                        КРАСОТА                И        СОВЕРШЕНСТВО.</dc:title>
</cp:coreProperties>
</file>