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3C4-9EF8-4F77-91B2-244E2177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596628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CA9-A6EC-4644-881C-9A8EB08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D7B-E6BE-470C-9CA1-F585FDF6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579132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5966280"/>
            <a:ext cx="264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B31-4870-4106-9A44-F7A0316D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210-8874-442A-8FAA-FBD61A35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272-7FAB-469F-B309-22B99AB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21C-BEDB-40EA-A670-3D52698B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165-1411-46B5-B750-831663CC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99A-7631-4E61-A6B4-44D146F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0B4-546E-4EE6-8A1C-1CEA263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596628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BBB-6738-43E2-9CF0-AF895AE5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5791320"/>
            <a:ext cx="40158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5966280"/>
            <a:ext cx="8229600" cy="1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0E6-575C-4251-9A05-1D7EF307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5791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00" indent="-2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600" indent="-20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" indent="-20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5040" indent="-20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5040" indent="-20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5040" indent="-205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AF3-89C8-47BB-B3DD-A1F13ECF6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0955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осударственный язык  Великобритани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глийс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Запи3691.WAV" descr=""/>
          <p:cNvPicPr/>
          <p:nvPr/>
        </p:nvPicPr>
        <p:blipFill>
          <a:blip r:embed="rId1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83296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Давайте узнаем, что вы запомн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пи3691.WAV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28600" y="1143000"/>
            <a:ext cx="8763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называется страна, в которой живет Винни-Пу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ой город является столицей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 звали в древней Британии храбрых вои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то самый главный в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кие достопримечательности Лондона вы запомн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 каком языке говорят в 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Cj02305550000[1]"/>
          <p:cNvPicPr/>
          <p:nvPr/>
        </p:nvPicPr>
        <p:blipFill>
          <a:blip r:embed="rId2"/>
          <a:stretch/>
        </p:blipFill>
        <p:spPr>
          <a:xfrm>
            <a:off x="5334120" y="3657600"/>
            <a:ext cx="3504960" cy="29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228600" y="2743200"/>
            <a:ext cx="29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единённое Королевство Великобритании и Северной Ирла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505320" y="2743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единённые Штаты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400800" y="28195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457200" y="57150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3505320" y="57150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вая Зе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6477120" y="571500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857160" y="2142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их странах говорят на английском язы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743200" cy="16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200400" y="990720"/>
            <a:ext cx="274320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743200" cy="169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5"/>
          <a:stretch/>
        </p:blipFill>
        <p:spPr>
          <a:xfrm>
            <a:off x="3200400" y="3962520"/>
            <a:ext cx="2733840" cy="167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27432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38080" y="152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но изучать английский яз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1981080" cy="19573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2"/>
          <p:cNvSpPr/>
          <p:nvPr/>
        </p:nvSpPr>
        <p:spPr>
          <a:xfrm>
            <a:off x="609480" y="2819520"/>
            <a:ext cx="12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2843280" y="28195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7361280" y="281952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7468560" y="55627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533520" y="54864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2514600" y="54100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аз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о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4764600" y="5486400"/>
            <a:ext cx="179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теше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7" descr="play computer games.jpg"/>
          <p:cNvPicPr/>
          <p:nvPr/>
        </p:nvPicPr>
        <p:blipFill>
          <a:blip r:embed="rId2"/>
          <a:stretch/>
        </p:blipFill>
        <p:spPr>
          <a:xfrm>
            <a:off x="4572000" y="762120"/>
            <a:ext cx="2133720" cy="1968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4818240" y="281952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"/>
          <p:cNvPicPr/>
          <p:nvPr/>
        </p:nvPicPr>
        <p:blipFill>
          <a:blip r:embed="rId4"/>
          <a:stretch/>
        </p:blipFill>
        <p:spPr>
          <a:xfrm>
            <a:off x="2438280" y="7621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5"/>
          <a:stretch/>
        </p:blipFill>
        <p:spPr>
          <a:xfrm>
            <a:off x="228600" y="762120"/>
            <a:ext cx="203040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211464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7" descr=""/>
          <p:cNvPicPr/>
          <p:nvPr/>
        </p:nvPicPr>
        <p:blipFill>
          <a:blip r:embed="rId7"/>
          <a:stretch/>
        </p:blipFill>
        <p:spPr>
          <a:xfrm>
            <a:off x="6858000" y="3429000"/>
            <a:ext cx="2057400" cy="197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8" descr=""/>
          <p:cNvPicPr/>
          <p:nvPr/>
        </p:nvPicPr>
        <p:blipFill>
          <a:blip r:embed="rId8"/>
          <a:stretch/>
        </p:blipFill>
        <p:spPr>
          <a:xfrm>
            <a:off x="2362320" y="3436920"/>
            <a:ext cx="2057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Sandwich.jpg"/>
          <p:cNvPicPr/>
          <p:nvPr/>
        </p:nvPicPr>
        <p:blipFill>
          <a:blip r:embed="rId1"/>
          <a:stretch/>
        </p:blipFill>
        <p:spPr>
          <a:xfrm>
            <a:off x="258840" y="152280"/>
            <a:ext cx="276552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0" name="Рисунок 2" descr=""/>
          <p:cNvPicPr/>
          <p:nvPr/>
        </p:nvPicPr>
        <p:blipFill>
          <a:blip r:embed="rId2"/>
          <a:stretch/>
        </p:blipFill>
        <p:spPr>
          <a:xfrm>
            <a:off x="6100920" y="4572000"/>
            <a:ext cx="2784240" cy="202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Рисунок 3" descr="Бадминтон-1.jpg"/>
          <p:cNvPicPr/>
          <p:nvPr/>
        </p:nvPicPr>
        <p:blipFill>
          <a:blip r:embed="rId3"/>
          <a:stretch/>
        </p:blipFill>
        <p:spPr>
          <a:xfrm>
            <a:off x="3193920" y="4568760"/>
            <a:ext cx="2765520" cy="203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Рисунок 4" descr="Футбол-1.jpg"/>
          <p:cNvPicPr/>
          <p:nvPr/>
        </p:nvPicPr>
        <p:blipFill>
          <a:blip r:embed="rId4"/>
          <a:stretch/>
        </p:blipFill>
        <p:spPr>
          <a:xfrm>
            <a:off x="260280" y="4572000"/>
            <a:ext cx="2765520" cy="2039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Рисунок 5" descr="Компьютер-2.jpg"/>
          <p:cNvPicPr/>
          <p:nvPr/>
        </p:nvPicPr>
        <p:blipFill>
          <a:blip r:embed="rId5"/>
          <a:stretch/>
        </p:blipFill>
        <p:spPr>
          <a:xfrm>
            <a:off x="260280" y="2367000"/>
            <a:ext cx="27622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Рисунок 6" descr="Пазлы-2.jpg"/>
          <p:cNvPicPr/>
          <p:nvPr/>
        </p:nvPicPr>
        <p:blipFill>
          <a:blip r:embed="rId6"/>
          <a:stretch/>
        </p:blipFill>
        <p:spPr>
          <a:xfrm>
            <a:off x="6111720" y="2367000"/>
            <a:ext cx="2762280" cy="20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Рисунок 8" descr=""/>
          <p:cNvPicPr/>
          <p:nvPr/>
        </p:nvPicPr>
        <p:blipFill>
          <a:blip r:embed="rId7"/>
          <a:stretch/>
        </p:blipFill>
        <p:spPr>
          <a:xfrm>
            <a:off x="3198960" y="152280"/>
            <a:ext cx="27604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Рисунок 9" descr="Hot dog.jpg"/>
          <p:cNvPicPr/>
          <p:nvPr/>
        </p:nvPicPr>
        <p:blipFill>
          <a:blip r:embed="rId8"/>
          <a:stretch/>
        </p:blipFill>
        <p:spPr>
          <a:xfrm>
            <a:off x="3198960" y="2362320"/>
            <a:ext cx="2760480" cy="205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Рисунок 10" descr="Доктор-2.jpg"/>
          <p:cNvPicPr/>
          <p:nvPr/>
        </p:nvPicPr>
        <p:blipFill>
          <a:blip r:embed="rId9"/>
          <a:stretch/>
        </p:blipFill>
        <p:spPr>
          <a:xfrm>
            <a:off x="6111720" y="152280"/>
            <a:ext cx="2762280" cy="203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ьза</cp:lastModifiedBy>
  <dcterms:modified xsi:type="dcterms:W3CDTF">2014-01-26T08:50:1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