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1E4-C1BF-4309-AD49-C4DF410F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75B-E8DC-420A-B3B2-C706BA1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FC5-9717-4280-8FAA-D7B6A3FF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830-D6BD-40C1-A71E-56939115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42D-AA31-474C-B98F-B1278444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53D-4B25-41CD-A0C7-0281FA4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574-981F-4136-A811-CAB787F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00E-BAC5-469A-9DB8-AE77616D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400-DB60-4971-BF1A-27DDA27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571-6F64-425D-A19D-AFB46D1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D6E-BA8B-4D57-9B10-BB7E63E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CF2-E5A5-48D7-9B84-5F2BDA0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-2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600" indent="-20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" indent="-20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995-2084-4681-B506-95FE7AFFC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55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осударственный язык  Великобритани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глийс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Запи3691.WAV" descr=""/>
          <p:cNvPicPr/>
          <p:nvPr/>
        </p:nvPicPr>
        <p:blipFill>
          <a:blip r:embed="rId1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296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Давайте узнаем, что вы запомн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пи3691.WAV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28600" y="1143000"/>
            <a:ext cx="8763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называется страна, в которой живет Винни-Пу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ой город является столицей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звали в древней Британии храбрых вои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то самый главный в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ие достопримечательности Лондона вы запом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каком языке говорят в 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Cj02305550000[1]"/>
          <p:cNvPicPr/>
          <p:nvPr/>
        </p:nvPicPr>
        <p:blipFill>
          <a:blip r:embed="rId2"/>
          <a:stretch/>
        </p:blipFill>
        <p:spPr>
          <a:xfrm>
            <a:off x="5334120" y="3657600"/>
            <a:ext cx="35049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228600" y="274320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единённое Королевство Великобритании и Северной Ирла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505320" y="27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единённые Штаты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400800" y="28195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57200" y="57150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3505320" y="57150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вая Зе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6477120" y="571500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857160" y="2142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их странах говорят на английском язы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743200" cy="16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200400" y="990720"/>
            <a:ext cx="274320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743200" cy="169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73384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27432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38080" y="152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изучать английский яз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981080" cy="1957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609480" y="2819520"/>
            <a:ext cx="12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2843280" y="2819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7361280" y="28195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7468560" y="55627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533520" y="5486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2514600" y="5410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аз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о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4764600" y="548640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те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7" descr="play computer games.jpg"/>
          <p:cNvPicPr/>
          <p:nvPr/>
        </p:nvPicPr>
        <p:blipFill>
          <a:blip r:embed="rId2"/>
          <a:stretch/>
        </p:blipFill>
        <p:spPr>
          <a:xfrm>
            <a:off x="4572000" y="762120"/>
            <a:ext cx="2133720" cy="1968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818240" y="281952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"/>
          <p:cNvPicPr/>
          <p:nvPr/>
        </p:nvPicPr>
        <p:blipFill>
          <a:blip r:embed="rId4"/>
          <a:stretch/>
        </p:blipFill>
        <p:spPr>
          <a:xfrm>
            <a:off x="2438280" y="7621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5"/>
          <a:stretch/>
        </p:blipFill>
        <p:spPr>
          <a:xfrm>
            <a:off x="228600" y="762120"/>
            <a:ext cx="203040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211464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"/>
          <p:cNvPicPr/>
          <p:nvPr/>
        </p:nvPicPr>
        <p:blipFill>
          <a:blip r:embed="rId7"/>
          <a:stretch/>
        </p:blipFill>
        <p:spPr>
          <a:xfrm>
            <a:off x="6858000" y="3429000"/>
            <a:ext cx="2057400" cy="19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"/>
          <p:cNvPicPr/>
          <p:nvPr/>
        </p:nvPicPr>
        <p:blipFill>
          <a:blip r:embed="rId8"/>
          <a:stretch/>
        </p:blipFill>
        <p:spPr>
          <a:xfrm>
            <a:off x="2362320" y="3436920"/>
            <a:ext cx="2057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Sandwich.jpg"/>
          <p:cNvPicPr/>
          <p:nvPr/>
        </p:nvPicPr>
        <p:blipFill>
          <a:blip r:embed="rId1"/>
          <a:stretch/>
        </p:blipFill>
        <p:spPr>
          <a:xfrm>
            <a:off x="258840" y="152280"/>
            <a:ext cx="276552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6100920" y="4572000"/>
            <a:ext cx="2784240" cy="202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Рисунок 3" descr="Бадминтон-1.jpg"/>
          <p:cNvPicPr/>
          <p:nvPr/>
        </p:nvPicPr>
        <p:blipFill>
          <a:blip r:embed="rId3"/>
          <a:stretch/>
        </p:blipFill>
        <p:spPr>
          <a:xfrm>
            <a:off x="3193920" y="4568760"/>
            <a:ext cx="2765520" cy="203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Рисунок 4" descr="Футбол-1.jpg"/>
          <p:cNvPicPr/>
          <p:nvPr/>
        </p:nvPicPr>
        <p:blipFill>
          <a:blip r:embed="rId4"/>
          <a:stretch/>
        </p:blipFill>
        <p:spPr>
          <a:xfrm>
            <a:off x="260280" y="4572000"/>
            <a:ext cx="2765520" cy="203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Рисунок 5" descr="Компьютер-2.jpg"/>
          <p:cNvPicPr/>
          <p:nvPr/>
        </p:nvPicPr>
        <p:blipFill>
          <a:blip r:embed="rId5"/>
          <a:stretch/>
        </p:blipFill>
        <p:spPr>
          <a:xfrm>
            <a:off x="260280" y="2367000"/>
            <a:ext cx="27622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Рисунок 6" descr="Пазлы-2.jpg"/>
          <p:cNvPicPr/>
          <p:nvPr/>
        </p:nvPicPr>
        <p:blipFill>
          <a:blip r:embed="rId6"/>
          <a:stretch/>
        </p:blipFill>
        <p:spPr>
          <a:xfrm>
            <a:off x="6111720" y="2367000"/>
            <a:ext cx="2762280" cy="20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Рисунок 8" descr=""/>
          <p:cNvPicPr/>
          <p:nvPr/>
        </p:nvPicPr>
        <p:blipFill>
          <a:blip r:embed="rId7"/>
          <a:stretch/>
        </p:blipFill>
        <p:spPr>
          <a:xfrm>
            <a:off x="3198960" y="152280"/>
            <a:ext cx="27604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Рисунок 9" descr="Hot dog.jpg"/>
          <p:cNvPicPr/>
          <p:nvPr/>
        </p:nvPicPr>
        <p:blipFill>
          <a:blip r:embed="rId8"/>
          <a:stretch/>
        </p:blipFill>
        <p:spPr>
          <a:xfrm>
            <a:off x="3198960" y="2362320"/>
            <a:ext cx="27604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Рисунок 10" descr="Доктор-2.jpg"/>
          <p:cNvPicPr/>
          <p:nvPr/>
        </p:nvPicPr>
        <p:blipFill>
          <a:blip r:embed="rId9"/>
          <a:stretch/>
        </p:blipFill>
        <p:spPr>
          <a:xfrm>
            <a:off x="6111720" y="152280"/>
            <a:ext cx="2762280" cy="203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ьза</cp:lastModifiedBy>
  <dcterms:modified xsi:type="dcterms:W3CDTF">2014-01-26T08:50:1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