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DC4-409D-4170-B203-E0D1B6CE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211-4F83-4274-8340-A7CFF29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CF6-AAB7-4D9B-95D6-DD38D21C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BF9-E0EA-4A1D-9F6E-F5CD143C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0BED-83FE-4FBE-A7D2-A49D08A7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2DDC-315F-4901-BC1B-0B010CC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B861-4E6B-438C-B8BC-7B64F0BB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1B19-EE4C-4578-BFA9-6DB8F402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32B5-CFDF-4766-AD3C-67DADB40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0FAF-C412-45A5-8395-E79EEF0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74E-3AB2-4F44-9173-484CC68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E78-43BD-4583-8DAB-DEDEE84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AB6B-17BF-4F26-9ADC-4205188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205-7F71-41C3-98D9-36BB8ED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184C-5E76-47C8-92A1-AE6E0E0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FC39-7674-4AEE-880E-3190990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D30B-2D73-4F2F-88A1-6E7961B5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C6F-6BBE-4823-8B1B-A4B361CC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609-3254-4912-82A0-92EA95B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CC6-27CF-4C24-BE6F-56F7DD1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EF4-4950-4B05-8DFB-E6F8701E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F51-73EB-4424-919E-B4280E23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72C-F09E-4654-96E9-7E12757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F4A-F2DD-476A-B041-BF5FFD0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9EB-D1FA-4EA3-8ACC-54760B69C7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66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7c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15C0-63FD-4420-A6F5-ACEB2E9D0B9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br>
              <a:rPr sz="4000"/>
            </a:br>
            <a:endParaRPr b="0" lang="en-US" sz="3200" spc="-1" strike="noStrike">
              <a:solidFill>
                <a:srgbClr val="7a7c93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404640"/>
            <a:ext cx="8370720" cy="54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Агния Львовна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   </a:t>
            </a: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Барто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2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(1906-198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3f3f3"/>
                </a:solidFill>
                <a:latin typeface="Times New Roman"/>
                <a:ea typeface="Times New Roman"/>
              </a:rPr>
              <a:t>«Веревочка»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9" name="Объект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688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1" name="Объект 3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5688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4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3" name="Объект 2" descr=""/>
          <p:cNvPicPr/>
          <p:nvPr/>
        </p:nvPicPr>
        <p:blipFill>
          <a:blip r:embed="rId1"/>
          <a:stretch/>
        </p:blipFill>
        <p:spPr>
          <a:xfrm>
            <a:off x="2741760" y="476280"/>
            <a:ext cx="4375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58323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612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3f3"/>
                </a:solidFill>
                <a:latin typeface="AnastasiaScript"/>
              </a:rPr>
              <a:t>Родилась в городе Москва. </a:t>
            </a:r>
            <a:endParaRPr b="0" lang="en-US" sz="40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2" name="Объект 2" descr=""/>
          <p:cNvPicPr/>
          <p:nvPr/>
        </p:nvPicPr>
        <p:blipFill>
          <a:blip r:embed="rId1"/>
          <a:stretch/>
        </p:blipFill>
        <p:spPr>
          <a:xfrm>
            <a:off x="4762440" y="1557360"/>
            <a:ext cx="4057560" cy="4751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495440" y="162864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гния Львовна писала не только стихи и пьесы, но и сценарии к фильмам: «Подкидыш» (1940), «Алеша Птицын вырабатывает характер» (1953), «10 000 мальчиков» (1962).     Ее стихотворение «Веревочка» было взято режиссером И. Фрэзом за основу замысла фильма «Слон и веревочка» (1945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5" name="Объект 2" descr=""/>
          <p:cNvPicPr/>
          <p:nvPr/>
        </p:nvPicPr>
        <p:blipFill>
          <a:blip r:embed="rId1"/>
          <a:stretch/>
        </p:blipFill>
        <p:spPr>
          <a:xfrm>
            <a:off x="2822400" y="404640"/>
            <a:ext cx="415152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4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2741760" y="476280"/>
            <a:ext cx="43750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2895480" y="260280"/>
            <a:ext cx="457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5113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76327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111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a7c93"/>
              </a:solidFill>
              <a:latin typeface="Arial Black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5543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24:28Z</dcterms:created>
  <dc:creator>*</dc:creator>
  <dc:description/>
  <dc:language>en-US</dc:language>
  <cp:lastModifiedBy>Надежда</cp:lastModifiedBy>
  <dcterms:modified xsi:type="dcterms:W3CDTF">2012-09-28T15:20:46Z</dcterms:modified>
  <cp:revision>35</cp:revision>
  <dc:subject/>
  <dc:title>Квиллинг – мастер-класс, как сделать цветок</dc:title>
</cp:coreProperties>
</file>