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97B-0A9B-4F84-AA80-D44C9F59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31F-B7A7-4967-845F-707E045D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234-9428-49CC-A644-6022B304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1B1-FB71-46E7-A4FD-9B72739D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B7A-3D26-406B-AE37-A4C1CE6A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1CFC-0DB8-4730-AC32-77BC22B9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2D72-5506-4714-B784-F06B84A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7907-0166-4238-B663-209B5FC9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78BC-B2FF-4B46-9377-BF291B6A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0840-C766-4D80-B4E3-1851AA6E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5CF2-7FA7-4FEC-82F3-7AB4BA8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05A-6797-4ED9-8894-D9A6A37B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04E-9189-4C91-9125-5E8E3BE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7883-686F-4862-A62D-730D4E60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B978-3D17-46BD-A8CB-B15F17FE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3C3B-B7C3-4E69-B083-516E647E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D578-2AB5-4DB7-A533-9501BA17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0AA-9399-4807-A9F7-0BF9DC67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88B-5A55-4E06-93B2-6EF69A55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442-AD4C-4234-A49C-8E21E722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848-4A73-4D38-A872-1B04D48C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A94-B968-4D50-BF54-BCC36D97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2F8-4D5E-4A26-9B52-93C361C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CD4-7CAF-4F2A-8EEB-AEF18D63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5CD-CFA4-4EE0-AFC5-CA632A6EB9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60CB-70DA-40BB-91D4-1B1FFD1EF1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Блокада Ленинграда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ентацию подготовила классный руководитель 5В класса МБОУ СОШ с УИОП№2 г. Лебедя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лезнёва О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d.shostakovich_-_simfoniya_7_leningradskay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17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short"/>
          <p:cNvPicPr/>
          <p:nvPr/>
        </p:nvPicPr>
        <p:blipFill>
          <a:blip r:embed="rId1"/>
          <a:stretch/>
        </p:blipFill>
        <p:spPr>
          <a:xfrm>
            <a:off x="1397160" y="0"/>
            <a:ext cx="62704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арточка на хлеб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Picture 4" descr="14"/>
          <p:cNvPicPr/>
          <p:nvPr/>
        </p:nvPicPr>
        <p:blipFill>
          <a:blip r:embed="rId1"/>
          <a:stretch/>
        </p:blipFill>
        <p:spPr>
          <a:xfrm>
            <a:off x="2268360" y="1609560"/>
            <a:ext cx="4824720" cy="4419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Люди умирали от голод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Picture 4" descr="7"/>
          <p:cNvPicPr/>
          <p:nvPr/>
        </p:nvPicPr>
        <p:blipFill>
          <a:blip r:embed="rId1"/>
          <a:stretch/>
        </p:blipFill>
        <p:spPr>
          <a:xfrm>
            <a:off x="2124000" y="1341360"/>
            <a:ext cx="4583160" cy="551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2"/>
          <p:cNvPicPr/>
          <p:nvPr/>
        </p:nvPicPr>
        <p:blipFill>
          <a:blip r:embed="rId1"/>
          <a:stretch/>
        </p:blipFill>
        <p:spPr>
          <a:xfrm>
            <a:off x="611280" y="1557360"/>
            <a:ext cx="7775640" cy="489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аня Савичев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7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Работница Царёва выполняла план на 300%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Leningrad_24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68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орога Жизн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13"/>
          <p:cNvPicPr/>
          <p:nvPr/>
        </p:nvPicPr>
        <p:blipFill>
          <a:blip r:embed="rId1"/>
          <a:stretch/>
        </p:blipFill>
        <p:spPr>
          <a:xfrm>
            <a:off x="395280" y="1509840"/>
            <a:ext cx="8209080" cy="4843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чистка город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article_image-image-article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62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льга Берггольц- голос блокадного Ленинград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olga_berggolc-encyclopediyaRU"/>
          <p:cNvPicPr/>
          <p:nvPr/>
        </p:nvPicPr>
        <p:blipFill>
          <a:blip r:embed="rId1"/>
          <a:stretch/>
        </p:blipFill>
        <p:spPr>
          <a:xfrm>
            <a:off x="2484360" y="1557360"/>
            <a:ext cx="3735360" cy="4967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оенный покупает билет на концерт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Leningrad_22"/>
          <p:cNvPicPr/>
          <p:nvPr/>
        </p:nvPicPr>
        <p:blipFill>
          <a:blip r:embed="rId1"/>
          <a:stretch/>
        </p:blipFill>
        <p:spPr>
          <a:xfrm>
            <a:off x="684360" y="1628640"/>
            <a:ext cx="7704000" cy="4824720"/>
          </a:xfrm>
          <a:prstGeom prst="rect">
            <a:avLst/>
          </a:prstGeom>
          <a:ln w="0">
            <a:noFill/>
          </a:ln>
        </p:spPr>
      </p:pic>
      <p:pic>
        <p:nvPicPr>
          <p:cNvPr id="148" name="d.shostakovich_-_simfoniya_7_leningradskay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717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 вместе называют – Ленинград,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шар земной гордится Ленинградом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                              / О. Берггольц /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0" y="3041640"/>
            <a:ext cx="2736720" cy="38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Медаль за оборону Ленингра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006"/>
          <p:cNvPicPr/>
          <p:nvPr/>
        </p:nvPicPr>
        <p:blipFill>
          <a:blip r:embed="rId1"/>
          <a:stretch/>
        </p:blipFill>
        <p:spPr>
          <a:xfrm>
            <a:off x="2771640" y="1413000"/>
            <a:ext cx="4230720" cy="544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бщественная система радиовещания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Leningrad_04"/>
          <p:cNvPicPr/>
          <p:nvPr/>
        </p:nvPicPr>
        <p:blipFill>
          <a:blip r:embed="rId1"/>
          <a:stretch/>
        </p:blipFill>
        <p:spPr>
          <a:xfrm>
            <a:off x="2774880" y="1484280"/>
            <a:ext cx="3573360" cy="5373720"/>
          </a:xfrm>
          <a:prstGeom prst="rect">
            <a:avLst/>
          </a:prstGeom>
          <a:ln w="0">
            <a:noFill/>
          </a:ln>
        </p:spPr>
      </p:pic>
      <p:pic>
        <p:nvPicPr>
          <p:cNvPr id="155" name="levitan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542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амятник детям блокады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o-00090208-n-00295626"/>
          <p:cNvPicPr/>
          <p:nvPr/>
        </p:nvPicPr>
        <p:blipFill>
          <a:blip r:embed="rId1"/>
          <a:stretch/>
        </p:blipFill>
        <p:spPr>
          <a:xfrm>
            <a:off x="395280" y="1552680"/>
            <a:ext cx="8280360" cy="4632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амятник блокадному Ленинград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pamyatnik_blokadnogo_leningrada"/>
          <p:cNvPicPr/>
          <p:nvPr/>
        </p:nvPicPr>
        <p:blipFill>
          <a:blip r:embed="rId1"/>
          <a:stretch/>
        </p:blipFill>
        <p:spPr>
          <a:xfrm>
            <a:off x="395280" y="1628640"/>
            <a:ext cx="8424720" cy="522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искарёвское кладбищ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189160" y="1523880"/>
            <a:ext cx="4038480" cy="5334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repphoto_7834_4701"/>
          <p:cNvPicPr/>
          <p:nvPr/>
        </p:nvPicPr>
        <p:blipFill>
          <a:blip r:embed="rId1"/>
          <a:stretch/>
        </p:blipFill>
        <p:spPr>
          <a:xfrm>
            <a:off x="539640" y="1359000"/>
            <a:ext cx="8255160" cy="549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repphoto_7841_7140"/>
          <p:cNvPicPr/>
          <p:nvPr/>
        </p:nvPicPr>
        <p:blipFill>
          <a:blip r:embed="rId1"/>
          <a:stretch/>
        </p:blipFill>
        <p:spPr>
          <a:xfrm>
            <a:off x="444600" y="679320"/>
            <a:ext cx="8254800" cy="549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repphoto_7848_82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748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repphoto_7847_8163"/>
          <p:cNvPicPr/>
          <p:nvPr/>
        </p:nvPicPr>
        <p:blipFill>
          <a:blip r:embed="rId1"/>
          <a:stretch/>
        </p:blipFill>
        <p:spPr>
          <a:xfrm>
            <a:off x="444600" y="831960"/>
            <a:ext cx="8254800" cy="5194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repphoto_7846_8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Лето 1942г. Зенитная батарея на Университетской набережной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blokada_leningrad_diorama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522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Мемориал « Защитникам Ленинграда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o-00090209-n-00295626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01-320_2883a_9330e306_orig"/>
          <p:cNvPicPr/>
          <p:nvPr/>
        </p:nvPicPr>
        <p:blipFill>
          <a:blip r:embed="rId1"/>
          <a:stretch/>
        </p:blipFill>
        <p:spPr>
          <a:xfrm>
            <a:off x="523800" y="390600"/>
            <a:ext cx="8096400" cy="6076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лонна солдат у Кировского завод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soldgers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37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лакат военного времени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009"/>
          <p:cNvPicPr/>
          <p:nvPr/>
        </p:nvPicPr>
        <p:blipFill>
          <a:blip r:embed="rId1"/>
          <a:stretch/>
        </p:blipFill>
        <p:spPr>
          <a:xfrm>
            <a:off x="1835280" y="1557360"/>
            <a:ext cx="5162400" cy="5300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Бойцы Ленинградского фронт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9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478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9"/>
          <p:cNvPicPr/>
          <p:nvPr/>
        </p:nvPicPr>
        <p:blipFill>
          <a:blip r:embed="rId1"/>
          <a:stretch/>
        </p:blipFill>
        <p:spPr>
          <a:xfrm>
            <a:off x="468360" y="1052640"/>
            <a:ext cx="8064360" cy="525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0_3189d_508981b7_L"/>
          <p:cNvPicPr/>
          <p:nvPr/>
        </p:nvPicPr>
        <p:blipFill>
          <a:blip r:embed="rId1"/>
          <a:stretch/>
        </p:blipFill>
        <p:spPr>
          <a:xfrm>
            <a:off x="234000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10:47Z</dcterms:created>
  <dc:creator>Admin</dc:creator>
  <dc:description/>
  <dc:language>en-US</dc:language>
  <cp:lastModifiedBy>ольга</cp:lastModifiedBy>
  <dcterms:modified xsi:type="dcterms:W3CDTF">2014-01-22T22:19:15Z</dcterms:modified>
  <cp:revision>14</cp:revision>
  <dc:subject/>
  <dc:title>Слайд 1</dc:title>
</cp:coreProperties>
</file>