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B2F-9708-4D44-94E9-838586FF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30D-B7F0-4444-8848-0F36371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598-9D46-4D33-882A-D529D753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6D6-3DDE-4CD9-9223-B62DBCEB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486F-C292-439F-A568-907BBBD7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6C79-9052-4295-A5E3-69507467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76CB-D23F-435A-B710-01142E68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4DEB-4B0B-49C6-8CFA-5C01D29C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8042-F8F2-4D76-95EC-5DDB7E16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0F22-6CFB-4517-AD0D-2ECED8E2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920A-7A01-4F88-B8A4-4557845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C32-4DF3-497B-8EE6-CE2698E9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C408-46B1-4CAA-8DAA-6CB2032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11EE-07E6-4082-B5F9-C05E0263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0160-4C99-4256-8E96-113D545D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244E-5010-4732-9934-F8D50C61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E191-D2A3-4C30-AECD-E4F372AE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BE7-0B7E-4621-A7D7-630DC721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5B6-10C8-4BEF-9BE9-CFAA6F35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11C-5D55-442B-B00E-9B150A4F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FE5-1B82-451D-84E7-5AB1E397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A67-BDD7-4276-9EA9-F1CC2583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60A-FDC1-4DFD-B2C1-ED8501DE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D56-ED07-4CDB-8F9A-876DE7D7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57F7-1145-4326-A055-B1BA1CEAD4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E7F2-8DF4-4E22-BEEB-2D193C5469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Блокада Ленинграда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ентацию подготовила классный руководитель 5В класса МБОУ СОШ с УИОП№2 г. Лебедя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лезнёва О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d.shostakovich_-_simfoniya_7_leningradskaya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17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short"/>
          <p:cNvPicPr/>
          <p:nvPr/>
        </p:nvPicPr>
        <p:blipFill>
          <a:blip r:embed="rId1"/>
          <a:stretch/>
        </p:blipFill>
        <p:spPr>
          <a:xfrm>
            <a:off x="1397160" y="0"/>
            <a:ext cx="62704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арточка на хлеб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Picture 4" descr="14"/>
          <p:cNvPicPr/>
          <p:nvPr/>
        </p:nvPicPr>
        <p:blipFill>
          <a:blip r:embed="rId1"/>
          <a:stretch/>
        </p:blipFill>
        <p:spPr>
          <a:xfrm>
            <a:off x="2268360" y="1609560"/>
            <a:ext cx="4824720" cy="4419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Люди умирали от голод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Picture 4" descr="7"/>
          <p:cNvPicPr/>
          <p:nvPr/>
        </p:nvPicPr>
        <p:blipFill>
          <a:blip r:embed="rId1"/>
          <a:stretch/>
        </p:blipFill>
        <p:spPr>
          <a:xfrm>
            <a:off x="2124000" y="1341360"/>
            <a:ext cx="4583160" cy="551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2"/>
          <p:cNvPicPr/>
          <p:nvPr/>
        </p:nvPicPr>
        <p:blipFill>
          <a:blip r:embed="rId1"/>
          <a:stretch/>
        </p:blipFill>
        <p:spPr>
          <a:xfrm>
            <a:off x="611280" y="1557360"/>
            <a:ext cx="7775640" cy="489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аня Савичев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7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Работница Царёва выполняла план на 300%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Leningrad_24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68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орога Жизн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13"/>
          <p:cNvPicPr/>
          <p:nvPr/>
        </p:nvPicPr>
        <p:blipFill>
          <a:blip r:embed="rId1"/>
          <a:stretch/>
        </p:blipFill>
        <p:spPr>
          <a:xfrm>
            <a:off x="395280" y="1509840"/>
            <a:ext cx="8209080" cy="4843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чистка город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article_image-image-article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62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льга Берггольц- голос блокадного Ленинград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olga_berggolc-encyclopediyaRU"/>
          <p:cNvPicPr/>
          <p:nvPr/>
        </p:nvPicPr>
        <p:blipFill>
          <a:blip r:embed="rId1"/>
          <a:stretch/>
        </p:blipFill>
        <p:spPr>
          <a:xfrm>
            <a:off x="2484360" y="1557360"/>
            <a:ext cx="3735360" cy="4967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оенный покупает билет на концерт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Leningrad_22"/>
          <p:cNvPicPr/>
          <p:nvPr/>
        </p:nvPicPr>
        <p:blipFill>
          <a:blip r:embed="rId1"/>
          <a:stretch/>
        </p:blipFill>
        <p:spPr>
          <a:xfrm>
            <a:off x="684360" y="1628640"/>
            <a:ext cx="7704000" cy="4824720"/>
          </a:xfrm>
          <a:prstGeom prst="rect">
            <a:avLst/>
          </a:prstGeom>
          <a:ln w="0">
            <a:noFill/>
          </a:ln>
        </p:spPr>
      </p:pic>
      <p:pic>
        <p:nvPicPr>
          <p:cNvPr id="148" name="d.shostakovich_-_simfoniya_7_leningradskay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717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 вместе называют – Ленинград,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шар земной гордится Ленинградом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                              / О. Берггольц /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0" y="3041640"/>
            <a:ext cx="2736720" cy="38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Медаль за оборону Ленингра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006"/>
          <p:cNvPicPr/>
          <p:nvPr/>
        </p:nvPicPr>
        <p:blipFill>
          <a:blip r:embed="rId1"/>
          <a:stretch/>
        </p:blipFill>
        <p:spPr>
          <a:xfrm>
            <a:off x="2771640" y="1413000"/>
            <a:ext cx="4230720" cy="544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бщественная система радиовещания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Leningrad_04"/>
          <p:cNvPicPr/>
          <p:nvPr/>
        </p:nvPicPr>
        <p:blipFill>
          <a:blip r:embed="rId1"/>
          <a:stretch/>
        </p:blipFill>
        <p:spPr>
          <a:xfrm>
            <a:off x="2774880" y="1484280"/>
            <a:ext cx="3573360" cy="5373720"/>
          </a:xfrm>
          <a:prstGeom prst="rect">
            <a:avLst/>
          </a:prstGeom>
          <a:ln w="0">
            <a:noFill/>
          </a:ln>
        </p:spPr>
      </p:pic>
      <p:pic>
        <p:nvPicPr>
          <p:cNvPr id="155" name="levitan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542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амятник детям блокады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o-00090208-n-00295626"/>
          <p:cNvPicPr/>
          <p:nvPr/>
        </p:nvPicPr>
        <p:blipFill>
          <a:blip r:embed="rId1"/>
          <a:stretch/>
        </p:blipFill>
        <p:spPr>
          <a:xfrm>
            <a:off x="395280" y="1552680"/>
            <a:ext cx="8280360" cy="4632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амятник блокадному Ленинград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pamyatnik_blokadnogo_leningrada"/>
          <p:cNvPicPr/>
          <p:nvPr/>
        </p:nvPicPr>
        <p:blipFill>
          <a:blip r:embed="rId1"/>
          <a:stretch/>
        </p:blipFill>
        <p:spPr>
          <a:xfrm>
            <a:off x="395280" y="1628640"/>
            <a:ext cx="8424720" cy="522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искарёвское кладбищ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189160" y="1523880"/>
            <a:ext cx="4038480" cy="5334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repphoto_7834_4701"/>
          <p:cNvPicPr/>
          <p:nvPr/>
        </p:nvPicPr>
        <p:blipFill>
          <a:blip r:embed="rId1"/>
          <a:stretch/>
        </p:blipFill>
        <p:spPr>
          <a:xfrm>
            <a:off x="539640" y="1359000"/>
            <a:ext cx="8255160" cy="549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repphoto_7841_7140"/>
          <p:cNvPicPr/>
          <p:nvPr/>
        </p:nvPicPr>
        <p:blipFill>
          <a:blip r:embed="rId1"/>
          <a:stretch/>
        </p:blipFill>
        <p:spPr>
          <a:xfrm>
            <a:off x="444600" y="679320"/>
            <a:ext cx="8254800" cy="549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repphoto_7848_82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748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repphoto_7847_8163"/>
          <p:cNvPicPr/>
          <p:nvPr/>
        </p:nvPicPr>
        <p:blipFill>
          <a:blip r:embed="rId1"/>
          <a:stretch/>
        </p:blipFill>
        <p:spPr>
          <a:xfrm>
            <a:off x="444600" y="831960"/>
            <a:ext cx="8254800" cy="5194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repphoto_7846_8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Лето 1942г. Зенитная батарея на Университетской набережной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blokada_leningrad_diorama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522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Мемориал « Защитникам Ленинграда»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o-00090209-n-00295626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01-320_2883a_9330e306_orig"/>
          <p:cNvPicPr/>
          <p:nvPr/>
        </p:nvPicPr>
        <p:blipFill>
          <a:blip r:embed="rId1"/>
          <a:stretch/>
        </p:blipFill>
        <p:spPr>
          <a:xfrm>
            <a:off x="523800" y="390600"/>
            <a:ext cx="8096400" cy="6076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лонна солдат у Кировского завод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soldgers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373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лакат военного времени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009"/>
          <p:cNvPicPr/>
          <p:nvPr/>
        </p:nvPicPr>
        <p:blipFill>
          <a:blip r:embed="rId1"/>
          <a:stretch/>
        </p:blipFill>
        <p:spPr>
          <a:xfrm>
            <a:off x="1835280" y="1557360"/>
            <a:ext cx="5162400" cy="5300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Бойцы Ленинградского фронт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9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478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9"/>
          <p:cNvPicPr/>
          <p:nvPr/>
        </p:nvPicPr>
        <p:blipFill>
          <a:blip r:embed="rId1"/>
          <a:stretch/>
        </p:blipFill>
        <p:spPr>
          <a:xfrm>
            <a:off x="468360" y="1052640"/>
            <a:ext cx="8064360" cy="525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0_3189d_508981b7_L"/>
          <p:cNvPicPr/>
          <p:nvPr/>
        </p:nvPicPr>
        <p:blipFill>
          <a:blip r:embed="rId1"/>
          <a:stretch/>
        </p:blipFill>
        <p:spPr>
          <a:xfrm>
            <a:off x="234000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10:47Z</dcterms:created>
  <dc:creator>Admin</dc:creator>
  <dc:description/>
  <dc:language>en-US</dc:language>
  <cp:lastModifiedBy>ольга</cp:lastModifiedBy>
  <dcterms:modified xsi:type="dcterms:W3CDTF">2014-01-22T22:19:15Z</dcterms:modified>
  <cp:revision>14</cp:revision>
  <dc:subject/>
  <dc:title>Слайд 1</dc:title>
</cp:coreProperties>
</file>