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png" ContentType="image/png"/>
  <Override PartName="/ppt/media/image14.gif" ContentType="image/gif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96F1-C83D-4863-8364-577C014C1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451B-7AE1-47E5-A7F2-FBC66162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600E-A328-4091-8D52-AB45A18AE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4617-18F2-4098-A423-27CE4CF48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CC00-23FB-4070-B18C-9668BB93A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FEB4-DF4A-44C3-BF98-CBB3F731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7BFB-C291-432E-93ED-18350627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80208-2657-4475-AE04-7EB89C10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7897-C39A-4004-A1B1-A5EF279F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2DAE-18A1-47BC-9FBC-F5439175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63964-36EE-46F1-B989-AA4BBC65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60EB-192B-4594-9A68-BC8ACDC6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59A80-2535-4178-9A6C-C28247E9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FA052-235C-4AC5-A1B6-42102D6C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4D70-B290-45E5-8AAA-71CCD24D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4D2D-CE94-4CBE-8C3D-6325FF257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CABC-E65E-4755-B20C-8CC2EE582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DA975-0110-4BC4-AA22-14A1A8119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BA074-AE11-4B53-A57C-9291A040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F8A9A-4C1F-4FC3-972B-CAF35911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DBD70-183C-4BF1-92A6-B2625974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E6B53-224F-41C4-8433-7156BE5D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870F-D1B3-430D-BC12-410B57B7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464F6-04F0-4B49-BA3A-97091DCD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522A0-C10B-4925-978A-C9C75AE6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70ADE-87E2-4433-A4EB-54608B25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E3EED-4D59-4811-B377-253D13F1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4CB45-F410-4778-80B9-232B596A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EF321-391F-46FE-8EEC-810883051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4E7A0-67E0-48FB-8664-BE0B97028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A4719-54A0-4DBB-9047-085072DCC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A30C3-1BF1-49B0-B2B6-9B4A7854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28342-58EC-401C-8585-F0FA2B00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7BE9-DDC6-45CC-899A-D32F9C3F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5AF56-FFA1-48EA-AABE-CA31162B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E5D58-540A-4B24-BEAA-2ED0FCD1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94876-081C-40A9-BFAD-564BCDA1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1BE5B-4D10-410C-8454-8EEFE3FD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23A3E-1743-4974-BBE9-EF7FE398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17A55-EF70-47B5-AF5C-2BC58745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12C95-6146-419B-BA7C-96BEB068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42E24-EF56-4004-91A4-D845425F8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106FD-4733-4676-9DC8-CF57DA042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04C7D-A8DB-46EC-A924-2C8F42779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ADD3-8DE2-4183-ABA5-AD164BF2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E5CA9-E189-457A-8086-1BF23FF1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B590B-8EAC-487B-9609-7A691ED3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BE0BF-DA63-47E3-BA45-125D1307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69934-A8A5-48A2-9AA7-9844FDA6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CFDD1-B51F-4C9E-A8A7-CAF023FA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507FD-8C9D-45C2-92AE-FCFD81EA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2A344-C57B-4C0A-934C-C53E117D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F647A-FCB6-42C8-BF84-98B3F9B9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44EE8-E359-4162-BF41-BDAF9359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77BAF-1F98-4689-92FC-8A229624C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5EC6-5EE2-47F1-945A-99919315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5BA65-A1C2-4210-8BEE-6C5D5F00D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A930A-5569-49BE-99D0-F691A5F64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A6D72-98C1-4249-81AB-BCAED0BF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2E6AF-B2D1-4AF1-9B5F-9182BBFE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C7A9A-BB1D-44CE-9411-D68FDEBC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52EE0-F0E3-47EB-96CC-6F17F69C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4AC4E-BD55-4FB1-B415-B005E1F0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B251A-0C35-44C5-B272-54546F6F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DE4B4-8573-4866-B8DE-401920D3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74A4B-0A89-4C65-A5FC-D0F39748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3092-EB90-4CB9-A5E3-B0F82CFD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14463-ECB0-4FC7-9983-3C83FD2E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99CB1-1DF1-4DEE-9FB3-F104C2A4F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30F38-B461-4B68-8BBE-17F147470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1726-725B-46F9-844E-3BF2F9AE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8BAF-62E0-4D13-901C-6EAAB799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6A13-0D02-4855-9EA9-3BDA41C2D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custGeom>
                  <a:avLst/>
                  <a:gdLst>
                    <a:gd name="textAreaLeft" fmla="*/ 0 w 244080"/>
                    <a:gd name="textAreaRight" fmla="*/ 244440 w 24408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custGeom>
                  <a:avLst/>
                  <a:gdLst>
                    <a:gd name="textAreaLeft" fmla="*/ 0 w 429480"/>
                    <a:gd name="textAreaRight" fmla="*/ 429840 w 42948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custGeom>
                  <a:avLst/>
                  <a:gdLst>
                    <a:gd name="textAreaLeft" fmla="*/ 0 w 805680"/>
                    <a:gd name="textAreaRight" fmla="*/ 806040 w 8056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custGeom>
                  <a:avLst/>
                  <a:gdLst>
                    <a:gd name="textAreaLeft" fmla="*/ 0 w 1209600"/>
                    <a:gd name="textAreaRight" fmla="*/ 1209960 w 120960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custGeom>
                  <a:avLst/>
                  <a:gdLst>
                    <a:gd name="textAreaLeft" fmla="*/ 0 w 289080"/>
                    <a:gd name="textAreaRight" fmla="*/ 289440 w 2890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custGeom>
                  <a:avLst/>
                  <a:gdLst>
                    <a:gd name="textAreaLeft" fmla="*/ 0 w 288720"/>
                    <a:gd name="textAreaRight" fmla="*/ 289080 w 28872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custGeom>
                  <a:avLst/>
                  <a:gdLst>
                    <a:gd name="textAreaLeft" fmla="*/ 0 w 285480"/>
                    <a:gd name="textAreaRight" fmla="*/ 285840 w 28548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F3B81-F423-477F-B8CF-06B354E6FC8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3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3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3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7" name="Group 9"/>
            <p:cNvGrpSpPr/>
            <p:nvPr/>
          </p:nvGrpSpPr>
          <p:grpSpPr>
            <a:xfrm>
              <a:off x="-1080" y="2601000"/>
              <a:ext cx="2687400" cy="3118320"/>
              <a:chOff x="-1080" y="2601000"/>
              <a:chExt cx="2687400" cy="3118320"/>
            </a:xfrm>
          </p:grpSpPr>
          <p:sp>
            <p:nvSpPr>
              <p:cNvPr id="13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3" name="Group 15"/>
              <p:cNvGrpSpPr/>
              <p:nvPr/>
            </p:nvGrpSpPr>
            <p:grpSpPr>
              <a:xfrm>
                <a:off x="852480" y="4053600"/>
                <a:ext cx="1833840" cy="1665720"/>
                <a:chOff x="852480" y="4053600"/>
                <a:chExt cx="1833840" cy="1665720"/>
              </a:xfrm>
            </p:grpSpPr>
            <p:sp>
              <p:nvSpPr>
                <p:cNvPr id="144" name="Freeform 16"/>
                <p:cNvSpPr/>
                <p:nvPr/>
              </p:nvSpPr>
              <p:spPr>
                <a:xfrm flipH="1" rot="7102800">
                  <a:off x="1268280" y="3940560"/>
                  <a:ext cx="477360" cy="123120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31200"/>
                    <a:gd name="textAreaBottom" fmla="*/ 1231560 h 12312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5" name="Freeform 17"/>
                <p:cNvSpPr/>
                <p:nvPr/>
              </p:nvSpPr>
              <p:spPr>
                <a:xfrm flipH="1" rot="7102800">
                  <a:off x="2347560" y="4979160"/>
                  <a:ext cx="110520" cy="50508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05080"/>
                    <a:gd name="textAreaBottom" fmla="*/ 505440 h 50508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6" name="Freeform 18"/>
                <p:cNvSpPr/>
                <p:nvPr/>
              </p:nvSpPr>
              <p:spPr>
                <a:xfrm flipH="1" rot="7102800">
                  <a:off x="2500200" y="5567760"/>
                  <a:ext cx="200880" cy="8532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4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4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5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5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5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5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5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B5CA-5D5A-48A4-9272-B53D92AE9B7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1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1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2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25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226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29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230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1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2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3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4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3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67DE-FE1F-4DA9-AC2A-12E55AD80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DCDB-73DF-472E-ADC3-D9252F0E35D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321" name="Group 3"/>
            <p:cNvGrpSpPr/>
            <p:nvPr/>
          </p:nvGrpSpPr>
          <p:grpSpPr>
            <a:xfrm>
              <a:off x="5404680" y="58680"/>
              <a:ext cx="3626280" cy="6136920"/>
              <a:chOff x="5404680" y="58680"/>
              <a:chExt cx="3626280" cy="6136920"/>
            </a:xfrm>
          </p:grpSpPr>
          <p:sp>
            <p:nvSpPr>
              <p:cNvPr id="322" name="Freeform 4"/>
              <p:cNvSpPr/>
              <p:nvPr/>
            </p:nvSpPr>
            <p:spPr>
              <a:xfrm flipV="1" rot="11970000">
                <a:off x="6582600" y="344160"/>
                <a:ext cx="2115360" cy="2357280"/>
              </a:xfrm>
              <a:custGeom>
                <a:avLst/>
                <a:gdLst>
                  <a:gd name="textAreaLeft" fmla="*/ 0 w 2115360"/>
                  <a:gd name="textAreaRight" fmla="*/ 2115720 w 211536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3" name="Freeform 5"/>
              <p:cNvSpPr/>
              <p:nvPr/>
            </p:nvSpPr>
            <p:spPr>
              <a:xfrm flipV="1" rot="11970000">
                <a:off x="7421400" y="1957680"/>
                <a:ext cx="906120" cy="84276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-360 h 842760"/>
                  <a:gd name="textAreaBottom" fmla="*/ 842760 h 84276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4" name="Freeform 6"/>
              <p:cNvSpPr/>
              <p:nvPr/>
            </p:nvSpPr>
            <p:spPr>
              <a:xfrm flipV="1" rot="11970000">
                <a:off x="6823440" y="2589120"/>
                <a:ext cx="439200" cy="39528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5" name="Freeform 7"/>
              <p:cNvSpPr/>
              <p:nvPr/>
            </p:nvSpPr>
            <p:spPr>
              <a:xfrm flipV="1" rot="11970000">
                <a:off x="7250040" y="670680"/>
                <a:ext cx="388800" cy="5511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-360 h 551160"/>
                  <a:gd name="textAreaBottom" fmla="*/ 551160 h 55116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6" name="Freeform 8"/>
              <p:cNvSpPr/>
              <p:nvPr/>
            </p:nvSpPr>
            <p:spPr>
              <a:xfrm flipV="1" rot="11970000">
                <a:off x="7149600" y="2648160"/>
                <a:ext cx="163440" cy="33192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7" name="Freeform 9"/>
              <p:cNvSpPr/>
              <p:nvPr/>
            </p:nvSpPr>
            <p:spPr>
              <a:xfrm flipV="1" rot="11970000">
                <a:off x="7134840" y="1242000"/>
                <a:ext cx="190080" cy="1429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8" name="Freeform 10"/>
              <p:cNvSpPr/>
              <p:nvPr/>
            </p:nvSpPr>
            <p:spPr>
              <a:xfrm flipV="1" rot="11970000">
                <a:off x="5935320" y="2933640"/>
                <a:ext cx="523440" cy="326844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29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2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35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336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7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8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39" name="Group 21"/>
            <p:cNvGrpSpPr/>
            <p:nvPr/>
          </p:nvGrpSpPr>
          <p:grpSpPr>
            <a:xfrm>
              <a:off x="5646240" y="285480"/>
              <a:ext cx="892440" cy="825840"/>
              <a:chOff x="5646240" y="285480"/>
              <a:chExt cx="892440" cy="825840"/>
            </a:xfrm>
          </p:grpSpPr>
          <p:sp>
            <p:nvSpPr>
              <p:cNvPr id="340" name="Freeform 22"/>
              <p:cNvSpPr/>
              <p:nvPr/>
            </p:nvSpPr>
            <p:spPr>
              <a:xfrm rot="14908200">
                <a:off x="5757840" y="780840"/>
                <a:ext cx="178560" cy="3618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1" name="Freeform 23"/>
              <p:cNvSpPr/>
              <p:nvPr/>
            </p:nvSpPr>
            <p:spPr>
              <a:xfrm rot="14908200">
                <a:off x="5706360" y="460440"/>
                <a:ext cx="306000" cy="3006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2" name="Freeform 24"/>
              <p:cNvSpPr/>
              <p:nvPr/>
            </p:nvSpPr>
            <p:spPr>
              <a:xfrm rot="14908200">
                <a:off x="6248880" y="385920"/>
                <a:ext cx="320040" cy="15300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43" name="Group 25"/>
            <p:cNvGrpSpPr/>
            <p:nvPr/>
          </p:nvGrpSpPr>
          <p:grpSpPr>
            <a:xfrm>
              <a:off x="968760" y="5255280"/>
              <a:ext cx="1059120" cy="830880"/>
              <a:chOff x="968760" y="5255280"/>
              <a:chExt cx="1059120" cy="830880"/>
            </a:xfrm>
          </p:grpSpPr>
          <p:sp>
            <p:nvSpPr>
              <p:cNvPr id="344" name="Freeform 26"/>
              <p:cNvSpPr/>
              <p:nvPr/>
            </p:nvSpPr>
            <p:spPr>
              <a:xfrm rot="8524800">
                <a:off x="1711080" y="5520240"/>
                <a:ext cx="250920" cy="2995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5" name="Freeform 27"/>
              <p:cNvSpPr/>
              <p:nvPr/>
            </p:nvSpPr>
            <p:spPr>
              <a:xfrm rot="8524800">
                <a:off x="1194120" y="5731560"/>
                <a:ext cx="429480" cy="2487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6" name="Freeform 28"/>
              <p:cNvSpPr/>
              <p:nvPr/>
            </p:nvSpPr>
            <p:spPr>
              <a:xfrm rot="8524800">
                <a:off x="960120" y="537984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47" name="Group 29"/>
            <p:cNvGrpSpPr/>
            <p:nvPr/>
          </p:nvGrpSpPr>
          <p:grpSpPr>
            <a:xfrm>
              <a:off x="375840" y="435240"/>
              <a:ext cx="1690200" cy="1146600"/>
              <a:chOff x="375840" y="435240"/>
              <a:chExt cx="1690200" cy="1146600"/>
            </a:xfrm>
          </p:grpSpPr>
          <p:sp>
            <p:nvSpPr>
              <p:cNvPr id="348" name="Freeform 30"/>
              <p:cNvSpPr/>
              <p:nvPr/>
            </p:nvSpPr>
            <p:spPr>
              <a:xfrm flipH="1" rot="4107000">
                <a:off x="1576080" y="105372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9" name="Freeform 31"/>
              <p:cNvSpPr/>
              <p:nvPr/>
            </p:nvSpPr>
            <p:spPr>
              <a:xfrm flipH="1" rot="4107000">
                <a:off x="1022760" y="57888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0" name="Freeform 32"/>
              <p:cNvSpPr/>
              <p:nvPr/>
            </p:nvSpPr>
            <p:spPr>
              <a:xfrm flipH="1" rot="4107000">
                <a:off x="278640" y="109260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51" name="Group 33"/>
            <p:cNvGrpSpPr/>
            <p:nvPr/>
          </p:nvGrpSpPr>
          <p:grpSpPr>
            <a:xfrm>
              <a:off x="7393680" y="3712320"/>
              <a:ext cx="1155600" cy="1607760"/>
              <a:chOff x="7393680" y="3712320"/>
              <a:chExt cx="1155600" cy="1607760"/>
            </a:xfrm>
          </p:grpSpPr>
          <p:sp>
            <p:nvSpPr>
              <p:cNvPr id="352" name="Freeform 34"/>
              <p:cNvSpPr/>
              <p:nvPr/>
            </p:nvSpPr>
            <p:spPr>
              <a:xfrm flipH="1" rot="10015800">
                <a:off x="744840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3" name="Freeform 35"/>
              <p:cNvSpPr/>
              <p:nvPr/>
            </p:nvSpPr>
            <p:spPr>
              <a:xfrm flipH="1" rot="10015800">
                <a:off x="789912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4" name="Freeform 36"/>
              <p:cNvSpPr/>
              <p:nvPr/>
            </p:nvSpPr>
            <p:spPr>
              <a:xfrm flipH="1" rot="10015800">
                <a:off x="759168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55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6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8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9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0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1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A7CE-8FAB-4B0E-9793-127829D7069A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195640" y="76464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«Буквы Б б, В в»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995120" y="293004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истема Л.В. Занко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Прямоугольник 6"/>
          <p:cNvSpPr/>
          <p:nvPr/>
        </p:nvSpPr>
        <p:spPr>
          <a:xfrm>
            <a:off x="642960" y="4121280"/>
            <a:ext cx="764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втор презентации Аброськина Ирина Васильевна, учитель начальных классов МБОУ СОШ №4 г. Рассказово Тамбовской области             2013 г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Чтение слогов и слов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071720"/>
            <a:ext cx="822960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ба              был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бо              бил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бу              бал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бы             били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би              брили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С нами по зоопарку путешествуют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зорной мальчиш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 сером армячишк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о двору гуляет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рохи собирает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46" name="Picture 2" descr="http://www.stihi.ru/pics/2012/10/07/6023.jpg"/>
          <p:cNvPicPr/>
          <p:nvPr/>
        </p:nvPicPr>
        <p:blipFill>
          <a:blip r:embed="rId1"/>
          <a:stretch/>
        </p:blipFill>
        <p:spPr>
          <a:xfrm>
            <a:off x="4500720" y="3286080"/>
            <a:ext cx="421452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Мне кажется, что это гласный звук. Верно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285840" y="1600200"/>
            <a:ext cx="84009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в</a:t>
            </a:r>
            <a:r>
              <a:rPr b="0" lang="en-US" sz="4000" spc="-1" strike="noStrike">
                <a:solidFill>
                  <a:srgbClr val="ff0000"/>
                </a:solidFill>
                <a:latin typeface="Verdana"/>
              </a:rPr>
              <a:t>]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 – согласный, звонкий, твёрдый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Какой зверь сидит в</a:t>
            </a:r>
            <a:br>
              <a:rPr sz="4400"/>
            </a:b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вольере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pSp>
        <p:nvGrpSpPr>
          <p:cNvPr id="450" name="Group 56"/>
          <p:cNvGrpSpPr/>
          <p:nvPr/>
        </p:nvGrpSpPr>
        <p:grpSpPr>
          <a:xfrm>
            <a:off x="1214280" y="1857240"/>
            <a:ext cx="6971400" cy="2197440"/>
            <a:chOff x="1214280" y="1857240"/>
            <a:chExt cx="6971400" cy="2197440"/>
          </a:xfrm>
        </p:grpSpPr>
        <p:sp>
          <p:nvSpPr>
            <p:cNvPr id="451" name="Rectangle 57"/>
            <p:cNvSpPr/>
            <p:nvPr/>
          </p:nvSpPr>
          <p:spPr>
            <a:xfrm>
              <a:off x="1214280" y="1857240"/>
              <a:ext cx="1743120" cy="21974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2" name="Rectangle 58"/>
            <p:cNvSpPr/>
            <p:nvPr/>
          </p:nvSpPr>
          <p:spPr>
            <a:xfrm>
              <a:off x="2957400" y="1857240"/>
              <a:ext cx="1743120" cy="219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3" name="Rectangle 59"/>
            <p:cNvSpPr/>
            <p:nvPr/>
          </p:nvSpPr>
          <p:spPr>
            <a:xfrm>
              <a:off x="4700520" y="1857240"/>
              <a:ext cx="1742040" cy="21974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92d050"/>
                  </a:solidFill>
                  <a:latin typeface="Comic Sans MS"/>
                </a:rPr>
                <a:t> </a:t>
              </a:r>
              <a:r>
                <a:rPr b="1" lang="en-US" sz="9600" spc="-1" strike="noStrike">
                  <a:solidFill>
                    <a:srgbClr val="92d050"/>
                  </a:solidFill>
                  <a:latin typeface="Comic Sans MS"/>
                </a:rPr>
                <a:t>л</a:t>
              </a:r>
              <a:r>
                <a:rPr b="0" lang="en-US" sz="9600" spc="-1" strike="noStrike">
                  <a:solidFill>
                    <a:srgbClr val="92d050"/>
                  </a:solidFill>
                  <a:latin typeface="Comic Sans MS"/>
                </a:rPr>
                <a:t> </a:t>
              </a:r>
              <a:endParaRPr b="0" lang="en-US" sz="9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4" name="Rectangle 60"/>
            <p:cNvSpPr/>
            <p:nvPr/>
          </p:nvSpPr>
          <p:spPr>
            <a:xfrm>
              <a:off x="6442560" y="1857240"/>
              <a:ext cx="1743120" cy="21974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9600" spc="-1" strike="noStrike">
                  <a:solidFill>
                    <a:srgbClr val="92d050"/>
                  </a:solidFill>
                  <a:latin typeface="Comic Sans MS"/>
                </a:rPr>
                <a:t>к</a:t>
              </a:r>
              <a:r>
                <a:rPr b="0" lang="en-US" sz="9600" spc="-1" strike="noStrike">
                  <a:solidFill>
                    <a:srgbClr val="92d050"/>
                  </a:solidFill>
                  <a:latin typeface="Comic Sans MS"/>
                </a:rPr>
                <a:t> </a:t>
              </a:r>
              <a:endParaRPr b="0" lang="en-US" sz="9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455" name="Picture 9" descr="http://albums.foto.tut.by/userpics/n/l/1000016807/normal_12573900018536.jpg"/>
          <p:cNvPicPr/>
          <p:nvPr/>
        </p:nvPicPr>
        <p:blipFill>
          <a:blip r:embed="rId1"/>
          <a:stretch/>
        </p:blipFill>
        <p:spPr>
          <a:xfrm>
            <a:off x="357120" y="4316400"/>
            <a:ext cx="221472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Что общего в словах воробей и волк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213840" y="1600200"/>
            <a:ext cx="8472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А кто живёт рядом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Зверь я горбатый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Но нравлюсь ребятам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58" name="Picture 2" descr="http://www.otoys.ru/picturesNew/safari/b_290929.jpg"/>
          <p:cNvPicPr/>
          <p:nvPr/>
        </p:nvPicPr>
        <p:blipFill>
          <a:blip r:embed="rId1"/>
          <a:stretch/>
        </p:blipFill>
        <p:spPr>
          <a:xfrm>
            <a:off x="5143680" y="2928960"/>
            <a:ext cx="400032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42800" y="-411480"/>
            <a:ext cx="82440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428760"/>
            <a:ext cx="8229600" cy="56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ой первый звук в слове верблюд? Дайте ему характеристику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в</a:t>
            </a: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’]</a:t>
            </a: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 – согласный, звонкий , мягкий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Знакомство с буквой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63" name="Picture 2" descr="http://alchevskpravoslavniy.ru/wp-content/uploads/2011/08/3.gif"/>
          <p:cNvPicPr/>
          <p:nvPr/>
        </p:nvPicPr>
        <p:blipFill>
          <a:blip r:embed="rId1"/>
          <a:stretch/>
        </p:blipFill>
        <p:spPr>
          <a:xfrm>
            <a:off x="1000080" y="1643040"/>
            <a:ext cx="7251840" cy="48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Чтение слогов и слов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7200" y="1071720"/>
            <a:ext cx="822960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ва              выли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во              вили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ву              Вова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вы             ворона 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ви              вилы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18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Ребусы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467" name="Picture 4" descr="http://im6-tub-ru.yandex.net/i?id=150802766-44-72&amp;n=21"/>
          <p:cNvPicPr/>
          <p:nvPr/>
        </p:nvPicPr>
        <p:blipFill>
          <a:blip r:embed="rId1"/>
          <a:stretch/>
        </p:blipFill>
        <p:spPr>
          <a:xfrm>
            <a:off x="714240" y="1571760"/>
            <a:ext cx="1714680" cy="242892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6" descr="http://www.i-gnom.ru/images/rebus/vorona.gif"/>
          <p:cNvPicPr/>
          <p:nvPr/>
        </p:nvPicPr>
        <p:blipFill>
          <a:blip r:embed="rId2"/>
          <a:stretch/>
        </p:blipFill>
        <p:spPr>
          <a:xfrm>
            <a:off x="3000240" y="128592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8" descr="http://kinder1.net/images_zagadki/imena/vova.jpg"/>
          <p:cNvPicPr/>
          <p:nvPr/>
        </p:nvPicPr>
        <p:blipFill>
          <a:blip r:embed="rId3"/>
          <a:stretch/>
        </p:blipFill>
        <p:spPr>
          <a:xfrm>
            <a:off x="6286680" y="1643040"/>
            <a:ext cx="285732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Соедини слоги, чтобы получились слова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но                 ман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ро                 мон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ли                 ра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мы                 ло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72" name="Прямая со стрелкой 4"/>
          <p:cNvCxnSpPr/>
          <p:nvPr/>
        </p:nvCxnSpPr>
        <p:spPr>
          <a:xfrm>
            <a:off x="1785960" y="2285640"/>
            <a:ext cx="2929680" cy="171540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473" name="Прямая со стрелкой 6"/>
          <p:cNvCxnSpPr/>
          <p:nvPr/>
        </p:nvCxnSpPr>
        <p:spPr>
          <a:xfrm flipV="1">
            <a:off x="1643040" y="2142720"/>
            <a:ext cx="3286800" cy="1000800"/>
          </a:xfrm>
          <a:prstGeom prst="straightConnector1">
            <a:avLst/>
          </a:prstGeom>
          <a:ln w="28440">
            <a:solidFill>
              <a:srgbClr val="ff3300"/>
            </a:solidFill>
            <a:miter/>
            <a:tailEnd len="med" type="arrow" w="med"/>
          </a:ln>
        </p:spPr>
      </p:cxnSp>
      <p:cxnSp>
        <p:nvCxnSpPr>
          <p:cNvPr id="474" name="Прямая со стрелкой 8"/>
          <p:cNvCxnSpPr/>
          <p:nvPr/>
        </p:nvCxnSpPr>
        <p:spPr>
          <a:xfrm flipV="1">
            <a:off x="1642680" y="3142800"/>
            <a:ext cx="3143880" cy="85824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475" name="Прямая со стрелкой 10"/>
          <p:cNvCxnSpPr/>
          <p:nvPr/>
        </p:nvCxnSpPr>
        <p:spPr>
          <a:xfrm flipV="1">
            <a:off x="1928520" y="4785480"/>
            <a:ext cx="2858040" cy="7236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AutoShape 6"/>
          <p:cNvSpPr/>
          <p:nvPr/>
        </p:nvSpPr>
        <p:spPr>
          <a:xfrm>
            <a:off x="1332000" y="3141720"/>
            <a:ext cx="1439640" cy="718920"/>
          </a:xfrm>
          <a:prstGeom prst="flowChartMerge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Rectangle 8"/>
          <p:cNvSpPr/>
          <p:nvPr/>
        </p:nvSpPr>
        <p:spPr>
          <a:xfrm>
            <a:off x="1403280" y="1197000"/>
            <a:ext cx="64008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Rectangle 9"/>
          <p:cNvSpPr/>
          <p:nvPr/>
        </p:nvSpPr>
        <p:spPr>
          <a:xfrm>
            <a:off x="108000" y="3429000"/>
            <a:ext cx="8928000" cy="22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Rectangle 10"/>
          <p:cNvSpPr/>
          <p:nvPr/>
        </p:nvSpPr>
        <p:spPr>
          <a:xfrm>
            <a:off x="1332000" y="2090880"/>
            <a:ext cx="64008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42800" y="-214560"/>
            <a:ext cx="824400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Сегодня мы отправляемся в зоопарк.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213840" y="1214280"/>
            <a:ext cx="847260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Вот так звери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Нор не роют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Но зато плотины строят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Все они одеты в шубы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Инструмент не пилы – зубы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12" name="Picture 11" descr="http://images.habervitrini.com/galeri/org/kunduzlar.jpg"/>
          <p:cNvPicPr/>
          <p:nvPr/>
        </p:nvPicPr>
        <p:blipFill>
          <a:blip r:embed="rId1"/>
          <a:stretch/>
        </p:blipFill>
        <p:spPr>
          <a:xfrm>
            <a:off x="214200" y="4164120"/>
            <a:ext cx="3571920" cy="269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6" name=""/>
          <p:cNvGraphicFramePr/>
          <p:nvPr/>
        </p:nvGraphicFramePr>
        <p:xfrm>
          <a:off x="395280" y="692280"/>
          <a:ext cx="8748720" cy="1736640"/>
        </p:xfrm>
        <a:graphic>
          <a:graphicData uri="http://schemas.openxmlformats.org/drawingml/2006/table">
            <a:tbl>
              <a:tblPr/>
              <a:tblGrid>
                <a:gridCol w="874872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163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6699"/>
                          </a:solidFill>
                          <a:latin typeface="Times New Roman"/>
                          <a:ea typeface="Arial"/>
                        </a:rPr>
                        <a:t>-Что нового узнали на уроке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Times New Roman"/>
                        <a:buChar char="-"/>
                        <a:tabLst>
                          <a:tab algn="l" pos="2163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163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7" name="Picture 26" descr="fizkultminutka"/>
          <p:cNvPicPr/>
          <p:nvPr/>
        </p:nvPicPr>
        <p:blipFill>
          <a:blip r:embed="rId1"/>
          <a:stretch/>
        </p:blipFill>
        <p:spPr>
          <a:xfrm>
            <a:off x="2357280" y="2071800"/>
            <a:ext cx="3265560" cy="41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42800" y="-594000"/>
            <a:ext cx="82440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42920"/>
            <a:ext cx="8229600" cy="59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азовите первый звук в слове бобры. Дайте ему характеристику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б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] –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согласный, звонкий, твёрд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15" name="Picture 8" descr="http://rustrahovka.ru/upload/iblock/6db/.jpg"/>
          <p:cNvPicPr/>
          <p:nvPr/>
        </p:nvPicPr>
        <p:blipFill>
          <a:blip r:embed="rId1"/>
          <a:stretch/>
        </p:blipFill>
        <p:spPr>
          <a:xfrm>
            <a:off x="500040" y="3286080"/>
            <a:ext cx="350064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396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Ребята, случилась беда. Кто-то тонет в болоте.</a:t>
            </a:r>
            <a:br>
              <a:rPr sz="4400"/>
            </a:b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Встаньте, друг за друга возьмитесь, потянули.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AutoShape 4"/>
          <p:cNvSpPr/>
          <p:nvPr/>
        </p:nvSpPr>
        <p:spPr>
          <a:xfrm>
            <a:off x="1332000" y="3141720"/>
            <a:ext cx="1439640" cy="718920"/>
          </a:xfrm>
          <a:prstGeom prst="flowChartMerge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Rectangle 5"/>
          <p:cNvSpPr/>
          <p:nvPr/>
        </p:nvSpPr>
        <p:spPr>
          <a:xfrm>
            <a:off x="1403280" y="1197000"/>
            <a:ext cx="64008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Rectangle 6"/>
          <p:cNvSpPr/>
          <p:nvPr/>
        </p:nvSpPr>
        <p:spPr>
          <a:xfrm>
            <a:off x="108000" y="3429000"/>
            <a:ext cx="8928000" cy="22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Rectangle 7"/>
          <p:cNvSpPr/>
          <p:nvPr/>
        </p:nvSpPr>
        <p:spPr>
          <a:xfrm>
            <a:off x="1332000" y="2090880"/>
            <a:ext cx="64008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42800" y="-594000"/>
            <a:ext cx="82440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7200" y="285480"/>
            <a:ext cx="8229600" cy="57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Ой, нелегкая это работа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Из болота тянуть …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23" name="Picture 10" descr="http://img1.liveinternet.ru/images/attach/c/7/95/51/95051379_large_09097bf6e9abbd411550f557144158f9.jpg"/>
          <p:cNvPicPr/>
          <p:nvPr/>
        </p:nvPicPr>
        <p:blipFill>
          <a:blip r:embed="rId1"/>
          <a:stretch/>
        </p:blipFill>
        <p:spPr>
          <a:xfrm>
            <a:off x="4786200" y="1643040"/>
            <a:ext cx="3429000" cy="494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AutoShape 3"/>
          <p:cNvSpPr/>
          <p:nvPr/>
        </p:nvSpPr>
        <p:spPr>
          <a:xfrm>
            <a:off x="1332000" y="3141720"/>
            <a:ext cx="1439640" cy="718920"/>
          </a:xfrm>
          <a:prstGeom prst="flowChartMerge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Rectangle 4"/>
          <p:cNvSpPr/>
          <p:nvPr/>
        </p:nvSpPr>
        <p:spPr>
          <a:xfrm>
            <a:off x="1403280" y="1197000"/>
            <a:ext cx="64008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Rectangle 5"/>
          <p:cNvSpPr/>
          <p:nvPr/>
        </p:nvSpPr>
        <p:spPr>
          <a:xfrm>
            <a:off x="395280" y="4005360"/>
            <a:ext cx="8928000" cy="22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Rectangle 6"/>
          <p:cNvSpPr/>
          <p:nvPr/>
        </p:nvSpPr>
        <p:spPr>
          <a:xfrm>
            <a:off x="1332000" y="2090880"/>
            <a:ext cx="64008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Какой зверёк живёт вместе с бегемотом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На ветке не птичка-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Зверёк – невеличка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Мех тёплый, как грелк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Кто же это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30" name="Picture 8" descr="http://www.gs.by/get_img?ImageId=20450"/>
          <p:cNvPicPr/>
          <p:nvPr/>
        </p:nvPicPr>
        <p:blipFill>
          <a:blip r:embed="rId1"/>
          <a:stretch/>
        </p:blipFill>
        <p:spPr>
          <a:xfrm>
            <a:off x="4143240" y="3429000"/>
            <a:ext cx="4167360" cy="313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42800" y="-593640"/>
            <a:ext cx="82440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7200" y="356760"/>
            <a:ext cx="82296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Почему белка и бегемотик поселились вместе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азовите первый звук в словах бегемот и белка. Дайте ему характеристику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б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’]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 –согласный, звонкий, мягкий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33" name="Picture 10" descr="http://img1.liveinternet.ru/images/attach/c/7/95/51/95051379_large_09097bf6e9abbd411550f557144158f9.jpg"/>
          <p:cNvPicPr/>
          <p:nvPr/>
        </p:nvPicPr>
        <p:blipFill>
          <a:blip r:embed="rId1"/>
          <a:stretch/>
        </p:blipFill>
        <p:spPr>
          <a:xfrm>
            <a:off x="714240" y="4071960"/>
            <a:ext cx="1832040" cy="26431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8" descr="http://www.gs.by/get_img?ImageId=20450"/>
          <p:cNvPicPr/>
          <p:nvPr/>
        </p:nvPicPr>
        <p:blipFill>
          <a:blip r:embed="rId2"/>
          <a:stretch/>
        </p:blipFill>
        <p:spPr>
          <a:xfrm>
            <a:off x="5429160" y="4071960"/>
            <a:ext cx="245592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AutoShape 3"/>
          <p:cNvSpPr/>
          <p:nvPr/>
        </p:nvSpPr>
        <p:spPr>
          <a:xfrm>
            <a:off x="1332000" y="3141720"/>
            <a:ext cx="1439640" cy="718920"/>
          </a:xfrm>
          <a:prstGeom prst="flowChartMerge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1403280" y="285840"/>
            <a:ext cx="69548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6699"/>
                </a:solidFill>
                <a:latin typeface="Times New Roman"/>
              </a:rPr>
              <a:t>Знакомство с букво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Rectangle 5"/>
          <p:cNvSpPr/>
          <p:nvPr/>
        </p:nvSpPr>
        <p:spPr>
          <a:xfrm>
            <a:off x="216000" y="2997360"/>
            <a:ext cx="8928000" cy="22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Rectangle 6"/>
          <p:cNvSpPr/>
          <p:nvPr/>
        </p:nvSpPr>
        <p:spPr>
          <a:xfrm>
            <a:off x="1332000" y="2090880"/>
            <a:ext cx="64008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9" name="Picture 10" descr="http://s42.radikal.ru/i096/1009/bf/e4656ca7e308.jpg"/>
          <p:cNvPicPr/>
          <p:nvPr/>
        </p:nvPicPr>
        <p:blipFill>
          <a:blip r:embed="rId1"/>
          <a:stretch/>
        </p:blipFill>
        <p:spPr>
          <a:xfrm>
            <a:off x="785880" y="2000160"/>
            <a:ext cx="6967440" cy="463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Найти слова с буквой Б на странице 39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2T16:07:27Z</dcterms:created>
  <dc:creator>Сергей</dc:creator>
  <dc:description/>
  <dc:language>en-US</dc:language>
  <cp:lastModifiedBy>user</cp:lastModifiedBy>
  <dcterms:modified xsi:type="dcterms:W3CDTF">2014-01-27T07:21:44Z</dcterms:modified>
  <cp:revision>24</cp:revision>
  <dc:subject/>
  <dc:title>«Слог»</dc:title>
</cp:coreProperties>
</file>