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054-D9DB-42BE-950C-55E9BC53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6EC-437A-4945-BE04-8B70CB70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8D8-0B73-4B13-8F06-C9FDFB96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11C-27B2-4FD9-AD38-4F9C1FE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D096-22D1-4367-806A-6E3092B9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F5D-F8A2-4699-AB3A-A48D5B55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83F9-E2F8-4FC3-8C05-5352A8D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C0A3-668B-44FF-913D-5C1D8713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16B5-9C52-4892-90A5-8C22CF4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A7B0-F547-403B-A3A4-F1B25218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8D2-7AE2-447E-93C4-A14706F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280-8A1D-4FA6-B2B3-1913BD7E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27BF-F054-4B65-951E-617B392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19BE-B160-4D53-8E2D-F61A0D73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821E-F82C-40BA-958F-BE07537C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B6C-139B-4924-9AC0-F811E5FE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3F63-6635-4FDC-A3F5-587B4AC7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63CD-D7F2-47C2-90DA-039A6D1B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A7FD-0CF6-498E-BB11-1F40026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6213-1677-45B3-A389-BAFF4526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5B54-C875-4980-8EF2-B35BBAFB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6EBB-208F-4487-9E32-FB82276F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2EE-9BFF-438C-AA01-2D58B136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7E68-C928-4D47-A74F-40E03F5B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2589-9BF5-4449-B8E2-4716EACA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639A-BC0E-4FA4-9DC0-704619CE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0AAD-C10D-45DE-A9CE-FE5231F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2D89-C414-4ED6-9656-EB71367D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A206-0D60-4D84-A56F-6899E76E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A952-A7F9-47BB-9D58-79AA0238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4203-B651-4BC8-9B7C-9C8510C4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4AC4-A30D-4F02-8DDC-3EB9FE27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9B40-CE08-4FAA-A167-715D8A14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F2E-AE33-468D-80C5-E89EA6DF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23E7-EE97-465B-9E87-E7E9387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ADC05-3E8F-4E7E-8290-8417AC18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E8EB-A4F7-4DD8-89B5-CBCE76B3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7D6E-0B19-4765-99B6-607F233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D19B-D947-4869-8804-74D40BE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EC53-BE9B-4738-8A86-047357EC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FCFD-B21F-42A0-8113-838D82E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FA82-9016-4E5F-8D45-E9D4A138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15A8-2DBF-4CC9-B201-3D4CCAFF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244B-372A-4036-8B89-DE5B5286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C2D-7D58-4184-AE6E-32E0E4F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4945-EE9F-45A9-9C5C-B07D512D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A267-EDF9-4917-B7B3-E202460B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3BE94-BF1A-453A-A936-0D0D80D7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BF26-5D8D-4BDC-AD1D-1E2A5D10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4911-31E0-4204-95CB-CC36B702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D527-E467-4303-A7FB-B736ED0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AE946-FD51-4438-B18C-E48291D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DBD35-72F0-48E1-B042-FD3276D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EDF1-D2BF-42D4-B92B-BD9D0B70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0EA14-B875-46A8-9D13-0BECEEA1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B0C-42D7-477C-98CD-45BF83FB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66648-B805-42FF-83F3-B878C247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CC0E-F236-4DDF-BA30-9AAF245A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0F8EE-1A93-44CD-AF4D-4B2F410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1D64A-F0C0-4E0A-A7C8-5E46F8C7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1DFBF-2B9D-4B72-BC0C-BADECE1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A7BF-5398-4953-8DD2-8703684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917F-033B-4334-8FC6-C9F0212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7CA9-178C-4CC5-A745-096CB52B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F61A8-FB5C-463C-B6B7-62D9914E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CB13-EF3E-4653-96EA-F4482FA1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A4A-84ED-42C0-9331-33AC0EC6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D27EE-6F89-4DF9-93DA-08529473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70B5-8427-4B83-BBFD-35ED1D27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E243F-9EEF-4489-8669-E97B9200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794-1E25-45FD-9916-E06FEA8E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392-D08D-4FB2-8F0B-D877A66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269D-98A7-45B6-8E20-82A96A001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4FA7-F234-4310-BC1A-89AD89A9C0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3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13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4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C99B-C053-41FA-8758-7DBA7B8F7B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2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725F-D3AD-4475-80B7-C5679000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4FE-75E4-4E74-AE76-812D47B95D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321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322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3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340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3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344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7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348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1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352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5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266-98A7-4306-9DE5-7EDD723FC8F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«Буквы Б б, В в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995120" y="29300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стема Л.В. Занк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642960" y="41212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р презентации Аброськина Ирина Васильевна, учитель начальных классов МБОУ СОШ №4 г. Рассказово Тамбовской области             2013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ение слогов и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а              бы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о              б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у              ба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ы             би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би              бри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 нами по зоопарку путешествую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зорной мальчиш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сером армячиш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двору гуляе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рохи собирае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6" name="Picture 2" descr="http://www.stihi.ru/pics/2012/10/07/6023.jpg"/>
          <p:cNvPicPr/>
          <p:nvPr/>
        </p:nvPicPr>
        <p:blipFill>
          <a:blip r:embed="rId1"/>
          <a:stretch/>
        </p:blipFill>
        <p:spPr>
          <a:xfrm>
            <a:off x="4500720" y="328608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не кажется, что это гласный звук. Верно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85840" y="1600200"/>
            <a:ext cx="8400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в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]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 – согласный, звонкий, твёрдый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кой зверь сидит в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ольер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450" name="Group 56"/>
          <p:cNvGrpSpPr/>
          <p:nvPr/>
        </p:nvGrpSpPr>
        <p:grpSpPr>
          <a:xfrm>
            <a:off x="1214280" y="1857240"/>
            <a:ext cx="6971400" cy="2197440"/>
            <a:chOff x="1214280" y="1857240"/>
            <a:chExt cx="6971400" cy="2197440"/>
          </a:xfrm>
        </p:grpSpPr>
        <p:sp>
          <p:nvSpPr>
            <p:cNvPr id="451" name="Rectangle 57"/>
            <p:cNvSpPr/>
            <p:nvPr/>
          </p:nvSpPr>
          <p:spPr>
            <a:xfrm>
              <a:off x="1214280" y="1857240"/>
              <a:ext cx="1743120" cy="2197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8"/>
            <p:cNvSpPr/>
            <p:nvPr/>
          </p:nvSpPr>
          <p:spPr>
            <a:xfrm>
              <a:off x="2957400" y="1857240"/>
              <a:ext cx="1743120" cy="219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59"/>
            <p:cNvSpPr/>
            <p:nvPr/>
          </p:nvSpPr>
          <p:spPr>
            <a:xfrm>
              <a:off x="4700520" y="1857240"/>
              <a:ext cx="1742040" cy="2197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92d050"/>
                  </a:solidFill>
                  <a:latin typeface="Comic Sans MS"/>
                </a:rPr>
                <a:t> </a:t>
              </a:r>
              <a:r>
                <a:rPr b="1" lang="en-US" sz="9600" spc="-1" strike="noStrike">
                  <a:solidFill>
                    <a:srgbClr val="92d050"/>
                  </a:solidFill>
                  <a:latin typeface="Comic Sans MS"/>
                </a:rPr>
                <a:t>л</a:t>
              </a:r>
              <a:r>
                <a:rPr b="0" lang="en-US" sz="9600" spc="-1" strike="noStrike">
                  <a:solidFill>
                    <a:srgbClr val="92d050"/>
                  </a:solidFill>
                  <a:latin typeface="Comic Sans MS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0"/>
            <p:cNvSpPr/>
            <p:nvPr/>
          </p:nvSpPr>
          <p:spPr>
            <a:xfrm>
              <a:off x="6442560" y="1857240"/>
              <a:ext cx="1743120" cy="2197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9600" spc="-1" strike="noStrike">
                  <a:solidFill>
                    <a:srgbClr val="92d050"/>
                  </a:solidFill>
                  <a:latin typeface="Comic Sans MS"/>
                </a:rPr>
                <a:t>к</a:t>
              </a:r>
              <a:r>
                <a:rPr b="0" lang="en-US" sz="9600" spc="-1" strike="noStrike">
                  <a:solidFill>
                    <a:srgbClr val="92d050"/>
                  </a:solidFill>
                  <a:latin typeface="Comic Sans MS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5" name="Picture 9" descr="http://albums.foto.tut.by/userpics/n/l/1000016807/normal_12573900018536.jpg"/>
          <p:cNvPicPr/>
          <p:nvPr/>
        </p:nvPicPr>
        <p:blipFill>
          <a:blip r:embed="rId1"/>
          <a:stretch/>
        </p:blipFill>
        <p:spPr>
          <a:xfrm>
            <a:off x="357120" y="4316400"/>
            <a:ext cx="2214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о общего в словах воробей и вол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3840" y="1600200"/>
            <a:ext cx="8472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А кто живёт рядо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верь я горбаты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 нравлюсь ребята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58" name="Picture 2" descr="http://www.otoys.ru/picturesNew/safari/b_290929.jpg"/>
          <p:cNvPicPr/>
          <p:nvPr/>
        </p:nvPicPr>
        <p:blipFill>
          <a:blip r:embed="rId1"/>
          <a:stretch/>
        </p:blipFill>
        <p:spPr>
          <a:xfrm>
            <a:off x="5143680" y="2928960"/>
            <a:ext cx="40003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-41148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42876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й первый звук в слове верблюд? Дайте ему характеристи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’]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– согласный, звонкий , мягкий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накомство с букво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3" name="Picture 2" descr="http://alchevskpravoslavniy.ru/wp-content/uploads/2011/08/3.gif"/>
          <p:cNvPicPr/>
          <p:nvPr/>
        </p:nvPicPr>
        <p:blipFill>
          <a:blip r:embed="rId1"/>
          <a:stretch/>
        </p:blipFill>
        <p:spPr>
          <a:xfrm>
            <a:off x="1000080" y="1643040"/>
            <a:ext cx="72518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ение слогов и сл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а              вы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о              вили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у              Вов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ы             ворона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99"/>
                </a:solidFill>
                <a:latin typeface="Verdana"/>
              </a:rPr>
              <a:t>ви              вилы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ебусы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467" name="Picture 4" descr="http://im6-tub-ru.yandex.net/i?id=150802766-44-72&amp;n=21"/>
          <p:cNvPicPr/>
          <p:nvPr/>
        </p:nvPicPr>
        <p:blipFill>
          <a:blip r:embed="rId1"/>
          <a:stretch/>
        </p:blipFill>
        <p:spPr>
          <a:xfrm>
            <a:off x="714240" y="1571760"/>
            <a:ext cx="1714680" cy="2428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http://www.i-gnom.ru/images/rebus/vorona.gif"/>
          <p:cNvPicPr/>
          <p:nvPr/>
        </p:nvPicPr>
        <p:blipFill>
          <a:blip r:embed="rId2"/>
          <a:stretch/>
        </p:blipFill>
        <p:spPr>
          <a:xfrm>
            <a:off x="3000240" y="12859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http://kinder1.net/images_zagadki/imena/vova.jpg"/>
          <p:cNvPicPr/>
          <p:nvPr/>
        </p:nvPicPr>
        <p:blipFill>
          <a:blip r:embed="rId3"/>
          <a:stretch/>
        </p:blipFill>
        <p:spPr>
          <a:xfrm>
            <a:off x="6286680" y="1643040"/>
            <a:ext cx="28573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оедини слоги, чтобы получились слов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но                 ман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ро                 мон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ли                 р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мы                 л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2" name="Прямая со стрелкой 4"/>
          <p:cNvCxnSpPr/>
          <p:nvPr/>
        </p:nvCxnSpPr>
        <p:spPr>
          <a:xfrm>
            <a:off x="1785960" y="2285640"/>
            <a:ext cx="2929680" cy="17154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473" name="Прямая со стрелкой 6"/>
          <p:cNvCxnSpPr/>
          <p:nvPr/>
        </p:nvCxnSpPr>
        <p:spPr>
          <a:xfrm flipV="1">
            <a:off x="1643040" y="2142720"/>
            <a:ext cx="3286800" cy="10008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474" name="Прямая со стрелкой 8"/>
          <p:cNvCxnSpPr/>
          <p:nvPr/>
        </p:nvCxnSpPr>
        <p:spPr>
          <a:xfrm flipV="1">
            <a:off x="1642680" y="3142800"/>
            <a:ext cx="31438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475" name="Прямая со стрелкой 10"/>
          <p:cNvCxnSpPr/>
          <p:nvPr/>
        </p:nvCxnSpPr>
        <p:spPr>
          <a:xfrm flipV="1">
            <a:off x="1928520" y="4785480"/>
            <a:ext cx="2858040" cy="723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6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403280" y="119700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108000" y="342900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-214560"/>
            <a:ext cx="824400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егодня мы отправляемся в зоопарк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13840" y="1214280"/>
            <a:ext cx="84726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от так звери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р не ро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 зато плотины строя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е они одеты в шубы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нструмент не пилы – зуб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2" name="Picture 11" descr="http://images.habervitrini.com/galeri/org/kunduzlar.jpg"/>
          <p:cNvPicPr/>
          <p:nvPr/>
        </p:nvPicPr>
        <p:blipFill>
          <a:blip r:embed="rId1"/>
          <a:stretch/>
        </p:blipFill>
        <p:spPr>
          <a:xfrm>
            <a:off x="214200" y="4164120"/>
            <a:ext cx="3571920" cy="26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395280" y="692280"/>
          <a:ext cx="8748720" cy="173664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163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Arial"/>
                        </a:rPr>
                        <a:t>-Что нового узнали на урок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Char char="-"/>
                        <a:tabLst>
                          <a:tab algn="l" pos="2163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163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Picture 26" descr="fizkultminutka"/>
          <p:cNvPicPr/>
          <p:nvPr/>
        </p:nvPicPr>
        <p:blipFill>
          <a:blip r:embed="rId1"/>
          <a:stretch/>
        </p:blipFill>
        <p:spPr>
          <a:xfrm>
            <a:off x="2357280" y="2071800"/>
            <a:ext cx="32655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-59400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42920"/>
            <a:ext cx="822960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зовите первый звук в слове бобры. Дайте ему характеристи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] –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согласный, звонкий, твёрд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5" name="Picture 8" descr="http://rustrahovka.ru/upload/iblock/6db/.jpg"/>
          <p:cNvPicPr/>
          <p:nvPr/>
        </p:nvPicPr>
        <p:blipFill>
          <a:blip r:embed="rId1"/>
          <a:stretch/>
        </p:blipFill>
        <p:spPr>
          <a:xfrm>
            <a:off x="500040" y="3286080"/>
            <a:ext cx="35006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9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ебята, случилась беда. Кто-то тонет в болоте.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Встаньте, друг за друга возьмитесь, потянули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4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403280" y="119700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108000" y="342900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-59400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285480"/>
            <a:ext cx="822960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Ой, нелегкая это работ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Из болота тянуть …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3" name="Picture 10" descr="http://img1.liveinternet.ru/images/attach/c/7/95/51/95051379_large_09097bf6e9abbd411550f557144158f9.jpg"/>
          <p:cNvPicPr/>
          <p:nvPr/>
        </p:nvPicPr>
        <p:blipFill>
          <a:blip r:embed="rId1"/>
          <a:stretch/>
        </p:blipFill>
        <p:spPr>
          <a:xfrm>
            <a:off x="4786200" y="1643040"/>
            <a:ext cx="3429000" cy="49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3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403280" y="119700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95280" y="400536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кой зверёк живёт вместе с бегемотом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ветке не птичка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верёк – невеличк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ех тёплый, как грел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то же это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0" name="Picture 8" descr="http://www.gs.by/get_img?ImageId=20450"/>
          <p:cNvPicPr/>
          <p:nvPr/>
        </p:nvPicPr>
        <p:blipFill>
          <a:blip r:embed="rId1"/>
          <a:stretch/>
        </p:blipFill>
        <p:spPr>
          <a:xfrm>
            <a:off x="4143240" y="3429000"/>
            <a:ext cx="416736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-593640"/>
            <a:ext cx="8244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35676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чему белка и бегемотик поселились вмест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зовите первый звук в словах бегемот и белка. Дайте ему характеристи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’]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–согласный, звонкий, мягк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3" name="Picture 10" descr="http://img1.liveinternet.ru/images/attach/c/7/95/51/95051379_large_09097bf6e9abbd411550f557144158f9.jpg"/>
          <p:cNvPicPr/>
          <p:nvPr/>
        </p:nvPicPr>
        <p:blipFill>
          <a:blip r:embed="rId1"/>
          <a:stretch/>
        </p:blipFill>
        <p:spPr>
          <a:xfrm>
            <a:off x="714240" y="4071960"/>
            <a:ext cx="1832040" cy="2643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http://www.gs.by/get_img?ImageId=20450"/>
          <p:cNvPicPr/>
          <p:nvPr/>
        </p:nvPicPr>
        <p:blipFill>
          <a:blip r:embed="rId2"/>
          <a:stretch/>
        </p:blipFill>
        <p:spPr>
          <a:xfrm>
            <a:off x="5429160" y="4071960"/>
            <a:ext cx="24559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AutoShape 3"/>
          <p:cNvSpPr/>
          <p:nvPr/>
        </p:nvSpPr>
        <p:spPr>
          <a:xfrm>
            <a:off x="1332000" y="3141720"/>
            <a:ext cx="1439640" cy="718920"/>
          </a:xfrm>
          <a:prstGeom prst="flowChartMerge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1403280" y="285840"/>
            <a:ext cx="6954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Times New Roman"/>
              </a:rPr>
              <a:t>Знакомство с букв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16000" y="2997360"/>
            <a:ext cx="892800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1332000" y="2090880"/>
            <a:ext cx="6400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Picture 10" descr="http://s42.radikal.ru/i096/1009/bf/e4656ca7e308.jpg"/>
          <p:cNvPicPr/>
          <p:nvPr/>
        </p:nvPicPr>
        <p:blipFill>
          <a:blip r:embed="rId1"/>
          <a:stretch/>
        </p:blipFill>
        <p:spPr>
          <a:xfrm>
            <a:off x="785880" y="2000160"/>
            <a:ext cx="6967440" cy="46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ти слова с буквой Б на странице 39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6:07:27Z</dcterms:created>
  <dc:creator>Сергей</dc:creator>
  <dc:description/>
  <dc:language>en-US</dc:language>
  <cp:lastModifiedBy>user</cp:lastModifiedBy>
  <dcterms:modified xsi:type="dcterms:W3CDTF">2014-01-27T07:21:44Z</dcterms:modified>
  <cp:revision>24</cp:revision>
  <dc:subject/>
  <dc:title>«Слог»</dc:title>
</cp:coreProperties>
</file>