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376-3C3C-4E57-A1E7-75FF3B8C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F63-D5E9-4AAA-B920-AE7A8DCF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FE1-E8F1-4FE5-B4A8-010376AC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CAA-E4AD-4621-AD87-24BA3265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53F-3884-45CB-9648-62CE5DD5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1F5C-7C2A-4308-AED8-42AF10BD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E4D6-0DCD-47AC-AE03-9A6C548D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7B01-EB2E-4753-B4AE-FADF1282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3C6-228A-41F1-9406-128FFD5F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4677-1564-4EBD-A3A9-EB7F8B6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9B58-A253-4B48-AEE2-850AF11E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5C0-F157-41CB-899C-7E91DA4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A4C-9C3A-43EA-96DB-733AF26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5E61-732D-48F7-98D9-99EDE6C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5E8F-AD90-42BF-926A-8EC52E3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53F9-94D6-4608-9796-9A8F02EB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1A8-0869-427F-9346-858B538D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7334-818B-4836-AF34-E3116600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4FFBD-DA52-4D4B-BAD1-162A7A4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A38F-0F25-4499-97B5-1204BB6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B334-5390-4FBB-868F-0B81558D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D889-6981-43AC-A140-606817EC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745-CF26-42A6-8B8A-4587C17C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8DC4-9B02-4AB3-BC0E-4363296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54F5-36B3-467A-B534-2D1A10D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ECED-7589-40EE-8EBA-3554A48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EB14-F1EA-4D65-8592-B7C92D51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DEAB-34D1-43B2-BAB6-5D62E2D5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4D9B-61D0-453E-BDD1-F2911DAA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4B6D-3C75-4257-B142-DB5B52C7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8AAB-C3A4-4C4E-A673-5C91E6E9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349A-FA5B-4B76-824D-ABC0A97C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A935-5FF5-4393-BF4B-F16B5B08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BFB-CB4A-45A9-82F6-E1B0D9A0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72E8-6B04-4D9C-AC0C-5ADADED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8FFB-1DE2-4F23-A76E-D5ED6D34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AE80-700F-48C2-B5CB-C156A86B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0386F-E41A-43BD-A1DA-A4C86982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D938-9D70-4070-AB1C-1D8CF05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E9FB-28D7-4C9A-B205-920DF56D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D017-91C8-4234-9112-AF6100C3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832A-74F2-4514-879A-5DE87E50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638B-A087-4500-BD36-E3EEF9B9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EDECF-C811-4F3F-9475-45C59F2D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4DF-5D7A-41ED-A0A0-FBEE731B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C18B-4F0F-49CB-97E3-1B09B358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6D7C-EA52-4211-8780-4B4337D5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8983-2DB8-4793-9DC6-9306D5F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DBF1D-7619-484A-9AD0-795CAE9F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8D26-F7C9-476A-B441-01DF5D68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A084-5320-4F0E-8B42-1040598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EFF8-FC7E-4D84-A490-6F9F2D9E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3543-AF9B-4D36-A5F7-CC2129E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D176-D83A-4E6A-834D-BF0B8C1A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8B9F-2533-41AE-8B11-CDF93D60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009-9C90-45F5-86CC-B395F563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56B4-D977-42D9-A6AF-B47F9D58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BC3D-B605-4DCC-A956-023856CB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E2D64-2C6B-4F1D-B249-635903C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84D3-3247-4D85-9C1A-9A947D9B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9F29F-E080-414B-9CC3-F93D07A5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E4D0-790F-43F4-9B9C-3221312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3182-9648-48F7-A779-62896A26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357A-2EB8-4E7B-B61A-A91E2DD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B1E6-FC33-4AE0-9AEB-A7DE9008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625FD-1367-4BED-80F2-50922CC1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D6F-1693-4285-8BEC-33B1D07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D405-8CE6-48C1-B8E6-45EDDE15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A4EA-6286-4C46-A04E-FED121D3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B034-7F21-463F-A1FB-6C7FDC7A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7FC2-9D80-43C1-A6F3-410C5D64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4C06-E3C4-4941-871C-8B0DF7A8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70ED-17DB-4A8A-B195-E04E5F59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A4F77-776E-4BC3-80B0-92C5914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3734A-32CC-4BEE-AFAC-4E82CFB0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B41D2-3A9F-420D-9830-FD3DD0C9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94B9D-BBB0-4877-8B2D-A596C747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37E-9D10-48D0-841D-85095B3E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DC20-0219-4073-9DF4-F36B26D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A393B-BE79-4377-9EF4-30D4301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EE24B-6362-423A-BB92-24EC9FA1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72064-1B73-4AC0-B9E1-98C33114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5E813-F767-4BEB-8D1D-1E1C4345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487-07C7-4DF9-AFCC-D7894F0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29C7-EBC8-4E4C-BDC1-B4F4068A21B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F42E-71CE-4986-852D-8C3A887C6C7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EB5C-CD2A-46E5-9C3D-AADC5D67730D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234-9F1D-475C-88BC-E3EB0F2D586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2EC-853D-433C-9EA4-B6014D7BEFA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1ADE-04E6-4476-B85B-6D3BA7DACF9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5980-FC6F-4B26-BAD3-01BD33ED293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Государственные системы обучения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11280" y="2852280"/>
            <a:ext cx="7921440" cy="2786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Традиционная  («Школа России», «Школа – 2100», «Школа </a:t>
            </a: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XXI </a:t>
            </a: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века и др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Система развивающего обучения Л.В.Занко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</a:rPr>
              <a:t>Система развивающего обучения Д.Б.Эльконина – В.В.Давыдо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Основные идеи системы Л.В.Занко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848360" cy="3794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20e04"/>
                </a:solidFill>
                <a:uFillTx/>
                <a:latin typeface="Times New Roman"/>
              </a:rPr>
              <a:t>Цель обучения</a:t>
            </a: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- достижение оптимального общего развития каждого школьника на базе усвоения предметных знаний , умений и навыков </a:t>
            </a:r>
            <a:r>
              <a:rPr b="0" i="1" lang="en-US" sz="2600" spc="-1" strike="noStrike">
                <a:solidFill>
                  <a:srgbClr val="320e04"/>
                </a:solidFill>
                <a:latin typeface="Times New Roman"/>
              </a:rPr>
              <a:t>(усвоение прочных знаний и умений посредством продвижения ребенка в общем развитии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Основные идеи системы Л.В.Занко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016760" cy="3938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При обучении ставится цель не «подтянуть» слабых учеников до уровня сильных, а раскрыть индивидуальность и оптимально развить каждого школьника, независимо от того, считается ли он в классе «сильным» или «слабым»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Основные идеи системы Л.В.Занков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64360" cy="3938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Содержание строится с опорой на три кита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Цель – общее развитие каждого ребен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Учет особенностей обучаемых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Образовательные стандарт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Times New Roman"/>
              </a:rPr>
              <a:t>Отбор и содержание всех учебных курсов, характер заданий побуждает детей к поисковой творческой деятельности, наполненной эмоция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549000"/>
            <a:ext cx="74995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За уши зайца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несут к барабану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Заяц ворчит: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-Барабанить не стану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Нет </a:t>
            </a:r>
            <a:r>
              <a:rPr b="0" i="1" lang="en-US" sz="3900" spc="-1" strike="noStrike">
                <a:solidFill>
                  <a:srgbClr val="4f271c"/>
                </a:solidFill>
                <a:latin typeface="Times New Roman"/>
              </a:rPr>
              <a:t>настроения</a:t>
            </a: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,</a:t>
            </a:r>
            <a:br>
              <a:rPr sz="3900"/>
            </a:b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нет </a:t>
            </a:r>
            <a:r>
              <a:rPr b="0" i="1" lang="en-US" sz="3900" spc="-1" strike="noStrike">
                <a:solidFill>
                  <a:srgbClr val="4f271c"/>
                </a:solidFill>
                <a:latin typeface="Times New Roman"/>
              </a:rPr>
              <a:t>обстановки</a:t>
            </a: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,</a:t>
            </a:r>
            <a:br>
              <a:rPr sz="3900"/>
            </a:br>
            <a:r>
              <a:rPr b="0" lang="en-US" sz="3900" spc="-1" strike="noStrike">
                <a:solidFill>
                  <a:srgbClr val="4f271c"/>
                </a:solidFill>
                <a:latin typeface="Times New Roman"/>
              </a:rPr>
              <a:t>нет </a:t>
            </a:r>
            <a:r>
              <a:rPr b="0" i="1" lang="en-US" sz="3900" spc="-1" strike="noStrike">
                <a:solidFill>
                  <a:srgbClr val="4f271c"/>
                </a:solidFill>
                <a:latin typeface="Times New Roman"/>
              </a:rPr>
              <a:t>подготовки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.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Не </a:t>
            </a:r>
            <a:r>
              <a:rPr b="0" i="1" lang="en-US" sz="3900" spc="-1" strike="noStrike">
                <a:solidFill>
                  <a:srgbClr val="572314"/>
                </a:solidFill>
                <a:latin typeface="Times New Roman"/>
              </a:rPr>
              <a:t>вижу морковки</a:t>
            </a:r>
            <a:r>
              <a:rPr b="0" lang="en-US" sz="3900" spc="-1" strike="noStrike">
                <a:solidFill>
                  <a:srgbClr val="572314"/>
                </a:solidFill>
                <a:latin typeface="Times New Roman"/>
              </a:rPr>
              <a:t>!</a:t>
            </a:r>
            <a:br>
              <a:rPr sz="3900"/>
            </a:b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Times New Roman"/>
              </a:rPr>
              <a:t>Как проходит урок в занковских класса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Ребенок – это тот же человек, только маленький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к добывает знания самостоятельно, учитель помогает, направля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кам предоставляется право спорить, отстаивать и аргументировать свою точку зр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к имеет право на ошибку («Ошибка – находка для учителя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7:36:38Z</dcterms:created>
  <dc:creator>1</dc:creator>
  <dc:description/>
  <dc:language>en-US</dc:language>
  <cp:lastModifiedBy>Админ</cp:lastModifiedBy>
  <dcterms:modified xsi:type="dcterms:W3CDTF">2014-01-27T03:40:43Z</dcterms:modified>
  <cp:revision>6</cp:revision>
  <dc:subject/>
  <dc:title>Государственные системы обучения:</dc:title>
</cp:coreProperties>
</file>