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591-AB74-4499-9B1A-70DA9CC0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7CF-F086-4E39-ABE7-42FE6208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4AF-AACD-4C5C-8930-83548A25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072-8636-47D9-B349-C76565FA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EAA9-23B4-4849-ADDD-7F059F2D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9D84-FA20-443A-8731-D8B0AB21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B608-8841-445B-AF4C-D5779502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6809-D3B6-4268-9171-B796F0E4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13CD-A76B-45D8-A04C-62313173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731C-EE6E-4ACF-BAF7-EC939B91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804A-6F81-4EDB-9FB0-911BDA84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60D-9F4C-4C20-8BD5-1338C9D1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7E60-AE40-4605-9454-F4F99DAD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A2ED-A20E-4696-8E67-E128FED8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A5D2-27B2-4EB1-90FE-8848729C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18F6-918E-413F-8722-BCEC0EBB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251A-A9CF-4EFD-BA27-35642D4C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35DE2-0EA1-497C-A9AA-55A6F396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0D29-BA9D-4939-A9D2-FDEF3677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5FF7-D383-4EB5-97FB-446ED721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F3B9D-9C45-4243-8BE8-27BC532D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1D9AD-7F78-429D-B1A6-81B2AFC7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A6E1-7C79-4EB9-9CB5-49BA1056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B300-F00A-4D6C-8E5C-E4EBD942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3962C-770A-4EAE-8D11-13A0D460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08E1-847D-4480-AEA7-DAD1C2E2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502B-716C-4749-BB04-3985EAB3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5409B-7D7C-48E6-B64D-3A5A195E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70C1F-C691-43E4-82AA-584D823F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C6C9B-4EB9-45F9-B3B1-6FEF9648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91F38-6428-408F-B70F-1855BF85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AB2ED-F2C1-4199-92A4-63FD03F8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DEB5E-8193-4A8A-89C1-04784160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BEE7-197B-42AA-BBFF-EF226B1F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47DD6-5F36-4040-A77D-52984B3C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0FCDC-A54A-4216-97BD-D7BA36CE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620B4-6710-4871-92F0-423BC50A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E9215-C9AC-477D-A85E-9F09B5CD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80D7E-88DE-4A96-AD12-FE9E89D5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5E3B0-2831-44DA-91B3-44C391E9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6BD3B-8D3C-435E-AEF5-EC7AD435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4B667-1818-401A-B5F2-722497AA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C8C1E-24C1-4B68-9EC3-B4C4B9CE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DEF56-82DD-449F-B48C-5918CA2C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028-F420-42E5-888F-ADF83232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A1093-CF33-4EAF-8190-70B35CE3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F7136-8CDB-43EB-B98C-B4D78C82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A4BF4-D287-4A02-BCB8-0B5A27D3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6A46B-4E3E-42D0-AA2D-398343C4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E037D-4E0F-485F-8A7F-EA5B0859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BB1E8-E227-409E-8DA4-35DA764B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24DFC-858A-4E46-86DC-9E6595FC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AF1DD-8B4A-4F7C-BB12-03FDE9BE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B53B2-38D9-4AEC-A008-BECA7D82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1DEDB-0FCA-4E96-9B82-8925A6F2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F7A-DE24-4807-A8B6-BA9DFFCD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C0637-327F-4794-84CC-A3A393EF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74225-2046-4BC1-BE92-1A8E1360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D4C82-D30F-4D8C-B06B-B64ECEBA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CDBAB-4F2C-40D3-8778-C39BBA91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C54CD-478F-4BE2-A98C-02BF80D3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7A518-FEEA-4683-87C8-BB6544B2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BC4D5-BD8F-4A44-8B0D-364B45BA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97B8F-E68D-4DB7-B655-397B41F8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0931B-6D3E-4340-BE66-BA39A860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F9B3C-0B24-4EDC-80F9-872387C3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F78-ED51-40F9-8F3F-2C831315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B49B4-5C6F-48EB-88A0-6A9FF18F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2990C-F0CE-40F9-9098-7999A236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77CBA-FB5C-445D-9D5D-19FBDE30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A94C5-35CE-4409-883C-2AA438BB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6B642-CAA4-430C-8B76-C6F08C24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29A7C-DBAF-43FB-8797-91579EB1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42903-33B1-4597-8D2F-57F6AB66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E1D3C-C0B8-491A-BAA6-58488AEE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D6AE6-5CAF-45A7-9DF6-CE0E2103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4E1D6-A142-4152-A48B-812F03D5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A91-5961-49B8-8F6C-EC49AFE2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182A3-0362-4D1B-921C-653382A9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4279C-19B8-4111-AB3F-DA1651F0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059E6-0E02-4A5B-80B5-6EB1F84A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FFE68-9C45-4DD6-A43B-119AAE56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BF6B8-E7A9-4494-BE16-E0ADFE6B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777-38A8-489B-90F4-5530A88B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9D37-B6C9-46C6-88EF-9F22B762F3E8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F73F-BA28-42B6-830D-662211A7037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AABB-5510-41B3-AB01-C06E7B21DE2D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7D04-6499-4A2E-94A1-5AE1138FB78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9AB8-1D8B-4F7A-BB16-520ED6DAF2DE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A7DE-3CE6-4478-803E-758F4DB177ED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1B0A-8C5B-4DD4-A9C6-3C48131A231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Государственные системы обучения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11280" y="2852280"/>
            <a:ext cx="7921440" cy="2786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</a:rPr>
              <a:t>Традиционная  («Школа России», «Школа – 2100», «Школа </a:t>
            </a:r>
            <a:r>
              <a:rPr b="0" lang="en-US" sz="2600" spc="-1" strike="noStrike">
                <a:solidFill>
                  <a:srgbClr val="320e04"/>
                </a:solidFill>
                <a:latin typeface="Times New Roman"/>
              </a:rPr>
              <a:t>XXI </a:t>
            </a:r>
            <a:r>
              <a:rPr b="0" lang="ru-RU" sz="2600" spc="-1" strike="noStrike">
                <a:solidFill>
                  <a:srgbClr val="320e04"/>
                </a:solidFill>
                <a:latin typeface="Times New Roman"/>
              </a:rPr>
              <a:t>века и др.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</a:rPr>
              <a:t>Система развивающего обучения Л.В.Занков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</a:rPr>
              <a:t>Система развивающего обучения Д.Б.Эльконина – В.В.Давыдов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</a:rPr>
              <a:t>Основные идеи системы Л.В.Занков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10920" y="1844280"/>
            <a:ext cx="7848360" cy="3794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20e04"/>
                </a:solidFill>
                <a:uFillTx/>
                <a:latin typeface="Times New Roman"/>
              </a:rPr>
              <a:t>Цель обучения</a:t>
            </a:r>
            <a:r>
              <a:rPr b="0" lang="en-US" sz="2600" spc="-1" strike="noStrike">
                <a:solidFill>
                  <a:srgbClr val="320e04"/>
                </a:solidFill>
                <a:latin typeface="Times New Roman"/>
              </a:rPr>
              <a:t>- достижение оптимального общего развития каждого школьника на базе усвоения предметных знаний , умений и навыков </a:t>
            </a:r>
            <a:r>
              <a:rPr b="0" i="1" lang="en-US" sz="2600" spc="-1" strike="noStrike">
                <a:solidFill>
                  <a:srgbClr val="320e04"/>
                </a:solidFill>
                <a:latin typeface="Times New Roman"/>
              </a:rPr>
              <a:t>(усвоение прочных знаний и умений посредством продвижения ребенка в общем развитии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</a:rPr>
              <a:t>Основные идеи системы Л.В.Занков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016760" cy="3938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Times New Roman"/>
              </a:rPr>
              <a:t>При обучении ставится цель не «подтянуть» слабых учеников до уровня сильных, а раскрыть индивидуальность и оптимально развить каждого школьника, независимо от того, считается ли он в классе «сильным» или «слабым»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</a:rPr>
              <a:t>Основные идеи системы Л.В.Занков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4000" y="1700280"/>
            <a:ext cx="8064360" cy="3938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Times New Roman"/>
              </a:rPr>
              <a:t>Содержание строится с опорой на три кита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Times New Roman"/>
              </a:rPr>
              <a:t>Цель – общее развитие каждого ребенк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Times New Roman"/>
              </a:rPr>
              <a:t>Учет особенностей обучаемых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Times New Roman"/>
              </a:rPr>
              <a:t>Образовательные стандарты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Times New Roman"/>
              </a:rPr>
              <a:t>Отбор и содержание всех учебных курсов, характер заданий побуждает детей к поисковой творческой деятельности, наполненной эмоция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549000"/>
            <a:ext cx="74995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За уши зайца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несут к барабану.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Заяц ворчит: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-Барабанить не стану.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Нет </a:t>
            </a:r>
            <a:r>
              <a:rPr b="0" i="1" lang="en-US" sz="3900" spc="-1" strike="noStrike">
                <a:solidFill>
                  <a:srgbClr val="4f271c"/>
                </a:solidFill>
                <a:latin typeface="Times New Roman"/>
              </a:rPr>
              <a:t>настроения</a:t>
            </a:r>
            <a:r>
              <a:rPr b="0" lang="en-US" sz="3900" spc="-1" strike="noStrike">
                <a:solidFill>
                  <a:srgbClr val="4f271c"/>
                </a:solidFill>
                <a:latin typeface="Times New Roman"/>
              </a:rPr>
              <a:t>,</a:t>
            </a:r>
            <a:br>
              <a:rPr sz="3900"/>
            </a:br>
            <a:r>
              <a:rPr b="0" lang="en-US" sz="3900" spc="-1" strike="noStrike">
                <a:solidFill>
                  <a:srgbClr val="4f271c"/>
                </a:solidFill>
                <a:latin typeface="Times New Roman"/>
              </a:rPr>
              <a:t>нет </a:t>
            </a:r>
            <a:r>
              <a:rPr b="0" i="1" lang="en-US" sz="3900" spc="-1" strike="noStrike">
                <a:solidFill>
                  <a:srgbClr val="4f271c"/>
                </a:solidFill>
                <a:latin typeface="Times New Roman"/>
              </a:rPr>
              <a:t>обстановки</a:t>
            </a:r>
            <a:r>
              <a:rPr b="0" lang="en-US" sz="3900" spc="-1" strike="noStrike">
                <a:solidFill>
                  <a:srgbClr val="4f271c"/>
                </a:solidFill>
                <a:latin typeface="Times New Roman"/>
              </a:rPr>
              <a:t>,</a:t>
            </a:r>
            <a:br>
              <a:rPr sz="3900"/>
            </a:br>
            <a:r>
              <a:rPr b="0" lang="en-US" sz="3900" spc="-1" strike="noStrike">
                <a:solidFill>
                  <a:srgbClr val="4f271c"/>
                </a:solidFill>
                <a:latin typeface="Times New Roman"/>
              </a:rPr>
              <a:t>нет </a:t>
            </a:r>
            <a:r>
              <a:rPr b="0" i="1" lang="en-US" sz="3900" spc="-1" strike="noStrike">
                <a:solidFill>
                  <a:srgbClr val="4f271c"/>
                </a:solidFill>
                <a:latin typeface="Times New Roman"/>
              </a:rPr>
              <a:t>подготовки</a:t>
            </a: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.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Не </a:t>
            </a:r>
            <a:r>
              <a:rPr b="0" i="1" lang="en-US" sz="3900" spc="-1" strike="noStrike">
                <a:solidFill>
                  <a:srgbClr val="572314"/>
                </a:solidFill>
                <a:latin typeface="Times New Roman"/>
              </a:rPr>
              <a:t>вижу морковки</a:t>
            </a: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!</a:t>
            </a:r>
            <a:br>
              <a:rPr sz="3900"/>
            </a:b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</a:rPr>
              <a:t>Как проходит урок в занковских классах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Ребенок – это тот же человек, только маленький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ченик добывает знания самостоятельно, учитель помогает, направля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ченикам предоставляется право спорить, отстаивать и аргументировать свою точку зр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ченик имеет право на ошибку («Ошибка – находка для учителя!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7:36:38Z</dcterms:created>
  <dc:creator>1</dc:creator>
  <dc:description/>
  <dc:language>en-US</dc:language>
  <cp:lastModifiedBy>Админ</cp:lastModifiedBy>
  <dcterms:modified xsi:type="dcterms:W3CDTF">2014-01-27T03:40:43Z</dcterms:modified>
  <cp:revision>6</cp:revision>
  <dc:subject/>
  <dc:title>Государственные системы обучения:</dc:title>
</cp:coreProperties>
</file>