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voltage.wav" ContentType="audio/x-wav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D106-382B-4B99-8AB7-98E4178DF4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C588-3EF8-4EA1-92B8-E6C08E161D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0FD-7E71-4E16-B450-4BCB8B1C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529-E689-4EE0-A07D-34A77559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015-14F8-40CE-A8FD-B9C0A90A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6C5-E261-498B-B7E8-3A750426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FEB37-20D1-4FBC-B072-317D66D5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F3D24-5638-4553-997E-9C017901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70A9D-83C1-4174-95B3-1CBCF1AD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41B87-D049-492B-86C5-B87717A6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854A2-2C91-40C6-A255-994CBF26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AB022-AA6A-46B8-A7AD-7348BC76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FFA99-2B64-4F6B-A131-F78065B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635-E9CD-4302-ABD7-B0846F2E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EDCCB-E63B-40FA-8278-BFA9C535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2AA61-FD29-4526-935F-9D31E5FF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FE038-FB7C-4895-A079-2B4CED6D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F716C-6171-4746-84EB-8128DC6A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E1EAE-A6E2-4597-98EA-E04451DB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D49C-4B50-4AD9-82BE-69E69E8C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D5264-2952-4474-A0E8-B19E4287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2D145-1DDC-4800-8452-9E895730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46DCF-9F1C-4F43-BCA9-1551367B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25CF-D409-4928-A7DA-F7784BB8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BB0-5BDA-413F-BC83-60ED5CC3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E451-9F1E-4DD1-92F4-A7572772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8CFBB-BC86-43D6-BB7A-DA6260BB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D722-2BBE-4AFA-A341-6A57E4CE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6EF3-5073-4C2C-BE32-85BECC66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CA42D-0C7A-4A3D-959B-82F0CD23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64A6-8165-459A-938A-14A11AF1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A50D-89F5-40B8-AF15-26A8A910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483E0-00AC-4E06-81D3-230C8E74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06AAF-00B5-4C22-96E3-FA64AD0E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C8C71-C989-4401-BFC5-8D332F0F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BEA-6654-4095-8354-726FA726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371524-E9E7-4FB0-9703-05567424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45165-4472-46FD-8367-687EDA8A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92D363-C752-4DA5-9999-A96CF8FD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947D9E-270F-4CDA-B3DE-8CC84ABD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CD0DD-8767-439C-A241-3D144481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10667-9F06-40B6-98E0-8C56B941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59BF9-BE25-4D99-9E44-C16ADE12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F921F8-7782-4610-B6F7-829A1427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5B7AB-89D3-4CB5-AA78-B463C39D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05C-D86F-4D02-8F65-70F78406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C7B-8A04-456A-AA50-736A914E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559-E408-452C-A668-9FC5C2EE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DB3-C3F0-4258-B8B7-BB3A41CC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F61-64AF-4ED1-B366-5ABEE26B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6D9D-1B25-4360-874A-359A37E5BA0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A858-6A47-458B-89DD-3D04145633F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9C5A-EAF1-4B54-9C79-93B6C3ECC78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6E6C-1298-489F-B8E0-8459097A258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390600" y="1596960"/>
            <a:ext cx="8697960" cy="31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Основные методы работы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агитация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аспространение листовок (обычно с расистскими призывами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азличные акты вандализма (рисунки свастики на видных местах, и др.)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ападения на иностранцев, лиц кавказской национальности, избиения граждан СНГ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общеуголовные преступления: нанесение изображений экстремистского характера, в том числе, свастики, хулиганство, распитие спиртных напитков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участие в столкновениях с футбольными фаната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378000" y="92160"/>
            <a:ext cx="8242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Отличительные признаки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бритая голова (или короткая стрижка)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амуфляжная форма, куртки «бомберы» (черного цвета, внутри оранжевые), толстовки с капюшоном («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Lonsdale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»)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на ногах - «берцы», «гриндерсы», закатанные джинс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Наличие татуировок (обычно, свастика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се они имеют в данной среде прозвища. В Костроме в молодёжной среде наиболее известны два имени – «Волк» и «Доберман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лолетки («бабсы»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няк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шак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ые скинхед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378000" y="165240"/>
            <a:ext cx="824220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08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ополагающей идеей для них является активное неприятие инородцев, доходящее до ненависти. Здесь в полной мере проявляется открытое противостояние лицам иных рас и национальностей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паганда насилия, запугивание мирных граждан и даже представителей власти, организация погромов, терактов и убийств – эти действия направлены против всех «чужаков» одновременно Собирательный образ врага для скинов – «бремя белого человека»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диции бритоголовых и присущие им обычаи и нормы поведения проявляются главным образом в способах проведения досуга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08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егодняшний день на территории России действуют свыше 35 крупных скин-группировок, которые отличаются установленными правилами поведения и жесткой дисциплиной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овском регионе активно действует 23 наиболее агрессивные группы, общей численностью достигающие более 3000 участников. В Санкт-Петербурге – около 9. В Костроме группировки носят разрозненный характер, общая численность - около 40 человек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628560" y="549360"/>
            <a:ext cx="7912080" cy="1352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68000" y="1916280"/>
            <a:ext cx="8218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одная национальная партия (ННП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усское национальное единство (РНЕ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вижение против нелегальной иммиграции (ДПН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лавянский союз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одно-державная партия Росси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571680" y="4786200"/>
          <a:ext cx="267624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4786200"/>
                    <a:ext cx="26762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6"/>
          <p:cNvGraphicFramePr/>
          <p:nvPr/>
        </p:nvGraphicFramePr>
        <p:xfrm>
          <a:off x="3929040" y="4857840"/>
          <a:ext cx="1884240" cy="188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0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9040" y="4857840"/>
                    <a:ext cx="188424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7"/>
          <p:cNvGraphicFramePr/>
          <p:nvPr/>
        </p:nvGraphicFramePr>
        <p:xfrm>
          <a:off x="6786720" y="4857840"/>
          <a:ext cx="1857240" cy="1847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2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86720" y="4857840"/>
                    <a:ext cx="18572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  <p:sndAc>
      <p:stSnd>
        <p:snd r:embed="rId8" name="voltage.wav"/>
      </p:stSnd>
    </p:sndAc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в настоящее время действуют группировки: - «Скинлегион» - «Русский филиал B&amp;H» (Blood&amp;Honor – запрещенная в Германии нацистская организация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«Объединенные бригады-88» (8 – порядковый номер буквы h в латинском алфавите, и 88 означает начальные буквы приветствия «Хайль Гитлер!»)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стромской области активисты скин-группировок неоднократно привлекались к уголовной и административной ответственности в связи с осуществлением деятельности экстремистской направлен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й знак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п и молот в белом круге на красном фон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ность идеологии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спепеляющая ненависть к античеловеческой системе троицы: либерализма, демократии, капитализ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Межрегиональная общественная организация «НБП» (МОО НБП, 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лидер 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Эдуард Лимонов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) осуществляет свою деятельность в РФ с 2000 г., в Костромской области – с 2002 г. За время существования региональной ячейки её активисты неоднократно привлекались к административной и уголовной ответствен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0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1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2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43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47" dur="5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371520" y="450720"/>
            <a:ext cx="8693280" cy="4737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 апреля 2007 года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сковский городской суд признал межрегиональную общественную организацию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ационал-большевистская партия»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стремистской и запретил её деятельность на территории РФ. Соответственно, любое действие от имени данной организации с юридической точки зрения рассматривается как экстремистское.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ючевой признак этих культов – все сатанистские и демонические вероучения считают, что объект их поклонения является в мире основной причиной зла и смерти. Адепты откровенных сатанистских сект поклоняются и служат злу и, что особенно для них характерно, ненавидят православие, негативно относятся ко всем культурообразующим традиционным религиям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присутствии сатанистов свидетельствуют рисунки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ентаграммы: шестиконечная звезда на черном фоне в красном круге, перевернутый христианский крест)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дписи на стенах строений. Адепты одеваются в одежду черного цвета, волосы красят в черный цвет. Ими практикуются ритуальные убийства животных на кладбищах, совершение актов вандализ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2824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оправная деятельность приверженцев сатанистских и демонических культов, проживающих в Костромской области, носит общеуголовный характер (осквернение культовых зданий, хулиганство, распитие спиртных напитков, употребление наркотических и психотропных средств)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ая численность – около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 человек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средний возраст членов группирования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0 лет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чащиеся ссузов, ПТУ, школ), в основном из неблагополучных сем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Авангард красной молодежи (АКМ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Протестное гражданское движение «Оборона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«Идущие без Путина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Молодежная общественная организация «Пора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сесоюзная Молодая Гвардия Большевиков (ВМГБ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КСМ (большевики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Молодежный левый фронт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оссийская ассоциация профсоюзных организаций студентов (РАПОС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«Евразийский Союз Молодежи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«Социалистическое сопротивление за рабочий интернационал» (СС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Союз коммунистической молодежи (СКМ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Центр общественных инициатив «УРА!» (Утро-Родина-Атака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Союз молодежи «За Родину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оссийская демократическая партия «Наш выбор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Независимая ассоциация студентов «Я думаю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Молодежное правозащитное движени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2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0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0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0"/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0" fill="hold"/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0" fill="hold"/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2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0" fill="hold"/>
                                        <p:tgtEl>
                                          <p:spTgt spid="2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0" fill="hold"/>
                                        <p:tgtEl>
                                          <p:spTgt spid="2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0"/>
                                        <p:tgtEl>
                                          <p:spTgt spid="2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2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2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шний вид: черные длинные волосы, большая крашеная чёлка, различного рода металлические украшения, неформальная одежда. Депрессия, самоуничтожение, протест против взрослых. Выражается протест в суицидальном поведении. Авторитет имеют те представители ЭМО, которые имели большее количество попыток суицид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ужна планомерная, регулярная профилактическая работа с подключением преподавательского состава образовательных учреждений всех уровней (от школ до ВУЗов), профильных департаментов, отвечающих за работу с молодежью, общественных организаций и сотрудников правоохранительных орган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Заголовок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560" y="533520"/>
            <a:ext cx="83055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насильственное изменение основ конституционного строя и    нарушение целостности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подрыв безопасности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захват или присвоение властных полномочий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оздание незаконных вооруженных формирований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существление террористической деятельности либо публичное                   оправдание терроризма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буждение расовой, национальной или религиозной розни, а  также социальной розни,  связанной с насилием или призывами к  насилию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нижение национального достоинств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04560" y="380520"/>
            <a:ext cx="83898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осуществление массовых беспорядков, хулиганских действий и акто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опаганду исключительности, превосходства либо неполноценности граждан по признаку их отношения к религии,  социальной, расовой, национальной, религиозной или языковой  принадлежност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воспрепятствование законной деятельности органов государственной власти, избирательных комиссий, а также  законной деятельности должностных лиц указанных органов, комиссий, соединенное с насилием или угрозой его применени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убличную клевету в отношении лица, замещающего  государственную должность Российской Федерации или государственную должность субъекта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088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именение насилия в отношении представителя государственной власти либо на угрозу применения насилия в отношении представителя государственной власти или его близких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е прав и свобод человека и гражданина, причинение  вреда здоровью и имуществу граждан в связи с их убеждениями, расовой или национальной принадлежностью, вероисповеданием, социальной принадлежностью или социальным происхождением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оздание и (или) распространение печатных, аудио-аудиовизуальных и иных материалов (произведений)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ягательство на жизнь государственного или общественного деятеля, совершенное в целях прекращения его государственной или иной политической деятельности либо из мести за такую деятельность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225360" y="1420920"/>
            <a:ext cx="83948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09480" y="914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публичные призывы к осуществлению указанной деятельности, а также публичные призывы и выступления, побуждающие к осуществлению указанной деятельности, обосновывающие либо оправдывающие совершение деяний, указанных в настоящей статье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560" y="3049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) финансирование указанной деятельности либо иное содействие в планировании, организации, подготовке и совершении указанных  действий, в том числе путем предоставления для осуществления  указанной деятельности финансовых средств, недвижимости,  учебной, полиграфической и материально-технической базы,  телефонной, факсимильной и иных видов связи, информационных услуг, иных материально-технических средств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0880" y="17524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инхедами или «скинами» называют участников относительно нового неформального молодежного движения, возникшего в Англии, Европе и Америке во второй половине 20 века. Слово «скинхед» произошло от слияния двух английских слов skin (кожа) и head (голова) и в буквальном переводе означает «кожаная голова»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365040"/>
            <a:ext cx="82425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Ольга Данилина</cp:lastModifiedBy>
  <dcterms:modified xsi:type="dcterms:W3CDTF">2014-01-23T08:09:37Z</dcterms:modified>
  <cp:revision>22</cp:revision>
  <dc:subject/>
  <dc:title>«Профилактика экстремизма в молодежной среде»</dc:title>
</cp:coreProperties>
</file>