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voltage.wav" ContentType="audio/x-wav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CDA5-FF7F-458E-8003-96727D2192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746E-5EDA-47E8-A936-BCBAD8E040C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176-5271-4CA4-BFD6-D1D1A8E0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862-87C0-408A-B1B8-6A483C61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ACE-41E2-41AB-8F48-4E704C0B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435-0DCD-4F75-ABD6-4B3EE8B3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29954-0DBD-4F2B-9435-FD35DC33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F650B-E227-4801-8EE5-9B18F8D7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90006-8B0B-4C59-89F9-B9CD0CD8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DCD54-13A3-4335-90BA-30F5DCCC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F20E2-8C92-4146-AF07-9D3BD610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C4762-C5D4-4B07-82C6-4DEFEBE6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2ED74-F9E0-41D4-B7F5-9410F929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3F9-449F-410C-B27E-C2A4359B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C5391-C620-45AF-90F9-869756A1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29EAD-1CC4-4288-90D5-D1228E9B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53C17-ACE1-4265-8892-6A3E67CB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E1FF8-3EB6-4D81-B41F-141F905A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AE8EA-ACAD-4909-ABA5-7462E62C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FB952-D8CC-4C40-A75B-CD130B19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987E8-8AFA-485A-8045-5210D9BB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434CF-8C27-44BB-B50A-8087D3E9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4ECC5-B8BF-4E4E-BB6E-E62BE8C0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D4FD-7BE4-4BF9-8C56-C0677AF1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593-D407-434A-B4C6-689F2618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E4666-5666-4AE1-9545-9A1731FB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5C2C1-AD2F-418A-8191-FB9E50DC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C312C-C192-4B79-980C-92CEE793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D9DE2-19A0-4087-AB73-F7792F0C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A3604-8F42-4609-976A-F86CC189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FBB60-5EB1-4834-81B2-3D31F3E5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BB13D-482D-4DCA-81F9-760C1A53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00B509-9FCC-4941-A631-E9903B06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CEB22-0422-4ED6-829A-38DAAD1F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8981F2-6009-4B04-B446-FA8C955F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E06-A0CE-43A8-A5E8-7A9090C7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082CB5-CCD4-4F7C-B769-8C2D20CB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A4E86-4DAE-493F-A7DC-8EC687DC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B3CA2-94A3-41BC-9261-1BDE41F1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D5C19-0DB5-4B6E-8781-A77F6EC0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8AD1B3-8EB1-441A-84BC-B2EDF446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AFFEDC-0C2D-4762-AA2F-1CF76FC5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C0F1EB-10C7-4C11-AEBE-6F5627AB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01783-34B7-4168-A15B-35B507C1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2A07D4-B31E-4FFB-A860-F913C2BE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D0D2-7ED2-40FA-8414-63AAF9E0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A41-B8EA-48E1-9AAB-EB11CE8B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C6A-2BE2-4A38-84AF-DE041760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702-171D-4E9E-90C4-142D45E5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EC8-3464-489D-B411-73C3FC56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1FD2-0E88-4EA3-BB13-6A0C1DED964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C8A2-8A8C-40AD-AA67-5CE1956989C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B4D5-BAAC-43FD-8ACB-D2CD80EFAE5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E179-7C43-4109-B191-88C2C8B1C8C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1" descr=""/>
          <p:cNvPicPr/>
          <p:nvPr/>
        </p:nvPicPr>
        <p:blipFill>
          <a:blip r:embed="rId1"/>
          <a:stretch/>
        </p:blipFill>
        <p:spPr>
          <a:xfrm>
            <a:off x="390600" y="1596960"/>
            <a:ext cx="8697960" cy="319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Основные методы работы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агитация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распространение листовок (обычно с расистскими призывами)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различные акты вандализма (рисунки свастики на видных местах, и др.)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нападения на иностранцев, лиц кавказской национальности, избиения граждан СНГ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общеуголовные преступления: нанесение изображений экстремистского характера, в том числе, свастики, хулиганство, распитие спиртных напитков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участие в столкновениях с футбольными фаната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Заголовок 2" descr=""/>
          <p:cNvPicPr/>
          <p:nvPr/>
        </p:nvPicPr>
        <p:blipFill>
          <a:blip r:embed="rId1"/>
          <a:stretch/>
        </p:blipFill>
        <p:spPr>
          <a:xfrm>
            <a:off x="378000" y="92160"/>
            <a:ext cx="8242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Отличительные признаки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бритая голова (или короткая стрижка)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амуфляжная форма, куртки «бомберы» (черного цвета, внутри оранжевые), толстовки с капюшоном («</a:t>
            </a:r>
            <a:r>
              <a:rPr b="0" lang="en-US" sz="2600" spc="-1" strike="noStrike">
                <a:solidFill>
                  <a:srgbClr val="002060"/>
                </a:solidFill>
                <a:latin typeface="Constantia"/>
              </a:rPr>
              <a:t>Lonsdale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»)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на ногах - «берцы», «гриндерсы», закатанные джинс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Наличие татуировок (обычно, свастика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се они имеют в данной среде прозвища. В Костроме в молодёжной среде наиболее известны два имени – «Волк» и «Доберман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08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лолетки («бабсы»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дняк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шак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ые скинхед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Заголовок 2" descr=""/>
          <p:cNvPicPr/>
          <p:nvPr/>
        </p:nvPicPr>
        <p:blipFill>
          <a:blip r:embed="rId1"/>
          <a:stretch/>
        </p:blipFill>
        <p:spPr>
          <a:xfrm>
            <a:off x="378000" y="165240"/>
            <a:ext cx="824220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0880" y="3805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ополагающей идеей для них является активное неприятие инородцев, доходящее до ненависти. Здесь в полной мере проявляется открытое противостояние лицам иных рас и национальностей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паганда насилия, запугивание мирных граждан и даже представителей власти, организация погромов, терактов и убийств – эти действия направлены против всех «чужаков» одновременно Собирательный образ врага для скинов – «бремя белого человека»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диции бритоголовых и присущие им обычаи и нормы поведения проявляются главным образом в способах проведения досуга.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0880" y="3805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егодняшний день на территории России действуют свыше 35 крупных скин-группировок, которые отличаются установленными правилами поведения и жесткой дисциплиной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овском регионе активно действует 23 наиболее агрессивные группы, общей численностью достигающие более 3000 участников. В Санкт-Петербурге – около 9. В Костроме группировки носят разрозненный характер, общая численность - около 40 человек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628560" y="549360"/>
            <a:ext cx="7912080" cy="1352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68000" y="1916280"/>
            <a:ext cx="8218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одная национальная партия (ННП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усское национальное единство (РНЕ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вижение против нелегальной иммиграции (ДПН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лавянский союз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одно-державная партия Росси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571680" y="4786200"/>
          <a:ext cx="267624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4786200"/>
                    <a:ext cx="26762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16"/>
          <p:cNvGraphicFramePr/>
          <p:nvPr/>
        </p:nvGraphicFramePr>
        <p:xfrm>
          <a:off x="3929040" y="4857840"/>
          <a:ext cx="1884240" cy="188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0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9040" y="4857840"/>
                    <a:ext cx="188424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7"/>
          <p:cNvGraphicFramePr/>
          <p:nvPr/>
        </p:nvGraphicFramePr>
        <p:xfrm>
          <a:off x="6786720" y="4857840"/>
          <a:ext cx="1857240" cy="1847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2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86720" y="4857840"/>
                    <a:ext cx="18572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  <p:sndAc>
      <p:stSnd>
        <p:snd r:embed="rId8" name="voltage.wav"/>
      </p:stSnd>
    </p:sndAc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в настоящее время действуют группировки: - «Скинлегион» - «Русский филиал B&amp;H» (Blood&amp;Honor – запрещенная в Германии нацистская организация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«Объединенные бригады-88» (8 – порядковый номер буквы h в латинском алфавите, и 88 означает начальные буквы приветствия «Хайль Гитлер!»)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остромской области активисты скин-группировок неоднократно привлекались к уголовной и административной ответственности в связи с осуществлением деятельности экстремистской направленност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й знак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п и молот в белом круге на красном фон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щность идеологии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Испепеляющая ненависть к античеловеческой системе троицы: либерализма, демократии, капитализм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Межрегиональная общественная организация «НБП» (МОО НБП, 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лидер </a:t>
            </a: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Эдуард Лимонов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) осуществляет свою деятельность в РФ с 2000 г., в Костромской области – с 2002 г. За время существования региональной ячейки её активисты неоднократно привлекались к административной и уголовной ответственност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0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1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2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43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47" dur="5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2" descr=""/>
          <p:cNvPicPr/>
          <p:nvPr/>
        </p:nvPicPr>
        <p:blipFill>
          <a:blip r:embed="rId1"/>
          <a:stretch/>
        </p:blipFill>
        <p:spPr>
          <a:xfrm>
            <a:off x="371520" y="450720"/>
            <a:ext cx="8693280" cy="4737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 апреля 2007 года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сковский городской суд признал межрегиональную общественную организацию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ационал-большевистская партия»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стремистской и запретил её деятельность на территории РФ. Соответственно, любое действие от имени данной организации с юридической точки зрения рассматривается как экстремистское.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ючевой признак этих культов – все сатанистские и демонические вероучения считают, что объект их поклонения является в мире основной причиной зла и смерти. Адепты откровенных сатанистских сект поклоняются и служат злу и, что особенно для них характерно, ненавидят православие, негативно относятся ко всем культурообразующим традиционным религиям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присутствии сатанистов свидетельствуют рисунки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ентаграммы: шестиконечная звезда на черном фоне в красном круге, перевернутый христианский крест)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дписи на стенах строений. Адепты одеваются в одежду черного цвета, волосы красят в черный цвет. Ими практикуются ритуальные убийства животных на кладбищах, совершение актов вандализм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228240" y="3805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тивоправная деятельность приверженцев сатанистских и демонических культов, проживающих в Костромской области, носит общеуголовный характер (осквернение культовых зданий, хулиганство, распитие спиртных напитков, употребление наркотических и психотропных средств)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ая численность – около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0 человек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средний возраст членов группирования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0 лет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учащиеся ссузов, ПТУ, школ), в основном из неблагополучных семе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Авангард красной молодежи (АКМ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Протестное гражданское движение «Оборона»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«Идущие без Путина»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Молодежная общественная организация «Пора»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Всесоюзная Молодая Гвардия Большевиков (ВМГБ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РКСМ (большевики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Молодежный левый фронт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Российская ассоциация профсоюзных организаций студентов (РАПОС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«Евразийский Союз Молодежи»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«Социалистическое сопротивление за рабочий интернационал» (СС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Союз коммунистической молодежи (СКМ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Центр общественных инициатив «УРА!» (Утро-Родина-Атака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Союз молодежи «За Родину»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Российская демократическая партия «Наш выбор»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Независимая ассоциация студентов «Я думаю»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Молодежное правозащитное движение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2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50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0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0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0"/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5000" fill="hold"/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0" fill="hold"/>
                                        <p:tgtEl>
                                          <p:spTgt spid="2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0"/>
                                        <p:tgtEl>
                                          <p:spTgt spid="2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0" fill="hold"/>
                                        <p:tgtEl>
                                          <p:spTgt spid="2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0" fill="hold"/>
                                        <p:tgtEl>
                                          <p:spTgt spid="2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0"/>
                                        <p:tgtEl>
                                          <p:spTgt spid="2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5000" fill="hold"/>
                                        <p:tgtEl>
                                          <p:spTgt spid="2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2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шний вид: черные длинные волосы, большая крашеная чёлка, различного рода металлические украшения, неформальная одежда. Депрессия, самоуничтожение, протест против взрослых. Выражается протест в суицидальном поведении. Авторитет имеют те представители ЭМО, которые имели большее количество попыток суицид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ужна планомерная, регулярная профилактическая работа с подключением преподавательского состава образовательных учреждений всех уровней (от школ до ВУЗов), профильных департаментов, отвечающих за работу с молодежью, общественных организаций и сотрудников правоохранительных органо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Заголовок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560" y="533520"/>
            <a:ext cx="83055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насильственное изменение основ конституционного строя и    нарушение целостности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подрыв безопасности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захват или присвоение властных полномочий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оздание незаконных вооруженных формирований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существление террористической деятельности либо публичное                   оправдание терроризма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буждение расовой, национальной или религиозной розни, а  также социальной розни,  связанной с насилием или призывами к  насилию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нижение национального достоинств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04560" y="380520"/>
            <a:ext cx="83898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осуществление массовых беспорядков, хулиганских действий и актов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опаганду исключительности, превосходства либо неполноценности граждан по признаку их отношения к религии,  социальной, расовой, национальной, религиозной или языковой  принадлежност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воспрепятствование законной деятельности органов государственной власти, избирательных комиссий, а также  законной деятельности должностных лиц указанных органов, комиссий, соединенное с насилием или угрозой его применени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убличную клевету в отношении лица, замещающего  государственную должность Российской Федерации или государственную должность субъекта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112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088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именение насилия в отношении представителя государственной власти либо на угрозу применения насилия в отношении представителя государственной власти или его близких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ушение прав и свобод человека и гражданина, причинение  вреда здоровью и имуществу граждан в связи с их убеждениями, расовой или национальной принадлежностью, вероисповеданием, социальной принадлежностью или социальным происхождением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оздание и (или) распространение печатных, аудио-аудиовизуальных и иных материалов (произведений)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ягательство на жизнь государственного или общественного деятеля, совершенное в целях прекращения его государственной или иной политической деятельности либо из мести за такую деятельность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225360" y="1420920"/>
            <a:ext cx="839484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09480" y="914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тремизм – это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публичные призывы к осуществлению указанной деятельности, а также публичные призывы и выступления, побуждающие к осуществлению указанной деятельности, обосновывающие либо оправдывающие совершение деяний, указанных в настоящей статье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560" y="3049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тремизм – это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) финансирование указанной деятельности либо иное содействие в планировании, организации, подготовке и совершении указанных  действий, в том числе путем предоставления для осуществления  указанной деятельности финансовых средств, недвижимости,  учебной, полиграфической и материально-технической базы,  телефонной, факсимильной и иных видов связи, информационных услуг, иных материально-технических средств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0880" y="17524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инхедами или «скинами» называют участников относительно нового неформального молодежного движения, возникшего в Англии, Европе и Америке во второй половине 20 века. Слово «скинхед» произошло от слияния двух английских слов skin (кожа) и head (голова) и в буквальном переводе означает «кожаная голова»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50720" y="365040"/>
            <a:ext cx="82425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Ольга Данилина</cp:lastModifiedBy>
  <dcterms:modified xsi:type="dcterms:W3CDTF">2014-01-23T08:09:37Z</dcterms:modified>
  <cp:revision>22</cp:revision>
  <dc:subject/>
  <dc:title>«Профилактика экстремизма в молодежной среде»</dc:title>
</cp:coreProperties>
</file>