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E71-F951-4622-B07C-851E650E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676-8245-4FCC-9C60-054C705C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7F1-15AE-484C-AFA3-3E5F07EE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8B0-C605-46FF-A042-78BA1767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90DD-835A-4D54-88F7-3B22C32E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48C7-5C4C-497E-82D5-04BD3E7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F0D7-3795-417F-8043-20D9449A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FFC8-AF9A-47A0-B284-6908AC3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731D-A87B-47F6-ADB5-0263DFD0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40BD-7313-438E-BF22-3256210F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235D-1E49-4E51-87FD-A4B341E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AEF-0B49-497E-B95C-5907AC40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254C-AA56-491E-A5DA-7B9AA90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506-B0A5-4856-9A51-E40B510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0F9-BE35-44C9-AC2F-9B316EF1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32FB-1DE3-4A08-ACD5-E261EA98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C1F-8D56-4FF0-904D-8AEC92AC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FAE-F01F-419D-8EF1-70D23FC1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EF6-9388-497D-8184-2A4AC2EE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E9D-9F75-4B0B-8081-6E8ECF76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549-BDDD-4BF4-83FA-77DB1BB1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26D-659A-4F35-A2C9-3AF6461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67B-E82E-4E5F-846C-818ACAC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93A-E563-4699-BEFF-9AE53364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B9F7-1E62-4AEB-8B38-5CA769BEBC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40E3-BFE1-4B26-820F-E7527508B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Электронные таблицы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“MS Excel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440000" cy="10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нные таблицы – это программное средство, оптимизирующее, вычислительную работу с большими объёмами табличных  числовых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итерии использования электронных таблиц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ставление информации в виде таблиц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овые данные связаны математическими соотношени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сть многократного пересчёта для новых наборов дан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сть проиллюстрировать наборы данных и результаты графически: в виде диаграм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093080" y="5157720"/>
            <a:ext cx="132372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Электронные</a:t>
            </a: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312920"/>
          <a:ext cx="583884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2920"/>
                    <a:ext cx="583884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012000" y="1413000"/>
            <a:ext cx="3132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ст ЭТ состоит из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олбцо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ро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Заголовки столбцов обозначаются латинскими буквами или сочетаниями букв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, B, C, … AB, AC,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, заголовки строк  - числами (1, 2, 3, …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4000" y="1197000"/>
          <a:ext cx="691200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691200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0" y="386856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 пересечении строки и столбца находится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ячейк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которая имеет свой адрес. Адрес ячейки состоит из заголовка столбца  и заголовка строки, например: А1, В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Ячейк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 с которой производятся какие-либо действия выделяется рамкой и называется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активно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1413000"/>
            <a:ext cx="3348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 существует в форме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рабочего листа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Рабочие листы объединяются в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ниг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сты можно вставлять, копировать, удалять, переименовы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268280"/>
          <a:ext cx="5724360" cy="54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5724360" cy="54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365720"/>
            <a:ext cx="83898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оцессе работы с ЭТ часто требуется выделить несколько ячеек 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иапазон яче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приме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A2:A4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1:E1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3:E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341360"/>
          <a:ext cx="568944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568944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765000"/>
            <a:ext cx="88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нешний вид ЭТ, выделенных диапазонов ячеек можно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ят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т. е. можно устанавливать различный тип, толщину и цвет границ; закрашивать ячей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 ЭТ можно удалять и можно вставлять строки, столбцы, ячейки, но при этом требуется указать, в какую сторону будет производиться сдвиг яче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348000" y="4038480"/>
          <a:ext cx="57960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038480"/>
                    <a:ext cx="5796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1:57:09Z</dcterms:created>
  <dc:creator>marina</dc:creator>
  <dc:description/>
  <dc:language>en-US</dc:language>
  <cp:lastModifiedBy>marina</cp:lastModifiedBy>
  <dcterms:modified xsi:type="dcterms:W3CDTF">2011-01-23T12:22:13Z</dcterms:modified>
  <cp:revision>4</cp:revision>
  <dc:subject/>
  <dc:title>Электронные таблицы “MS Excel”</dc:title>
</cp:coreProperties>
</file>