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43E-77E7-4EC2-90B9-9915FEC4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335-CF40-41FE-9E35-B4773267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9D7-A854-4F10-A549-F356FA2D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AE6-FBE7-4FA4-BAEC-92D767BA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0F4F-749B-479E-9C59-102AA396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1FF5-5D7E-49B3-9438-34DC61CE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9FC5-E032-49DC-AB15-EF5942D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A55-4F0B-4357-B1A5-BAD4C18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7B46-38EF-4F15-95D0-E8ACDE8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010-306C-4C00-B1C8-054E325C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11A-28C5-470F-B648-AFE7CE0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77F-EC62-48B2-BA34-A5D8767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DC52-E496-4984-A8E4-B89EEE4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476A-13AD-440B-83E9-764A379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14E8-A8BF-4F94-ABCE-482F838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A2D0-8D04-4A05-868B-5A3DCB02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A170-BEB6-49ED-B529-FA94B210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559-ACB1-4EF3-A404-C8E1C56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A59-2E6B-4BD5-A651-382DDB2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7C7-DB6D-487C-8F2D-B837F35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A55-63F4-417D-98D3-5B41EDB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EE5-6772-41D4-A112-061E124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703-BC04-4CFC-A226-19B1B2D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B51-9047-4A52-BE9B-CF4EBD1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097-4BC5-47D9-8F4F-067416EE4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6FD-D046-404C-B648-74FC5C2F8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Электронные таблицы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“MS Excel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440000" cy="10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ные таблицы – это программное средство, оптимизирующее, вычислительную работу с большими объёмами табличных  числовы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терии использования электронных таблиц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ставление информации в виде табл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овые данные связаны математическими соотношени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сть многократного пересчёта для новых наборов дан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сть проиллюстрировать наборы данных и результаты графически: в виде диаграм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093080" y="5157720"/>
            <a:ext cx="132372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Электронные</a:t>
            </a: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312920"/>
          <a:ext cx="583884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583884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012000" y="1413000"/>
            <a:ext cx="31320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 ЭТ состоит из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лбцо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ро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Заголовки столбцов обозначаются латинскими буквами или сочетаниями букв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, B, C, … AB, AC,…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, заголовки строк  - числами (1, 2, 3, …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4000" y="1197000"/>
          <a:ext cx="691200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691200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386856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 пересечении строки и столбца находится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ячейк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которая имеет свой адрес. Адрес ячейки состоит из заголовка столбца  и заголовка строки, например: А1, В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Ячейк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 с которой производятся какие-либо действия выделяется рамкой и называется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активно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1413000"/>
            <a:ext cx="3348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 существует в форме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рабочего листа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Рабочие листы объединяются в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ниг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сты можно вставлять, копировать, удалять, переименовы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268280"/>
          <a:ext cx="5724360" cy="54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5724360" cy="54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365720"/>
            <a:ext cx="83898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оцессе работы с ЭТ часто требуется выделить несколько ячеек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иапазон яче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приме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A2:A4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1:E1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:E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341360"/>
          <a:ext cx="568944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568944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eorgia"/>
              </a:rPr>
              <a:t>Электронные табли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765000"/>
            <a:ext cx="88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нешний вид ЭТ, выделенных диапазонов ячеек можно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ят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т. е. можно устанавливать различный тип, толщину и цвет границ; закрашивать ячей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 ЭТ можно удалять и можно вставлять строки, столбцы, ячейки, но при этом требуется указать, в какую сторону будет производиться сдвиг яче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348000" y="4038480"/>
          <a:ext cx="57960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038480"/>
                    <a:ext cx="57960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1:57:09Z</dcterms:created>
  <dc:creator>marina</dc:creator>
  <dc:description/>
  <dc:language>en-US</dc:language>
  <cp:lastModifiedBy>marina</cp:lastModifiedBy>
  <dcterms:modified xsi:type="dcterms:W3CDTF">2011-01-23T12:22:13Z</dcterms:modified>
  <cp:revision>4</cp:revision>
  <dc:subject/>
  <dc:title>Электронные таблицы “MS Excel”</dc:title>
</cp:coreProperties>
</file>