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4CC8-87DA-4081-821C-7DED415F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423C-DF15-496A-8858-4F73A33F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08B-E526-4E3D-A605-B160873C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025A-697D-43F0-81A9-3D04CC7D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5A5F-3839-4E34-874B-0BED64E1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D997-8DED-43FE-A667-4DCF5A5A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9787-D8F0-48D6-9514-527055CC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804A-0C93-4FB7-9D3D-B5CE4AAB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7884-725E-42DB-B25A-49575537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7DE6-2AA2-4A7E-A739-9A09A4EF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D32F-64AF-4EF6-9828-B14A65B2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9F97-7BE7-472C-83A9-D4411D8B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6586-40FD-4DC6-BC2C-5BFC53B8A6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372360" y="4761000"/>
            <a:ext cx="277164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300720" y="4726080"/>
            <a:ext cx="28432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56360" y="4632480"/>
            <a:ext cx="298764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948360" y="5160960"/>
            <a:ext cx="219564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84560" y="4365720"/>
            <a:ext cx="18190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372360" y="4778280"/>
            <a:ext cx="277164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300720" y="4726080"/>
            <a:ext cx="28432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2" descr=""/>
          <p:cNvPicPr/>
          <p:nvPr/>
        </p:nvPicPr>
        <p:blipFill>
          <a:blip r:embed="rId1"/>
          <a:stretch/>
        </p:blipFill>
        <p:spPr>
          <a:xfrm>
            <a:off x="6659640" y="4994280"/>
            <a:ext cx="248436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-1843" t="0" r="0" b="18903"/>
          <a:stretch/>
        </p:blipFill>
        <p:spPr>
          <a:xfrm>
            <a:off x="6659640" y="5045040"/>
            <a:ext cx="248436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372360" y="4800600"/>
            <a:ext cx="2771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5597" b="0"/>
          <a:stretch/>
        </p:blipFill>
        <p:spPr>
          <a:xfrm>
            <a:off x="4654440" y="4149720"/>
            <a:ext cx="17463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&amp;Tcy;&amp;iecy;&amp;lcy;&amp;iecy;&amp;scy;&amp;kcy;&amp;ocy;&amp;pcy; Meade TerraStar 90 (90AZ-ADR)"/>
          <p:cNvPicPr/>
          <p:nvPr/>
        </p:nvPicPr>
        <p:blipFill>
          <a:blip r:embed="rId1"/>
          <a:stretch/>
        </p:blipFill>
        <p:spPr>
          <a:xfrm>
            <a:off x="5219640" y="4437000"/>
            <a:ext cx="20401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4:33:17Z</dcterms:created>
  <dc:creator>Admin</dc:creator>
  <dc:description/>
  <dc:language>en-US</dc:language>
  <cp:lastModifiedBy>Admin</cp:lastModifiedBy>
  <dcterms:modified xsi:type="dcterms:W3CDTF">2014-01-26T07:03:37Z</dcterms:modified>
  <cp:revision>8</cp:revision>
  <dc:subject/>
  <dc:title>Слайд 1</dc:title>
</cp:coreProperties>
</file>