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670-690C-46FD-98F8-C3AB84B9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88C-ABB9-4269-AACB-D784DA2B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3DD-9FCD-4F59-8213-DF234FD1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19B-24E4-459D-A5AE-4E9BD43D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42A-E94F-4D94-AA32-8FD276B4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7B1-9ACC-4EA6-9366-C82925BD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514-86D6-4A98-9DD4-223861B4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E7D2-8E95-490A-82A2-7A33CBE8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776-649F-4505-A948-91C43EDA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F38-341D-48BE-8671-83DA7DA9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961-42C2-4E97-BF0F-CCE97A05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B05-6DB3-4627-A1DA-ABD9D223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B2CC-C219-4F31-9A61-D39361EBBB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72360" y="4761000"/>
            <a:ext cx="277164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300720" y="472608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56360" y="4632480"/>
            <a:ext cx="298764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948360" y="5160960"/>
            <a:ext cx="219564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84560" y="4365720"/>
            <a:ext cx="1819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72360" y="4778280"/>
            <a:ext cx="277164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00720" y="472608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2" descr=""/>
          <p:cNvPicPr/>
          <p:nvPr/>
        </p:nvPicPr>
        <p:blipFill>
          <a:blip r:embed="rId1"/>
          <a:stretch/>
        </p:blipFill>
        <p:spPr>
          <a:xfrm>
            <a:off x="6659640" y="4994280"/>
            <a:ext cx="24843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-1843" t="0" r="0" b="18903"/>
          <a:stretch/>
        </p:blipFill>
        <p:spPr>
          <a:xfrm>
            <a:off x="6659640" y="5045040"/>
            <a:ext cx="24843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72360" y="4800600"/>
            <a:ext cx="277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5597" b="0"/>
          <a:stretch/>
        </p:blipFill>
        <p:spPr>
          <a:xfrm>
            <a:off x="4654440" y="4149720"/>
            <a:ext cx="1746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&amp;Tcy;&amp;iecy;&amp;lcy;&amp;iecy;&amp;scy;&amp;kcy;&amp;ocy;&amp;pcy; Meade TerraStar 90 (90AZ-ADR)"/>
          <p:cNvPicPr/>
          <p:nvPr/>
        </p:nvPicPr>
        <p:blipFill>
          <a:blip r:embed="rId1"/>
          <a:stretch/>
        </p:blipFill>
        <p:spPr>
          <a:xfrm>
            <a:off x="5219640" y="4437000"/>
            <a:ext cx="2040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4:33:17Z</dcterms:created>
  <dc:creator>Admin</dc:creator>
  <dc:description/>
  <dc:language>en-US</dc:language>
  <cp:lastModifiedBy>Admin</cp:lastModifiedBy>
  <dcterms:modified xsi:type="dcterms:W3CDTF">2014-01-26T07:03:37Z</dcterms:modified>
  <cp:revision>8</cp:revision>
  <dc:subject/>
  <dc:title>Слайд 1</dc:title>
</cp:coreProperties>
</file>