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B4D63-F097-49C9-A589-C08BCEB9D3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A7DAF-0D7B-45FE-A674-307E9A746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A03C2-F807-4841-B54A-5116FDA16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D20-2022-4335-BCD7-58FD5D8B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734-B7F5-4706-8B83-0B0D5786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E3-648F-4D66-9D7A-BE59B147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23C-7577-491C-9298-2C8B0B4C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332F-14BC-4501-B266-2C0D9B33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D29-1E06-4414-A7C5-6335B61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5AFC-6FFB-41C3-8719-33564482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5B4-D569-4751-B71A-E3DB464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B18B-B9B4-4919-BB6F-F3780420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393B-9046-4B8A-9043-1F5E591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2726-9B6F-4144-87E2-113DD16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2FD-0257-46DF-BC92-A81CF727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158-58BF-4B9E-82E3-D44D62A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DEA-E046-495E-BC95-63DD5A1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2DC-3B54-4C28-B477-032F660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9C16-C165-4D14-9154-F8260AC5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6F80-0073-463E-A333-C265005A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DB4-6537-4ABD-A438-CA91AFD9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4E7-D4DE-434B-A5AB-81A7AD4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ADA-E988-411F-AA12-AF6556AF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CA4-6E6E-4FE6-8ED6-504630D6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7C4-F313-4A38-A6AD-6983820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CA8-D108-45C3-8F24-D29989E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092-DA26-4466-932D-B5B38F8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dbd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bdf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9883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9883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1498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90C8C-C4EA-447A-AF48-83E3C783221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4320" cy="1047960"/>
            <a:chOff x="0" y="2438280"/>
            <a:chExt cx="9004320" cy="10479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6320" cy="469800"/>
              <a:chOff x="290520" y="2546280"/>
              <a:chExt cx="706320" cy="46980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3440" cy="469800"/>
              </a:xfrm>
              <a:prstGeom prst="rect">
                <a:avLst/>
              </a:prstGeom>
              <a:solidFill>
                <a:srgbClr val="988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3640" cy="469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9883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2960" cy="469800"/>
              <a:chOff x="414360" y="2968560"/>
              <a:chExt cx="732960" cy="46980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69800"/>
              </a:xfrm>
              <a:prstGeom prst="rect">
                <a:avLst/>
              </a:prstGeom>
              <a:solidFill>
                <a:srgbClr val="dbd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3960" cy="469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dbdf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5480" cy="417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1498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7000" cy="1047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8240" cy="507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B32DDE-2180-4BE6-9B1F-FD4C9A026F46}" type="slidenum"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-669960"/>
            <a:ext cx="7629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640" y="549360"/>
            <a:ext cx="72723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и математ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ой Отечественн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448000" cy="36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743280" y="3887640"/>
            <a:ext cx="47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008000"/>
                </a:solidFill>
                <a:latin typeface="Tahoma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оект учащихся 8 Б класса МОУ «СОШ № 21» г. Балако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уководитель Горбачева Т. 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5600" y="5832360"/>
            <a:ext cx="3938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алаково - 2009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19640" y="765000"/>
            <a:ext cx="374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За годы войны страна потеряла огромное число талантливой молодежи, которая могла бы стать гордостью отечественной науки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5480" y="4981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4581360"/>
            <a:ext cx="527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е  вернулись</a:t>
            </a:r>
            <a:r>
              <a:rPr b="0" lang="en-US" sz="16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Бавли Г.М., Засухин В.Н., Бебутов М.В., Карпов С.Я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Глезерман М.Е., Веденисов Н.Б., Лепехин И.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Мильштейн Х.М., Кудашев С.С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И это только в Московском университ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ahoma"/>
              </a:rPr>
              <a:t>Математические задачи - фронту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Проверка боеприпас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Теория стрельб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Штурманские табли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Таблицы непотопляем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Флаттер и шим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Проверка боеприпасов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95560" y="201780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c6408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732480" cy="3600360"/>
          </a:xfrm>
          <a:prstGeom prst="rect">
            <a:avLst/>
          </a:prstGeom>
          <a:ln w="22320">
            <a:solidFill>
              <a:srgbClr val="3399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11640" y="1792440"/>
            <a:ext cx="4465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Только во время операций на Курской дуге было израсходовано несколько миллионов патронов для пулеметов и многие миллионы артиллерийских снарядов. Их нужно было не только изготовить, но и проверить качество. Проверка же порой занимает больше времени, чем изготовление. Методы проверки качества боеприпасов были предложены математиком М.В. Остроградским, и широко применялись в период Великой Отечественной войны. Активное участие в этой работе принял академик А.Н. Колмогоров и его уче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Теория стрельбы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10920" y="2017440"/>
            <a:ext cx="654372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Математики составили таблицы бомбометания , позволяющие находить лучшее время для сброса бомб, область, которую накроет бомбовый удар и количество одновременных выстрелов по самолёту для того, чтобы сбить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 результате решения сложной математической задачи Николай Гурьевич Четаев определил наилучшую крутизну нарезки стволов орудия, что обеспечивало кучность бо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Академик Андрей Николаевич Колмогоров разработал теорию рассеивания артиллерийских снарядов, это помогло повысить меткость стрельб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440" y="1844640"/>
            <a:ext cx="23115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987280" y="1699920"/>
            <a:ext cx="5699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870b"/>
                </a:solidFill>
                <a:latin typeface="Tahoma"/>
              </a:rPr>
              <a:t>В 1942 году коллектив математиков, руководимым С.Н. Бернштейном, разработал таблицы для определения местоположения судна по радиопеленгам. Таблицы ускоряли штурманские расчеты в десять ра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5680" y="2205000"/>
            <a:ext cx="2584440" cy="331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1640" y="692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Штурманские таб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Таблицы непотопляемости</a:t>
            </a: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4032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ыдающийся математик – академик Алексей Николаевич Крылов создал таблицу непотопляемости, по которой можно было рассчитать, как повлияет на корабль затопление отсеков, какие отсеки нужно затопить, чтобы ликвидировать крен корабля и улучшить его устойчивость. Эти таблицы помогли спасти жизни многих люд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68840" y="2276640"/>
            <a:ext cx="2867040" cy="3528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Флаттер и шимми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03640" y="2017800"/>
            <a:ext cx="57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Авиаторы столкнулись с грозным явлением, которое возникало в самолётах при больших скоростях. В моторах возникали вибрации, ведущие к разрушению самолёта. Это явление назвали флаттером. Опасности подстерегали самолёты и на земле. При взлёте и посадке колёса вдруг начинали вилять из стороны в сторону. Это явление, названное шимми, часто вызывало катастрофы на аэродромах. Выдающийся математик Мстислав Всеволодович Келдыш и его сотрудники создали математическую теорию, которая позволила защитить от флаттера и шимми скоростные самолё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31444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0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клад математиков и математики в победу в Великой Отечественной войне огром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дготовка боевых операций нуждалась в  большом количестве расчётов, которые требовали хорошего знания математ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Учёные приближали Победу своим умом, талантом, самоотверженным тру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Развитие математики тесно связано с историей нашей стра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Математика тесно связана со всеми отраслями нау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1840" y="2443320"/>
            <a:ext cx="7488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419040"/>
            <a:ext cx="80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Максимальная скорость немецкого самолёта «Мессершмидт – 10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была 600 км в час, а русского самолёта «Як – 3» на 120 км в ч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больше. Чему была равна максимальная скорость самолёта «Як – 3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Максимальная скорость нашего танка Т – 34, лучшего в мире,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55 км в час, а фашистского – 40 км в час. На сколько километров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час скорость нашего танка была больше немец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В октябре 1941 года враг совершил на Москву 31 налёт. В этих налё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участвовало 2000 немецких самолётов, из них было сбито 278 самолётов, к городу прорвались только 72 самолёта. Сколько вражеских самолётов не смогли прорваться к Моск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3860640"/>
            <a:ext cx="2525760" cy="273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745080" cy="217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50920" y="1484280"/>
          <a:ext cx="7804080" cy="4824360"/>
        </p:xfrm>
        <a:graphic>
          <a:graphicData uri="http://schemas.openxmlformats.org/drawingml/2006/table">
            <a:tbl>
              <a:tblPr/>
              <a:tblGrid>
                <a:gridCol w="1951200"/>
                <a:gridCol w="1950840"/>
                <a:gridCol w="1951200"/>
                <a:gridCol w="195084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6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6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6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9760" indent="-23508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39760"/>
                          <a:tab algn="l" pos="687240"/>
                          <a:tab algn="l" pos="1136520"/>
                          <a:tab algn="l" pos="1585800"/>
                          <a:tab algn="l" pos="2035080"/>
                          <a:tab algn="l" pos="2484360"/>
                          <a:tab algn="l" pos="2933640"/>
                          <a:tab algn="l" pos="3382920"/>
                          <a:tab algn="l" pos="3832200"/>
                          <a:tab algn="l" pos="4281480"/>
                          <a:tab algn="l" pos="4730760"/>
                          <a:tab algn="l" pos="5180040"/>
                          <a:tab algn="l" pos="5629320"/>
                          <a:tab algn="l" pos="6078600"/>
                          <a:tab algn="l" pos="6527880"/>
                          <a:tab algn="l" pos="6977160"/>
                          <a:tab algn="l" pos="7426440"/>
                          <a:tab algn="l" pos="7875720"/>
                          <a:tab algn="l" pos="8325000"/>
                          <a:tab algn="l" pos="8774280"/>
                          <a:tab algn="l" pos="92232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97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7480" indent="-8280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47920" indent="-234324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347920"/>
                          <a:tab algn="l" pos="2795760"/>
                          <a:tab algn="l" pos="3244680"/>
                          <a:tab algn="l" pos="3693960"/>
                          <a:tab algn="l" pos="4143240"/>
                          <a:tab algn="l" pos="4592520"/>
                          <a:tab algn="l" pos="5041800"/>
                          <a:tab algn="l" pos="5491080"/>
                          <a:tab algn="l" pos="5940360"/>
                          <a:tab algn="l" pos="6389640"/>
                          <a:tab algn="l" pos="6838920"/>
                          <a:tab algn="l" pos="7288200"/>
                          <a:tab algn="l" pos="7737480"/>
                          <a:tab algn="l" pos="8186760"/>
                          <a:tab algn="l" pos="8636040"/>
                          <a:tab algn="l" pos="9085320"/>
                          <a:tab algn="l" pos="9534600"/>
                          <a:tab algn="l" pos="9983880"/>
                          <a:tab algn="l" pos="10433160"/>
                          <a:tab algn="l" pos="10882440"/>
                          <a:tab algn="l" pos="1133172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5440" indent="-59076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595440"/>
                          <a:tab algn="l" pos="1042920"/>
                          <a:tab algn="l" pos="1492200"/>
                          <a:tab algn="l" pos="1941480"/>
                          <a:tab algn="l" pos="2390760"/>
                          <a:tab algn="l" pos="2840040"/>
                          <a:tab algn="l" pos="3289320"/>
                          <a:tab algn="l" pos="3738600"/>
                          <a:tab algn="l" pos="4187880"/>
                          <a:tab algn="l" pos="4637160"/>
                          <a:tab algn="l" pos="5086440"/>
                          <a:tab algn="l" pos="5535720"/>
                          <a:tab algn="l" pos="5985000"/>
                          <a:tab algn="l" pos="6434280"/>
                          <a:tab algn="l" pos="6883560"/>
                          <a:tab algn="l" pos="7332840"/>
                          <a:tab algn="l" pos="7781760"/>
                          <a:tab algn="l" pos="8231040"/>
                          <a:tab algn="l" pos="8680320"/>
                          <a:tab algn="l" pos="9129600"/>
                          <a:tab algn="l" pos="95788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4200" indent="-20952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14200"/>
                          <a:tab algn="l" pos="662040"/>
                          <a:tab algn="l" pos="1111320"/>
                          <a:tab algn="l" pos="1560600"/>
                          <a:tab algn="l" pos="2009880"/>
                          <a:tab algn="l" pos="2459160"/>
                          <a:tab algn="l" pos="2908440"/>
                          <a:tab algn="l" pos="3357720"/>
                          <a:tab algn="l" pos="3807000"/>
                          <a:tab algn="l" pos="4255920"/>
                          <a:tab algn="l" pos="4705200"/>
                          <a:tab algn="l" pos="5154480"/>
                          <a:tab algn="l" pos="5603760"/>
                          <a:tab algn="l" pos="6053040"/>
                          <a:tab algn="l" pos="6502320"/>
                          <a:tab algn="l" pos="6951600"/>
                          <a:tab algn="l" pos="7400880"/>
                          <a:tab algn="l" pos="7850160"/>
                          <a:tab algn="l" pos="8299440"/>
                          <a:tab algn="l" pos="8748720"/>
                          <a:tab algn="l" pos="9198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8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16280" indent="-191160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916280"/>
                          <a:tab algn="l" pos="2363760"/>
                          <a:tab algn="l" pos="2813040"/>
                          <a:tab algn="l" pos="3262320"/>
                          <a:tab algn="l" pos="3711600"/>
                          <a:tab algn="l" pos="4160880"/>
                          <a:tab algn="l" pos="4610160"/>
                          <a:tab algn="l" pos="5059440"/>
                          <a:tab algn="l" pos="5508720"/>
                          <a:tab algn="l" pos="5958000"/>
                          <a:tab algn="l" pos="6407280"/>
                          <a:tab algn="l" pos="6856560"/>
                          <a:tab algn="l" pos="7305840"/>
                          <a:tab algn="l" pos="7754760"/>
                          <a:tab algn="l" pos="8204040"/>
                          <a:tab algn="l" pos="8653320"/>
                          <a:tab algn="l" pos="9102600"/>
                          <a:tab algn="l" pos="9551880"/>
                          <a:tab algn="l" pos="10001160"/>
                          <a:tab algn="l" pos="10450440"/>
                          <a:tab algn="l" pos="1089972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23480" y="2030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Сложите числа, расположенные по диагонали, и вы узнаете, ск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дней и ночей продолжалась Великая Отечестве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263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c6408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c6408"/>
                </a:solidFill>
                <a:latin typeface="Tahoma"/>
              </a:rPr>
              <a:t>Война для советских людей длилась 1418 дней и ночей. Каждый день мы теряли 14 104 соотечественника, в каждый час погибали 588 человек, каждую минуту -10, каждые шесть секунд уносили одну человеческую жизнь. 20 миллионов – такими были наши потери в страшной, самой разрушительной за всю историю человечества войне. И потому наш народ всегда будет ненавидеть поджигателей войны, будет и впредь настойчиво отстаивать дело мира на зем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0920" y="2492280"/>
            <a:ext cx="3092400" cy="2730600"/>
            <a:chOff x="250920" y="2492280"/>
            <a:chExt cx="3092400" cy="27306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250920" y="2492280"/>
              <a:ext cx="309240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50920" y="2492280"/>
              <a:ext cx="3092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492360" y="333360"/>
            <a:ext cx="540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опреде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кл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математики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математ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 побе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 Велик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Отечеств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ой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2602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916280"/>
            <a:ext cx="889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4800" indent="-604800">
              <a:lnSpc>
                <a:spcPct val="90000"/>
              </a:lnSpc>
              <a:spcBef>
                <a:spcPts val="901"/>
              </a:spcBef>
              <a:buClr>
                <a:srgbClr val="988346"/>
              </a:buClr>
              <a:buSzPct val="60000"/>
              <a:buFont typeface="Tahoma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Выяснить, кто из ученых – математиков принимал участие в боевых дейст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901"/>
              </a:spcBef>
              <a:buClr>
                <a:srgbClr val="988346"/>
              </a:buClr>
              <a:buSzPct val="60000"/>
              <a:buFont typeface="Tahoma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Выяснить, какие задачи приходилось решать математикам в годы Великой Отечественной вой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58920" y="549360"/>
            <a:ext cx="66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ahoma"/>
              </a:rPr>
              <a:t>Учёные – математ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ahoma"/>
              </a:rPr>
              <a:t>на вой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3303720"/>
            <a:ext cx="525636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497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870b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3892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еликая Отечественн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23 июня 194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Состоялось внеочередное расширенное заседание Президиума Академии наук. Учёные заявили, что отдадут « все свои знания, силы, энергию и свою жизнь за победу над враго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Отложив свои привычные дела, многие математики возводили оборонительные сооружения, с оружием в руках сражались на фронтах в частях действующей армии, соединениях народного ополчения, партизанских отря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77760"/>
            <a:ext cx="6408720" cy="1406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79280" y="2421000"/>
            <a:ext cx="4100760" cy="3666960"/>
            <a:chOff x="179280" y="2421000"/>
            <a:chExt cx="4100760" cy="36669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79280" y="2421000"/>
              <a:ext cx="410076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79280" y="2421000"/>
              <a:ext cx="4100760" cy="36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84360" y="259920"/>
            <a:ext cx="4686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Добровольцем ушел на фронт и участвовал в боях выдающийся математик и педагог А.А.Ляпунов. Он храбро воевал и  внёс много ценного в правила стрельб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месте с другими слушателями Академии имени Жуковского не раз принимал участие в боевых операциях нашей авиации выдающийся  геометр, академик А.А.Погорел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 частях тяжёлой артиллерии на Пулковских высотах отстаивал город Ленинград выдающийся математик, академик Ю.В.Лин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0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03:37Z</dcterms:created>
  <dc:creator>СОШ п.Опытный</dc:creator>
  <dc:description/>
  <dc:language>en-US</dc:language>
  <cp:lastModifiedBy>Admin</cp:lastModifiedBy>
  <dcterms:modified xsi:type="dcterms:W3CDTF">2010-05-16T23:11:48Z</dcterms:modified>
  <cp:revision>25</cp:revision>
  <dc:subject/>
  <dc:title>Математика и Великая отечественная война</dc:title>
</cp:coreProperties>
</file>