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1870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725BE-329B-48BE-9306-4DD21B521FE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98161-A4AD-4209-A24F-94F310F20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A3CBD-F3B1-4250-B527-4ACE610A8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B88-FC7D-40AB-BFB2-C784D55A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099-FAD1-46CE-B1EA-69B315B0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266-9608-4D70-8CE5-70A79AF8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338-0FE9-4B9F-AD5A-F3523644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976A-47C0-47E6-8A29-732CCE35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6B9B-EF48-4EA3-BF84-859429D7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A278-1643-42D4-91DC-781BE69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C56A-2EDE-48B8-83A5-2AD56FA5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5CB-21E9-4614-9E07-B59BF5F8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84AA-BA89-42FF-B82A-0C5E4C83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646B-BD81-4299-851B-2B5E229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7FB-9A85-4915-B508-E1EEEAC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2E00-3043-42F0-8F98-1D96567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C990-2DD5-4B52-B55B-C947B6D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0CD5-7202-4185-BE03-9D729848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E340-6DD5-4187-A71D-E010FE45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074B-085F-42B9-911F-EA94D935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DA1-B840-4767-82DF-99E0BDA2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C99-A18A-4FC0-9C5B-D76A3853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7FA-2D08-4F1A-8E34-9354BA2B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831-C6A9-4E77-9740-426AF985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956-EF0D-4DD1-9CC0-1E78910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AEF-291B-44E0-A290-D79ECB6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1EB-AF07-4ECE-8C07-85F5820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dbdf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dbdf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9883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9883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1498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1870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600" y="6243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719C1-A00B-41B1-AD3C-1474623ABA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4320" cy="1047960"/>
            <a:chOff x="0" y="2438280"/>
            <a:chExt cx="9004320" cy="10479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6320" cy="469800"/>
              <a:chOff x="290520" y="2546280"/>
              <a:chExt cx="706320" cy="46980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3440" cy="469800"/>
              </a:xfrm>
              <a:prstGeom prst="rect">
                <a:avLst/>
              </a:prstGeom>
              <a:solidFill>
                <a:srgbClr val="988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3640" cy="469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9883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2960" cy="469800"/>
              <a:chOff x="414360" y="2968560"/>
              <a:chExt cx="732960" cy="46980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69800"/>
              </a:xfrm>
              <a:prstGeom prst="rect">
                <a:avLst/>
              </a:prstGeom>
              <a:solidFill>
                <a:srgbClr val="dbd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3960" cy="469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dbdf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5480" cy="417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14982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27000" cy="1047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800"/>
              <a:ext cx="8688240" cy="507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1870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477C78-C7D9-4743-8F94-EFD3603726CA}" type="slidenum">
              <a:rPr b="0" lang="ru-RU" sz="1400" spc="-1" strike="noStrike">
                <a:solidFill>
                  <a:srgbClr val="969696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-669960"/>
            <a:ext cx="76298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1640" y="549360"/>
            <a:ext cx="7272360" cy="25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 и математ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ой Отечественно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й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2448000" cy="36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743280" y="3887640"/>
            <a:ext cx="47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200" spc="-1" strike="noStrike">
                <a:solidFill>
                  <a:srgbClr val="008000"/>
                </a:solidFill>
                <a:latin typeface="Tahoma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оект учащихся 8 Б класса МОУ «СОШ № 21» г. Балако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Руководитель Горбачева Т. 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65600" y="5832360"/>
            <a:ext cx="3938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Балаково - 2009 г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969080" cy="395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19640" y="765000"/>
            <a:ext cx="374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За годы войны страна потеряла огромное число талантливой молодежи, которая могла бы стать гордостью отечественной науки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95480" y="4981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4581360"/>
            <a:ext cx="527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Не  вернулись</a:t>
            </a:r>
            <a:r>
              <a:rPr b="0" lang="en-US" sz="16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Бавли Г.М., Засухин В.Н., Бебутов М.В., Карпов С.Я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Глезерман М.Е., Веденисов Н.Б., Лепехин И.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Мильштейн Х.М., Кудашев С.С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И это только в Московском университ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ahoma"/>
              </a:rPr>
              <a:t>Математические задачи - фронту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Проверка боеприпас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Теория стрельб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Штурманские табли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Таблицы непотопляем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Tahoma"/>
              </a:rPr>
              <a:t>Флаттер и шим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9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Проверка боеприпасов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95560" y="201780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c6408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732480" cy="3600360"/>
          </a:xfrm>
          <a:prstGeom prst="rect">
            <a:avLst/>
          </a:prstGeom>
          <a:ln w="22320">
            <a:solidFill>
              <a:srgbClr val="3399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211640" y="1792440"/>
            <a:ext cx="4465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Только во время операций на Курской дуге было израсходовано несколько миллионов патронов для пулеметов и многие миллионы артиллерийских снарядов. Их нужно было не только изготовить, но и проверить качество. Проверка же порой занимает больше времени, чем изготовление. Методы проверки качества боеприпасов были предложены математиком М.В. Остроградским, и широко применялись в период Великой Отечественной войны. Активное участие в этой работе принял академик А.Н. Колмогоров и его уче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0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Теория стрельбы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10920" y="2017440"/>
            <a:ext cx="654372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Математики составили таблицы бомбометания , позволяющие находить лучшее время для сброса бомб, область, которую накроет бомбовый удар и количество одновременных выстрелов по самолёту для того, чтобы сбить ег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В результате решения сложной математической задачи Николай Гурьевич Четаев определил наилучшую крутизну нарезки стволов орудия, что обеспечивало кучность бо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Академик Андрей Николаевич Колмогоров разработал теорию рассеивания артиллерийских снарядов, это помогло повысить меткость стрельб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440" y="1844640"/>
            <a:ext cx="23115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0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987280" y="1699920"/>
            <a:ext cx="5699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870b"/>
                </a:solidFill>
                <a:latin typeface="Tahoma"/>
              </a:rPr>
              <a:t>В 1942 году коллектив математиков, руководимым С.Н. Бернштейном, разработал таблицы для определения местоположения судна по радиопеленгам. Таблицы ускоряли штурманские расчеты в десять ра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5680" y="2205000"/>
            <a:ext cx="2584440" cy="331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71640" y="692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Штурманские табл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0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54900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Таблицы непотопляемости</a:t>
            </a: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4032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Выдающийся математик – академик Алексей Николаевич Крылов создал таблицу непотопляемости, по которой можно было рассчитать, как повлияет на корабль затопление отсеков, какие отсеки нужно затопить, чтобы ликвидировать крен корабля и улучшить его устойчивость. Эти таблицы помогли спасти жизни многих люд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568840" y="2276640"/>
            <a:ext cx="2867040" cy="3528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ahoma"/>
              </a:rPr>
              <a:t>Флаттер и шимми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03640" y="2017800"/>
            <a:ext cx="57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Авиаторы столкнулись с грозным явлением, которое возникало в самолётах при больших скоростях. В моторах возникали вибрации, ведущие к разрушению самолёта. Это явление назвали флаттером. Опасности подстерегали самолёты и на земле. При взлёте и посадке колёса вдруг начинали вилять из стороны в сторону. Это явление, названное шимми, часто вызывало катастрофы на аэродромах. Выдающийся математик Мстислав Всеволодович Келдыш и его сотрудники создали математическую теорию, которая позволила защитить от флаттера и шимми скоростные самолё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31444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0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Вклад математиков и математики в победу в Великой Отечественной войне огроме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Подготовка боевых операций нуждалась в  большом количестве расчётов, которые требовали хорошего знания математ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Учёные приближали Победу своим умом, талантом, самоотверженным тру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Развитие математики тесно связано с историей нашей стра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Математика тесно связана со всеми отраслями нау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1840" y="2443320"/>
            <a:ext cx="7488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419040"/>
            <a:ext cx="80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Максимальная скорость немецкого самолёта «Мессершмидт – 10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была 600 км в час, а русского самолёта «Як – 3» на 120 км в ч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больше. Чему была равна максимальная скорость самолёта «Як – 3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Максимальная скорость нашего танка Т – 34, лучшего в мире,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55 км в час, а фашистского – 40 км в час. На сколько километров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час скорость нашего танка была больше немецк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В октябре 1941 года враг совершил на Москву 31 налёт. В этих налё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07a24"/>
                </a:solidFill>
                <a:latin typeface="Tahoma"/>
              </a:rPr>
              <a:t>участвовало 2000 немецких самолётов, из них было сбито 278 самолётов, к городу прорвались только 72 самолёта. Сколько вражеских самолётов не смогли прорваться к Моск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3860640"/>
            <a:ext cx="2525760" cy="273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3745080" cy="217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50920" y="1484280"/>
          <a:ext cx="7804080" cy="4824360"/>
        </p:xfrm>
        <a:graphic>
          <a:graphicData uri="http://schemas.openxmlformats.org/drawingml/2006/table">
            <a:tbl>
              <a:tblPr/>
              <a:tblGrid>
                <a:gridCol w="1951200"/>
                <a:gridCol w="1950840"/>
                <a:gridCol w="1951200"/>
                <a:gridCol w="195084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4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6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56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6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9760" indent="-23508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39760"/>
                          <a:tab algn="l" pos="687240"/>
                          <a:tab algn="l" pos="1136520"/>
                          <a:tab algn="l" pos="1585800"/>
                          <a:tab algn="l" pos="2035080"/>
                          <a:tab algn="l" pos="2484360"/>
                          <a:tab algn="l" pos="2933640"/>
                          <a:tab algn="l" pos="3382920"/>
                          <a:tab algn="l" pos="3832200"/>
                          <a:tab algn="l" pos="4281480"/>
                          <a:tab algn="l" pos="4730760"/>
                          <a:tab algn="l" pos="5180040"/>
                          <a:tab algn="l" pos="5629320"/>
                          <a:tab algn="l" pos="6078600"/>
                          <a:tab algn="l" pos="6527880"/>
                          <a:tab algn="l" pos="6977160"/>
                          <a:tab algn="l" pos="7426440"/>
                          <a:tab algn="l" pos="7875720"/>
                          <a:tab algn="l" pos="8325000"/>
                          <a:tab algn="l" pos="8774280"/>
                          <a:tab algn="l" pos="92232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97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7480" indent="-8280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7480"/>
                          <a:tab algn="l" pos="534960"/>
                          <a:tab algn="l" pos="984240"/>
                          <a:tab algn="l" pos="1433520"/>
                          <a:tab algn="l" pos="1882800"/>
                          <a:tab algn="l" pos="2332080"/>
                          <a:tab algn="l" pos="2781360"/>
                          <a:tab algn="l" pos="3230640"/>
                          <a:tab algn="l" pos="3679920"/>
                          <a:tab algn="l" pos="4129200"/>
                          <a:tab algn="l" pos="4578480"/>
                          <a:tab algn="l" pos="5027760"/>
                          <a:tab algn="l" pos="5477040"/>
                          <a:tab algn="l" pos="5925960"/>
                          <a:tab algn="l" pos="6375240"/>
                          <a:tab algn="l" pos="6824520"/>
                          <a:tab algn="l" pos="7273800"/>
                          <a:tab algn="l" pos="7723080"/>
                          <a:tab algn="l" pos="8172360"/>
                          <a:tab algn="l" pos="8621640"/>
                          <a:tab algn="l" pos="90709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9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47920" indent="-234324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347920"/>
                          <a:tab algn="l" pos="2795760"/>
                          <a:tab algn="l" pos="3244680"/>
                          <a:tab algn="l" pos="3693960"/>
                          <a:tab algn="l" pos="4143240"/>
                          <a:tab algn="l" pos="4592520"/>
                          <a:tab algn="l" pos="5041800"/>
                          <a:tab algn="l" pos="5491080"/>
                          <a:tab algn="l" pos="5940360"/>
                          <a:tab algn="l" pos="6389640"/>
                          <a:tab algn="l" pos="6838920"/>
                          <a:tab algn="l" pos="7288200"/>
                          <a:tab algn="l" pos="7737480"/>
                          <a:tab algn="l" pos="8186760"/>
                          <a:tab algn="l" pos="8636040"/>
                          <a:tab algn="l" pos="9085320"/>
                          <a:tab algn="l" pos="9534600"/>
                          <a:tab algn="l" pos="9983880"/>
                          <a:tab algn="l" pos="10433160"/>
                          <a:tab algn="l" pos="10882440"/>
                          <a:tab algn="l" pos="1133172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5440" indent="-59076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595440"/>
                          <a:tab algn="l" pos="1042920"/>
                          <a:tab algn="l" pos="1492200"/>
                          <a:tab algn="l" pos="1941480"/>
                          <a:tab algn="l" pos="2390760"/>
                          <a:tab algn="l" pos="2840040"/>
                          <a:tab algn="l" pos="3289320"/>
                          <a:tab algn="l" pos="3738600"/>
                          <a:tab algn="l" pos="4187880"/>
                          <a:tab algn="l" pos="4637160"/>
                          <a:tab algn="l" pos="5086440"/>
                          <a:tab algn="l" pos="5535720"/>
                          <a:tab algn="l" pos="5985000"/>
                          <a:tab algn="l" pos="6434280"/>
                          <a:tab algn="l" pos="6883560"/>
                          <a:tab algn="l" pos="7332840"/>
                          <a:tab algn="l" pos="7781760"/>
                          <a:tab algn="l" pos="8231040"/>
                          <a:tab algn="l" pos="8680320"/>
                          <a:tab algn="l" pos="9129600"/>
                          <a:tab algn="l" pos="957888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14200" indent="-20952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14200"/>
                          <a:tab algn="l" pos="662040"/>
                          <a:tab algn="l" pos="1111320"/>
                          <a:tab algn="l" pos="1560600"/>
                          <a:tab algn="l" pos="2009880"/>
                          <a:tab algn="l" pos="2459160"/>
                          <a:tab algn="l" pos="2908440"/>
                          <a:tab algn="l" pos="3357720"/>
                          <a:tab algn="l" pos="3807000"/>
                          <a:tab algn="l" pos="4255920"/>
                          <a:tab algn="l" pos="4705200"/>
                          <a:tab algn="l" pos="5154480"/>
                          <a:tab algn="l" pos="5603760"/>
                          <a:tab algn="l" pos="6053040"/>
                          <a:tab algn="l" pos="6502320"/>
                          <a:tab algn="l" pos="6951600"/>
                          <a:tab algn="l" pos="7400880"/>
                          <a:tab algn="l" pos="7850160"/>
                          <a:tab algn="l" pos="8299440"/>
                          <a:tab algn="l" pos="8748720"/>
                          <a:tab algn="l" pos="91980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28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16280" indent="-1911600" algn="ctr">
                        <a:lnSpc>
                          <a:spcPct val="101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1916280"/>
                          <a:tab algn="l" pos="2363760"/>
                          <a:tab algn="l" pos="2813040"/>
                          <a:tab algn="l" pos="3262320"/>
                          <a:tab algn="l" pos="3711600"/>
                          <a:tab algn="l" pos="4160880"/>
                          <a:tab algn="l" pos="4610160"/>
                          <a:tab algn="l" pos="5059440"/>
                          <a:tab algn="l" pos="5508720"/>
                          <a:tab algn="l" pos="5958000"/>
                          <a:tab algn="l" pos="6407280"/>
                          <a:tab algn="l" pos="6856560"/>
                          <a:tab algn="l" pos="7305840"/>
                          <a:tab algn="l" pos="7754760"/>
                          <a:tab algn="l" pos="8204040"/>
                          <a:tab algn="l" pos="8653320"/>
                          <a:tab algn="l" pos="9102600"/>
                          <a:tab algn="l" pos="9551880"/>
                          <a:tab algn="l" pos="10001160"/>
                          <a:tab algn="l" pos="10450440"/>
                          <a:tab algn="l" pos="10899720"/>
                        </a:tabLst>
                      </a:pPr>
                      <a:r>
                        <a:rPr b="0" lang="ru-RU" sz="4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7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23480" y="2030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Сложите числа, расположенные по диагонали, и вы узнаете, ск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дней и ночей продолжалась Великая Отечественная во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2632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c6408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c6408"/>
                </a:solidFill>
                <a:latin typeface="Tahoma"/>
              </a:rPr>
              <a:t>Война для советских людей длилась 1418 дней и ночей. Каждый день мы теряли 14 104 соотечественника, в каждый час погибали 588 человек, каждую минуту -10, каждые шесть секунд уносили одну человеческую жизнь. 20 миллионов – такими были наши потери в страшной, самой разрушительной за всю историю человечества войне. И потому наш народ всегда будет ненавидеть поджигателей войны, будет и впредь настойчиво отстаивать дело мира на зем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0920" y="2492280"/>
            <a:ext cx="3092400" cy="2730600"/>
            <a:chOff x="250920" y="2492280"/>
            <a:chExt cx="3092400" cy="273060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250920" y="2492280"/>
              <a:ext cx="309240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50920" y="2492280"/>
              <a:ext cx="309240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492360" y="333360"/>
            <a:ext cx="5400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определ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кл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математики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математ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 побед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 Велик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Отечествен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8000"/>
                </a:solidFill>
                <a:latin typeface="Tahoma"/>
              </a:rPr>
              <a:t>вой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260280"/>
            <a:ext cx="84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916280"/>
            <a:ext cx="8893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4800" indent="-604800">
              <a:lnSpc>
                <a:spcPct val="90000"/>
              </a:lnSpc>
              <a:spcBef>
                <a:spcPts val="901"/>
              </a:spcBef>
              <a:buClr>
                <a:srgbClr val="988346"/>
              </a:buClr>
              <a:buSzPct val="60000"/>
              <a:buFont typeface="Tahoma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Выяснить, кто из ученых – математиков принимал участие в боевых дейст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4800" indent="-604800">
              <a:lnSpc>
                <a:spcPct val="90000"/>
              </a:lnSpc>
              <a:spcBef>
                <a:spcPts val="901"/>
              </a:spcBef>
              <a:buClr>
                <a:srgbClr val="988346"/>
              </a:buClr>
              <a:buSzPct val="60000"/>
              <a:buFont typeface="Tahoma"/>
              <a:buAutoNum type="arabicPeriod"/>
              <a:tabLst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Выяснить, какие задачи приходилось решать математикам в годы Великой Отечественной вой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58920" y="549360"/>
            <a:ext cx="66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Tahoma"/>
              </a:rPr>
              <a:t>Учёные – математ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Tahoma"/>
              </a:rPr>
              <a:t>на вой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63640" y="3303720"/>
            <a:ext cx="525636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0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11870b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11870b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4978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1870b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38924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Великая Отечественная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23 июня 194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Состоялось внеочередное расширенное заседание Президиума Академии наук. Учёные заявили, что отдадут « все свои знания, силы, энергию и свою жизнь за победу над врагом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Отложив свои привычные дела, многие математики возводили оборонительные сооружения, с оружием в руках сражались на фронтах в частях действующей армии, соединениях народного ополчения, партизанских отряд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0920" y="77760"/>
            <a:ext cx="6408720" cy="1406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0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79280" y="2421000"/>
            <a:ext cx="4100760" cy="3666960"/>
            <a:chOff x="179280" y="2421000"/>
            <a:chExt cx="4100760" cy="366696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79280" y="2421000"/>
              <a:ext cx="4100760" cy="36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79280" y="2421000"/>
              <a:ext cx="4100760" cy="36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84360" y="259920"/>
            <a:ext cx="4686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4280" indent="-314280">
              <a:lnSpc>
                <a:spcPct val="80000"/>
              </a:lnSpc>
              <a:spcBef>
                <a:spcPts val="6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Добровольцем ушел на фронт и участвовал в боях выдающийся математик и педагог А.А.Ляпунов. Он храбро воевал и  внёс много ценного в правила стрельб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-314280">
              <a:lnSpc>
                <a:spcPct val="80000"/>
              </a:lnSpc>
              <a:spcBef>
                <a:spcPts val="6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Вместе с другими слушателями Академии имени Жуковского не раз принимал участие в боевых операциях нашей авиации выдающийся  геометр, академик А.А.Погорел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4280" indent="-314280">
              <a:lnSpc>
                <a:spcPct val="80000"/>
              </a:lnSpc>
              <a:spcBef>
                <a:spcPts val="601"/>
              </a:spcBef>
              <a:buClr>
                <a:srgbClr val="988346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ahoma"/>
              </a:rPr>
              <a:t>В частях тяжёлой артиллерии на Пулковских высотах отстаивал город Ленинград выдающийся математик, академик Ю.В.Линни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0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2:03:37Z</dcterms:created>
  <dc:creator>СОШ п.Опытный</dc:creator>
  <dc:description/>
  <dc:language>en-US</dc:language>
  <cp:lastModifiedBy>Admin</cp:lastModifiedBy>
  <dcterms:modified xsi:type="dcterms:W3CDTF">2010-05-16T23:11:48Z</dcterms:modified>
  <cp:revision>25</cp:revision>
  <dc:subject/>
  <dc:title>Математика и Великая отечественная война</dc:title>
</cp:coreProperties>
</file>