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EA-2C0D-4D72-9EE8-0EE75A60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D3B-C3A8-4BAD-8778-411E963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BFB-EB32-4D98-916D-FD8DE636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8B2-8C9D-4655-A2DC-E7A61062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D88-B7B9-4031-9150-DF772F28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44B-22E3-4568-846F-9A561FC1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05B1-D116-4F17-BE2F-112BED0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E69-32B8-4C48-8BC4-66003AC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9E84-ECAB-4B17-98A2-4860EDDC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62C-2F9D-43ED-B5CC-9D3BE52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2A10-F53A-48B3-893B-A2E6458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036-F2D4-4B47-8A2D-675380A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2F9-E317-44A2-B729-37B6BBB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DD9-6EBC-4BD4-8E3F-977A09C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AD4E-C67E-4809-9869-EAA5FF40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348A-3053-4CA3-8576-DF93174B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2C3-5985-4E4B-8B4B-F6DBA9BF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BC4-432A-4FF1-A652-DE755E9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796-B3CF-4EFF-93D7-61BF419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056-FFFF-4439-A619-3330574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4DC-20A3-4860-8043-842DE2C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372-7E31-4BD9-BF0D-4E9E683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8A4-9D0E-42FF-8E58-C5B316E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509-FD35-45A8-81C3-703F141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213-C00A-4E99-AE8F-FA390BBF3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F4F-7756-46E4-A990-E2B2E12C5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400800" cy="18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Урок русского языка                в 4 клас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77128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птюк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585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плыла к </a:t>
            </a:r>
            <a:r>
              <a:rPr b="1" lang="ru-RU" sz="4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му рыбка, спрос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Чего тебе надобно, старч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Рисунок3"/>
          <p:cNvPicPr/>
          <p:nvPr/>
        </p:nvPicPr>
        <p:blipFill>
          <a:blip r:embed="rId1"/>
          <a:srcRect l="1343" t="0" r="0" b="1515"/>
          <a:stretch/>
        </p:blipFill>
        <p:spPr>
          <a:xfrm>
            <a:off x="3780000" y="3141720"/>
            <a:ext cx="382428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еред (она) усердные слуги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на бьёт их, за чупрун таскае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2 001"/>
          <p:cNvPicPr/>
          <p:nvPr/>
        </p:nvPicPr>
        <p:blipFill>
          <a:blip r:embed="rId1"/>
          <a:srcRect l="0" t="2344" r="0" b="1172"/>
          <a:stretch/>
        </p:blipFill>
        <p:spPr>
          <a:xfrm>
            <a:off x="3203640" y="2852640"/>
            <a:ext cx="42638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ред </a:t>
            </a:r>
            <a:r>
              <a:rPr b="1" lang="ru-RU" sz="4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ю усердные слуги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на бьёт их, за чупрун таска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5 001"/>
          <p:cNvPicPr/>
          <p:nvPr/>
        </p:nvPicPr>
        <p:blipFill>
          <a:blip r:embed="rId1"/>
          <a:srcRect l="0" t="0" r="0" b="1994"/>
          <a:stretch/>
        </p:blipFill>
        <p:spPr>
          <a:xfrm>
            <a:off x="3995640" y="2708280"/>
            <a:ext cx="39387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итрые вопрос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907560"/>
            <a:ext cx="6192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Какое местоимение надо добавить к какому местоимению, чтобы получились самые крупные овощ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колько личных местоимений в слове сем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Какие два местоимения       мешают движению на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доро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84720" y="1828800"/>
            <a:ext cx="2880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ТЫ  к 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ем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Я - 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бщ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64296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.Здесь написаны только местоимения: она,   к нему, один, я, они, со мн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2.   В предложении  местоимения    бывают только подлежащ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3.  Местоимения с предлогами пишутся отд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4. Местоимения могут быть 1, 2 или 3 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5.  Местоимения изменяются по рода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71720" y="1196640"/>
            <a:ext cx="7532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Мой друг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2.Синквей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местоимени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3. Упр. 2 на стр. 149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Пятно 2 4"/>
          <p:cNvSpPr/>
          <p:nvPr/>
        </p:nvSpPr>
        <p:spPr>
          <a:xfrm>
            <a:off x="0" y="214200"/>
            <a:ext cx="9144000" cy="5715000"/>
          </a:xfrm>
          <a:prstGeom prst="irregularSeal2">
            <a:avLst/>
          </a:prstGeom>
          <a:gradFill rotWithShape="0">
            <a:gsLst>
              <a:gs pos="0">
                <a:srgbClr val="0819f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1030320"/>
            <a:ext cx="8444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425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местоимени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6092640"/>
            <a:ext cx="7696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776160" y="907920"/>
            <a:ext cx="7591680" cy="45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806436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6092640"/>
            <a:ext cx="7696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776160" y="907920"/>
            <a:ext cx="7591680" cy="45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916280"/>
          <a:ext cx="8064720" cy="34066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22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на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зна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очу      зна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группиру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2360" y="1341360"/>
            <a:ext cx="7846920" cy="41925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468360" y="1413000"/>
            <a:ext cx="7991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с) бежал, (с) ней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с) тетрадью, (от)лепил, (от) них, (от) берега,(со)мной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у) него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32000" y="1484280"/>
            <a:ext cx="396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с) ней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от) них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у) него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9800" y="1916280"/>
            <a:ext cx="37717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дача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ыяснить, как пишутся местоимения с предлогам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 гр.  смотрят в орфографическом слова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 гр. читает в учебнике стр.  14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гр. спросить у уч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50920" y="152280"/>
            <a:ext cx="2521080" cy="10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сле предлогов 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стоимений 3-го лица пишется букв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148360" y="2565360"/>
            <a:ext cx="14396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0301c"/>
                </a:solidFill>
                <a:latin typeface="Comic Sans MS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7200" y="4038480"/>
            <a:ext cx="647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187280" y="3716280"/>
            <a:ext cx="7272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его, за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ей, перед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ими, от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их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804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плыла к (он) рыбка, спрос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Чего тебе надобно, старч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Рисунок1"/>
          <p:cNvPicPr/>
          <p:nvPr/>
        </p:nvPicPr>
        <p:blipFill>
          <a:blip r:embed="rId1"/>
          <a:srcRect l="0" t="0" r="1631" b="2195"/>
          <a:stretch/>
        </p:blipFill>
        <p:spPr>
          <a:xfrm>
            <a:off x="3732120" y="2708280"/>
            <a:ext cx="390708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6:39:02Z</dcterms:created>
  <dc:creator>User</dc:creator>
  <dc:description/>
  <dc:language>en-US</dc:language>
  <cp:lastModifiedBy>Начальная школа</cp:lastModifiedBy>
  <dcterms:modified xsi:type="dcterms:W3CDTF">2014-01-16T08:45:17Z</dcterms:modified>
  <cp:revision>27</cp:revision>
  <dc:subject/>
  <dc:title>Урок русского языка «Обобщение по теме «Местоимение»               в 4 классе</dc:title>
</cp:coreProperties>
</file>