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76E-CDF9-4B6C-A36A-9A43DCFE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E78-E8D3-4544-8195-789A5B74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2C4-CC95-4661-9F7A-523BA7B7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FC7-CB50-4D2D-A750-C0AD579F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B533-8798-4F76-AE3A-70F79F22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BE09-4FBB-46F0-BBE1-873E8CEE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8AEB-E55D-4F99-BCA2-436505DB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6B52-6819-474D-AB65-72A892C7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D0AB-7A5F-4453-8C6A-48B7F0C3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C407-94C7-40B8-A397-09B3D16C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91A9-2F4A-41F0-B5FC-A5CE7885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619A-091E-4E1B-8934-493D346B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BF46-6E2D-44E7-B7F4-D1595C53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2C12-B9E8-4B53-93A6-A6A83072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D898-6A03-4463-8BB2-999134F4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BA20-7210-423E-9DBD-954D30AF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098F-341F-4AB4-9164-7A04EF5E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E93-A38F-4201-883E-5053E9D5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7208-1169-4577-9F72-A0751F54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EDD-93A4-448C-B99A-9B639601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3CC-4F11-4D56-8A08-63E72733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A44-56C2-454B-ABFD-0E8116C8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8B4-D3BD-42CC-B5C1-D676E3B7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960-339B-4A2E-9946-B79F971D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6E3B-0E08-410E-A3D0-F7F30F4FA9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EAA6-144F-4DBB-B162-264194A20B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2491920"/>
            <a:ext cx="6400800" cy="180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Урок русского языка                в 4 класс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771280" y="5660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птюк Татьяна Владимиро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63520" y="476280"/>
            <a:ext cx="75852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иплыла к </a:t>
            </a:r>
            <a:r>
              <a:rPr b="1" lang="ru-RU" sz="4400" spc="-1" strike="noStrike">
                <a:solidFill>
                  <a:srgbClr val="f0301c"/>
                </a:solidFill>
                <a:latin typeface="Comic Sans MS"/>
              </a:rPr>
              <a:t>н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ему рыбка, спросил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«Чего тебе надобно, старче?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Рисунок3"/>
          <p:cNvPicPr/>
          <p:nvPr/>
        </p:nvPicPr>
        <p:blipFill>
          <a:blip r:embed="rId1"/>
          <a:srcRect l="1343" t="0" r="0" b="1515"/>
          <a:stretch/>
        </p:blipFill>
        <p:spPr>
          <a:xfrm>
            <a:off x="3780000" y="3141720"/>
            <a:ext cx="3824280" cy="33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еред (она) усердные слуги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на бьёт их, за чупрун таскает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5" descr="2 001"/>
          <p:cNvPicPr/>
          <p:nvPr/>
        </p:nvPicPr>
        <p:blipFill>
          <a:blip r:embed="rId1"/>
          <a:srcRect l="0" t="2344" r="0" b="1172"/>
          <a:stretch/>
        </p:blipFill>
        <p:spPr>
          <a:xfrm>
            <a:off x="3203640" y="2852640"/>
            <a:ext cx="42638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еред </a:t>
            </a:r>
            <a:r>
              <a:rPr b="1" lang="ru-RU" sz="4400" spc="-1" strike="noStrike">
                <a:solidFill>
                  <a:srgbClr val="f0301c"/>
                </a:solidFill>
                <a:latin typeface="Comic Sans MS"/>
              </a:rPr>
              <a:t>н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ею усердные слуги;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на бьёт их, за чупрун таскае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5 001"/>
          <p:cNvPicPr/>
          <p:nvPr/>
        </p:nvPicPr>
        <p:blipFill>
          <a:blip r:embed="rId1"/>
          <a:srcRect l="0" t="0" r="0" b="1994"/>
          <a:stretch/>
        </p:blipFill>
        <p:spPr>
          <a:xfrm>
            <a:off x="3995640" y="2708280"/>
            <a:ext cx="39387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Хитрые вопрос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907560"/>
            <a:ext cx="6192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206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Какое местоимение надо добавить к какому местоимению, чтобы получились самые крупные овощ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799"/>
              </a:spcBef>
              <a:buClr>
                <a:srgbClr val="002060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Сколько личных местоимений в слове сем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799"/>
              </a:spcBef>
              <a:buClr>
                <a:srgbClr val="002060"/>
              </a:buClr>
              <a:buFont typeface="Comic Sans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Какие два местоимения       мешают движению на </a:t>
            </a: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дорог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84720" y="1828800"/>
            <a:ext cx="28800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ТЫ  к В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ем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Я - м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бобщ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64296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.Здесь написаны только местоимения: она,   к нему, один, я, они, со мно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2.   В предложении  местоимения    бывают только подлежащи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3.  Местоимения с предлогами пишутся отдель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4. Местоимения могут быть 1, 2 или 3 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5.  Местоимения изменяются по рода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 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71720" y="1196640"/>
            <a:ext cx="7532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-114300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Мой друг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2.Синквейн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местоимение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3. Упр. 2 на стр. 149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Пятно 2 4"/>
          <p:cNvSpPr/>
          <p:nvPr/>
        </p:nvSpPr>
        <p:spPr>
          <a:xfrm>
            <a:off x="0" y="214200"/>
            <a:ext cx="9144000" cy="5715000"/>
          </a:xfrm>
          <a:prstGeom prst="irregularSeal2">
            <a:avLst/>
          </a:prstGeom>
          <a:gradFill rotWithShape="0">
            <a:gsLst>
              <a:gs pos="0">
                <a:srgbClr val="0819f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Прямоугольник 3" descr=""/>
          <p:cNvPicPr/>
          <p:nvPr/>
        </p:nvPicPr>
        <p:blipFill>
          <a:blip r:embed="rId1"/>
          <a:stretch/>
        </p:blipFill>
        <p:spPr>
          <a:xfrm>
            <a:off x="291960" y="1030320"/>
            <a:ext cx="8444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42508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местоимение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6092640"/>
            <a:ext cx="76960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776160" y="907920"/>
            <a:ext cx="7591680" cy="453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2133360"/>
            <a:ext cx="806436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6092640"/>
            <a:ext cx="76960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776160" y="907920"/>
            <a:ext cx="7591680" cy="453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9640" y="1916280"/>
          <a:ext cx="8064720" cy="340668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760"/>
              </a:tblGrid>
              <a:tr h="22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зна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узна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хочу      знат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группируй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2360" y="1341360"/>
            <a:ext cx="7846920" cy="419256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3"/>
          <p:cNvSpPr/>
          <p:nvPr/>
        </p:nvSpPr>
        <p:spPr>
          <a:xfrm>
            <a:off x="468360" y="1413000"/>
            <a:ext cx="7991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(с) бежал, (с) ней,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(с) тетрадью, (от)лепил, (от) них, (от) берега,(со)мной,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(у) него 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332000" y="1484280"/>
            <a:ext cx="396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(с) ней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(от) них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(у) него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09800" y="1916280"/>
            <a:ext cx="377172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Задача: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696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Выяснить, как пишутся местоимения с предлогам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1 гр.  смотрят в орфографическом словар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 гр. читает в учебнике стр.  14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 гр. спросить у учителе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50920" y="152280"/>
            <a:ext cx="2521080" cy="10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0578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сле предлогов 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естоимений 3-го лица пишется букв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148360" y="2565360"/>
            <a:ext cx="143964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0301c"/>
                </a:solidFill>
                <a:latin typeface="Comic Sans MS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457200" y="4038480"/>
            <a:ext cx="647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1187280" y="3716280"/>
            <a:ext cx="7272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SzPct val="1028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от </a:t>
            </a:r>
            <a:r>
              <a:rPr b="0" lang="ru-RU" sz="5400" spc="-1" strike="noStrike">
                <a:solidFill>
                  <a:srgbClr val="f0301c"/>
                </a:solidFill>
                <a:latin typeface="Comic Sans MS"/>
              </a:rPr>
              <a:t>н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его, за </a:t>
            </a:r>
            <a:r>
              <a:rPr b="0" lang="ru-RU" sz="5400" spc="-1" strike="noStrike">
                <a:solidFill>
                  <a:srgbClr val="f0301c"/>
                </a:solidFill>
                <a:latin typeface="Comic Sans MS"/>
              </a:rPr>
              <a:t>н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ей, перед </a:t>
            </a:r>
            <a:r>
              <a:rPr b="0" lang="ru-RU" sz="5400" spc="-1" strike="noStrike">
                <a:solidFill>
                  <a:srgbClr val="f0301c"/>
                </a:solidFill>
                <a:latin typeface="Comic Sans MS"/>
              </a:rPr>
              <a:t>н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ими, от </a:t>
            </a:r>
            <a:r>
              <a:rPr b="0" lang="ru-RU" sz="5400" spc="-1" strike="noStrike">
                <a:solidFill>
                  <a:srgbClr val="f0301c"/>
                </a:solidFill>
                <a:latin typeface="Comic Sans MS"/>
              </a:rPr>
              <a:t>н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их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63520" y="304920"/>
            <a:ext cx="804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иплыла к (он) рыбка, спросил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«Чего тебе надобно, старче?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5" descr="Рисунок1"/>
          <p:cNvPicPr/>
          <p:nvPr/>
        </p:nvPicPr>
        <p:blipFill>
          <a:blip r:embed="rId1"/>
          <a:srcRect l="0" t="0" r="1631" b="2195"/>
          <a:stretch/>
        </p:blipFill>
        <p:spPr>
          <a:xfrm>
            <a:off x="3732120" y="2708280"/>
            <a:ext cx="3907080" cy="38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06:39:02Z</dcterms:created>
  <dc:creator>User</dc:creator>
  <dc:description/>
  <dc:language>en-US</dc:language>
  <cp:lastModifiedBy>Начальная школа</cp:lastModifiedBy>
  <dcterms:modified xsi:type="dcterms:W3CDTF">2014-01-16T08:45:17Z</dcterms:modified>
  <cp:revision>27</cp:revision>
  <dc:subject/>
  <dc:title>Урок русского языка «Обобщение по теме «Местоимение»               в 4 классе</dc:title>
</cp:coreProperties>
</file>