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F6B-4C39-4E94-AB48-1747AA59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ECD-1AD0-428E-992D-172FA304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063-A8BF-4328-8246-1EE0C402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670-7C6D-4B66-870D-BF6B1D73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75B4-E020-4A4F-8C79-672E287E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8682-F292-4D1F-8870-A9838A66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CA80-E7A6-4736-B7F5-B83E385A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513C-B5D8-4558-B555-777D921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90F1-AB28-455E-8571-8F137E24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EE3-92CC-4418-9023-C166911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2241-6450-47DB-97EA-23141C0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16E-5606-48DF-9793-4258BE46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7D8-4F24-4719-8620-CA4B13C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21F3-4503-428B-850B-77AAA74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CF60-CF4E-4C86-B2FA-4A16E9C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59C1-B697-4330-A561-F3D6C5D1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CE71-15A9-4256-9E68-A71EE1ED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C6BBA-5CC5-422E-9090-413DAF93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41D33-AB6F-45AD-99D4-5842210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1D8D8-9131-40C2-9CFB-787CDE2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ED1AC-DC81-4A4A-9EA0-8D05868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82C24-A5D5-47B0-9871-66C162F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FF3-41E6-4DF7-AE5C-719E762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CA716-C1EA-4ECE-B456-1A94F1F8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1697D-7EFD-4EDC-B7D0-9B2ABA8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A6BD5-5735-4651-B0EB-C9BE584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55488-C631-4CEF-906B-621DD7C0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428F4-C76C-4083-A910-8E45B1E0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A6D77-05A1-4C67-8B37-0FAC4657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BFDF9-7E07-4E48-9967-CD7F3BCA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0164-6A0C-492B-A1E8-34821FAF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9DC2-32D5-4448-A85A-D34C4D5A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495C-B6B3-4AC1-AB53-E4E21A3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205-E1F7-4ECB-AB3C-085A101C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AC68-B479-4E04-AA1F-B99A1929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9CAE-2580-4EBE-82BA-A0E9130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6D59E-87AE-4021-B5B9-1298FA04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9005-00A3-45AD-A84B-5D1AB43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106EC-DA2E-4061-AF4E-62D2A75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E042-E32F-4764-9647-FEBA6FE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1AFA-2454-4F87-AB34-CAC10826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62AD-E8B7-47F4-9076-E017F68A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E129-2C9E-46DE-8225-6F9E895C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CCA3B-EDB5-4B79-988F-6630A485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05B-4060-4558-94A6-DA4D17E0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CF6C0-836F-44BA-B54F-15B98775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FFE9E-6921-4370-9569-0CFF05FD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FDEE4-C7C0-4F75-BD29-09D9C0C9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AF37C-C126-4232-9EB4-A3434BFC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01117-2273-4E80-B603-508C086E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39534-FE7F-4E47-B885-2643399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E9655-3195-4EC9-8824-4890FFB9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9D909-5DCB-4D17-84B1-2423CC08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43C64-047C-4B10-8AEB-04E363D2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45DD2-8C08-495F-BA5E-B163F091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A6B-9909-44C1-8A0D-B821707D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3843A-91EF-4089-AAE8-28589FCA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732F4-00FA-457B-B166-6C7A3FD6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DC880-56EE-4693-8E91-F0F2ECE8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4A2F9-D46C-4093-B542-44BC90A9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E11B1-1797-470D-A321-D55B0C64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F18CB-43CC-4B22-9382-39547E6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DAE70-11B8-41E0-A8D0-54A1186B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AAA0F-0A05-4DD0-A532-834D8141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0245E-3A85-425F-BB6F-465254A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4C6BA-5AAD-4D97-B684-1962EDBD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BF6-4237-4241-997B-33489196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6E2EF-04FF-43E8-A358-5D643165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F589A-7F4E-433E-99AB-0F62E585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19278-D977-4C4A-90A0-A2B07EF0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F4F11-80F0-4D86-8BE2-6531EBE8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54E89-5DE8-4438-B415-4C919F65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1EE01-9A7E-45C8-AC18-C17E31FA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5EEB9-C602-4367-88A9-C53535D6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6669A-DF44-486F-B948-64587FD4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2BF41-1E6E-4E90-92A0-F324694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E17B2-2C0E-483B-AAE8-2E8021F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41E-0DE2-46DB-A73C-2529406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16F8B-923E-4857-8CC7-0BF78BE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B8825-6CA6-4B71-B095-1CEB1CE5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15CFE-F34B-49BE-B7AC-3141823E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16C27-750E-4974-A7C1-50A892D1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D59C3-B486-4D8F-B972-2CC6883D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0D7-0619-487A-AAF6-B241BE50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9A0-85BC-441D-B9E7-ED415364E9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268A-9EA5-4BD5-9C00-F27409804C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E5FA-14C5-4CE0-B310-9E8F146738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F93-C654-4508-88BD-0E27E4079D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D160-12F6-45DA-B095-4317887BEE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3E34-6786-4323-964B-2A3232EEC3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A41C-B9A3-43EA-89C2-619C4BB860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485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ЕЗЕНТАЦИЯ НА ТЕМУ: «НАШИ ПАЛЬЧИКИ ИГРАЮТ- ГОВОРИТЬ НАМ ПОМОГАЮТ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5661000"/>
            <a:ext cx="77695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оспитатель:   Захарова И.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C:\Users\пк\Desktop\razvitie.jpg"/>
          <p:cNvPicPr/>
          <p:nvPr/>
        </p:nvPicPr>
        <p:blipFill>
          <a:blip r:embed="rId1"/>
          <a:stretch/>
        </p:blipFill>
        <p:spPr>
          <a:xfrm>
            <a:off x="3492360" y="4076640"/>
            <a:ext cx="2089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пк\Desktop\ЛЛЛ\DSCN1107.JPG"/>
          <p:cNvPicPr/>
          <p:nvPr/>
        </p:nvPicPr>
        <p:blipFill>
          <a:blip r:embed="rId1"/>
          <a:stretch/>
        </p:blipFill>
        <p:spPr>
          <a:xfrm>
            <a:off x="3276720" y="2421000"/>
            <a:ext cx="2158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Users\пк\Desktop\ЛЛЛ\DSCN1112.JPG"/>
          <p:cNvPicPr/>
          <p:nvPr/>
        </p:nvPicPr>
        <p:blipFill>
          <a:blip r:embed="rId1"/>
          <a:stretch/>
        </p:blipFill>
        <p:spPr>
          <a:xfrm>
            <a:off x="3348000" y="249228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пк\Desktop\ЛЛЛ\DSCN1116.JPG"/>
          <p:cNvPicPr/>
          <p:nvPr/>
        </p:nvPicPr>
        <p:blipFill>
          <a:blip r:embed="rId1"/>
          <a:stretch/>
        </p:blipFill>
        <p:spPr>
          <a:xfrm>
            <a:off x="3419640" y="249228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пк\Desktop\images (13).jpg"/>
          <p:cNvPicPr/>
          <p:nvPr/>
        </p:nvPicPr>
        <p:blipFill>
          <a:blip r:embed="rId1"/>
          <a:stretch/>
        </p:blipFill>
        <p:spPr>
          <a:xfrm>
            <a:off x="0" y="5084640"/>
            <a:ext cx="1908000" cy="1773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Users\пк\Desktop\images (11).jpg"/>
          <p:cNvPicPr/>
          <p:nvPr/>
        </p:nvPicPr>
        <p:blipFill>
          <a:blip r:embed="rId2"/>
          <a:stretch/>
        </p:blipFill>
        <p:spPr>
          <a:xfrm>
            <a:off x="6948360" y="0"/>
            <a:ext cx="17654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Users\пк\Desktop\princessydisneyakartinki6.jpg"/>
          <p:cNvPicPr/>
          <p:nvPr/>
        </p:nvPicPr>
        <p:blipFill>
          <a:blip r:embed="rId1"/>
          <a:stretch/>
        </p:blipFill>
        <p:spPr>
          <a:xfrm>
            <a:off x="3132000" y="2205000"/>
            <a:ext cx="2089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:\Users\пк\Desktop\scrn_big_1.jpg"/>
          <p:cNvPicPr/>
          <p:nvPr/>
        </p:nvPicPr>
        <p:blipFill>
          <a:blip r:embed="rId1"/>
          <a:stretch/>
        </p:blipFill>
        <p:spPr>
          <a:xfrm>
            <a:off x="3059280" y="2565360"/>
            <a:ext cx="2087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Users\пк\Desktop\ЛЛЛ\DSCN1118.JPG"/>
          <p:cNvPicPr/>
          <p:nvPr/>
        </p:nvPicPr>
        <p:blipFill>
          <a:blip r:embed="rId1"/>
          <a:stretch/>
        </p:blipFill>
        <p:spPr>
          <a:xfrm>
            <a:off x="3203640" y="2133720"/>
            <a:ext cx="2016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Desktop\ЛЛЛ\DSCN1120.JPG"/>
          <p:cNvPicPr/>
          <p:nvPr/>
        </p:nvPicPr>
        <p:blipFill>
          <a:blip r:embed="rId1"/>
          <a:stretch/>
        </p:blipFill>
        <p:spPr>
          <a:xfrm>
            <a:off x="3419640" y="220500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Users\пк\Desktop\images (6).jpg"/>
          <p:cNvPicPr/>
          <p:nvPr/>
        </p:nvPicPr>
        <p:blipFill>
          <a:blip r:embed="rId1"/>
          <a:stretch/>
        </p:blipFill>
        <p:spPr>
          <a:xfrm>
            <a:off x="179280" y="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Users\пк\Desktop\images (10).jpg"/>
          <p:cNvPicPr/>
          <p:nvPr/>
        </p:nvPicPr>
        <p:blipFill>
          <a:blip r:embed="rId2"/>
          <a:stretch/>
        </p:blipFill>
        <p:spPr>
          <a:xfrm>
            <a:off x="6443640" y="4869000"/>
            <a:ext cx="16574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Users\пк\Desktop\images (7).jpg"/>
          <p:cNvPicPr/>
          <p:nvPr/>
        </p:nvPicPr>
        <p:blipFill>
          <a:blip r:embed="rId1"/>
          <a:stretch/>
        </p:blipFill>
        <p:spPr>
          <a:xfrm>
            <a:off x="108000" y="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пк\Desktop\images (4).jpg"/>
          <p:cNvPicPr/>
          <p:nvPr/>
        </p:nvPicPr>
        <p:blipFill>
          <a:blip r:embed="rId2"/>
          <a:stretch/>
        </p:blipFill>
        <p:spPr>
          <a:xfrm>
            <a:off x="6372360" y="5013360"/>
            <a:ext cx="1726920" cy="13413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48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575f6d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ФОРМИРОВАНИЕ У РОДИТЕЛЕЙ ПРЕДСТАВЛЕНИЯ О РОЛИ МЕЛКОЙ МОТОРИКИ В ПСИХОФИЗИЧЕСКОМ РАЗВИТИИ ДЕТЕЙ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575f6d"/>
                </a:solidFill>
                <a:uFillTx/>
                <a:latin typeface="Times New Roman"/>
                <a:ea typeface="Times New Roman"/>
              </a:rPr>
              <a:t>ЗАДАЧА</a:t>
            </a: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: ОЗНАКОМИТЬ С ПРИЁМАМИ ДЛЯ РАЗВИТИЯ МЕЛКОЙ МОТОРИКИ РУК У ДЕТЕЙ ДОШКОЛЬНОГО ВОЗРАСТ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пк\Desktop\images (12).jpg"/>
          <p:cNvPicPr/>
          <p:nvPr/>
        </p:nvPicPr>
        <p:blipFill>
          <a:blip r:embed="rId1"/>
          <a:stretch/>
        </p:blipFill>
        <p:spPr>
          <a:xfrm>
            <a:off x="3059280" y="2349360"/>
            <a:ext cx="20160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Users\пк\Desktop\images (15).jpg"/>
          <p:cNvPicPr/>
          <p:nvPr/>
        </p:nvPicPr>
        <p:blipFill>
          <a:blip r:embed="rId1"/>
          <a:stretch/>
        </p:blipFill>
        <p:spPr>
          <a:xfrm>
            <a:off x="468360" y="1700280"/>
            <a:ext cx="2124000" cy="1944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Users\пк\Desktop\images (14).jpg"/>
          <p:cNvPicPr/>
          <p:nvPr/>
        </p:nvPicPr>
        <p:blipFill>
          <a:blip r:embed="rId2"/>
          <a:stretch/>
        </p:blipFill>
        <p:spPr>
          <a:xfrm>
            <a:off x="6227640" y="1773360"/>
            <a:ext cx="2089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:\Users\пк\Desktop\images.jpg"/>
          <p:cNvPicPr/>
          <p:nvPr/>
        </p:nvPicPr>
        <p:blipFill>
          <a:blip r:embed="rId1"/>
          <a:stretch/>
        </p:blipFill>
        <p:spPr>
          <a:xfrm>
            <a:off x="3276720" y="2205000"/>
            <a:ext cx="2016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Users\пк\Desktop\images (3).jpg"/>
          <p:cNvPicPr/>
          <p:nvPr/>
        </p:nvPicPr>
        <p:blipFill>
          <a:blip r:embed="rId1"/>
          <a:stretch/>
        </p:blipFill>
        <p:spPr>
          <a:xfrm>
            <a:off x="3419640" y="2349360"/>
            <a:ext cx="1728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Users\пк\Desktop\Новая папка\КАРТ\солнце.gif"/>
          <p:cNvPicPr/>
          <p:nvPr/>
        </p:nvPicPr>
        <p:blipFill>
          <a:blip r:embed="rId1"/>
          <a:stretch/>
        </p:blipFill>
        <p:spPr>
          <a:xfrm>
            <a:off x="6012000" y="4797360"/>
            <a:ext cx="1800000" cy="1656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84360" y="836280"/>
            <a:ext cx="61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ЗАНИМАЛИСЬ ЛИ ВАШИ РОДИТЕЛИ С ВАМИ ПАЛЬЧИКОВОЙ ГИМНАСТИКОЙ?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 ИГРАЛИ ЛИ ВЫ САМИ С ВАШИМИ ПАЛЬЧИКАМИ В ДЕТСТВЕ?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 КАК ВЫ ИГРАЕТЕ С ПАЛЬЧИКАМИ ВАШЕГО РЕБЁНКА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C:\Users\пк\Desktop\Новая папка\hochu-vse-znat-266x300.jpg"/>
          <p:cNvPicPr/>
          <p:nvPr/>
        </p:nvPicPr>
        <p:blipFill>
          <a:blip r:embed="rId1"/>
          <a:stretch/>
        </p:blipFill>
        <p:spPr>
          <a:xfrm>
            <a:off x="0" y="4365720"/>
            <a:ext cx="2556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пк\Desktop\ZQhm6UXiWsY.jpg"/>
          <p:cNvPicPr/>
          <p:nvPr/>
        </p:nvPicPr>
        <p:blipFill>
          <a:blip r:embed="rId1"/>
          <a:stretch/>
        </p:blipFill>
        <p:spPr>
          <a:xfrm>
            <a:off x="3276720" y="263700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пк\Desktop\ути.jpg"/>
          <p:cNvPicPr/>
          <p:nvPr/>
        </p:nvPicPr>
        <p:blipFill>
          <a:blip r:embed="rId1"/>
          <a:stretch/>
        </p:blipFill>
        <p:spPr>
          <a:xfrm>
            <a:off x="3132000" y="2276640"/>
            <a:ext cx="2160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пк\Desktop\ЛЛЛ\DSCN1103.JPG"/>
          <p:cNvPicPr/>
          <p:nvPr/>
        </p:nvPicPr>
        <p:blipFill>
          <a:blip r:embed="rId1"/>
          <a:stretch/>
        </p:blipFill>
        <p:spPr>
          <a:xfrm>
            <a:off x="-7021440" y="0"/>
            <a:ext cx="16633800" cy="78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пк\Desktop\ЛЛЛ\DSCN1104.JPG"/>
          <p:cNvPicPr/>
          <p:nvPr/>
        </p:nvPicPr>
        <p:blipFill>
          <a:blip r:embed="rId1"/>
          <a:stretch/>
        </p:blipFill>
        <p:spPr>
          <a:xfrm>
            <a:off x="-3421080" y="-387360"/>
            <a:ext cx="1238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пк\Desktop\ЛЛЛ\DSCN1122.JPG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пк\Desktop\ЛЛЛ\DSCN1109.JPG"/>
          <p:cNvPicPr/>
          <p:nvPr/>
        </p:nvPicPr>
        <p:blipFill>
          <a:blip r:embed="rId1"/>
          <a:stretch/>
        </p:blipFill>
        <p:spPr>
          <a:xfrm>
            <a:off x="3203640" y="2133720"/>
            <a:ext cx="2017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3:37:20Z</dcterms:created>
  <dc:creator>пк</dc:creator>
  <dc:description/>
  <dc:language>en-US</dc:language>
  <cp:lastModifiedBy>1</cp:lastModifiedBy>
  <dcterms:modified xsi:type="dcterms:W3CDTF">2014-01-27T12:17:30Z</dcterms:modified>
  <cp:revision>19</cp:revision>
  <dc:subject/>
  <dc:title>Муниципальное бюджетное образовательное учреждение «Средняя образовательная школа №4».</dc:title>
</cp:coreProperties>
</file>