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2C6-A4B8-475D-98EF-9AA54405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26C-0707-498E-930C-5CC52ED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11C-2DA5-44B8-AE62-BA0B867F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572-3805-40A3-80B2-D5A4367D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5C27-E02F-4A55-8894-81EE6EFA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1905-BB5D-4443-ACB0-0A9B9851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978C-8436-4830-BD36-8BC76DA9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B9AA-954A-4DB2-B5DB-8EA9D509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CE6E-D2A7-4CAC-B54B-88636AF4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F126-65F2-4A09-A37F-9519A87D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59D2-712E-47CC-8BEA-91BEAE5B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389-CE6E-425A-B423-FBABD6C5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BFC6-56F0-4681-B0BA-12A2EFB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AB73-6AB6-4D52-9DBA-5CA8F60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CB21-5DE0-4EE9-A000-254EED25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8363-4723-4995-8AAD-E862B227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0D8A-DB3D-4EC6-A02C-91BB7AE2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CC41C-E157-4AFF-857E-A8C6CFF3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E5668-086F-43D4-8532-0D38E677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93BE0-E65D-484B-A8F4-8D01B9AC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3D896-A02A-4030-A7CB-64972040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B3CA8-6E4E-433A-A5EC-10ABF51C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7BD-03FA-4B6C-B873-F0F2FE61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82877-7D03-4694-8E9C-0E30462F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63F22-6357-4E68-B2A6-0500797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BFF8C-A8F4-4AF4-A532-5854FEF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C6E2D-3DD3-402A-99D6-6BDB9FE3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70B44-56C9-4B0A-A31F-E54A717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87ADC-EC11-4647-8243-A9035F9B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94F5A-CA94-40DD-9484-D0D24D18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90F57-2FB4-454F-B3A7-CA4AEFA3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A2A5-EC46-407B-93A3-1ED8C167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2997-20F1-4966-9EE5-5F3B9967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9BE-872D-4ECA-8CDF-EDD5395E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98A1-9EC9-481C-AEAF-F80B1888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4176-18CC-40F7-AA31-C9EA692B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5571-7E61-4CBE-A1FC-F90D395C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3F604-E70F-429A-A88E-F5F6188F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F4FE4-11B7-49B2-85B7-541637BD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2E35-6DB2-4297-9109-BD966803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E924C-A152-4C41-94FD-220E32AE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B20F-E2F4-469A-B680-526C8785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60F88-F072-4B16-9F32-36F93619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90C88-CB52-46CE-B53E-45961F9E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1F1-05B1-4951-AD76-79467C6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ECD0A-49D3-41AB-A467-A7B13108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CBACA-EA75-4B88-9777-D7CD6C67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E2AD5-512F-4BA5-9B62-E0304354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9C2F7-F127-4A47-8305-929236BC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673B9-00E8-4ECF-83EA-A5F38B32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DF68E-D446-45C9-890E-A58D101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71737-E6ED-48CD-99C2-4518F00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28CAF-F025-4DA9-BF95-F3A14A7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ABDC5-1C30-458F-84AC-57C1B1A0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CBA2D-002D-4714-921D-05E2EE4C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1DD-FACD-4A9E-AAA4-2B690049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D69A6-712E-4BDA-8D03-C4A68798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ADC71-F377-462C-A824-03F6F939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35C3E-A68D-445C-8C61-50508DEE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D11A3-6A2A-4596-B41B-1EDDEDDA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C8F95-9A8A-46F9-9BD5-ED02A782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AA8CD-5FC7-4C41-A055-5C9E728D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184B2-2FB0-4B71-873D-4EB672F0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FB5D0-8CBE-4BFF-A397-ECDB4A2A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A894A-C1E4-4783-B145-D8A2596A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B88D4-61AC-49C3-8948-2524CDB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727-9B6B-4FA4-A444-2DF40BD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F5D3A-5788-4F39-99BA-E75F6E72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4E664-EB0D-4427-A8D9-779683A2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01569-AC40-4B97-80EE-C41EB6B5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C3DE6-6415-48DC-B208-EB0DB080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37B40-F86D-4598-A149-8B77DBE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297B0-D522-4959-B2F2-B09A0415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B7E89-643C-474C-B101-D2DACE66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0BD9D-9E61-4A2D-8180-2E889643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0AE6E-043F-4039-89C0-28F09E82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A073D-1453-4F6B-9FBB-C829B325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866-83FA-479A-B35F-3794EFD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6D427-D82F-45FE-8E0C-ED752995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1CFBC-30F6-4A70-95F5-A514865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D318F-9850-4FA9-BC6C-9564A900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D3CFF-5054-476B-A3F5-265210B9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814A6-2BEB-4A0D-903A-FAF217CC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EF1-EC16-4287-9759-8FFAD58E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B61D-6AA9-4F96-8226-F9784EEBF8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BAFE-64EA-4ECD-8857-7D392DC33F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F04-269D-4DC6-9C46-8C93B3945B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5D5-47C1-43CE-80C1-8AD9F532EE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C120-31AE-42D2-987D-421F20B756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837C-B720-461C-B8E2-FF412EF2BA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3F45-9C1F-44E4-ABC7-14E68B18D6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485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ЕЗЕНТАЦИЯ НА ТЕМУ: «НАШИ ПАЛЬЧИКИ ИГРАЮТ- ГОВОРИТЬ НАМ ПОМОГАЮТ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5661000"/>
            <a:ext cx="77695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оспитатель:   Захарова И.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C:\Users\пк\Desktop\razvitie.jpg"/>
          <p:cNvPicPr/>
          <p:nvPr/>
        </p:nvPicPr>
        <p:blipFill>
          <a:blip r:embed="rId1"/>
          <a:stretch/>
        </p:blipFill>
        <p:spPr>
          <a:xfrm>
            <a:off x="3492360" y="4076640"/>
            <a:ext cx="2089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пк\Desktop\ЛЛЛ\DSCN1107.JPG"/>
          <p:cNvPicPr/>
          <p:nvPr/>
        </p:nvPicPr>
        <p:blipFill>
          <a:blip r:embed="rId1"/>
          <a:stretch/>
        </p:blipFill>
        <p:spPr>
          <a:xfrm>
            <a:off x="3276720" y="2421000"/>
            <a:ext cx="2158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Users\пк\Desktop\ЛЛЛ\DSCN1112.JPG"/>
          <p:cNvPicPr/>
          <p:nvPr/>
        </p:nvPicPr>
        <p:blipFill>
          <a:blip r:embed="rId1"/>
          <a:stretch/>
        </p:blipFill>
        <p:spPr>
          <a:xfrm>
            <a:off x="3348000" y="249228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Users\пк\Desktop\ЛЛЛ\DSCN1116.JPG"/>
          <p:cNvPicPr/>
          <p:nvPr/>
        </p:nvPicPr>
        <p:blipFill>
          <a:blip r:embed="rId1"/>
          <a:stretch/>
        </p:blipFill>
        <p:spPr>
          <a:xfrm>
            <a:off x="3419640" y="249228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пк\Desktop\images (13).jpg"/>
          <p:cNvPicPr/>
          <p:nvPr/>
        </p:nvPicPr>
        <p:blipFill>
          <a:blip r:embed="rId1"/>
          <a:stretch/>
        </p:blipFill>
        <p:spPr>
          <a:xfrm>
            <a:off x="0" y="5084640"/>
            <a:ext cx="1908000" cy="1773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C:\Users\пк\Desktop\images (11).jpg"/>
          <p:cNvPicPr/>
          <p:nvPr/>
        </p:nvPicPr>
        <p:blipFill>
          <a:blip r:embed="rId2"/>
          <a:stretch/>
        </p:blipFill>
        <p:spPr>
          <a:xfrm>
            <a:off x="6948360" y="0"/>
            <a:ext cx="17654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Users\пк\Desktop\princessydisneyakartinki6.jpg"/>
          <p:cNvPicPr/>
          <p:nvPr/>
        </p:nvPicPr>
        <p:blipFill>
          <a:blip r:embed="rId1"/>
          <a:stretch/>
        </p:blipFill>
        <p:spPr>
          <a:xfrm>
            <a:off x="3132000" y="2205000"/>
            <a:ext cx="2089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C:\Users\пк\Desktop\scrn_big_1.jpg"/>
          <p:cNvPicPr/>
          <p:nvPr/>
        </p:nvPicPr>
        <p:blipFill>
          <a:blip r:embed="rId1"/>
          <a:stretch/>
        </p:blipFill>
        <p:spPr>
          <a:xfrm>
            <a:off x="3059280" y="2565360"/>
            <a:ext cx="2087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Users\пк\Desktop\ЛЛЛ\DSCN1118.JPG"/>
          <p:cNvPicPr/>
          <p:nvPr/>
        </p:nvPicPr>
        <p:blipFill>
          <a:blip r:embed="rId1"/>
          <a:stretch/>
        </p:blipFill>
        <p:spPr>
          <a:xfrm>
            <a:off x="3203640" y="2133720"/>
            <a:ext cx="2016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пк\Desktop\ЛЛЛ\DSCN1120.JPG"/>
          <p:cNvPicPr/>
          <p:nvPr/>
        </p:nvPicPr>
        <p:blipFill>
          <a:blip r:embed="rId1"/>
          <a:stretch/>
        </p:blipFill>
        <p:spPr>
          <a:xfrm>
            <a:off x="3419640" y="2205000"/>
            <a:ext cx="1728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Users\пк\Desktop\images (6).jpg"/>
          <p:cNvPicPr/>
          <p:nvPr/>
        </p:nvPicPr>
        <p:blipFill>
          <a:blip r:embed="rId1"/>
          <a:stretch/>
        </p:blipFill>
        <p:spPr>
          <a:xfrm>
            <a:off x="179280" y="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Users\пк\Desktop\images (10).jpg"/>
          <p:cNvPicPr/>
          <p:nvPr/>
        </p:nvPicPr>
        <p:blipFill>
          <a:blip r:embed="rId2"/>
          <a:stretch/>
        </p:blipFill>
        <p:spPr>
          <a:xfrm>
            <a:off x="6443640" y="4869000"/>
            <a:ext cx="16574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Users\пк\Desktop\images (7).jpg"/>
          <p:cNvPicPr/>
          <p:nvPr/>
        </p:nvPicPr>
        <p:blipFill>
          <a:blip r:embed="rId1"/>
          <a:stretch/>
        </p:blipFill>
        <p:spPr>
          <a:xfrm>
            <a:off x="108000" y="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пк\Desktop\images (4).jpg"/>
          <p:cNvPicPr/>
          <p:nvPr/>
        </p:nvPicPr>
        <p:blipFill>
          <a:blip r:embed="rId2"/>
          <a:stretch/>
        </p:blipFill>
        <p:spPr>
          <a:xfrm>
            <a:off x="6372360" y="5013360"/>
            <a:ext cx="1726920" cy="13413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748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575f6d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ФОРМИРОВАНИЕ У РОДИТЕЛЕЙ ПРЕДСТАВЛЕНИЯ О РОЛИ МЕЛКОЙ МОТОРИКИ В ПСИХОФИЗИЧЕСКОМ РАЗВИТИИ ДЕТЕЙ.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 u="sng">
                <a:solidFill>
                  <a:srgbClr val="575f6d"/>
                </a:solidFill>
                <a:uFillTx/>
                <a:latin typeface="Times New Roman"/>
                <a:ea typeface="Times New Roman"/>
              </a:rPr>
              <a:t>ЗАДАЧА</a:t>
            </a: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: ОЗНАКОМИТЬ С ПРИЁМАМИ ДЛЯ РАЗВИТИЯ МЕЛКОЙ МОТОРИКИ РУК У ДЕТЕЙ ДОШКОЛЬНОГО ВОЗРАСТ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пк\Desktop\images (12).jpg"/>
          <p:cNvPicPr/>
          <p:nvPr/>
        </p:nvPicPr>
        <p:blipFill>
          <a:blip r:embed="rId1"/>
          <a:stretch/>
        </p:blipFill>
        <p:spPr>
          <a:xfrm>
            <a:off x="3059280" y="2349360"/>
            <a:ext cx="20160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Users\пк\Desktop\images (15).jpg"/>
          <p:cNvPicPr/>
          <p:nvPr/>
        </p:nvPicPr>
        <p:blipFill>
          <a:blip r:embed="rId1"/>
          <a:stretch/>
        </p:blipFill>
        <p:spPr>
          <a:xfrm>
            <a:off x="468360" y="1700280"/>
            <a:ext cx="2124000" cy="1944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C:\Users\пк\Desktop\images (14).jpg"/>
          <p:cNvPicPr/>
          <p:nvPr/>
        </p:nvPicPr>
        <p:blipFill>
          <a:blip r:embed="rId2"/>
          <a:stretch/>
        </p:blipFill>
        <p:spPr>
          <a:xfrm>
            <a:off x="6227640" y="1773360"/>
            <a:ext cx="2089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:\Users\пк\Desktop\images.jpg"/>
          <p:cNvPicPr/>
          <p:nvPr/>
        </p:nvPicPr>
        <p:blipFill>
          <a:blip r:embed="rId1"/>
          <a:stretch/>
        </p:blipFill>
        <p:spPr>
          <a:xfrm>
            <a:off x="3276720" y="2205000"/>
            <a:ext cx="2016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C:\Users\пк\Desktop\images (3).jpg"/>
          <p:cNvPicPr/>
          <p:nvPr/>
        </p:nvPicPr>
        <p:blipFill>
          <a:blip r:embed="rId1"/>
          <a:stretch/>
        </p:blipFill>
        <p:spPr>
          <a:xfrm>
            <a:off x="3419640" y="2349360"/>
            <a:ext cx="1728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Users\пк\Desktop\Новая папка\КАРТ\солнце.gif"/>
          <p:cNvPicPr/>
          <p:nvPr/>
        </p:nvPicPr>
        <p:blipFill>
          <a:blip r:embed="rId1"/>
          <a:stretch/>
        </p:blipFill>
        <p:spPr>
          <a:xfrm>
            <a:off x="6012000" y="4797360"/>
            <a:ext cx="1800000" cy="1656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84360" y="836280"/>
            <a:ext cx="61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- </a:t>
            </a: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ЗАНИМАЛИСЬ ЛИ ВАШИ РОДИТЕЛИ С ВАМИ ПАЛЬЧИКОВОЙ ГИМНАСТИКОЙ?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- ИГРАЛИ ЛИ ВЫ САМИ С ВАШИМИ ПАЛЬЧИКАМИ В ДЕТСТВЕ?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- КАК ВЫ ИГРАЕТЕ С ПАЛЬЧИКАМИ ВАШЕГО РЕБЁНКА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2" descr="C:\Users\пк\Desktop\Новая папка\hochu-vse-znat-266x300.jpg"/>
          <p:cNvPicPr/>
          <p:nvPr/>
        </p:nvPicPr>
        <p:blipFill>
          <a:blip r:embed="rId1"/>
          <a:stretch/>
        </p:blipFill>
        <p:spPr>
          <a:xfrm>
            <a:off x="0" y="4365720"/>
            <a:ext cx="2556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Users\пк\Desktop\ZQhm6UXiWsY.jpg"/>
          <p:cNvPicPr/>
          <p:nvPr/>
        </p:nvPicPr>
        <p:blipFill>
          <a:blip r:embed="rId1"/>
          <a:stretch/>
        </p:blipFill>
        <p:spPr>
          <a:xfrm>
            <a:off x="3276720" y="2637000"/>
            <a:ext cx="1800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C:\Users\пк\Desktop\ути.jpg"/>
          <p:cNvPicPr/>
          <p:nvPr/>
        </p:nvPicPr>
        <p:blipFill>
          <a:blip r:embed="rId1"/>
          <a:stretch/>
        </p:blipFill>
        <p:spPr>
          <a:xfrm>
            <a:off x="3132000" y="2276640"/>
            <a:ext cx="2160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пк\Desktop\ЛЛЛ\DSCN1103.JPG"/>
          <p:cNvPicPr/>
          <p:nvPr/>
        </p:nvPicPr>
        <p:blipFill>
          <a:blip r:embed="rId1"/>
          <a:stretch/>
        </p:blipFill>
        <p:spPr>
          <a:xfrm>
            <a:off x="-7021440" y="0"/>
            <a:ext cx="16633800" cy="78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Users\пк\Desktop\ЛЛЛ\DSCN1104.JPG"/>
          <p:cNvPicPr/>
          <p:nvPr/>
        </p:nvPicPr>
        <p:blipFill>
          <a:blip r:embed="rId1"/>
          <a:stretch/>
        </p:blipFill>
        <p:spPr>
          <a:xfrm>
            <a:off x="-3421080" y="-387360"/>
            <a:ext cx="1238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пк\Desktop\ЛЛЛ\DSCN1122.JPG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C:\Users\пк\Desktop\ЛЛЛ\DSCN1109.JPG"/>
          <p:cNvPicPr/>
          <p:nvPr/>
        </p:nvPicPr>
        <p:blipFill>
          <a:blip r:embed="rId1"/>
          <a:stretch/>
        </p:blipFill>
        <p:spPr>
          <a:xfrm>
            <a:off x="3203640" y="2133720"/>
            <a:ext cx="2017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3:37:20Z</dcterms:created>
  <dc:creator>пк</dc:creator>
  <dc:description/>
  <dc:language>en-US</dc:language>
  <cp:lastModifiedBy>1</cp:lastModifiedBy>
  <dcterms:modified xsi:type="dcterms:W3CDTF">2014-01-27T12:17:30Z</dcterms:modified>
  <cp:revision>19</cp:revision>
  <dc:subject/>
  <dc:title>Муниципальное бюджетное образовательное учреждение «Средняя образовательная школа №4».</dc:title>
</cp:coreProperties>
</file>