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gif" ContentType="image/gif"/>
  <Override PartName="/ppt/media/image12.jpeg" ContentType="image/jpeg"/>
  <Override PartName="/ppt/media/image7.jpeg" ContentType="image/jpeg"/>
  <Override PartName="/ppt/media/image16.wmf" ContentType="image/x-wmf"/>
  <Override PartName="/ppt/media/image14.gif" ContentType="image/gif"/>
  <Override PartName="/ppt/media/image1.png" ContentType="image/png"/>
  <Override PartName="/ppt/media/image2.jpeg" ContentType="image/jpeg"/>
  <Override PartName="/ppt/media/image15.jpeg" ContentType="image/jpeg"/>
  <Override PartName="/ppt/media/image3.wmf" ContentType="image/x-wmf"/>
  <Override PartName="/ppt/media/image13.jpeg" ContentType="image/jpeg"/>
  <Override PartName="/ppt/media/image4.wmf" ContentType="image/x-wmf"/>
  <Override PartName="/ppt/media/image5.jpeg" ContentType="image/jpeg"/>
  <Override PartName="/ppt/media/image8.jpeg" ContentType="image/jpeg"/>
  <Override PartName="/ppt/media/image10.jpeg" ContentType="image/jpeg"/>
  <Override PartName="/ppt/media/image6.wmf" ContentType="image/x-wmf"/>
  <Override PartName="/ppt/media/image1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AE081-E4CE-405D-8AD9-EC33B2009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2A92A-782D-418A-849A-CB7821DA2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1CC34-AA45-42F9-B210-A08A834D1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30C27-1DE8-4A96-9253-B411B21EB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CB843-D046-40F0-9E7E-B1C1193EC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DE74A-BFCA-4AE7-AFA8-7989F905E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9572D-4775-4958-A8CD-3A1F2D72E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BA9E7-6242-4956-8985-94D90702F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A32E6-D3E3-4C77-BC6A-263116D5D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36367-B0A9-4C7D-973A-1C9D881F0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B824A-9DA6-4A2D-AC7A-D4DB846F6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B7933-212D-42AB-9300-D1F1A68AE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6DA09-7178-4BE6-BA0B-EA17AFA11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F67EE-2454-481D-9717-12C2F141B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6AC59-304A-4C8F-93E6-4CCFEDCF0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44959-80B6-43CD-B684-FB048AD96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4F8BE-FF1B-4D3E-B552-1B3699B2F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FD0E4-DA9F-49B3-B8D9-9BAFC547F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D8005-D3C8-44BA-965A-BD7F5E38F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2AAAC-4343-46BA-9203-E250D52B5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CD825-5DB2-484F-BF74-5261008E4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53302-B927-428A-B47D-76593DC58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C5C05-8067-49F3-AFC1-28BF77255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43315-84BF-4F73-A906-5D8F0CDDA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704D7-37D7-4BAC-9F55-DE5DDFD09CD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C9F9C-432E-4B33-8C8A-988F20EA7A5F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gi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gi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Box 3"/>
          <p:cNvSpPr/>
          <p:nvPr/>
        </p:nvSpPr>
        <p:spPr>
          <a:xfrm>
            <a:off x="1000080" y="571680"/>
            <a:ext cx="700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езентация  по  курсу страновед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ема: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hern  Irel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xtBox 4"/>
          <p:cNvSpPr/>
          <p:nvPr/>
        </p:nvSpPr>
        <p:spPr>
          <a:xfrm>
            <a:off x="642960" y="3357720"/>
            <a:ext cx="3643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Ученицы  7а  класс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БОУ  СОШ  №  18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итникова  Анастас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икулина  Мар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Box 5"/>
          <p:cNvSpPr/>
          <p:nvPr/>
        </p:nvSpPr>
        <p:spPr>
          <a:xfrm>
            <a:off x="3571920" y="5715000"/>
            <a:ext cx="25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анкт-Петербург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014 го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b7"/>
                </a:solidFill>
                <a:latin typeface="Arial Black"/>
              </a:rPr>
              <a:t>Northern Ireland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 u="sng">
                <a:solidFill>
                  <a:srgbClr val="ffffff"/>
                </a:solidFill>
                <a:uFillTx/>
                <a:latin typeface="Arial"/>
              </a:rPr>
              <a:t>and its capital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Picture 4" descr="600px-Flag_of_Ireland"/>
          <p:cNvPicPr/>
          <p:nvPr/>
        </p:nvPicPr>
        <p:blipFill>
          <a:blip r:embed="rId1"/>
          <a:stretch/>
        </p:blipFill>
        <p:spPr>
          <a:xfrm>
            <a:off x="3098880" y="0"/>
            <a:ext cx="2830320" cy="19620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" descr="YellowPagesPhoto"/>
          <p:cNvPicPr/>
          <p:nvPr/>
        </p:nvPicPr>
        <p:blipFill>
          <a:blip r:embed="rId2"/>
          <a:stretch/>
        </p:blipFill>
        <p:spPr>
          <a:xfrm>
            <a:off x="5796000" y="4653000"/>
            <a:ext cx="3348000" cy="22050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6" descr="MC900442032[1]"/>
          <p:cNvPicPr/>
          <p:nvPr/>
        </p:nvPicPr>
        <p:blipFill>
          <a:blip r:embed="rId3"/>
          <a:stretch/>
        </p:blipFill>
        <p:spPr>
          <a:xfrm>
            <a:off x="5867280" y="2852640"/>
            <a:ext cx="2643480" cy="15843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" descr="MC900347139[1]"/>
          <p:cNvPicPr/>
          <p:nvPr/>
        </p:nvPicPr>
        <p:blipFill>
          <a:blip r:embed="rId4"/>
          <a:stretch/>
        </p:blipFill>
        <p:spPr>
          <a:xfrm>
            <a:off x="0" y="3860640"/>
            <a:ext cx="2050920" cy="280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Northern Ireland is situated in the northeastern part of the island of Ireland is the Capital and largest city is Belfast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Picture 6" descr="ireland"/>
          <p:cNvPicPr/>
          <p:nvPr/>
        </p:nvPicPr>
        <p:blipFill>
          <a:blip r:embed="rId1"/>
          <a:stretch/>
        </p:blipFill>
        <p:spPr>
          <a:xfrm>
            <a:off x="5003640" y="620640"/>
            <a:ext cx="4427640" cy="48531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7" descr="MC900407898[1]"/>
          <p:cNvPicPr/>
          <p:nvPr/>
        </p:nvPicPr>
        <p:blipFill>
          <a:blip r:embed="rId2"/>
          <a:stretch/>
        </p:blipFill>
        <p:spPr>
          <a:xfrm>
            <a:off x="611280" y="4797360"/>
            <a:ext cx="2592360" cy="180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Belfast- capital of Northern Ireland so that's what we te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Belfast-a city in Northern Ireland, at the mouth of Laganas, on the Irish sea. Belfast - the main city and port in Northern Irelan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6" descr="139941001289553321"/>
          <p:cNvPicPr/>
          <p:nvPr/>
        </p:nvPicPr>
        <p:blipFill>
          <a:blip r:embed="rId1"/>
          <a:stretch/>
        </p:blipFill>
        <p:spPr>
          <a:xfrm>
            <a:off x="4788000" y="1557360"/>
            <a:ext cx="4356000" cy="47530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7" descr="MP900423118[1]"/>
          <p:cNvPicPr/>
          <p:nvPr/>
        </p:nvPicPr>
        <p:blipFill>
          <a:blip r:embed="rId2"/>
          <a:stretch/>
        </p:blipFill>
        <p:spPr>
          <a:xfrm>
            <a:off x="6624720" y="0"/>
            <a:ext cx="2519280" cy="27082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9" descr="MM910001122[1]"/>
          <p:cNvPicPr/>
          <p:nvPr/>
        </p:nvPicPr>
        <p:blipFill>
          <a:blip r:embed="rId3"/>
          <a:stretch/>
        </p:blipFill>
        <p:spPr>
          <a:xfrm>
            <a:off x="4788000" y="5000760"/>
            <a:ext cx="2305080" cy="1857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interesting places о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f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Northern Ireland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7" name="Picture 10" descr="город_Белфаст_Великобритания_city_Belfast_Great-Britain-2"/>
          <p:cNvPicPr/>
          <p:nvPr/>
        </p:nvPicPr>
        <p:blipFill>
          <a:blip r:embed="rId1"/>
          <a:stretch/>
        </p:blipFill>
        <p:spPr>
          <a:xfrm>
            <a:off x="250920" y="1962000"/>
            <a:ext cx="4330440" cy="489600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The centre of Belfast is the square of Donog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,around this square are beautiful monuments On the square Donog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l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town hall, and national library where are the treasures of the national literature of Irelan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Picture 13" descr="MC900428117[1]"/>
          <p:cNvPicPr/>
          <p:nvPr/>
        </p:nvPicPr>
        <p:blipFill>
          <a:blip r:embed="rId2"/>
          <a:stretch/>
        </p:blipFill>
        <p:spPr>
          <a:xfrm>
            <a:off x="6732720" y="189000"/>
            <a:ext cx="2000160" cy="1803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1" name="Picture 11" descr="Skulptura-Bolshaya-Ryba"/>
          <p:cNvPicPr/>
          <p:nvPr/>
        </p:nvPicPr>
        <p:blipFill>
          <a:blip r:embed="rId1"/>
          <a:stretch/>
        </p:blipFill>
        <p:spPr>
          <a:xfrm>
            <a:off x="395280" y="549360"/>
            <a:ext cx="4319640" cy="25923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0" descr="город_Белфаст_Великобритания_city_Belfast_Great-Britain-4"/>
          <p:cNvPicPr/>
          <p:nvPr/>
        </p:nvPicPr>
        <p:blipFill>
          <a:blip r:embed="rId2"/>
          <a:stretch/>
        </p:blipFill>
        <p:spPr>
          <a:xfrm>
            <a:off x="395280" y="3213000"/>
            <a:ext cx="4319640" cy="291960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One of the most popular attractions is the 10-meter figure of the «Big fish»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The Grand Opera house, too, is a landmark Belfast. In this building sing and play the best shows and song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History and culture of the city are presented in Оlivens Museum near the Queens University. In this Museum you can learn all about the history and traditions of Northern Ireland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Picture 17" descr="MM910001165[1]"/>
          <p:cNvPicPr/>
          <p:nvPr/>
        </p:nvPicPr>
        <p:blipFill>
          <a:blip r:embed="rId3"/>
          <a:stretch/>
        </p:blipFill>
        <p:spPr>
          <a:xfrm>
            <a:off x="6659640" y="189000"/>
            <a:ext cx="2305080" cy="158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Cathedral of St. Anna, which can be found on the street Donegall St. This is one of the magnificent buildings,decorated with frescoes, icon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There is a castle and Belfast. The exhibits of this Museum will tell a lot about the history of the castle . The castle was built in the 12th century, but the реставриравали castle in 1870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Picture 8" descr="город_Белфаст_Великобритания_city_Belfast_Great-Britain-6"/>
          <p:cNvPicPr/>
          <p:nvPr/>
        </p:nvPicPr>
        <p:blipFill>
          <a:blip r:embed="rId1"/>
          <a:stretch/>
        </p:blipFill>
        <p:spPr>
          <a:xfrm>
            <a:off x="4462560" y="1341360"/>
            <a:ext cx="4681440" cy="55166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0" descr="MC900355867[1]"/>
          <p:cNvPicPr/>
          <p:nvPr/>
        </p:nvPicPr>
        <p:blipFill>
          <a:blip r:embed="rId2"/>
          <a:stretch/>
        </p:blipFill>
        <p:spPr>
          <a:xfrm>
            <a:off x="0" y="4952880"/>
            <a:ext cx="1332000" cy="1905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4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9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26560" y="191592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Thank you for attention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!!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Работу выполнили Ситникова Анастасия и Никулина Мария Ученицы 7А класса 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Picture 4" descr="MC900407898[2]"/>
          <p:cNvPicPr/>
          <p:nvPr/>
        </p:nvPicPr>
        <p:blipFill>
          <a:blip r:embed="rId1"/>
          <a:stretch/>
        </p:blipFill>
        <p:spPr>
          <a:xfrm>
            <a:off x="2340000" y="1557360"/>
            <a:ext cx="525636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0T15:22:14Z</dcterms:created>
  <dc:creator>комп</dc:creator>
  <dc:description/>
  <dc:language>en-US</dc:language>
  <cp:lastModifiedBy>Admin</cp:lastModifiedBy>
  <dcterms:modified xsi:type="dcterms:W3CDTF">2014-01-27T16:08:16Z</dcterms:modified>
  <cp:revision>3</cp:revision>
  <dc:subject/>
  <dc:title>Nordirland </dc:title>
</cp:coreProperties>
</file>