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gif" ContentType="image/gif"/>
  <Override PartName="/ppt/media/image12.jpeg" ContentType="image/jpeg"/>
  <Override PartName="/ppt/media/image7.jpeg" ContentType="image/jpeg"/>
  <Override PartName="/ppt/media/image16.wmf" ContentType="image/x-wmf"/>
  <Override PartName="/ppt/media/image14.gif" ContentType="image/gif"/>
  <Override PartName="/ppt/media/image1.png" ContentType="image/png"/>
  <Override PartName="/ppt/media/image2.jpeg" ContentType="image/jpeg"/>
  <Override PartName="/ppt/media/image15.jpeg" ContentType="image/jpeg"/>
  <Override PartName="/ppt/media/image3.wmf" ContentType="image/x-wmf"/>
  <Override PartName="/ppt/media/image13.jpeg" ContentType="image/jpeg"/>
  <Override PartName="/ppt/media/image4.wmf" ContentType="image/x-wmf"/>
  <Override PartName="/ppt/media/image5.jpeg" ContentType="image/jpeg"/>
  <Override PartName="/ppt/media/image8.jpeg" ContentType="image/jpeg"/>
  <Override PartName="/ppt/media/image10.jpeg" ContentType="image/jpeg"/>
  <Override PartName="/ppt/media/image6.wmf" ContentType="image/x-wmf"/>
  <Override PartName="/ppt/media/image1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B8C56-1F7C-4FAE-AD5F-F86C7A51B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A2B17-573A-40B6-9230-763A1F315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85BE6-567A-47FF-9E14-A32998B0E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081CE-A0F9-4509-9D76-38E325839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BAA05-D1B9-4F47-A0EE-5A12969DA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FD070-AB5B-4370-9C70-D47E913F4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091C3-1457-4182-B6B7-F3D0298E4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8B0F4-7825-4E6A-9B1C-B3439CB7A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42825-1835-4E7B-AC4F-821E5952C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3CCDE-7736-4AE4-AA3F-F5240C88D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E485C-6FB3-4117-9EA1-95095107D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93E97-E233-4B03-B176-9F2F51ABD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198B3-9811-4EEB-85C3-D35C1D2F8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E9856-72B2-4F05-8879-72F825C2F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BDF9F-04C4-45B6-9FC5-CCE9B5529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11CA5-99CA-4959-8403-DAD8DC30C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3A2FC-EF25-4590-ADD9-C0E3AE233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7E60C-273E-4287-8667-5341F4D9E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85A2D-8B52-46F8-A575-C72716634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3B0A0-B3EE-40B1-B0D8-176F64D4A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F0D22-A0D4-430F-AF0A-B207EDDA7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AA975-3FE2-41D5-9D77-6BC8A6CD8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E36DF-A597-458F-A518-315577363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1C80D-FF35-4FAF-AFA4-94210F562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C18F9-9754-4E84-AF0F-E52D04280FB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EA567-58B9-4A63-B1EF-0727BCC5481B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gi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gi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Box 3"/>
          <p:cNvSpPr/>
          <p:nvPr/>
        </p:nvSpPr>
        <p:spPr>
          <a:xfrm>
            <a:off x="1000080" y="571680"/>
            <a:ext cx="700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езентация  по  курсу страновед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ема: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hern  Irel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TextBox 4"/>
          <p:cNvSpPr/>
          <p:nvPr/>
        </p:nvSpPr>
        <p:spPr>
          <a:xfrm>
            <a:off x="642960" y="3357720"/>
            <a:ext cx="3643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Ученицы  7а  класс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ГБОУ  СОШ  №  18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итникова  Анастас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икулина  Мар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Box 5"/>
          <p:cNvSpPr/>
          <p:nvPr/>
        </p:nvSpPr>
        <p:spPr>
          <a:xfrm>
            <a:off x="3571920" y="5715000"/>
            <a:ext cx="25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анкт-Петербург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2014 го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b7"/>
                </a:solidFill>
                <a:latin typeface="Arial Black"/>
              </a:rPr>
              <a:t>Northern Ireland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 u="sng">
                <a:solidFill>
                  <a:srgbClr val="ffffff"/>
                </a:solidFill>
                <a:uFillTx/>
                <a:latin typeface="Arial"/>
              </a:rPr>
              <a:t>and its capital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Picture 4" descr="600px-Flag_of_Ireland"/>
          <p:cNvPicPr/>
          <p:nvPr/>
        </p:nvPicPr>
        <p:blipFill>
          <a:blip r:embed="rId1"/>
          <a:stretch/>
        </p:blipFill>
        <p:spPr>
          <a:xfrm>
            <a:off x="3098880" y="0"/>
            <a:ext cx="2830320" cy="19620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5" descr="YellowPagesPhoto"/>
          <p:cNvPicPr/>
          <p:nvPr/>
        </p:nvPicPr>
        <p:blipFill>
          <a:blip r:embed="rId2"/>
          <a:stretch/>
        </p:blipFill>
        <p:spPr>
          <a:xfrm>
            <a:off x="5796000" y="4653000"/>
            <a:ext cx="3348000" cy="22050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6" descr="MC900442032[1]"/>
          <p:cNvPicPr/>
          <p:nvPr/>
        </p:nvPicPr>
        <p:blipFill>
          <a:blip r:embed="rId3"/>
          <a:stretch/>
        </p:blipFill>
        <p:spPr>
          <a:xfrm>
            <a:off x="5867280" y="2852640"/>
            <a:ext cx="2643480" cy="15843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7" descr="MC900347139[1]"/>
          <p:cNvPicPr/>
          <p:nvPr/>
        </p:nvPicPr>
        <p:blipFill>
          <a:blip r:embed="rId4"/>
          <a:stretch/>
        </p:blipFill>
        <p:spPr>
          <a:xfrm>
            <a:off x="0" y="3860640"/>
            <a:ext cx="2050920" cy="280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Northern Ireland is situated in the northeastern part of the island of Ireland is the Capital and largest city is Belfast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Picture 6" descr="ireland"/>
          <p:cNvPicPr/>
          <p:nvPr/>
        </p:nvPicPr>
        <p:blipFill>
          <a:blip r:embed="rId1"/>
          <a:stretch/>
        </p:blipFill>
        <p:spPr>
          <a:xfrm>
            <a:off x="5003640" y="620640"/>
            <a:ext cx="4427640" cy="48531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7" descr="MC900407898[1]"/>
          <p:cNvPicPr/>
          <p:nvPr/>
        </p:nvPicPr>
        <p:blipFill>
          <a:blip r:embed="rId2"/>
          <a:stretch/>
        </p:blipFill>
        <p:spPr>
          <a:xfrm>
            <a:off x="611280" y="4797360"/>
            <a:ext cx="2592360" cy="180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Belfast- capital of Northern Ireland so that's what we te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Belfast-a city in Northern Ireland, at the mouth of Laganas, on the Irish sea. Belfast - the main city and port in Northern Irelan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6" descr="139941001289553321"/>
          <p:cNvPicPr/>
          <p:nvPr/>
        </p:nvPicPr>
        <p:blipFill>
          <a:blip r:embed="rId1"/>
          <a:stretch/>
        </p:blipFill>
        <p:spPr>
          <a:xfrm>
            <a:off x="4788000" y="1557360"/>
            <a:ext cx="4356000" cy="47530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7" descr="MP900423118[1]"/>
          <p:cNvPicPr/>
          <p:nvPr/>
        </p:nvPicPr>
        <p:blipFill>
          <a:blip r:embed="rId2"/>
          <a:stretch/>
        </p:blipFill>
        <p:spPr>
          <a:xfrm>
            <a:off x="6624720" y="0"/>
            <a:ext cx="2519280" cy="27082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9" descr="MM910001122[1]"/>
          <p:cNvPicPr/>
          <p:nvPr/>
        </p:nvPicPr>
        <p:blipFill>
          <a:blip r:embed="rId3"/>
          <a:stretch/>
        </p:blipFill>
        <p:spPr>
          <a:xfrm>
            <a:off x="4788000" y="5000760"/>
            <a:ext cx="2305080" cy="1857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interesting places о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f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Northern Ireland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7" name="Picture 10" descr="город_Белфаст_Великобритания_city_Belfast_Great-Britain-2"/>
          <p:cNvPicPr/>
          <p:nvPr/>
        </p:nvPicPr>
        <p:blipFill>
          <a:blip r:embed="rId1"/>
          <a:stretch/>
        </p:blipFill>
        <p:spPr>
          <a:xfrm>
            <a:off x="250920" y="1962000"/>
            <a:ext cx="4330440" cy="489600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The centre of Belfast is the square of Donog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,around this square are beautiful monuments On the square Donog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l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town hall, and national library where are the treasures of the national literature of Irelan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Picture 13" descr="MC900428117[1]"/>
          <p:cNvPicPr/>
          <p:nvPr/>
        </p:nvPicPr>
        <p:blipFill>
          <a:blip r:embed="rId2"/>
          <a:stretch/>
        </p:blipFill>
        <p:spPr>
          <a:xfrm>
            <a:off x="6732720" y="189000"/>
            <a:ext cx="2000160" cy="1803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21" name="Picture 11" descr="Skulptura-Bolshaya-Ryba"/>
          <p:cNvPicPr/>
          <p:nvPr/>
        </p:nvPicPr>
        <p:blipFill>
          <a:blip r:embed="rId1"/>
          <a:stretch/>
        </p:blipFill>
        <p:spPr>
          <a:xfrm>
            <a:off x="395280" y="549360"/>
            <a:ext cx="4319640" cy="25923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0" descr="город_Белфаст_Великобритания_city_Belfast_Great-Britain-4"/>
          <p:cNvPicPr/>
          <p:nvPr/>
        </p:nvPicPr>
        <p:blipFill>
          <a:blip r:embed="rId2"/>
          <a:stretch/>
        </p:blipFill>
        <p:spPr>
          <a:xfrm>
            <a:off x="395280" y="3213000"/>
            <a:ext cx="4319640" cy="291960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One of the most popular attractions is the 10-meter figure of the «Big fish»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The Grand Opera house, too, is a landmark Belfast. In this building sing and play the best shows and song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History and culture of the city are presented in Оlivens Museum near the Queens University. In this Museum you can learn all about the history and traditions of Northern Ireland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Picture 17" descr="MM910001165[1]"/>
          <p:cNvPicPr/>
          <p:nvPr/>
        </p:nvPicPr>
        <p:blipFill>
          <a:blip r:embed="rId3"/>
          <a:stretch/>
        </p:blipFill>
        <p:spPr>
          <a:xfrm>
            <a:off x="6659640" y="189000"/>
            <a:ext cx="2305080" cy="1584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Cathedral of St. Anna, which can be found on the street Donegall St. This is one of the magnificent buildings,decorated with frescoes, icons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There is a castle and Belfast. The exhibits of this Museum will tell a lot about the history of the castle . The castle was built in the 12th century, but the реставриравали castle in 1870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Picture 8" descr="город_Белфаст_Великобритания_city_Belfast_Great-Britain-6"/>
          <p:cNvPicPr/>
          <p:nvPr/>
        </p:nvPicPr>
        <p:blipFill>
          <a:blip r:embed="rId1"/>
          <a:stretch/>
        </p:blipFill>
        <p:spPr>
          <a:xfrm>
            <a:off x="4462560" y="1341360"/>
            <a:ext cx="4681440" cy="55166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0" descr="MC900355867[1]"/>
          <p:cNvPicPr/>
          <p:nvPr/>
        </p:nvPicPr>
        <p:blipFill>
          <a:blip r:embed="rId2"/>
          <a:stretch/>
        </p:blipFill>
        <p:spPr>
          <a:xfrm>
            <a:off x="0" y="4952880"/>
            <a:ext cx="1332000" cy="1905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4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9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26560" y="191592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Thank you for attention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!!!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Работу выполнили Ситникова Анастасия и Никулина Мария Ученицы 7А класса 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Picture 4" descr="MC900407898[2]"/>
          <p:cNvPicPr/>
          <p:nvPr/>
        </p:nvPicPr>
        <p:blipFill>
          <a:blip r:embed="rId1"/>
          <a:stretch/>
        </p:blipFill>
        <p:spPr>
          <a:xfrm>
            <a:off x="2340000" y="1557360"/>
            <a:ext cx="525636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0T15:22:14Z</dcterms:created>
  <dc:creator>комп</dc:creator>
  <dc:description/>
  <dc:language>en-US</dc:language>
  <cp:lastModifiedBy>Admin</cp:lastModifiedBy>
  <dcterms:modified xsi:type="dcterms:W3CDTF">2014-01-27T16:08:16Z</dcterms:modified>
  <cp:revision>3</cp:revision>
  <dc:subject/>
  <dc:title>Nordirland </dc:title>
</cp:coreProperties>
</file>