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307E-5F25-4DE2-80A7-AB8BD0012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FF05-EBEB-4EF7-9B09-DB0DE2FC1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B9F8-B3A8-413F-AF54-89A677018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3434-14EA-4AF0-ABED-5D179C2A1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202E-6390-474A-BFCA-843773F53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34CD-8FB2-46D5-8C27-385F5404E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E37C-0DCC-417C-A313-63FD29F9D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69FA-5F31-405C-93FC-4CACD2D4F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78C4-106F-4B8D-A059-A3BCAF5CA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E725-F9C9-487F-B001-085D6092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E689-CFB3-4C7C-9143-5D94D15F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0F53-A925-4EED-8B35-0ABDDF6C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686F8-6FCC-40C7-A174-6B9199941AD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Личный пример родителей 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 занятиях спортом»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11280" y="2421000"/>
            <a:ext cx="71611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ыполнила: ученица 8 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ласс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БОУ «СОШ» № 1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лий Анастасия Николаев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уководитель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читель физкультур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брагимова Светла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ладимировна</a:t>
            </a:r>
            <a:r>
              <a:rPr b="0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1" descr="http://zdravkom.ru/images/lenta/57/1/big/sportivnaya_semja=.jpg"/>
          <p:cNvPicPr/>
          <p:nvPr/>
        </p:nvPicPr>
        <p:blipFill>
          <a:blip r:embed="rId1"/>
          <a:stretch/>
        </p:blipFill>
        <p:spPr>
          <a:xfrm>
            <a:off x="4572000" y="2205000"/>
            <a:ext cx="388764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Заголовок 1"/>
          <p:cNvSpPr/>
          <p:nvPr/>
        </p:nvSpPr>
        <p:spPr>
          <a:xfrm>
            <a:off x="6227640" y="1844640"/>
            <a:ext cx="30974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А –родители не занимаются спортом;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Б –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ети этих родителей занимающиеся спортом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;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 –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ети этих родителей   не занимающиеся спортом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;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Диаграмма 6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5862600" cy="43498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8686440" y="5949720"/>
            <a:ext cx="1214280" cy="1760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360000"/>
            <a:ext cx="585468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.  Родители не занимаются спорт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Заключ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http://www.fittrends.ru/pics/_580_1000_90_1255630703567519638.jpg"/>
          <p:cNvPicPr/>
          <p:nvPr/>
        </p:nvPicPr>
        <p:blipFill>
          <a:blip r:embed="rId2"/>
          <a:stretch/>
        </p:blipFill>
        <p:spPr>
          <a:xfrm>
            <a:off x="179280" y="1125360"/>
            <a:ext cx="4969080" cy="361656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8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0" descr="http://aifudm.net/upload/iblock/50b/50be73a6149c657e3929f85436762500.jpg"/>
          <p:cNvPicPr/>
          <p:nvPr/>
        </p:nvPicPr>
        <p:blipFill>
          <a:blip r:embed="rId3"/>
          <a:stretch/>
        </p:blipFill>
        <p:spPr>
          <a:xfrm>
            <a:off x="4284720" y="3357720"/>
            <a:ext cx="46022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Рекомендации «Как приобщить детей к физкультуре и спорту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300720" y="6125760"/>
            <a:ext cx="2386080" cy="7318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http://vologda-portal.ru/upload/iblock/a7e/%20pxrzw_2.jpg"/>
          <p:cNvPicPr/>
          <p:nvPr/>
        </p:nvPicPr>
        <p:blipFill>
          <a:blip r:embed="rId2"/>
          <a:stretch/>
        </p:blipFill>
        <p:spPr>
          <a:xfrm>
            <a:off x="1116000" y="1628640"/>
            <a:ext cx="658800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Пункт 1</a:t>
            </a:r>
            <a:br>
              <a:rPr sz="4400"/>
            </a:b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95280" y="1571760"/>
            <a:ext cx="8577360" cy="16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Сначала нужно найти занятие, которое всем понравит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8" descr="http://onfit.ru/upload/photo/14969/ufa_family.jpg"/>
          <p:cNvPicPr/>
          <p:nvPr/>
        </p:nvPicPr>
        <p:blipFill>
          <a:blip r:embed="rId1"/>
          <a:stretch/>
        </p:blipFill>
        <p:spPr>
          <a:xfrm>
            <a:off x="171360" y="2919240"/>
            <a:ext cx="4486320" cy="3365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2" descr="http://www.yuga.ru/media/zaryadka_deti.jpg"/>
          <p:cNvPicPr/>
          <p:nvPr/>
        </p:nvPicPr>
        <p:blipFill>
          <a:blip r:embed="rId2"/>
          <a:stretch/>
        </p:blipFill>
        <p:spPr>
          <a:xfrm>
            <a:off x="4638600" y="2992320"/>
            <a:ext cx="4260960" cy="31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Пункт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13880" y="1642680"/>
            <a:ext cx="747252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Зате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вместе составить график занятий и повесить его на видное мест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8" descr="http://images03.olx.com.ua/ui/20/45/81/1334298459_2284481_1---.jpg"/>
          <p:cNvPicPr/>
          <p:nvPr/>
        </p:nvPicPr>
        <p:blipFill>
          <a:blip r:embed="rId1"/>
          <a:stretch/>
        </p:blipFill>
        <p:spPr>
          <a:xfrm>
            <a:off x="1332000" y="2421000"/>
            <a:ext cx="6335640" cy="42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Пункт 3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13880" y="1268280"/>
            <a:ext cx="811548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Кроме того, неплохо повесить дома турник, соорудить шведскую стенку и купить гантели. Разве можно пройти мимо турника и ни разу не подтянутьс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10" descr="http://www.ofk-tm.ru/Video-2/semejnye_zanjatija_sportom.jpg"/>
          <p:cNvPicPr/>
          <p:nvPr/>
        </p:nvPicPr>
        <p:blipFill>
          <a:blip r:embed="rId1"/>
          <a:stretch/>
        </p:blipFill>
        <p:spPr>
          <a:xfrm>
            <a:off x="1547640" y="2924280"/>
            <a:ext cx="599940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Пункт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814320" y="1052280"/>
            <a:ext cx="832968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Неплохо чередовать виды спорта, чтобы развивать разные группы мышц. К примеру, по четным дням устраивать велогонки, по нечетным – играть в мяч. Зимой ходитьна лыжах и плавать в бассейн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9" descr="http://xozayka.ru/assets/images/statii/sport_family.jpg"/>
          <p:cNvPicPr/>
          <p:nvPr/>
        </p:nvPicPr>
        <p:blipFill>
          <a:blip r:embed="rId1"/>
          <a:stretch/>
        </p:blipFill>
        <p:spPr>
          <a:xfrm>
            <a:off x="468360" y="2924280"/>
            <a:ext cx="3959280" cy="32432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http://family-tradition.ru/images/u/bse/1.jpg"/>
          <p:cNvPicPr/>
          <p:nvPr/>
        </p:nvPicPr>
        <p:blipFill>
          <a:blip r:embed="rId2"/>
          <a:stretch/>
        </p:blipFill>
        <p:spPr>
          <a:xfrm>
            <a:off x="4745160" y="2924280"/>
            <a:ext cx="37875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143000" y="764640"/>
            <a:ext cx="6786720" cy="18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Спасибо  за   внимание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4" descr="http://photo.7ya.ru/7ya-photo/2009/3/10/1236685057686.jpg"/>
          <p:cNvPicPr/>
          <p:nvPr/>
        </p:nvPicPr>
        <p:blipFill>
          <a:blip r:embed="rId1"/>
          <a:stretch/>
        </p:blipFill>
        <p:spPr>
          <a:xfrm>
            <a:off x="642960" y="2714760"/>
            <a:ext cx="3306600" cy="2387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http://blog.teamo.ru/wp-content/uploads/2012/09/113.jpg"/>
          <p:cNvPicPr/>
          <p:nvPr/>
        </p:nvPicPr>
        <p:blipFill>
          <a:blip r:embed="rId2"/>
          <a:stretch/>
        </p:blipFill>
        <p:spPr>
          <a:xfrm>
            <a:off x="4172040" y="2286000"/>
            <a:ext cx="45036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</a:t>
            </a:r>
            <a:br>
              <a:rPr sz="4000"/>
            </a:br>
            <a:r>
              <a:rPr b="1" lang="ru-RU" sz="32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Недостаток  движений  ведет: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599840"/>
            <a:ext cx="8229600" cy="39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 к гиподинами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излишней полнот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ухудшению здоровья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 только личный пример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одителей  являетс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дежным средство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влечь своих детей физкультурой и спорто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2" descr="DmitriyShironosov_shutterstock.com_718558931306491265"/>
          <p:cNvPicPr/>
          <p:nvPr/>
        </p:nvPicPr>
        <p:blipFill>
          <a:blip r:embed="rId1"/>
          <a:stretch/>
        </p:blipFill>
        <p:spPr>
          <a:xfrm>
            <a:off x="5072040" y="1557360"/>
            <a:ext cx="367668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5804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Гипотеза работ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42560" y="1571400"/>
            <a:ext cx="414324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2" marL="1307160" indent="-39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лияет ли личный пример родителей на приобщение детей к занятиям спортом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307160" indent="-39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1" descr="Совместное занятие физкультурой"/>
          <p:cNvPicPr/>
          <p:nvPr/>
        </p:nvPicPr>
        <p:blipFill>
          <a:blip r:embed="rId1"/>
          <a:stretch/>
        </p:blipFill>
        <p:spPr>
          <a:xfrm>
            <a:off x="4427640" y="1557360"/>
            <a:ext cx="4176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установить влияние  личного приме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родителей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на приобще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детей к занятиям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спортом 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2" descr="Личный пример родителей очень важен - &quot;ЗдравКом&quot;."/>
          <p:cNvPicPr/>
          <p:nvPr/>
        </p:nvPicPr>
        <p:blipFill>
          <a:blip r:embed="rId1"/>
          <a:stretch/>
        </p:blipFill>
        <p:spPr>
          <a:xfrm>
            <a:off x="4932360" y="2349360"/>
            <a:ext cx="33847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Задачи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анализировать литературу и другие источники по данной проблеме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зработать вопросы  анкет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Пример родителей в приобщении детей к физкультуре и спорту» и провести опрос у учащихся 2 - 9 класс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зработать практические рекомендации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ля родителей </a:t>
            </a:r>
            <a:r>
              <a:rPr b="0" lang="ru-RU" sz="25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Как приобщить семью к занятиям физкультурой и спортом». 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3" descr="i (2).jpg"/>
          <p:cNvPicPr/>
          <p:nvPr/>
        </p:nvPicPr>
        <p:blipFill>
          <a:blip r:embed="rId1"/>
          <a:stretch/>
        </p:blipFill>
        <p:spPr>
          <a:xfrm>
            <a:off x="6443640" y="5013360"/>
            <a:ext cx="2232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Лучший пример - личный пример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p38_p1011701"/>
          <p:cNvPicPr/>
          <p:nvPr/>
        </p:nvPicPr>
        <p:blipFill>
          <a:blip r:embed="rId1"/>
          <a:stretch/>
        </p:blipFill>
        <p:spPr>
          <a:xfrm>
            <a:off x="4788000" y="1844640"/>
            <a:ext cx="3384360" cy="302436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" descr="http://tver.rastemvrossii.ru/sites/default/files/Tver/gests/x_8e8c211f.jpg"/>
          <p:cNvPicPr/>
          <p:nvPr/>
        </p:nvPicPr>
        <p:blipFill>
          <a:blip r:embed="rId2"/>
          <a:stretch/>
        </p:blipFill>
        <p:spPr>
          <a:xfrm>
            <a:off x="684360" y="1844640"/>
            <a:ext cx="33829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58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Подтверждение выдвинутой гипотезы предполагается провести теоретическим и практическим путем</a:t>
            </a:r>
            <a:r>
              <a:rPr b="0" lang="ru-RU" sz="2800" spc="-1" strike="noStrike">
                <a:solidFill>
                  <a:srgbClr val="9900cc"/>
                </a:solidFill>
                <a:latin typeface="Calibri"/>
              </a:rPr>
              <a:t>.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28400" y="1773360"/>
            <a:ext cx="79722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еоретическая часть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основывается на следующих  информационных источниках и интернет - ресурсах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.</a:t>
            </a:r>
            <a:r>
              <a:rPr b="0" lang="ru-RU" sz="24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http://www.detsad-2433.ru/site/?p=338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.  «Личный пример родителей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.</a:t>
            </a:r>
            <a:r>
              <a:rPr b="0" lang="ru-RU" sz="24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http://zdravkom.ru/health_child/lenta_57/index.html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 «Как приучить семью к спорту?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. </a:t>
            </a:r>
            <a:r>
              <a:rPr b="0" lang="ru-RU" sz="24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http://tver.rastemvrossii.ru/spetsialisti/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 «Как привлечь детей к спортивному образу жизни?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.</a:t>
            </a:r>
            <a:r>
              <a:rPr b="0" lang="ru-RU" sz="24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http://sportinfol3.ucoz.ru/publ/ne_khochu_na_fizkulturu/2-1-0-76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«Не хочу на физкультуру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!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Рисунок 3" descr="i (2).jpg"/>
          <p:cNvPicPr/>
          <p:nvPr/>
        </p:nvPicPr>
        <p:blipFill>
          <a:blip r:embed="rId1"/>
          <a:stretch/>
        </p:blipFill>
        <p:spPr>
          <a:xfrm>
            <a:off x="6715080" y="5357880"/>
            <a:ext cx="171468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Какие исследования были проведен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28760" y="128592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сследование проводилось с помощью  опроса - анкетирования «Пример родителей в приобщении детей к физкультуре и спорту» у учащихся 2-9 классов, всего приняло участие в анкетировании 199 учащихся МБОУ «СОШ № 14»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бработав результаты, мы пришли к следующим выводам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3" descr="i (2).jpg"/>
          <p:cNvPicPr/>
          <p:nvPr/>
        </p:nvPicPr>
        <p:blipFill>
          <a:blip r:embed="rId1"/>
          <a:stretch/>
        </p:blipFill>
        <p:spPr>
          <a:xfrm>
            <a:off x="5796000" y="5084640"/>
            <a:ext cx="287820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372360" y="1285920"/>
            <a:ext cx="2952720" cy="322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А -родители занимаются спортом;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Б –дети этих родителей занимающиеся спортом ;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В - дети этих родителей  не занимающиеся спортом ;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Диаграмма 5" descr=""/>
          <p:cNvPicPr/>
          <p:nvPr/>
        </p:nvPicPr>
        <p:blipFill>
          <a:blip r:embed="rId1"/>
          <a:stretch/>
        </p:blipFill>
        <p:spPr>
          <a:xfrm>
            <a:off x="200160" y="857160"/>
            <a:ext cx="6222960" cy="43513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1042560" y="333360"/>
            <a:ext cx="7921800" cy="2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3000"/>
          </a:bodyPr>
          <a:p>
            <a:pPr marL="181800" indent="-181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Родители занимаются спорт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1800" indent="-181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7T12:53:32Z</dcterms:created>
  <dc:creator>Дом</dc:creator>
  <dc:description/>
  <dc:language>en-US</dc:language>
  <cp:lastModifiedBy>DNA7 X86</cp:lastModifiedBy>
  <dcterms:modified xsi:type="dcterms:W3CDTF">2014-01-27T16:11:11Z</dcterms:modified>
  <cp:revision>152</cp:revision>
  <dc:subject/>
  <dc:title>Совместная работу с родителями по формированию по ЗОЖ</dc:title>
</cp:coreProperties>
</file>