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0FE-6CAF-45FE-8C71-82408AC6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95F-79DF-4012-9738-C69473F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8B5-F3B3-4E41-8A9F-B3251C4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713-8232-47AA-A568-C5B77EFF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C9A-A550-4A37-9251-A4F633B7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DA4-B8CE-493C-B4FF-C3C20B4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7D5-550B-4013-9571-D3332828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2B5-B18C-4093-B7E5-6746717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2BA-B0C2-4C52-90B8-69D93EA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DE9-72C8-4E3A-966B-768E31D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E3B-F6A9-40A3-805E-D093D5CB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80D-D17B-422A-84F1-B26D347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5A3-3870-4930-B19D-81C56C194A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Личный пример родителей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занятиях спортом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21000"/>
            <a:ext cx="716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ла: ученица 8 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БОУ «СОШ» № 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лий Анастасия Никола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ель физ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брагимова Светл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адимировна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http://zdravkom.ru/images/lenta/57/1/big/sportivnaya_semja=.jpg"/>
          <p:cNvPicPr/>
          <p:nvPr/>
        </p:nvPicPr>
        <p:blipFill>
          <a:blip r:embed="rId1"/>
          <a:stretch/>
        </p:blipFill>
        <p:spPr>
          <a:xfrm>
            <a:off x="4572000" y="2205000"/>
            <a:ext cx="38876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6227640" y="1844640"/>
            <a:ext cx="3097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 –родители не занимаются спортом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и этих родителей занимающиеся спорт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и этих родителей   не занимающиеся спорт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иаграмма 6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5862600" cy="4349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686440" y="5949720"/>
            <a:ext cx="1214280" cy="176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60000"/>
            <a:ext cx="585468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Родители не занимаются спор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www.fittrends.ru/pics/_580_1000_90_1255630703567519638.jpg"/>
          <p:cNvPicPr/>
          <p:nvPr/>
        </p:nvPicPr>
        <p:blipFill>
          <a:blip r:embed="rId2"/>
          <a:stretch/>
        </p:blipFill>
        <p:spPr>
          <a:xfrm>
            <a:off x="179280" y="1125360"/>
            <a:ext cx="4969080" cy="3616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http://aifudm.net/upload/iblock/50b/50be73a6149c657e3929f85436762500.jpg"/>
          <p:cNvPicPr/>
          <p:nvPr/>
        </p:nvPicPr>
        <p:blipFill>
          <a:blip r:embed="rId3"/>
          <a:stretch/>
        </p:blipFill>
        <p:spPr>
          <a:xfrm>
            <a:off x="4284720" y="3357720"/>
            <a:ext cx="4602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Рекомендации «Как приобщить детей к физкультуре и спорт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6125760"/>
            <a:ext cx="2386080" cy="73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vologda-portal.ru/upload/iblock/a7e/%20pxrzw_2.jpg"/>
          <p:cNvPicPr/>
          <p:nvPr/>
        </p:nvPicPr>
        <p:blipFill>
          <a:blip r:embed="rId2"/>
          <a:stretch/>
        </p:blipFill>
        <p:spPr>
          <a:xfrm>
            <a:off x="1116000" y="1628640"/>
            <a:ext cx="6588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1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1571760"/>
            <a:ext cx="857736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начала нужно найти занятие, которое всем понрав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http://onfit.ru/upload/photo/14969/ufa_family.jpg"/>
          <p:cNvPicPr/>
          <p:nvPr/>
        </p:nvPicPr>
        <p:blipFill>
          <a:blip r:embed="rId1"/>
          <a:stretch/>
        </p:blipFill>
        <p:spPr>
          <a:xfrm>
            <a:off x="171360" y="2919240"/>
            <a:ext cx="4486320" cy="336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yuga.ru/media/zaryadka_deti.jpg"/>
          <p:cNvPicPr/>
          <p:nvPr/>
        </p:nvPicPr>
        <p:blipFill>
          <a:blip r:embed="rId2"/>
          <a:stretch/>
        </p:blipFill>
        <p:spPr>
          <a:xfrm>
            <a:off x="4638600" y="2992320"/>
            <a:ext cx="42609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642680"/>
            <a:ext cx="74725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а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месте составить график занятий и повесить его на видно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http://images03.olx.com.ua/ui/20/45/81/1334298459_2284481_1---.jpg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3880" y="1268280"/>
            <a:ext cx="8115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роме того, неплохо повесить дома турник, соорудить шведскую стенку и купить гантели. Разве можно пройти мимо турника и ни разу не подтяну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http://www.ofk-tm.ru/Video-2/semejnye_zanjatija_sportom.jpg"/>
          <p:cNvPicPr/>
          <p:nvPr/>
        </p:nvPicPr>
        <p:blipFill>
          <a:blip r:embed="rId1"/>
          <a:stretch/>
        </p:blipFill>
        <p:spPr>
          <a:xfrm>
            <a:off x="1547640" y="2924280"/>
            <a:ext cx="59994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4320" y="1052280"/>
            <a:ext cx="832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Неплохо чередовать виды спорта, чтобы развивать разные группы мышц. К примеру, по четным дням устраивать велогонки, по нечетным – играть в мяч. Зимой ходитьна лыжах и плавать в бассей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http://xozayka.ru/assets/images/statii/sport_family.jpg"/>
          <p:cNvPicPr/>
          <p:nvPr/>
        </p:nvPicPr>
        <p:blipFill>
          <a:blip r:embed="rId1"/>
          <a:stretch/>
        </p:blipFill>
        <p:spPr>
          <a:xfrm>
            <a:off x="468360" y="2924280"/>
            <a:ext cx="3959280" cy="324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family-tradition.ru/images/u/bse/1.jpg"/>
          <p:cNvPicPr/>
          <p:nvPr/>
        </p:nvPicPr>
        <p:blipFill>
          <a:blip r:embed="rId2"/>
          <a:stretch/>
        </p:blipFill>
        <p:spPr>
          <a:xfrm>
            <a:off x="4745160" y="2924280"/>
            <a:ext cx="3787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43000" y="764640"/>
            <a:ext cx="6786720" cy="18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асибо  за  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photo.7ya.ru/7ya-photo/2009/3/10/1236685057686.jpg"/>
          <p:cNvPicPr/>
          <p:nvPr/>
        </p:nvPicPr>
        <p:blipFill>
          <a:blip r:embed="rId1"/>
          <a:stretch/>
        </p:blipFill>
        <p:spPr>
          <a:xfrm>
            <a:off x="642960" y="2714760"/>
            <a:ext cx="3306600" cy="23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blog.teamo.ru/wp-content/uploads/2012/09/113.jpg"/>
          <p:cNvPicPr/>
          <p:nvPr/>
        </p:nvPicPr>
        <p:blipFill>
          <a:blip r:embed="rId2"/>
          <a:stretch/>
        </p:blipFill>
        <p:spPr>
          <a:xfrm>
            <a:off x="4172040" y="2286000"/>
            <a:ext cx="4503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едостаток  движений  ведет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к гиподинам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злишней полно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ухудшению здоровь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только личный прим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телей  яв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дежным сред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лечь своих детей физкультурой и спор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DmitriyShironosov_shutterstock.com_718558931306491265"/>
          <p:cNvPicPr/>
          <p:nvPr/>
        </p:nvPicPr>
        <p:blipFill>
          <a:blip r:embed="rId1"/>
          <a:stretch/>
        </p:blipFill>
        <p:spPr>
          <a:xfrm>
            <a:off x="5072040" y="1557360"/>
            <a:ext cx="3676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Гипотеза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71400"/>
            <a:ext cx="41432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0716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ияет ли личный пример родителей на приобщение детей к занятиям спорт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716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" descr="Совместное занятие физкультурой"/>
          <p:cNvPicPr/>
          <p:nvPr/>
        </p:nvPicPr>
        <p:blipFill>
          <a:blip r:embed="rId1"/>
          <a:stretch/>
        </p:blipFill>
        <p:spPr>
          <a:xfrm>
            <a:off x="4427640" y="1557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установить влияние  личного при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родите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на приобщ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детей к занятиям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порто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Личный пример родителей очень важен - &quot;ЗдравКом&quot;."/>
          <p:cNvPicPr/>
          <p:nvPr/>
        </p:nvPicPr>
        <p:blipFill>
          <a:blip r:embed="rId1"/>
          <a:stretch/>
        </p:blipFill>
        <p:spPr>
          <a:xfrm>
            <a:off x="4932360" y="2349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литературу и другие источники по данной пробле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ать вопросы  анк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ример родителей в приобщении детей к физкультуре и спорту» и провести опрос у учащихся 2 - 9 клас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ать практические рекомендаци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родителей </a:t>
            </a: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ак приобщить семью к занятиям физкультурой и спортом».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i (2).jpg"/>
          <p:cNvPicPr/>
          <p:nvPr/>
        </p:nvPicPr>
        <p:blipFill>
          <a:blip r:embed="rId1"/>
          <a:stretch/>
        </p:blipFill>
        <p:spPr>
          <a:xfrm>
            <a:off x="6443640" y="501336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учший пример - личный пример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38_p1011701"/>
          <p:cNvPicPr/>
          <p:nvPr/>
        </p:nvPicPr>
        <p:blipFill>
          <a:blip r:embed="rId1"/>
          <a:stretch/>
        </p:blipFill>
        <p:spPr>
          <a:xfrm>
            <a:off x="4788000" y="184464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http://tver.rastemvrossii.ru/sites/default/files/Tver/gests/x_8e8c211f.jpg"/>
          <p:cNvPicPr/>
          <p:nvPr/>
        </p:nvPicPr>
        <p:blipFill>
          <a:blip r:embed="rId2"/>
          <a:stretch/>
        </p:blipFill>
        <p:spPr>
          <a:xfrm>
            <a:off x="684360" y="1844640"/>
            <a:ext cx="3382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58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дтверждение выдвинутой гипотезы предполагается провести теоретическим и практическим путем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773360"/>
            <a:ext cx="7972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оретическая часть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основывается на следующих  информационных источниках и интернет - ресурс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www.detsad-2433.ru/site/?p=338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.  «Личный пример род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zdravkom.ru/health_child/lenta_57/index.html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«Как приучить семью к спорту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tver.rastemvrossii.ru/spetsialisti/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«Как привлечь детей к спортивному образу жизни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sportinfol3.ucoz.ru/publ/ne_khochu_na_fizkulturu/2-1-0-76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Не хочу на физкультур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i (2).jpg"/>
          <p:cNvPicPr/>
          <p:nvPr/>
        </p:nvPicPr>
        <p:blipFill>
          <a:blip r:embed="rId1"/>
          <a:stretch/>
        </p:blipFill>
        <p:spPr>
          <a:xfrm>
            <a:off x="6715080" y="5357880"/>
            <a:ext cx="1714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Какие исследования были проведе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12859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следование проводилось с помощью  опроса - анкетирования «Пример родителей в приобщении детей к физкультуре и спорту» у учащихся 2-9 классов, всего приняло участие в анкетировании 199 учащихся МБОУ «СОШ № 14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ботав результаты, мы пришли к следующим вывод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i (2).jpg"/>
          <p:cNvPicPr/>
          <p:nvPr/>
        </p:nvPicPr>
        <p:blipFill>
          <a:blip r:embed="rId1"/>
          <a:stretch/>
        </p:blipFill>
        <p:spPr>
          <a:xfrm>
            <a:off x="5796000" y="5084640"/>
            <a:ext cx="28782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72360" y="1285920"/>
            <a:ext cx="2952720" cy="32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 -родители занимаются спортом;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 –дети этих родителей занимающиеся спортом ;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- дети этих родителей  не занимающиеся спортом 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5" descr=""/>
          <p:cNvPicPr/>
          <p:nvPr/>
        </p:nvPicPr>
        <p:blipFill>
          <a:blip r:embed="rId1"/>
          <a:stretch/>
        </p:blipFill>
        <p:spPr>
          <a:xfrm>
            <a:off x="200160" y="857160"/>
            <a:ext cx="6222960" cy="4351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042560" y="333360"/>
            <a:ext cx="79218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одители занимаются спор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2:53:32Z</dcterms:created>
  <dc:creator>Дом</dc:creator>
  <dc:description/>
  <dc:language>en-US</dc:language>
  <cp:lastModifiedBy>DNA7 X86</cp:lastModifiedBy>
  <dcterms:modified xsi:type="dcterms:W3CDTF">2014-01-27T16:11:11Z</dcterms:modified>
  <cp:revision>152</cp:revision>
  <dc:subject/>
  <dc:title>Совместная работу с родителями по формированию по ЗОЖ</dc:title>
</cp:coreProperties>
</file>