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AEE1-FF12-49CC-A640-29AA3D71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E3B3-6628-48FB-8215-FFF8552A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BFE6-14A1-4C76-BE2C-29C0134B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1E11-BF1D-4FB3-BABA-1B0200B5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6D53-BCBF-4AFF-BBAB-B736AC55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03BE-EE2C-4643-A59D-5194B2EB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C172-E4DE-4860-9354-C661059F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15B6-08FE-43C6-8A4B-A596617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1574-C7B9-4B1D-BB24-953ADF7A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284C-0BE0-42C6-AA3E-4305D205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FE0E-B489-4BBB-BC5B-47612589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0360-C07B-4C24-8A74-E71D47BA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5029-C4E7-4687-A6B2-BB456E32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AB83-82F3-4C1F-9BA4-3E463E4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B9E9-821E-4793-B197-AA7650CA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815D-064C-445C-983E-2DFDE20C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E11B-62E5-4499-A284-F210E4B7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952A-3702-48DB-93C7-E8FFCDAE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37BA-AA52-487D-9AF8-187E956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8C8D-5705-4FBA-BE7E-E5A41D2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44BC-1034-4E28-902E-09014C06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1318-0330-472A-A1D0-0E42E55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C412-CFA0-4F01-B0EC-1F6803F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D322-3487-45ED-9B2B-F92523A3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9633-B1EE-4877-8416-8886CDAD72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9F1B-8560-47E4-808D-C0B99DCFF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минар</a:t>
            </a:r>
            <a:br>
              <a:rPr sz="48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для руководителей и специалистов ОДОД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26560" y="2060280"/>
            <a:ext cx="770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</a:rPr>
              <a:t>Образовательные программы в системе дополнительного образ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составите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Агапова Елена Анатол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кретность определения знаний, умений и навыков, приобретаемых воспитан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емственность элементов содержания 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ответствие требованиям системности и преемственности в построении образовательного 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авленность на развитие природных способностей ребёнка, его интеллектуальной и эмоциональной сферы, его социальной адапт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Основные нормативные документ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Российской Федерации «Об образовани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овое положение об образовательном учреждении дополнительного образования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итарно-эпидемиологические правила и нормативы СанПиН 2.4.4. 1251-03 (зарегистрировано в Минюсте 27.05.03 г. № 4594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содержанию и оформлению образовательных программ дополнительного образования детей (утверждённые научно-методическим советом по дополнительному образованию детей Министерства образования Российской Федерации 03.06.2003 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примерных требованиях к программам дополнительного образования детей. Приложение к письму Департамента молодёжной политики, воспитания и социальной поддержки детей Миобразования и науки России от 11.12.200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№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6-184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Действия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– это определённые операции, конкретные мероприятия, являющиеся средством для достижения какой-либо цели, результата.</a:t>
            </a:r>
            <a:br>
              <a:rPr sz="3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Результат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– конечный итог, ради которого осуществлялись действия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В процессе моделирования результата необходимо учитывать следующее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ание программы должно быт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обеспечение самоопределения личности, создание условий для её самореализ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у обучающегося адекватной современному уровню образовательной программы картины ми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грацию личности в национальную мировую культу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человека и гражданина, интегрированного  в современное ему общество и нацеленное на совершенствование  этого общ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роизводство и развитие кадрового потенциала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должны соответствовать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ям общественного развития, обеспечивать всестороннее удовлетворение образовательных потребностей личности ребёнка, соответствовать образовательным интересам детского и взрослого населения, учитывая уровень развития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ижениям мировой культуры, российским традициям, культурно-национальным особен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оритетам социально-экономического разв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ённому уровню образования (дошкольного, начального общего, основного общего, среднего (полного) общего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dfde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направленностям дополнительных образовательных программ (научно-технической, спортивно-технической, художественной, физкультурно-спортивной, туристко-краеведческой, эколого-биологической, военно-патриотической, социально-педагогической, социально-экономической, естественнонаучной);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-  современным образовательным технологиям;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-  задачам становления гражданского общества и правового государства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направлено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создание условий для развития личности ребё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мотивации личности к познанию и творчеств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способности к самообразов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общение обучающихся к общечеловеческим ценност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ие условий для социального, культурного и профессионального самоопределения, творческой самореализации личности ребёнка, её интеграцию в систему мировой и отечественной культу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еспечение преемственности содержания различных видов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остность процесса психического и физического, умственного и духовного развития личности ребё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еспечение преемственности содержания различных видов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dfde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целостность процесса психического и физического, умственного и духовного развития личности ребёнка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-  обеспечение эмоционального благополучия ребёнка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укрепление психического и физического здоровья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- положительную социализацию ребёнка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-  взаимодействие педагога дополнительного образования с семьёй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-  профилактику асоциального поведения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Дополнительная образовательная программа</a:t>
            </a:r>
            <a:br>
              <a:rPr sz="3200"/>
            </a:b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позволяет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этапно выдвигать и реализовывать организционно - педагогические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изировать труд педагога и обучаю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тимизировать расписание занятий, массовых меро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пешно преодолевать дисгармоничность содержания работы детского объ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необходим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моделирования педагогически обоснованного образовательного процесса в детском объединении (воспитания, обучения и развития дете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выбора педагогических действий и содержания образования, которые обеспечивали бы достижение наибольших результатов при наименьших затратах сил, времени и 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роектирование 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– сложный и длительный творческий процесс, интегрирующий в единое целое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ование желаемых результатов на основе проблемного анализ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площение на практике задуманного с последующей корректировкой целей и задач, сравнением реальных и предполагаемых результа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Ключевые компетентности дополнительной образовательной программ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ватель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ормацион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муникатив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о-гражданск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торс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Технология разработки образовательной программы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Типовой алгоритм целевого программирова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9640" y="1484280"/>
          <a:ext cx="8229600" cy="507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Что необходимо определ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Компоненты программир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должно быть достигнуто, в конечном счёт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програм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требуется для достижения цели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ные цели (подцели), задачи, перечень мер (мероприяти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ресурсы и в каком объёме требуются для реализации программы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ые, материальные, финансовые, кадров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68360" y="260280"/>
          <a:ext cx="8229600" cy="6134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акой период времени рассчитана программ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енная характеристика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в механизм управления реализации программ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ая структура, включающая руководителя программы и звенья, ответственные за выполнения задач, мер, взаимодействия между н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слеживается и оценивается выполнение программ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ётный, отчётный и контролирующий механизм (механизм обратной связ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изменения следует внести в содержание и реализацию программ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рективы содержания и механизма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и насколько выполнена программ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едение итогов. Окончание программ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Структура образовательной программы дополнительного образования дете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Структур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строение, взаимное расположение частей, составляющих единое целое (С.И. Ожегов)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менование образовательного учре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де, когда и кем утверждена образовательная программа дополнительного образования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вание образовательной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раст детей, на которых рассчитана образовательная програм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реализации образовательной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епень авторства образовательной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.И.О., должность автора (авторов) дополнительной образовательной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вание гор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д разработки дополнительной образовательной 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Основные блоки програм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0" y="1413000"/>
          <a:ext cx="8964720" cy="5111640"/>
        </p:xfrm>
        <a:graphic>
          <a:graphicData uri="http://schemas.openxmlformats.org/drawingml/2006/table">
            <a:tbl>
              <a:tblPr/>
              <a:tblGrid>
                <a:gridCol w="1835280"/>
                <a:gridCol w="1728720"/>
                <a:gridCol w="1944720"/>
                <a:gridCol w="1771560"/>
                <a:gridCol w="168444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цепту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о-метод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о-тех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о-метод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аво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яснительная запис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е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и задач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-педагогические основы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Учебно-тематический пл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ическое обеспе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чень необходимого оборудования, инструментов и материалов в расчёте на каждого обучающегося в объедин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уемый результат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исок литературы для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исок литературы для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Пояснительная запис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280" y="-126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аправленность образовательной программ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ровень осво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едагогические концепции, идеи, на основе которых разработана данная образовательная программ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ктуальность, новизну, педагогическую целесообразность образовательной программ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вою точку зрения о влиянии занятий данным видом деятельности на развитие личности ребёнк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Цель и задачи дополнительной образовательной программ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тличительные особенности данной образовательной программы от уже существующих образовательных программ или указывает реквизиты и характеристику программ на основе которых она разработан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Функции педагогического проектирования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500" spc="-1" strike="noStrike">
                <a:solidFill>
                  <a:srgbClr val="dfdef6"/>
                </a:solidFill>
                <a:latin typeface="Arial"/>
              </a:rPr>
              <a:t>аналитическую  прогнозирующую   конструирующую</a:t>
            </a:r>
            <a:endParaRPr b="0" lang="en-US" sz="25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258920" y="285264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27640" y="2708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59640" y="2852640"/>
            <a:ext cx="7920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раст детей, участвующих в реализации данной дополнительной образовательной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ы и режим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жидаемые результаты и способы определения их результатив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ы подведения итогов реализации дополнительной образовательной программы (выставки, фестивали, соревнования, учебно-исследования конференции и т.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но-техн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ивно-техн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ественная или художественно-эстет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культурно-спортив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ристко - краевед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лого-биолог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енно-патриот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-педагог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-эконом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олог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ественно-нау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Уровни осво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екультурны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глублённый (от 3-х лет и больше)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фессионально-ориентиров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Arial"/>
              </a:rPr>
              <a:t>Цель и задачи образовательной программы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Цел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это заранее осознанный и планируемый результат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Цел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запланированный результат образовательного процесса, к которому должны быть направлены все усилия педагога и детей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68360" y="404640"/>
          <a:ext cx="8229600" cy="58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Ви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ого масшта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формирования мировоззрения личности, её культуры через новую образовательную систе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педагогического пл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равственное воспитание личн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личностных качест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лочение детского коллектива через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дактического пл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 полноценного досуг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Задача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– это конкретизированная формулировка пути достижения какой-либо части содержания поставленной цел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468360" y="115920"/>
          <a:ext cx="8229600" cy="618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Виды зада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ающ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Формирование специальных знаний, умений, навыко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довлетворение образовательных потребност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бретение основ трудовых и допрофессиональных умений и навык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ключённость в познавательную деятельность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опыта общеучебной и познавательн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формирование нравственного сознания личн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Воспитание качеств, взглядов, убеждени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уманистического мировоззре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ов самоконтрол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457200" y="404640"/>
          <a:ext cx="8229600" cy="630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лич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ни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ллектуальных способнос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тив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познавательного интерес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ключение в активную деятель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нтереса к занят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о-педагог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общественной актив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ация в социум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филактика асоциального поведени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 пове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539640" y="692280"/>
          <a:ext cx="8229240" cy="453348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сте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курат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ят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ценить красоту в себе и окружающем ми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здоров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хранение и укрепление здоровь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здорового образа жиз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рограмма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 –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нормативно-управленческий документ, отражающий план и содержание деятельности педагога, объединения, учреждения и целого региона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Образовательная програм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документ, содержащий основные цели и задачи педагогической деятельности, средства, методы, технологии их реа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Рекомендовано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и типа задач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разовательн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ющие, познавательны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вивающие (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ющие, мотивационны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спитательные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ельные, эстетические, оздоровительны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Цель и задачи могут формулироваться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всей образовательной программы в целом (обязательно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каждого уровня подготовки обучающихся, закладываемого в программу ( подготовительный, начальный, освоения деятельности, совершенствование деятельности, мастер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каждого года об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каждого этапа обучения (вводного, адаптационного, основного, практического, обобщающего и т.д.) внутри кур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Организационно-педагогические основы деятельност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-58680"/>
            <a:ext cx="8002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атус, вид образовательной группы (профильная, комплексная, экспериментальная, научно-исследовательска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став учебной группы (постоянный, переменный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сти набора детей (свободный, по конкурсу, по тестам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зраст обучающихся, психолого–педагогические особенности возрас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словия приёма обучающихся (с какого возраста, почему, медицинские условия, из какого микрорайона, из каких образовательных учреждений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личество обучающихся (общее, по годам обуч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ормы организации деятельности учащихся на занятии; (индивидуальная, по подгруппам, групповая, всем коллективом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ормы проведения занят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тоды обуч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Списочный состав объединения формируется исходя из необходимости присутствия на занятиях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ду обучения – не менее 15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ду обучения – не менее 12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оду обучения – не менее 10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 приёме в спортивные, спортивно-технические, туристские, хореографические объединения необходимо медицинское заключение врачебно-физкультурного диспансера или поликлиники о возможности заниматься данным видом дея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Формы проведения занятия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600200"/>
          <a:ext cx="8229600" cy="483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практическое занят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ед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занятие-игр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онкурс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творческая лаборатори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онцерт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праздник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езд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занятие-исследован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выставк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экскурси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лекци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искусси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астер-класс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оревнован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онтрольное занят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мотр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Классификация методов обучения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7200" y="1197000"/>
          <a:ext cx="8229600" cy="510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источнику зн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ые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глядные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ктическ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уровню познавательной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яснительно-иллюстративны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продуктивны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чно-поисковые (эвристические)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тельск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- сроки реализации образовательной программы (продолжительность образовательного процесса, этапы обучения)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достигаемые уровни подготовки (подготовительный, начальный, освоения деятельности, совершенствование деятельности мастерств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Ожидаемые результаты и способы определения </a:t>
            </a:r>
            <a:br>
              <a:rPr sz="4400"/>
            </a:b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их результативност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Образовательная программа педагога дополнительного образования – это нормативный документ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ражающий педагогическую концепцию педагога дополнительного образования в соответствии с заявленными целями и задачами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крывающий условия, методы и технологию реализации целей и задач, предполагаемый конечн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крывающий структуру организации, последовательность осуществления, информационное, технологическое и ресурсное обеспечение в соответствии с обоснованными целями и содержанием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Диагнос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слова «диагноз» (греч.- распознание, определение) - процесс исследования для определения диагноз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цесс исследования в целях выявить, распознать, определить характеристики человека, не поддающиеся обнаружению в прямом непосредственном общении с челове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Педагогическая диагностика –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 методов, приемов, специально разработанных технологий и методик, тестовых заданий, позволяющих в ходе педагогической экспертизы определять уровень развития ребенка, а также диагностировать причины недостатков и определить пути улучшения качества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ка педагогической диагностики – выполнение диагностики как основание для построения педагогической деятельности, а не как отдельный заказ. Диагностика помогает оптимизировать педагогическую деятельность, повысить ее результа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Цель диагностической деятельности педагогов -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ение объективной информации для управления (контроля и коррекции) качеством педагогического процесса, повышение эффективности педагогической деятельности, т.е. для оптимизации и повышения результативности педагогическ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Диагностика результативности образовательного процесса -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явление и фиксирование полученных в ходе образовательного процесса результатов с целью установления их соответствия ожидаемым результат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По каждому году обуч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57200" y="1600200"/>
          <a:ext cx="8229600" cy="391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жны знать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жны умет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Методы диагности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ие метод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ы опроса (беседа, интервью, анкетирование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письменных, графических и творческих работ учащих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педагогической докумен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ы теоретического исслед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нт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ие и статистические метод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нжиро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алиро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редних величин полученных показател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ff"/>
                </a:solidFill>
                <a:latin typeface="Arial"/>
              </a:rPr>
              <a:t>Описание форм предъявления результатов</a:t>
            </a:r>
            <a:endParaRPr b="0" lang="en-US" sz="3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179280" y="1600200"/>
          <a:ext cx="8713800" cy="482112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241440"/>
              </a:tblGrid>
              <a:tr h="11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предъ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преимущества имеют эти формы вы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ограничения имеют эти формы вы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та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глядность, убедительность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и наблюдателей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и участвуют с удовольствие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сравнения работ (в т.ч. самими детьм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ействованы не все дети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исимость от материально-технического оснащения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ьзя сохранить надолг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457200" y="836640"/>
          <a:ext cx="8229600" cy="425124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743200"/>
              </a:tblGrid>
              <a:tr h="14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предъ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преимущества имеют эти формы вы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ограничения имеют эти формы вы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е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с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мость, наглядность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жно хранить много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исимость от материально-технического оснащ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Формы подведения итогов реализации образовательной программ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есе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чё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чётный лис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ник по програм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фера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щита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ие норматив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трольные упражн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ие в концертах и выставк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ступления на конкурсах и соревнован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ктори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крытое занят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уществление диагностических процед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dfde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включающий краткое систематическое изложение содержания курса и объёмов, позволяющих ребёнку самоопределиться и реализовать себя в одной или нескольких областях образовательного пространства учреждения;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- направленный на достижение ребёнком прогнозируемого уровня образованности и воспитанности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Результатами обучения детей по программе могут являться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ённый набор знаний, умений и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способ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ожительные психические изме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престижа объеди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ение показателей адаптации в общест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бельные результаты: выставки, концерты, публик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ессиональное самоопределение обучающихся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Georgia"/>
              </a:rPr>
              <a:t>Для выявления и оценки результативности нужно определить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Параметр результата – (от греч. parametreo - меряю, сопоставляя) -величина, характеризующая какое-либо свойство, качество предм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Критерий – (от греч. kriterion - средство для суждения) - признак, на основании которого производится оценка, определение или классификация чего-либо; мери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Georgia"/>
              </a:rPr>
              <a:t>Для выявления и оценки результативности нужно определить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Показатели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– данные, по которым можно судить о развитии и ходе чего-ниб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Индикаторы</a:t>
            </a:r>
            <a:r>
              <a:rPr b="1" lang="en-US" sz="2400" spc="-1" strike="noStrike">
                <a:solidFill>
                  <a:srgbClr val="0d23f3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составляющие показателя, с помощью которых он наиболее подробно описыв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Методы</a:t>
            </a:r>
            <a:r>
              <a:rPr b="1" lang="en-US" sz="24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отслеживания результата – способы исследования (наблюдение, опрос, анкетирование, тестирование, анализ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Формы</a:t>
            </a:r>
            <a:r>
              <a:rPr b="1" lang="en-US" sz="24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предъявления результ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>
                <a:solidFill>
                  <a:srgbClr val="6666ff"/>
                </a:solidFill>
                <a:latin typeface="Arial"/>
              </a:rPr>
              <a:t>Учебно-тематический план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Включает в себя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разделов и тем програм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ичество часов по каждому разделу и теме с разбивкой на теоретические и практические виды занятий в пределах установленного на реализацию программы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457200" y="549360"/>
          <a:ext cx="8229600" cy="594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час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час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часа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 часа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часа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часа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4 часа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асов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часов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8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асов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часов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2 часа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68360" y="189000"/>
          <a:ext cx="8229600" cy="6459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1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ча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к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 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одное занят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 2 (наз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 (наз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Методические рекомендации по количеству учебных часов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(Приложение к приказу Комитета по образованию от 18.03.09 № 146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год – 144 – 216 часов (4-6 академических часов в недел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год – 216 – 288 часов (6-8 академических часов в недел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и последующих годов – 288, 360, 432 часов (8-12 академических часов в недел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ксимально допустимая нагрузка 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дного ребёнка в неделю не долж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евыша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2 академических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Содержание программы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Функции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образовательной программы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57200" y="1600200"/>
          <a:ext cx="8229600" cy="436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программа является документом для выполнения в полном объё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полаг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ограмме определяются те цели и ценности, ради достижения которых она введена учебный план учре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кс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яет состав элементов содержания, подлежащих усвоению деть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ссуа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ограмме определяется логическая последовательность усвоения материала, основные формы и методы обучения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Для оформления предлагается следующая схема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№ раздела. Название раз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№ темы. Название т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(основные теоретические понятия, без подробной расшифровки и описан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ктика (примерное содержание практической деятельности детей на учебном заняти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сто проведения занятия (если занятие выездно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Методическое обеспечение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програм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Обеспечение учебного процесса различными видами методической продукции представляется в виде перечня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разработки игр, бесед, походов, экскурсий, конкурсов, конференций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комендации по проведению лабораторных и практических работ, по постановке экспериментов или опытов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дактические и лекционные материалы или методики по исследовательской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тику опытнической или исследовательской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57200" y="404640"/>
          <a:ext cx="8229600" cy="6035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атери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матери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и раздел програм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тельности но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кат - сх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. Нотная азбу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3. Длительности но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……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……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……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Материально-техническое обеспечение программы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ния к учебному кабинету (его размерам, освещению, вентиляционному режиму, покрытию пол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ния к оборудованию (технические средства обучения, специальные приспособления; при оформлении образовательных программ детских объединений информационных технологий необходимо указать компьютерный клас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ния к оснащению (мелкий инвентарь и расходные материалы в расчёте на каждого обучающегося в объединени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Кадровые условия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(если в программе предусмотрены несколько направлений образовательной деятельности или педагогу необходимы коллеги-помощники (концертмейстер, репетитор, режиссёр и др.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ff"/>
                </a:solidFill>
                <a:latin typeface="Arial"/>
              </a:rPr>
              <a:t>«Список литературы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Два списка литератур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ература, использованная педагогом при составлении образовательной программы и используемая в своей повседневной рабо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ература, рекомендуемая для чтения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Arial"/>
              </a:rPr>
              <a:t>Классификация программ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признаку функционального назначе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395280" y="1052640"/>
          <a:ext cx="8229600" cy="5689440"/>
        </p:xfrm>
        <a:graphic>
          <a:graphicData uri="http://schemas.openxmlformats.org/drawingml/2006/table">
            <a:tbl>
              <a:tblPr/>
              <a:tblGrid>
                <a:gridCol w="3754440"/>
                <a:gridCol w="4475160"/>
              </a:tblGrid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ная программа, включающая краткое систематическое изложение содержания образования по данному предмету, содержащая круг знаний, умений и навыков, подлежащих усвоению обучающимис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развивающ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, направленная на расширение кругозора детей, их общекультурное и физическое развит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угов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ая, общественно полезная, развлекательная программа, направленная на организацию свободного времени детей и подростков, детей и их родителей, позволяющая ребёнку легко раскрыть и удовлетворить свои интересы, потреб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468360" y="836640"/>
          <a:ext cx="8229240" cy="273672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о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яет уровень освоения элементов содержания, объекты контроля и критерии оцен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признаку тематической направленност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539640" y="1052640"/>
          <a:ext cx="8229600" cy="5365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одной тематической направлен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, отражающая содержание и процесс образования по одному направлению деятель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ирован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, отражающая содержание и процесс образования по нескольким взаимосвязанным направлениям деятельност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уль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, по способу организации своего содержания составленная из самостоятельных, устойчивых целостных блок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лекс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совместной деятельности нескольких педагогов, направленная на достижение определённой общей цели средствами содержания и процесс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признаку возрастного предназначе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68360" y="105264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дошкольного образ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читаны на реализацию с детьми дошкольного возраста (3-7 лет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начального и общего образ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читаны на реализацию с детьми младшего школьного возраста (1-4 классы общеобразовательной школы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основного и общего образ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читаны на реализацию с детьми среднего школьного возраста (5-8 классы общеобразовательной школы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среднего (полного) общего образ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читаны на реализацию с детьми старшего школьного возраста (9-11 классы общеобразовательной школы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признаку полового предназначе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457200" y="1600200"/>
          <a:ext cx="8229240" cy="453348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, предназначенные для девоче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, предназначенные для мальчик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смешанного назначения (предназначенные для детей обоих полов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По признаку временных ресурсов, необходимых для реализации программы-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это распределение программ по группам согласно количеству времени, необходимых для их полной реализаци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57200" y="1700280"/>
          <a:ext cx="8229600" cy="4672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рхкраткосроч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за промежуток времени не более чем учебное полугод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осроч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в течение одного учебного год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ей продолжительности реализ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в течение 2-3 лет обучен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тельной реализ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в течение четырёх лет обу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Ресурс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– средства, запасы, возможности, источники чего-либо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Временные ресурсы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это запасы времени, количество времен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степени автор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539640" y="907920"/>
          <a:ext cx="8229600" cy="5189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ов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зработано на основе государственных программ для внешкольных учрежде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овершенствован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зработано на основе типовой, но включает собственные частичные изменения в содержании образования и методике учебного процесс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лена на основе самостоятельно разработанного педагогом содержания образования, собственных элементов педагогической технологии, но без чётко обоснованной авторской концепции и недостаточно апробированная в ходе образовательного процесс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аботана для проверки педагогической целесообразности, результативности какой-либо педагогической гипотезы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9640" y="836640"/>
          <a:ext cx="8229600" cy="45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ск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ит изложение целостной авторской концепции, содержит изложение целостной авторской концепции, раскрывает особенности подхода автора к решаемым педагогическим задачам, его взгляд на процесс образования, объект и субъект образования, взаимодействие и развитие всех этих элемент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скими считаются программы, утверждённые районным экспертным советом, а также признанные дипломантами и лауреатами  Всероссийского конкурса авторских программ (или городского этапа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степени практической отработанности программы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468360" y="1557360"/>
          <a:ext cx="8229600" cy="380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ысел образовате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пустимый уровень разработки программы (позволяет приступить к работе с обучающимися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статочный уровень разработки программ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тимальный уровень разработки программ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ровень разработки образовательной технологи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Практический 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– относящийся к деятельности по применению чего-нибудь в жизни, к опыту. </a:t>
            </a:r>
            <a:br>
              <a:rPr sz="2800"/>
            </a:b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(С.И. Ожегов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Отработанность 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– придание чему-либо окончательного вида (С. И. Ожегов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Степень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 – мера, сравнительная величина чего-либо. ( С.И. Ожегов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Классификация программ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 по степени их практической отработанности – это их распределение по группам на основании меры законченности, достаточности для педагогической деятельности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СПАСИБО </a:t>
            </a:r>
            <a:br>
              <a:rPr sz="5400"/>
            </a:b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ЗА </a:t>
            </a:r>
            <a:br>
              <a:rPr sz="5400"/>
            </a:b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ВНИМАНИЕ!!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Общие требования к образовательным программам педагог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динство методологических основ построения учебных програ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ответствие современному уровню развития науки, техники, культуры и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заимосвязь с другими образовательными программами в рамках образовательной программы учреждения, отражение целостного объёма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ключение в программу всех элементов содержания, необходимых и достаточных для реализации поставленных ц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9:52:57Z</dcterms:created>
  <dc:creator>ДДТ Ораниенбаум</dc:creator>
  <dc:description/>
  <dc:language>en-US</dc:language>
  <cp:lastModifiedBy>ДДТ Ораниенбаум</cp:lastModifiedBy>
  <dcterms:modified xsi:type="dcterms:W3CDTF">2011-05-16T08:59:35Z</dcterms:modified>
  <cp:revision>16</cp:revision>
  <dc:subject/>
  <dc:title>Семинар для руководителей и специалистов ОДОД</dc:title>
</cp:coreProperties>
</file>