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24B4C-78F3-4E57-8CDA-4704FA5E0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4257A-F79F-4C0A-935B-E8C2C883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AB743-C92F-44DC-B293-91B376708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B0337-1776-44A7-9B2F-D69C05F4A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B3F5-B062-4424-AF3B-A2BA62B7D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6C35-2CE1-4A5B-A053-491D865B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3576-61C7-4477-AD2A-B945A212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3F11-E892-41FF-BBC2-C5F956D9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B6E3-0E1B-4DCC-BDF6-B5002744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7FA9-B08F-41AF-BEB2-B166D452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E09AB-E853-45EA-AD27-62F98604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43AAF-6BC2-41FD-BDA3-BA6399A5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C8A0C-8C84-40AD-B60D-D6084F3F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5361-FBA2-4C76-835F-540C33D1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A803-6A54-4247-8B45-2FDD9404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C24F-9D77-4BC8-A145-E51B31E08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46DC-9BC8-4E85-B094-FF81D5D5D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FF8FC-AA36-4743-B517-A7F40540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436B2-5D5E-422C-8583-113DAE6D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99897-3BF0-47EA-8D5B-6AEA9E3A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0A520-50C5-4652-B005-8B2665D5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77278-0E55-48D5-9C98-C2F7C19B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6B0CD-11FE-4FD4-83EE-47FCE641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CA9FD-209C-4652-935F-95C7B339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40C3-C0F1-4C5F-B999-F990688611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1600-C94A-4648-A73B-28C78A9928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Семинар</a:t>
            </a:r>
            <a:br>
              <a:rPr sz="4800"/>
            </a:b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для руководителей и специалистов ОДОД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826560" y="2060280"/>
            <a:ext cx="770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66ff"/>
                </a:solidFill>
                <a:latin typeface="Arial"/>
              </a:rPr>
              <a:t>Образовательные программы в системе дополнительного образован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Arial"/>
              </a:rPr>
              <a:t>составитель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Arial"/>
              </a:rPr>
              <a:t>Агапова Елена Анатолье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95280" y="62064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9999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кретность определения знаний, умений и навыков, приобретаемых воспитанник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99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еемственность элементов содержания програм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99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ответствие требованиям системности и преемственности в построении образовательного процесс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правленность на развитие природных способностей ребёнка, его интеллектуальной и эмоциональной сферы, его социальной адаптаци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Основные нормативные документы: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кон Российской Федерации «Об образовании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иповое положение об образовательном учреждении дополнительного образования дете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нитарно-эпидемиологические правила и нормативы СанПиН 2.4.4. 1251-03 (зарегистрировано в Минюсте 27.05.03 г. № 4594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бования к содержанию и оформлению образовательных программ дополнительного образования детей (утверждённые научно-методическим советом по дополнительному образованию детей Министерства образования Российской Федерации 03.06.2003 г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 примерных требованиях к программам дополнительного образования детей. Приложение к письму Департамента молодёжной политики, воспитания и социальной поддержки детей Миобразования и науки России от 11.12.2006 г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№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06-1844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став учрежд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Arial"/>
              </a:rPr>
              <a:t>Действия</a:t>
            </a: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 – это определённые операции, конкретные мероприятия, являющиеся средством для достижения какой-либо цели, результата.</a:t>
            </a:r>
            <a:br>
              <a:rPr sz="36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3600" spc="-1" strike="noStrike">
                <a:solidFill>
                  <a:srgbClr val="6666ff"/>
                </a:solidFill>
                <a:latin typeface="Arial"/>
              </a:rPr>
              <a:t>Результат</a:t>
            </a: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 – конечный итог, ради которого осуществлялись действия.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Arial"/>
              </a:rPr>
              <a:t>В процессе моделирования результата необходимо учитывать следующее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держание программы должно быть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риентирова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 обеспечение самоопределения личности, создание условий для её самореализац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формирование у обучающегося адекватной современному уровню образовательной программы картины мир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нтеграцию личности в национальную мировую культур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Формирование человека и гражданина, интегрированного  в современное ему общество и нацеленное на совершенствование  этого обществ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оспроизводство и развитие кадрового потенциала обще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должны соответствовать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целям общественного развития, обеспечивать всестороннее удовлетворение образовательных потребностей личности ребёнка, соответствовать образовательным интересам детского и взрослого населения, учитывая уровень развития дет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остижениям мировой культуры, российским традициям, культурно-национальным особенностя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оритетам социально-экономического развит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пределённому уровню образования (дошкольного, начального общего, основного общего, среднего (полного) общего образов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dfdef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def6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dfdef6"/>
                </a:solidFill>
                <a:latin typeface="Arial"/>
              </a:rPr>
              <a:t>направленностям дополнительных образовательных программ (научно-технической, спортивно-технической, художественной, физкультурно-спортивной, туристко-краеведческой, эколого-биологической, военно-патриотической, социально-педагогической, социально-экономической, естественнонаучной);</a:t>
            </a:r>
            <a:br>
              <a:rPr sz="2400"/>
            </a:br>
            <a:r>
              <a:rPr b="0" lang="ru-RU" sz="2400" spc="-1" strike="noStrike">
                <a:solidFill>
                  <a:srgbClr val="dfdef6"/>
                </a:solidFill>
                <a:latin typeface="Arial"/>
              </a:rPr>
              <a:t>-  современным образовательным технологиям;</a:t>
            </a:r>
            <a:br>
              <a:rPr sz="2400"/>
            </a:br>
            <a:r>
              <a:rPr b="0" lang="ru-RU" sz="2400" spc="-1" strike="noStrike">
                <a:solidFill>
                  <a:srgbClr val="dfdef6"/>
                </a:solidFill>
                <a:latin typeface="Arial"/>
              </a:rPr>
              <a:t>-  задачам становления гражданского общества и правового государства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направлено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 создание условий для развития личности ребён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звитие мотивации личности к познанию и творчеств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звитие способности к самообразовани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общение обучающихся к общечеловеческим ценностя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здание условий для социального, культурного и профессионального самоопределения, творческой самореализации личности ребёнка, её интеграцию в систему мировой и отечественной культур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беспечение преемственности содержания различных видов образова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целостность процесса психического и физического, умственного и духовного развития личности ребён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беспечение преемственности содержания различных видов образова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dfdef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целостность процесса психического и физического, умственного и духовного развития личности ребёнка;</a:t>
            </a:r>
            <a:br>
              <a:rPr sz="24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-  обеспечение эмоционального благополучия ребёнка;</a:t>
            </a:r>
            <a:br>
              <a:rPr sz="24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укрепление психического и физического здоровья;</a:t>
            </a:r>
            <a:br>
              <a:rPr sz="24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- положительную социализацию ребёнка;</a:t>
            </a:r>
            <a:br>
              <a:rPr sz="24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-  взаимодействие педагога дополнительного образования с семьёй;</a:t>
            </a:r>
            <a:br>
              <a:rPr sz="24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-  профилактику асоциального поведения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Дополнительная образовательная программа</a:t>
            </a:r>
            <a:br>
              <a:rPr sz="3200"/>
            </a:b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 позволяет: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этапно выдвигать и реализовывать организционно - педагогические задач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ционализировать труд педагога и обучающихс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тимизировать расписание занятий, массовых мероприят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спешно преодолевать дисгармоничность содержания работы детского объедин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необходим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моделирования педагогически обоснованного образовательного процесса в детском объединении (воспитания, обучения и развития детей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 выбора педагогических действий и содержания образования, которые обеспечивали бы достижение наибольших результатов при наименьших затратах сил, времени и средст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Проектирование </a:t>
            </a: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– сложный и длительный творческий процесс, интегрирующий в единое целое: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гнозирование желаемых результатов на основе проблемного анализ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площение на практике задуманного с последующей корректировкой целей и задач, сравнением реальных и предполагаемых результа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Ключевые компетентности дополнительной образовательной программы: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знавательна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формационна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ммуникативна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циально-гражданска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рганизаторска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2400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ff"/>
                </a:solidFill>
                <a:latin typeface="Arial"/>
              </a:rPr>
              <a:t>Технология разработки образовательной программы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ef6"/>
                </a:solidFill>
                <a:latin typeface="Arial"/>
              </a:rPr>
              <a:t>Типовой алгоритм целевого программирования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539640" y="1484280"/>
          <a:ext cx="8229600" cy="5072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Что необходимо определи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Компоненты программирова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то должно быть достигнуто, в конечном счёте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ь программ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то требуется для достижения цели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ставные цели (подцели), задачи, перечень мер (мероприятий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кие ресурсы и в каком объёме требуются для реализации программы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формационные, материальные, финансовые, кадров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468360" y="260280"/>
          <a:ext cx="8229600" cy="6134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4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какой период времени рассчитана программа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ременная характеристика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ков механизм управления реализации программы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изационная структура, включающая руководителя программы и звенья, ответственные за выполнения задач, мер, взаимодействия между ни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слеживается и оценивается выполнение программы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чётный, отчётный и контролирующий механизм (механизм обратной связи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кие изменения следует внести в содержание и реализацию программы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ррективы содержания и механизма реализации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к и насколько выполнена программа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ведение итогов. Окончание программы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ff"/>
                </a:solidFill>
                <a:latin typeface="Arial"/>
              </a:rPr>
              <a:t>Структура образовательной программы дополнительного образования детей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5092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6666ff"/>
                </a:solidFill>
                <a:latin typeface="Arial"/>
              </a:rPr>
              <a:t>Структура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– строение, взаимное расположение частей, составляющих единое целое (С.И. Ожегов)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Титульный лист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именование образовательного учрежд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де, когда и кем утверждена образовательная программа дополнительного образования дет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звание образовательной программ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зраст детей, на которых рассчитана образовательная программ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рок реализации образовательной программ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епень авторства образовательной программ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.И.О., должность автора (авторов) дополнительной образовательной программ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звание город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од разработки дополнительной образовательной програм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Основные блоки программы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0" y="1413000"/>
          <a:ext cx="8964720" cy="5111640"/>
        </p:xfrm>
        <a:graphic>
          <a:graphicData uri="http://schemas.openxmlformats.org/drawingml/2006/table">
            <a:tbl>
              <a:tblPr/>
              <a:tblGrid>
                <a:gridCol w="1835280"/>
                <a:gridCol w="1728720"/>
                <a:gridCol w="1944720"/>
                <a:gridCol w="1771560"/>
                <a:gridCol w="1684440"/>
              </a:tblGrid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цептуаль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чебно-методичес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териально-техничес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трольно-методичес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равоч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яснительная запис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вед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ь и задач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изационно-педагогические основы деяте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зультатив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Учебно-тематический пла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тодическое обеспеч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чень необходимого оборудования, инструментов и материалов в расчёте на каждого обучающегося в объединен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нозируемый результат реализации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исок литературы для педагог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исок литературы для дет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лож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ff"/>
                </a:solidFill>
                <a:latin typeface="Arial"/>
              </a:rPr>
              <a:t>Пояснительная записка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280" y="-12600"/>
            <a:ext cx="814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Направленность образовательной программы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Уровень освоения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едагогические концепции, идеи, на основе которых разработана данная образовательная программа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Актуальность, новизну, педагогическую целесообразность образовательной программы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Свою точку зрения о влиянии занятий данным видом деятельности на развитие личности ребёнка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Цель и задачи дополнительной образовательной программы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тличительные особенности данной образовательной программы от уже существующих образовательных программ или указывает реквизиты и характеристику программ на основе которых она разработана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ff"/>
                </a:solidFill>
                <a:latin typeface="Arial"/>
              </a:rPr>
              <a:t>Функции педагогического проектирования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2500" spc="-1" strike="noStrike">
                <a:solidFill>
                  <a:srgbClr val="dfdef6"/>
                </a:solidFill>
                <a:latin typeface="Arial"/>
              </a:rPr>
              <a:t>аналитическую  прогнозирующую   конструирующую</a:t>
            </a:r>
            <a:endParaRPr b="0" lang="en-US" sz="25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1258920" y="2852640"/>
            <a:ext cx="79200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427640" y="2708280"/>
            <a:ext cx="0" cy="144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659640" y="2852640"/>
            <a:ext cx="79200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-32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8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раст детей, участвующих в реализации данной дополнительной образовательной програм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ормы и режим занят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жидаемые результаты и способы определения их результатив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ормы подведения итогов реализации дополнительной образовательной программы (выставки, фестивали, соревнования, учебно-исследования конференции и т.д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Направленность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учно-техническа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ртивно-техническа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удожественная или художественно-эстетическа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изкультурно-спортивна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уристко - краеведческа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колого-биологическа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енно-патриотическа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циально-педагогическа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циально-экономическа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ультурологическа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тественно-научн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Уровни освоения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бщекультурный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углублённый (от 3-х лет и больше)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рофессионально-ориентирован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9528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66ff"/>
                </a:solidFill>
                <a:latin typeface="Arial"/>
              </a:rPr>
              <a:t>Цель и задачи образовательной программы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2400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ff"/>
                </a:solidFill>
                <a:latin typeface="Arial"/>
              </a:rPr>
              <a:t>Цель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– это заранее осознанный и планируемый результат.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666ff"/>
                </a:solidFill>
                <a:latin typeface="Arial"/>
              </a:rPr>
              <a:t>Цель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– запланированный результат образовательного процесса, к которому должны быть направлены все усилия педагога и детей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468360" y="404640"/>
          <a:ext cx="8229600" cy="5832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Вид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Содерж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6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лобального масштаб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менение формирования мировоззрения личности, её культуры через новую образовательную систем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педагогического пла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равственное воспитание личности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витие личностных качеств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лочение детского коллектива через реализацию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7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идактического пла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учение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изация полноценного досуга и д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2400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ff"/>
                </a:solidFill>
                <a:latin typeface="Arial"/>
              </a:rPr>
              <a:t>Задача 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– это конкретизированная формулировка пути достижения какой-либо части содержания поставленной цели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468360" y="115920"/>
          <a:ext cx="8229600" cy="6180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5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Виды зада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Содерж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учающ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Формирование специальных знаний, умений, навыков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Удовлетворение образовательных потребностей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обретение основ трудовых и допрофессиональных умений и навыков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знавательн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ключённость в познавательную деятельность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ирование опыта общеучебной и познавательной деяте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1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спитательн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формирование нравственного сознания личности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Воспитание качеств, взглядов, убеждений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уманистического мировоззрения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особов самоконтрол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-34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457200" y="404640"/>
          <a:ext cx="8229600" cy="6301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1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вивающ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витие личности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ктивности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стоятельности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ния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теллектуальных способност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тивацион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витие познавательного интереса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ключение в активную деятельность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ирование интереса к занятия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1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циально-педагогическ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ирование общественной активности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ализация в социуме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филактика асоциального поведения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ультура повед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539640" y="692280"/>
          <a:ext cx="8229240" cy="453348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22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стетическ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ккуратность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ятность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мение ценить красоту в себе и окружающем мир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здоровитель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хранение и укрепление здоровья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ирование здорового образа жизн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Программа</a:t>
            </a: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 –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нормативно-управленческий документ, отражающий план и содержание деятельности педагога, объединения, учреждения и целого региона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68360" y="299700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Образовательная программ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документ, содержащий основные цели и задачи педагогической деятельности, средства, методы, технологии их реализ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Рекомендовано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ри типа задач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бразовательные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обучающие, познавательны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звивающие (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вивающие, мотивационны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оспитательные (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спитательные, эстетические, оздоровительные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Цель и задачи могут формулироваться: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ля всей образовательной программы в целом (обязательно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ля каждого уровня подготовки обучающихся, закладываемого в программу ( подготовительный, начальный, освоения деятельности, совершенствование деятельности, мастерства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ля каждого года обуч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ля каждого этапа обучения (вводного, адаптационного, основного, практического, обобщающего и т.д.) внутри курс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2400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ff"/>
                </a:solidFill>
                <a:latin typeface="Arial"/>
              </a:rPr>
              <a:t>Организационно-педагогические основы деятельности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6840" y="-58680"/>
            <a:ext cx="8002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татус, вид образовательной группы (профильная, комплексная, экспериментальная, научно-исследовательская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остав учебной группы (постоянный, переменный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собенности набора детей (свободный, по конкурсу, по тестам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озраст обучающихся, психолого–педагогические особенности возраст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условия приёма обучающихся (с какого возраста, почему, медицинские условия, из какого микрорайона, из каких образовательных учреждений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количество обучающихся (общее, по годам обучения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формы организации деятельности учащихся на занятии; (индивидуальная, по подгруппам, групповая, всем коллективом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формы проведения занятий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етоды обучен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Arial"/>
              </a:rPr>
              <a:t>Списочный состав объединения формируется исходя из необходимости присутствия на занятиях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ду обучения – не менее 15 челов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ду обучения – не менее 12 челов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году обучения – не менее 10 челов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-34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и приёме в спортивные, спортивно-технические, туристские, хореографические объединения необходимо медицинское заключение врачебно-физкультурного диспансера или поликлиники о возможности заниматься данным видом деятельно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Arial"/>
              </a:rPr>
              <a:t>Формы проведения занятия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95" name=""/>
          <p:cNvGraphicFramePr/>
          <p:nvPr/>
        </p:nvGraphicFramePr>
        <p:xfrm>
          <a:off x="457200" y="1600200"/>
          <a:ext cx="8229600" cy="4836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8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практическое занятие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беседа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занятие-игра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конкурс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творческая лаборатория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концерт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праздник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езд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занятие-исследование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выставка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экскурсия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лекция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дискуссия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мастер-класс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соревнование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контрольное занятие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смотр и др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Arial"/>
              </a:rPr>
              <a:t>Классификация методов обучения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457200" y="1197000"/>
          <a:ext cx="8229600" cy="5103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70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 источнику зна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овесные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глядные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актическ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 уровню познавательной деятельно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ъяснительно-иллюстративные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продуктивные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блемные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ично-поисковые (эвристические)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следовательские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9999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- сроки реализации образовательной программы (продолжительность образовательного процесса, этапы обучения)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3141720"/>
            <a:ext cx="8229600" cy="29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достигаемые уровни подготовки (подготовительный, начальный, освоения деятельности, совершенствование деятельности мастерств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2400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Arial"/>
              </a:rPr>
              <a:t>Ожидаемые результаты и способы определения </a:t>
            </a:r>
            <a:br>
              <a:rPr sz="4400"/>
            </a:br>
            <a:r>
              <a:rPr b="1" lang="en-US" sz="4400" spc="-1" strike="noStrike">
                <a:solidFill>
                  <a:srgbClr val="6666ff"/>
                </a:solidFill>
                <a:latin typeface="Arial"/>
              </a:rPr>
              <a:t>их результативност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Arial"/>
              </a:rPr>
              <a:t>Образовательная программа педагога дополнительного образования – это нормативный документ: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ражающий педагогическую концепцию педагога дополнительного образования в соответствии с заявленными целями и задачами деятель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скрывающий условия, методы и технологию реализации целей и задач, предполагаемый конечный результа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скрывающий структуру организации, последовательность осуществления, информационное, технологическое и ресурсное обеспечение в соответствии с обоснованными целями и содержанием образов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Диагностик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 слова «диагноз» (греч.- распознание, определение) - процесс исследования для определения диагноз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цесс исследования в целях выявить, распознать, определить характеристики человека, не поддающиеся обнаружению в прямом непосредственном общении с человек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ff"/>
                </a:solidFill>
                <a:latin typeface="Arial"/>
              </a:rPr>
              <a:t>Педагогическая диагностика –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истема методов, приемов, специально разработанных технологий и методик, тестовых заданий, позволяющих в ходе педагогической экспертизы определять уровень развития ребенка, а также диагностировать причины недостатков и определить пути улучшения качества образ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ецифика педагогической диагностики – выполнение диагностики как основание для построения педагогической деятельности, а не как отдельный заказ. Диагностика помогает оптимизировать педагогическую деятельность, повысить ее результатив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ff"/>
                </a:solidFill>
                <a:latin typeface="Arial"/>
              </a:rPr>
              <a:t>Цель диагностической деятельности педагогов -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лучение объективной информации для управления (контроля и коррекции) качеством педагогического процесса, повышение эффективности педагогической деятельности, т.е. для оптимизации и повышения результативности педагогической деятель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ff"/>
                </a:solidFill>
                <a:latin typeface="Arial"/>
              </a:rPr>
              <a:t>Диагностика результативности образовательного процесса -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ыявление и фиксирование полученных в ходе образовательного процесса результатов с целью установления их соответствия ожидаемым результата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Arial"/>
              </a:rPr>
              <a:t>По каждому году обучения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457200" y="1600200"/>
          <a:ext cx="8229600" cy="3916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6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лжны знать</a:t>
                      </a: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лжны уметь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Arial"/>
              </a:rPr>
              <a:t>Методы диагностик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мпирические метод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блюдени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тоды опроса (беседа, интервью, анкетирование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учение письменных, графических и творческих работ учащихс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учение педагогической документ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оды теоретического исследова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ализ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инте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тематические и статистические метод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нжировани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калировани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ределение средних величин полученных показателе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д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66ff"/>
                </a:solidFill>
                <a:latin typeface="Arial"/>
              </a:rPr>
              <a:t>Описание форм предъявления результатов</a:t>
            </a:r>
            <a:endParaRPr b="0" lang="en-US" sz="3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616" name=""/>
          <p:cNvGraphicFramePr/>
          <p:nvPr/>
        </p:nvGraphicFramePr>
        <p:xfrm>
          <a:off x="179280" y="1600200"/>
          <a:ext cx="8713800" cy="4821120"/>
        </p:xfrm>
        <a:graphic>
          <a:graphicData uri="http://schemas.openxmlformats.org/drawingml/2006/table">
            <a:tbl>
              <a:tblPr/>
              <a:tblGrid>
                <a:gridCol w="2160720"/>
                <a:gridCol w="3311640"/>
                <a:gridCol w="3241440"/>
              </a:tblGrid>
              <a:tr h="116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ы предъявления результа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кие преимущества имеют эти формы выявления результа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кие ограничения имеют эти формы выявления результа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5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став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550"/>
                        </a:spcBef>
                        <a:buClr>
                          <a:srgbClr val="9999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глядность, убедительность,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550"/>
                        </a:spcBef>
                        <a:buClr>
                          <a:srgbClr val="9999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ценки наблюдателей,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550"/>
                        </a:spcBef>
                        <a:buClr>
                          <a:srgbClr val="9999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ти участвуют с удовольствием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550"/>
                        </a:spcBef>
                        <a:buClr>
                          <a:srgbClr val="9999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можность сравнения работ (в т.ч. самими детьми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550"/>
                        </a:spcBef>
                        <a:buClr>
                          <a:srgbClr val="9999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ействованы не все дети,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550"/>
                        </a:spcBef>
                        <a:buClr>
                          <a:srgbClr val="9999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висимость от материально-технического оснащения,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550"/>
                        </a:spcBef>
                        <a:buClr>
                          <a:srgbClr val="9999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льзя сохранить надолго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457200" y="836640"/>
          <a:ext cx="8229600" cy="4251240"/>
        </p:xfrm>
        <a:graphic>
          <a:graphicData uri="http://schemas.openxmlformats.org/drawingml/2006/table">
            <a:tbl>
              <a:tblPr/>
              <a:tblGrid>
                <a:gridCol w="2459160"/>
                <a:gridCol w="3027240"/>
                <a:gridCol w="2743200"/>
              </a:tblGrid>
              <a:tr h="141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ы предъявления результа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кие преимущества имеют эти формы выявления результа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кие ограничения имеют эти формы выявления результа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е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пис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9999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римость, наглядность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9999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жно хранить много ле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висимость от материально-технического оснащ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Формы подведения итогов реализации образовательной программы: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беседован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чёт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чётный лист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опросник по программ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еферат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щита работ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полнение норматив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нтрольные упражнени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астие в концертах и выставках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ступления на конкурсах и соревнованиях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икторин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ткрытое занят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существление диагностических процеду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509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dfdef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включающий краткое систематическое изложение содержания курса и объёмов, позволяющих ребёнку самоопределиться и реализовать себя в одной или нескольких областях образовательного пространства учреждения;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- направленный на достижение ребёнком прогнозируемого уровня образованности и воспитанности.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Arial"/>
              </a:rPr>
              <a:t>Результатами обучения детей по программе могут являться: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пределённый набор знаний, умений и навык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витие способност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ложительные психические измен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вышение престижа объедин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лучшение показателей адаптации в обществ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езентабельные результаты: выставки, концерты, публика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фессиональное самоопределение обучающихся и п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Georgia"/>
              </a:rPr>
              <a:t>Для выявления и оценки результативности нужно определить: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Параметр результата – (от греч. parametreo - меряю, сопоставляя) -величина, характеризующая какое-либо свойство, качество предме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Критерий – (от греч. kriterion - средство для суждения) - признак, на основании которого производится оценка, определение или классификация чего-либо; мерил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Georgia"/>
              </a:rPr>
              <a:t>Для выявления и оценки результативности нужно определить: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eorgia"/>
              </a:rPr>
              <a:t>Показатели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– данные, по которым можно судить о развитии и ходе чего-нибуд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eorgia"/>
              </a:rPr>
              <a:t>Индикаторы</a:t>
            </a:r>
            <a:r>
              <a:rPr b="1" lang="en-US" sz="2400" spc="-1" strike="noStrike">
                <a:solidFill>
                  <a:srgbClr val="0d23f3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– составляющие показателя, с помощью которых он наиболее подробно описывает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eorgia"/>
              </a:rPr>
              <a:t>Методы</a:t>
            </a:r>
            <a:r>
              <a:rPr b="1" lang="en-US" sz="2400" spc="-1" strike="noStrike">
                <a:solidFill>
                  <a:srgbClr val="99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отслеживания результата – способы исследования (наблюдение, опрос, анкетирование, тестирование, анализ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eorgia"/>
              </a:rPr>
              <a:t>Формы</a:t>
            </a:r>
            <a:r>
              <a:rPr b="1" lang="en-US" sz="2400" spc="-1" strike="noStrike">
                <a:solidFill>
                  <a:srgbClr val="99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предъявления результа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2400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5400" spc="-1" strike="noStrike">
                <a:solidFill>
                  <a:srgbClr val="6666ff"/>
                </a:solidFill>
                <a:latin typeface="Arial"/>
              </a:rPr>
              <a:t>Учебно-тематический план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Arial"/>
              </a:rPr>
              <a:t>Включает в себя: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речень разделов и тем программ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личество часов по каждому разделу и теме с разбивкой на теоретические и практические виды занятий в пределах установленного на реализацию программы време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631" name=""/>
          <p:cNvGraphicFramePr/>
          <p:nvPr/>
        </p:nvGraphicFramePr>
        <p:xfrm>
          <a:off x="457200" y="549360"/>
          <a:ext cx="8229600" cy="5940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часо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недел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часов в го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час в недел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 часов в го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часа в недел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 часа в го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часа в недел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8 часов в го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часа в недел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4 часа в го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часов в недел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6 часов в го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 часов в недел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8 часов в го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часов в недел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0 часов в го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 часов в недел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2 часа в го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468360" y="189000"/>
          <a:ext cx="8229600" cy="6459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1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разделов и те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 час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ом числ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ор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акти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 1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водное занят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 2 (название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 1 (название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------------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------------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------------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------------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ff"/>
                </a:solidFill>
                <a:latin typeface="Arial"/>
              </a:rPr>
              <a:t>Методические рекомендации по количеству учебных часов</a:t>
            </a:r>
            <a:r>
              <a:rPr b="0" lang="en-US" sz="4000" spc="-1" strike="noStrike">
                <a:solidFill>
                  <a:srgbClr val="6666ff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1800" spc="-1" strike="noStrike">
                <a:solidFill>
                  <a:srgbClr val="6666ff"/>
                </a:solidFill>
                <a:latin typeface="Arial"/>
              </a:rPr>
              <a:t>(Приложение к приказу Комитета по образованию от 18.03.09 № 146)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год – 144 – 216 часов (4-6 академических часов в неделю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год – 216 – 288 часов (6-8 академических часов в неделю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и последующих годов – 288, 360, 432 часов (8-12 академических часов в неделю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Максимально допустимая нагрузка н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одного ребёнка в неделю не долж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ревышать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12 академических час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9528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ff"/>
                </a:solidFill>
                <a:latin typeface="Arial"/>
              </a:rPr>
              <a:t>Содержание программы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Функции</a:t>
            </a: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образовательной программы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457200" y="1600200"/>
          <a:ext cx="8229600" cy="43671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рматив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разовательная программа является документом для выполнения в полном объём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еполага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программе определяются те цели и ценности, ради достижения которых она введена учебный план учрежд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кс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еделяет состав элементов содержания, подлежащих усвоению деть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цессуаль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программе определяется логическая последовательность усвоения материала, основные формы и методы обучения дет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ff"/>
                </a:solidFill>
                <a:latin typeface="Arial"/>
              </a:rPr>
              <a:t>Для оформления предлагается следующая схема: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№ раздела. Название разде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№ темы. Название те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ория (основные теоретические понятия, без подробной расшифровки и описания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актика (примерное содержание практической деятельности детей на учебном занятии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есто проведения занятия (если занятие выездное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2400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Методическое обеспечение</a:t>
            </a:r>
            <a:r>
              <a:rPr b="0" lang="en-US" sz="40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программы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Обеспечение учебного процесса различными видами методической продукции представляется в виде перечня: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етодические разработки игр, бесед, походов, экскурсий, конкурсов, конференций и т.д.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комендации по проведению лабораторных и практических работ, по постановке экспериментов или опытов и т.д.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идактические и лекционные материалы или методики по исследовательской работ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матику опытнической или исследовательской работы и т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457200" y="404640"/>
          <a:ext cx="8229600" cy="60357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вание материал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а материал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 и раздел программ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лительности но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акат - схе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. Нотная азбука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 2.3. Длительности нот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……………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……………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……………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ff"/>
                </a:solidFill>
                <a:latin typeface="Arial"/>
              </a:rPr>
              <a:t>Материально-техническое обеспечение программы: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ребования к учебному кабинету (его размерам, освещению, вентиляционному режиму, покрытию пола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ребования к оборудованию (технические средства обучения, специальные приспособления; при оформлении образовательных программ детских объединений информационных технологий необходимо указать компьютерный класс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ребования к оснащению (мелкий инвентарь и расходные материалы в расчёте на каждого обучающегося в объединении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ff"/>
                </a:solidFill>
                <a:latin typeface="Arial"/>
              </a:rPr>
              <a:t>Кадровые условия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(если в программе предусмотрены несколько направлений образовательной деятельности или педагогу необходимы коллеги-помощники (концертмейстер, репетитор, режиссёр и др.)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240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66ff"/>
                </a:solidFill>
                <a:latin typeface="Arial"/>
              </a:rPr>
              <a:t>«Список литературы»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Два списка литературы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итература, использованная педагогом при составлении образовательной программы и используемая в своей повседневной работ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итература, рекомендуемая для чтения детя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66ff"/>
                </a:solidFill>
                <a:latin typeface="Arial"/>
              </a:rPr>
              <a:t>Классификация программ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По признаку функционального назначения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654" name=""/>
          <p:cNvGraphicFramePr/>
          <p:nvPr/>
        </p:nvGraphicFramePr>
        <p:xfrm>
          <a:off x="395280" y="1052640"/>
          <a:ext cx="8229600" cy="5689440"/>
        </p:xfrm>
        <a:graphic>
          <a:graphicData uri="http://schemas.openxmlformats.org/drawingml/2006/table">
            <a:tbl>
              <a:tblPr/>
              <a:tblGrid>
                <a:gridCol w="3754440"/>
                <a:gridCol w="4475160"/>
              </a:tblGrid>
              <a:tr h="189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чебная програм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метная программа, включающая краткое систематическое изложение содержания образования по данному предмету, содержащая круг знаний, умений и навыков, подлежащих усвоению обучающимися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развивающая програм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рамма, направленная на расширение кругозора детей, их общекультурное и физическое развитие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суговая програм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знавательная, общественно полезная, развлекательная программа, направленная на организацию свободного времени детей и подростков, детей и их родителей, позволяющая ребёнку легко раскрыть и удовлетворить свои интересы, потреб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95280" y="30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468360" y="836640"/>
          <a:ext cx="8229240" cy="273672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27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ценоч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еделяет уровень освоения элементов содержания, объекты контроля и критерии оцен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По признаку тематической направленности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539640" y="1052640"/>
          <a:ext cx="8229600" cy="53658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рамма одной тематической направленно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рамма, отражающая содержание и процесс образования по одному направлению деятельност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тегрированная програм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рамма, отражающая содержание и процесс образования по нескольким взаимосвязанным направлениям деятельности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дульная програм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рамма, по способу организации своего содержания составленная из самостоятельных, устойчивых целостных блоков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мплексная програм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рамма совместной деятельности нескольких педагогов, направленная на достижение определённой общей цели средствами содержания и процесс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По признаку возрастного предназначения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658" name=""/>
          <p:cNvGraphicFramePr/>
          <p:nvPr/>
        </p:nvGraphicFramePr>
        <p:xfrm>
          <a:off x="468360" y="1052640"/>
          <a:ext cx="8229600" cy="5273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раммы дошкольного образова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считаны на реализацию с детьми дошкольного возраста (3-7 лет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раммы начального и общего образова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считаны на реализацию с детьми младшего школьного возраста (1-4 классы общеобразовательной школы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раммы основного и общего образова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считаны на реализацию с детьми среднего школьного возраста (5-8 классы общеобразовательной школы)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раммы среднего (полного) общего образова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считаны на реализацию с детьми старшего школьного возраста (9-11 классы общеобразовательной школы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По признаку полового предназначения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660" name=""/>
          <p:cNvGraphicFramePr/>
          <p:nvPr/>
        </p:nvGraphicFramePr>
        <p:xfrm>
          <a:off x="457200" y="1600200"/>
          <a:ext cx="8229240" cy="4533480"/>
        </p:xfrm>
        <a:graphic>
          <a:graphicData uri="http://schemas.openxmlformats.org/drawingml/2006/table">
            <a:tbl>
              <a:tblPr/>
              <a:tblGrid>
                <a:gridCol w="8229240"/>
              </a:tblGrid>
              <a:tr h="15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раммы, предназначенные для девочек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раммы, предназначенные для мальчико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раммы смешанного назначения (предназначенные для детей обоих полов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По признаку временных ресурсов, необходимых для реализации программы-</a:t>
            </a: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это распределение программ по группам согласно количеству времени, необходимых для их полной реализации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457200" y="1700280"/>
          <a:ext cx="8229600" cy="4672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3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ерхкраткосрочная програм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ализуется за промежуток времени не более чем учебное полугоди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аткосрочная програм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ализуется в течение одного учебного года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ей продолжительности реализ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ализуется в течение 2-3 лет обучения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лительной реализ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ализуется в течение четырёх лет обуч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ff"/>
                </a:solidFill>
                <a:latin typeface="Arial"/>
              </a:rPr>
              <a:t>Ресурсы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– средства, запасы, возможности, источники чего-либо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666ff"/>
                </a:solidFill>
                <a:latin typeface="Arial"/>
              </a:rPr>
              <a:t>Временные ресурсы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– это запасы времени, количество времени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По степени авторств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665" name=""/>
          <p:cNvGraphicFramePr/>
          <p:nvPr/>
        </p:nvGraphicFramePr>
        <p:xfrm>
          <a:off x="539640" y="907920"/>
          <a:ext cx="8229600" cy="5189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7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повая програм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разработано на основе государственных программ для внешкольных учреждений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овершенствованная програм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разработано на основе типовой, но включает собственные частичные изменения в содержании образования и методике учебного процесс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стоятельная програм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ставлена на основе самостоятельно разработанного педагогом содержания образования, собственных элементов педагогической технологии, но без чётко обоснованной авторской концепции и недостаточно апробированная в ходе образовательного процесс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спериментальная програм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работана для проверки педагогической целесообразности, результативности какой-либо педагогической гипотезы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667" name=""/>
          <p:cNvGraphicFramePr/>
          <p:nvPr/>
        </p:nvGraphicFramePr>
        <p:xfrm>
          <a:off x="539640" y="836640"/>
          <a:ext cx="8229600" cy="4533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3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вторская програм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ит изложение целостной авторской концепции, содержит изложение целостной авторской концепции, раскрывает особенности подхода автора к решаемым педагогическим задачам, его взгляд на процесс образования, объект и субъект образования, взаимодействие и развитие всех этих элементов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вторскими считаются программы, утверждённые районным экспертным советом, а также признанные дипломантами и лауреатами  Всероссийского конкурса авторских программ (или городского этапа)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По степени практической отработанности программы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669" name=""/>
          <p:cNvGraphicFramePr/>
          <p:nvPr/>
        </p:nvGraphicFramePr>
        <p:xfrm>
          <a:off x="468360" y="1557360"/>
          <a:ext cx="8229600" cy="3805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-й эта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мысел образовательной програм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й эта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опустимый уровень разработки программы (позволяет приступить к работе с обучающимися)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-й эта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остаточный уровень разработки программы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-й эта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птимальный уровень разработки программы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-й эта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уровень разработки образовательной технологии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ff"/>
                </a:solidFill>
                <a:latin typeface="Arial"/>
              </a:rPr>
              <a:t>Практический </a:t>
            </a:r>
            <a:r>
              <a:rPr b="0" lang="ru-RU" sz="2800" spc="-1" strike="noStrike">
                <a:solidFill>
                  <a:srgbClr val="dfdef6"/>
                </a:solidFill>
                <a:latin typeface="Arial"/>
              </a:rPr>
              <a:t>– относящийся к деятельности по применению чего-нибудь в жизни, к опыту. </a:t>
            </a:r>
            <a:br>
              <a:rPr sz="2800"/>
            </a:br>
            <a:r>
              <a:rPr b="0" lang="ru-RU" sz="2800" spc="-1" strike="noStrike">
                <a:solidFill>
                  <a:srgbClr val="dfdef6"/>
                </a:solidFill>
                <a:latin typeface="Arial"/>
              </a:rPr>
              <a:t>(С.И. Ожегов)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6666ff"/>
                </a:solidFill>
                <a:latin typeface="Arial"/>
              </a:rPr>
              <a:t>Отработанность </a:t>
            </a:r>
            <a:r>
              <a:rPr b="0" lang="ru-RU" sz="2800" spc="-1" strike="noStrike">
                <a:solidFill>
                  <a:srgbClr val="dfdef6"/>
                </a:solidFill>
                <a:latin typeface="Arial"/>
              </a:rPr>
              <a:t>– придание чему-либо окончательного вида (С. И. Ожегов)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6666ff"/>
                </a:solidFill>
                <a:latin typeface="Arial"/>
              </a:rPr>
              <a:t>Степень</a:t>
            </a:r>
            <a:r>
              <a:rPr b="0" lang="ru-RU" sz="2800" spc="-1" strike="noStrike">
                <a:solidFill>
                  <a:srgbClr val="dfdef6"/>
                </a:solidFill>
                <a:latin typeface="Arial"/>
              </a:rPr>
              <a:t> – мера, сравнительная величина чего-либо. ( С.И. Ожегов)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6666ff"/>
                </a:solidFill>
                <a:latin typeface="Arial"/>
              </a:rPr>
              <a:t>Классификация программ</a:t>
            </a:r>
            <a:r>
              <a:rPr b="0" lang="ru-RU" sz="2800" spc="-1" strike="noStrike">
                <a:solidFill>
                  <a:srgbClr val="dfdef6"/>
                </a:solidFill>
                <a:latin typeface="Arial"/>
              </a:rPr>
              <a:t> по степени их практической отработанности – это их распределение по группам на основании меры законченности, достаточности для педагогической деятельности.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9528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ff"/>
                </a:solidFill>
                <a:latin typeface="Arial"/>
              </a:rPr>
              <a:t>СПАСИБО </a:t>
            </a:r>
            <a:br>
              <a:rPr sz="5400"/>
            </a:br>
            <a:r>
              <a:rPr b="0" lang="en-US" sz="5400" spc="-1" strike="noStrike">
                <a:solidFill>
                  <a:srgbClr val="6666ff"/>
                </a:solidFill>
                <a:latin typeface="Arial"/>
              </a:rPr>
              <a:t>ЗА </a:t>
            </a:r>
            <a:br>
              <a:rPr sz="5400"/>
            </a:br>
            <a:r>
              <a:rPr b="0" lang="en-US" sz="5400" spc="-1" strike="noStrike">
                <a:solidFill>
                  <a:srgbClr val="6666ff"/>
                </a:solidFill>
                <a:latin typeface="Arial"/>
              </a:rPr>
              <a:t>ВНИМАНИЕ!!!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Arial"/>
              </a:rPr>
              <a:t>Общие требования к образовательным программам педагога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динство методологических основ построения учебных програм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ответствие современному уровню развития науки, техники, культуры и искус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заимосвязь с другими образовательными программами в рамках образовательной программы учреждения, отражение целостного объёма зна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ключение в программу всех элементов содержания, необходимых и достаточных для реализации поставленных ц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09:52:57Z</dcterms:created>
  <dc:creator>ДДТ Ораниенбаум</dc:creator>
  <dc:description/>
  <dc:language>en-US</dc:language>
  <cp:lastModifiedBy>ДДТ Ораниенбаум</cp:lastModifiedBy>
  <dcterms:modified xsi:type="dcterms:W3CDTF">2011-05-16T08:59:35Z</dcterms:modified>
  <cp:revision>16</cp:revision>
  <dc:subject/>
  <dc:title>Семинар для руководителей и специалистов ОДОД</dc:title>
</cp:coreProperties>
</file>