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793-2464-4743-9C54-BFE3E5F0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A18-9977-4412-B0DB-5D38F7FC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68C-B933-4481-9F93-081D8AD1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AD1-D6C3-4E0C-B161-01CCCF59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EF46-37D4-40A6-B542-47B1149B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6CC2-56AF-4178-86CF-0A99F6ED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2F5F-1367-48B6-9801-36172F68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999-81AA-4C1D-8AAA-BA5CAB17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80E-9D34-4DC6-A2D5-2E60F6DE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F4E8-E232-40C6-91C7-5188D7CA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23CE-6BE5-4D88-926A-88FFDAB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E29-666A-4F0E-9DDF-C0366A7F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2CC-6BB9-4A25-8C3B-00EB9A6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4A8-29BE-4EC1-A828-37606EB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35B3-C9E6-43B9-B069-9ECE2EEF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821E-ED0F-492E-9809-BD474B19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7F22-937A-4927-85D3-6D387087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74C-3128-4F32-B99D-982FBA74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D30-881F-4AC1-88F3-7A66C34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F0C-0E5A-4716-8ED7-32703860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0F7-4DC9-46F0-B20D-19EA16F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FC6-737B-49FD-8F24-D142D91C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217-41FB-45D6-B6B6-31E10F27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953-F913-46E5-A5D6-0435606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040B-CE92-447A-B018-BEFF41D4BF9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4B07-60B5-4332-8F66-BD39D4B8ADE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Объединение Итал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Verdana"/>
              </a:rPr>
              <a:t>1859 – 187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мять о прошл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39000" cy="462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16000" y="61801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Памятник первому королю Ита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ционально-освободительное движе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84840" cy="49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4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объедин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умеренно-либераль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ъединение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«сверху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д главенством монарха, путем войн и дипломатических усил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республиканско-демократическ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ъединение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«снизу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утем революционной борьбы за независимость страны от австрийского гне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8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68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68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милло Бенсо Кав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раф, государственный деятель Итал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850 года занимал различные министерские посты в правительстве Пьемо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1852 – 1861 гг. был премьер-министр Пьемо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овел ряд либеральных рефор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230640" cy="446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618012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1810 – 1861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2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2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2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72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72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72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жузеппе Гарибаль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циональный герой Итал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Один из лидеров революционно-демократического крыла освободительного дви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 1860 г. возглавил поход «тысячи» - отряд добровольцев, который освободил юг страны от Бурбон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Был депутатом итальянского парламен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9272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444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292720" y="6180120"/>
            <a:ext cx="33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1807 – 1882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6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76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76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76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76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76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оника событ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апрель 1859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начало войны Сардинского королевства против Австр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май 1859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битва при Маджент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июнь 1859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битва при Сальфери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март 186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созыв «итальянского» парламен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весна 186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восстание на о. Сицилия. Поход «тысячи» Д.Гарибальд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август - октябрь 186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провозглашение Виктора Эммануил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ролем Неапо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1861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провозглашение Итальянского королевства в составе Пьемон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187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ввод итальянских войск в Рим. Завершение объединения Италии. Рим - 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6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6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6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ституция 1871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77" name="_s14349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0" name="_s14348"/>
            <p:cNvCxnSpPr>
              <a:stCxn id="181" idx="0"/>
              <a:endCxn id="179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14347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9" name="_s14343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ПАРЛАМЕН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4344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СЕНА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14345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66"/>
                  </a:solidFill>
                  <a:latin typeface="Verdana"/>
                </a:rPr>
                <a:t>КОРОЛ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Verdana"/>
                </a:rPr>
                <a:t>Назначение министр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Verdana"/>
                </a:rPr>
                <a:t>Командование арми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Verdana"/>
                </a:rPr>
                <a:t>Высшая судебная вл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4346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ПАЛАТА</a:t>
              </a:r>
              <a:br>
                <a:rPr sz="2100"/>
              </a:b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ДЕПУТАТ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родный герой Итал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311800" cy="4307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63640" y="59641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Verdana"/>
              </a:rPr>
              <a:t>Памятник Гарибальди и его жене А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8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ктор Эммануил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роль Сардинии 1849–1861 г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ервый король объединенной Италии с 1861 – 1878 г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едставитель Савойской династ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ыл доступен и прост в общении, обладал личной храбростью, был популярен в народе, его называли «король – джентльмен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176640" cy="4464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6180120"/>
            <a:ext cx="30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1820 – 1861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8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8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68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68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68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68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55:54Z</dcterms:created>
  <dc:creator>Boeva</dc:creator>
  <dc:description/>
  <dc:language>en-US</dc:language>
  <cp:lastModifiedBy>Боева</cp:lastModifiedBy>
  <dcterms:modified xsi:type="dcterms:W3CDTF">2009-10-12T07:17:49Z</dcterms:modified>
  <cp:revision>7</cp:revision>
  <dc:subject/>
  <dc:title>Объединение Италии</dc:title>
</cp:coreProperties>
</file>