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7D4-607B-411E-8DD3-6E4736BA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198-A78D-4588-919D-D00CBA1A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193-A096-4C18-AC28-DBCC5655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F91-D689-4B04-9985-C1F5CA93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4F0C-24F1-42A9-8346-64CED598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8F11-F432-4CA5-B00A-7A01D8BF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ABE4-0EAA-459D-A351-33FA08C2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D93B-E5AD-4668-B982-2D3CF6AE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0431-196E-4E8C-9557-8FDA4013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533F-654F-44A8-B8CC-8FF663A0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6F21-5ED1-40DF-85B6-F4551AD9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1C7-55CF-4BE9-8654-0B2CC8EE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FC16-B383-407C-A984-61CB90E7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3A56-ACE6-4A5A-97CA-C9E9400B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A3FE-B2D0-43F6-87E7-24ABF845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D9E6-C6EC-4755-A4F9-84CB90A7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8166-9956-4BFA-BB38-A9C75398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C02-BA53-4CA2-B662-A5A244A2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C8A-1E4B-4A8C-8C16-1A9996F8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DE2-6396-431B-B332-013C5EB5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15C-D8FE-4377-8A92-89FF4D45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017-9D34-43D2-8C9A-3966CE40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C2F-C4CE-43DF-B51A-A5907F19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333-7C2D-4B55-87A6-8B343097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94DC-7264-49E4-A938-4B5AE9CFDBD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3968-EF7C-47B1-AB85-C96FFBA6254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Объединение Итал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Verdana"/>
              </a:rPr>
              <a:t>1859 – 187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амять о прошл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39000" cy="4626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16000" y="61801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Verdana"/>
              </a:rPr>
              <a:t>Памятник первому королю Итал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6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ационально-освободительное движе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984840" cy="491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44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объедин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умеренно-либеральн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ъединение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«сверху»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д главенством монарха, путем войн и дипломатических усил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республиканско-демократическ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ъединение </a:t>
            </a:r>
            <a:r>
              <a:rPr b="0" lang="en-US" sz="2000" spc="-1" strike="noStrike">
                <a:solidFill>
                  <a:srgbClr val="ffcc66"/>
                </a:solidFill>
                <a:latin typeface="Verdana"/>
              </a:rPr>
              <a:t>«снизу»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утем революционной борьбы за независимость страны от австрийского гне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68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68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68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милло Бенсо Кав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5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95280" y="1599840"/>
            <a:ext cx="4691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Граф, государственный деятель Итал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 1850 года занимал различные министерские посты в правительстве Пьемон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 1852 – 1861 гг. был премьер-министр Пьемон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овел ряд либеральных рефор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230640" cy="4464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68360" y="618012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1810 – 1861 г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2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72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72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72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72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72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жузеппе Гарибальд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Национальный герой Итал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Один из лидеров революционно-демократического крыла освободительного движ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 1860 г. возглавил поход «тысячи» - отряд добровольцев, который освободил юг страны от Бурбонов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Был депутатом итальянского парламен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92720" y="1599840"/>
            <a:ext cx="339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352680" cy="444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292720" y="6180120"/>
            <a:ext cx="33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1807 – 1882 г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6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76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76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76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76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76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оника событ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апрель 1859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начало войны Сардинского королевства против Австр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май 1859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битва при Маджент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июнь 1859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битва при Сальферин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март 1860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созыв «итальянского» парламен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весна 1860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восстание на о. Сицилия. Поход «тысячи» Д.Гарибальд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август - октябрь 1860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провозглашение Виктора Эммануила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королем Неапо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1861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провозглашение Итальянского королевства в составе Пьемон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Verdana"/>
              </a:rPr>
              <a:t>1870 г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ввод итальянских войск в Рим. Завершение объединения Италии. Рим - столи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6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6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6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6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6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46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ституция 1871 г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31640" y="1589040"/>
            <a:ext cx="8208360" cy="4462560"/>
            <a:chOff x="431640" y="1589040"/>
            <a:chExt cx="8208360" cy="4462560"/>
          </a:xfrm>
        </p:grpSpPr>
        <p:cxnSp>
          <p:nvCxnSpPr>
            <p:cNvPr id="177" name="_s14349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525640" y="238284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0" name="_s14348"/>
            <p:cNvCxnSpPr>
              <a:stCxn id="181" idx="0"/>
              <a:endCxn id="179" idx="2"/>
            </p:cNvCxnSpPr>
            <p:nvPr/>
          </p:nvCxnSpPr>
          <p:spPr>
            <a:xfrm flipV="1">
              <a:off x="4536000" y="337320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2" name="_s14347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2652840" y="23832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9" name="_s14343"/>
            <p:cNvSpPr/>
            <p:nvPr/>
          </p:nvSpPr>
          <p:spPr>
            <a:xfrm>
              <a:off x="3304440" y="1589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3b76"/>
                  </a:solidFill>
                  <a:latin typeface="Verdana"/>
                </a:rPr>
                <a:t>ПАРЛАМЕН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4344"/>
            <p:cNvSpPr/>
            <p:nvPr/>
          </p:nvSpPr>
          <p:spPr>
            <a:xfrm>
              <a:off x="4316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3b76"/>
                  </a:solidFill>
                  <a:latin typeface="Verdana"/>
                </a:rPr>
                <a:t>СЕНА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14345"/>
            <p:cNvSpPr/>
            <p:nvPr/>
          </p:nvSpPr>
          <p:spPr>
            <a:xfrm>
              <a:off x="33044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cc66"/>
                  </a:solidFill>
                  <a:latin typeface="Verdana"/>
                </a:rPr>
                <a:t>КОРОЛ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b76"/>
                  </a:solidFill>
                  <a:latin typeface="Verdana"/>
                </a:rPr>
                <a:t>Назначение министр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b76"/>
                  </a:solidFill>
                  <a:latin typeface="Verdana"/>
                </a:rPr>
                <a:t>Командование армие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b76"/>
                  </a:solidFill>
                  <a:latin typeface="Verdana"/>
                </a:rPr>
                <a:t>Высшая судебная вла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14346"/>
            <p:cNvSpPr/>
            <p:nvPr/>
          </p:nvSpPr>
          <p:spPr>
            <a:xfrm>
              <a:off x="617760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3b76"/>
                  </a:solidFill>
                  <a:latin typeface="Verdana"/>
                </a:rPr>
                <a:t>ПАЛАТА</a:t>
              </a:r>
              <a:br>
                <a:rPr sz="2100"/>
              </a:br>
              <a:r>
                <a:rPr b="1" lang="en-US" sz="2100" spc="-1" strike="noStrike">
                  <a:solidFill>
                    <a:srgbClr val="003b76"/>
                  </a:solidFill>
                  <a:latin typeface="Verdana"/>
                </a:rPr>
                <a:t>ДЕПУТАТОВ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родный герой Итал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311800" cy="4307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763640" y="59641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Verdana"/>
              </a:rPr>
              <a:t>Памятник Гарибальди и его жене Ани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8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иктор Эммануил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78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728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ороль Сардинии 1849–1861 г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ервый король объединенной Италии с 1861 – 1878 г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едставитель Савойской династ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Был доступен и прост в общении, обладал личной храбростью, был популярен в народе, его называли «король – джентльмен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176640" cy="4464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68360" y="6180120"/>
            <a:ext cx="30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1820 – 1861 г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8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68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68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68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68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68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8:55:54Z</dcterms:created>
  <dc:creator>Boeva</dc:creator>
  <dc:description/>
  <dc:language>en-US</dc:language>
  <cp:lastModifiedBy>Боева</cp:lastModifiedBy>
  <dcterms:modified xsi:type="dcterms:W3CDTF">2009-10-12T07:17:49Z</dcterms:modified>
  <cp:revision>7</cp:revision>
  <dc:subject/>
  <dc:title>Объединение Италии</dc:title>
</cp:coreProperties>
</file>