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CD2-94E6-4DBD-8931-7A9D100A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69C-8854-4BF5-A23A-E39E3483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C9A-5591-49F7-939D-DF228E2C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629-88C8-4B77-988D-4F240DFD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1735-5C5F-4C84-A164-1728A995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681D-5A76-4380-812C-190F2FBF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F9C2-3BB0-4539-9A9C-DCE7704E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5BA-31DC-4B71-B0B8-666B75E1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E12-14C7-49F6-AFB1-143D0B7D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21E5-CFEB-4E5D-A83C-B65F535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4241-33DC-4E10-9F13-2F97B7C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7813-8972-4BDF-94F3-D7B50C1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B83B-9175-4125-93E1-20CA1B4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7487-DF94-4847-8734-653BC9E2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F249-D278-4D25-AA79-D1635939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9BA-DCB2-4E4A-9CEE-C779C250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8AB1-8C8E-4D1A-96EB-43ECBBA0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C99-C8A5-49B1-A3C9-289E22DC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373-1792-4C4B-B796-CC191BC0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D5E-8786-4BDF-84C0-29CA01FA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2BF-64BE-458D-AF20-C62FA1DD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239-53FE-4CC1-B7E0-F583D383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CAD-2D77-42CC-80C2-EED97F3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9AC-61B8-4932-86ED-82E4B22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7945-624D-4114-B8C0-761A690AD3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2810-9192-4C88-B074-AB2638FC9D36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Олимпийские игры в древност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1389240" y="599112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Награждение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победителя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6" name="Picture 6" descr="Рисунок2"/>
          <p:cNvPicPr/>
          <p:nvPr/>
        </p:nvPicPr>
        <p:blipFill>
          <a:blip r:embed="rId1"/>
          <a:stretch/>
        </p:blipFill>
        <p:spPr>
          <a:xfrm>
            <a:off x="1023840" y="836640"/>
            <a:ext cx="2827440" cy="5076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0" y="620280"/>
            <a:ext cx="439272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возвращении олимпиони-ка домой, земляки устраи-вали ему триумфальную встреч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н приносил жертву в храме и там в честь триумфатора ставили статую.До конца жизни город бесплатно ко-рмил олимпионик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ногие атлеты принимали участие в играх по 8-9 раз, рассматривая их как сред- ство подготовки к война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60320" y="11592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.Чествование победителей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141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1.Праздник мир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2.Подготовка к играм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3.Состязани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4.Олимпионик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5.Чествование побе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022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Почему идея Олимпийских игр была возрождена в к. 19 века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0" y="836280"/>
            <a:ext cx="4392720" cy="586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776 г.до н.э. в Греции про-шли первые олимпийские игры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легенде их учредил Ге-ракл в честь своего отца-Зевс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гры проходили 1 раз в 4 го-да в них участвовали атле-ты из всех полисов и коло-ни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время игр в Греции прек-ращались всей войны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.Праздник мира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3" name="Picture 8" descr="6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31640" y="765000"/>
            <a:ext cx="4069080" cy="46738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4" name="Text Box 9"/>
          <p:cNvSpPr/>
          <p:nvPr/>
        </p:nvSpPr>
        <p:spPr>
          <a:xfrm>
            <a:off x="153720" y="5703840"/>
            <a:ext cx="428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Древняя Олимпия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овременная реконструкция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5280" y="3860280"/>
            <a:ext cx="8569440" cy="284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 играх участвовали свободные греки.женжины не могли даже смотреть за состязаниями.За год до начала игр атлеты приступали к тренировкам. За месяц они приезжали в Южную Грецию и там продолжали свою подготовку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2.Подготовка к играм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7" name="Picture 4" descr="2"/>
          <p:cNvPicPr/>
          <p:nvPr/>
        </p:nvPicPr>
        <p:blipFill>
          <a:blip r:embed="rId2"/>
          <a:stretch/>
        </p:blipFill>
        <p:spPr>
          <a:xfrm>
            <a:off x="4078440" y="798480"/>
            <a:ext cx="4670280" cy="2992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8" name="Text Box 5"/>
          <p:cNvSpPr/>
          <p:nvPr/>
        </p:nvSpPr>
        <p:spPr>
          <a:xfrm>
            <a:off x="1119240" y="1959120"/>
            <a:ext cx="24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Тренировка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Рисунок на вазе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64720" cy="2484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гры проходили летом в течении 5 дне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первый день проходили жертвоприношения и атлеты и судьи клялись честно бороться и судить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остязания проходили на стадионе.Длина дорожки составляла 1 стадий(194 м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.Состязани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1" name="Picture 4" descr="Рисунок1"/>
          <p:cNvPicPr/>
          <p:nvPr/>
        </p:nvPicPr>
        <p:blipFill>
          <a:blip r:embed="rId2"/>
          <a:stretch/>
        </p:blipFill>
        <p:spPr>
          <a:xfrm>
            <a:off x="3203640" y="735120"/>
            <a:ext cx="5256000" cy="3414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2" name="Text Box 5"/>
          <p:cNvSpPr/>
          <p:nvPr/>
        </p:nvSpPr>
        <p:spPr>
          <a:xfrm>
            <a:off x="1145880" y="1989000"/>
            <a:ext cx="16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Античны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стадион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" dur="1" fill="hold"/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1"/>
          <p:cNvPicPr/>
          <p:nvPr/>
        </p:nvPicPr>
        <p:blipFill>
          <a:blip r:embed="rId1"/>
          <a:stretch/>
        </p:blipFill>
        <p:spPr>
          <a:xfrm>
            <a:off x="3851280" y="692280"/>
            <a:ext cx="4824360" cy="33987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.Состязани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62880" y="206064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Панкратион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4005000"/>
            <a:ext cx="8964720" cy="270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дним из самых почетных состязаний был пакратион.Атлеты соревновались в беге,прыжках в длину,метании копья и диска и борьбе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358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громный интерес  вызывали кулачный бой и бег с оружие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64720" cy="2484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ипподроме устраивались гонки колесниц.Лавры победителя доставались не возничему, а владельцу упряжк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последний день проходило награждение.Победителей венчали венком из ветвей оливы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.Состязани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80520" y="1989000"/>
            <a:ext cx="320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Гонки на колесницах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Современны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рисунок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0" name="Picture 6" descr="4"/>
          <p:cNvPicPr/>
          <p:nvPr/>
        </p:nvPicPr>
        <p:blipFill>
          <a:blip r:embed="rId2"/>
          <a:stretch/>
        </p:blipFill>
        <p:spPr>
          <a:xfrm>
            <a:off x="3676680" y="765000"/>
            <a:ext cx="5143320" cy="3410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4.Олимпионик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2" name="Picture 4" descr="2"/>
          <p:cNvPicPr/>
          <p:nvPr/>
        </p:nvPicPr>
        <p:blipFill>
          <a:blip r:embed="rId1"/>
          <a:stretch/>
        </p:blipFill>
        <p:spPr>
          <a:xfrm>
            <a:off x="395280" y="765000"/>
            <a:ext cx="4052880" cy="5083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03" name="Text Box 5"/>
          <p:cNvSpPr/>
          <p:nvPr/>
        </p:nvSpPr>
        <p:spPr>
          <a:xfrm>
            <a:off x="650880" y="60930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Милон поднимает быка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0" y="836280"/>
            <a:ext cx="4392720" cy="5869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реди победителей самым знаменитым был Милон. Еще в детстве он мог нести на плечах быка.Однажды он стал чемпионом потому, что его соперники испу-гались бороться.Полидам мог удержать за колесо чет верку лощадей. А однажды он задушил льва в руко-пашной схватке. Феаген, будучи юношей унес с пло-щади бронзовую стату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06:11:42Z</dcterms:created>
  <dc:creator>ЧЕРНОВ АЛЕКСЕЙ</dc:creator>
  <dc:description/>
  <dc:language>en-US</dc:language>
  <cp:lastModifiedBy>1</cp:lastModifiedBy>
  <dcterms:modified xsi:type="dcterms:W3CDTF">2012-10-15T08:45:59Z</dcterms:modified>
  <cp:revision>26</cp:revision>
  <dc:subject/>
  <dc:title>Заголовок слайда отсутствует</dc:title>
</cp:coreProperties>
</file>