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F61-BEF8-4AFA-9D1B-3936855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F03-4742-43A4-A8C1-09C3C41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E6C-FD0F-455A-B668-7F7938F4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366-D7DB-4E20-8BC8-3428400B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151-A16C-4C6F-B6FD-C7C9B3DC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F08C-C960-4C91-AA55-2C7B68E3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F31-0071-4C45-AD53-FFFE20C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7B9-1375-4E72-B685-412AB3B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DE37-FD91-4206-B9C5-052A2AA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2D78-EAF1-4C90-8C28-869A2F14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798-0347-4DB3-8B48-DFF413E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D0A-FC0F-4625-A0FE-9599538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BA42-AA3C-4815-9F24-690DC6FB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FA2-C6A5-4BEC-92C5-A2BEE1D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0EC-6D69-473C-A3CA-AD0880C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5B7C-5D6F-4F05-9177-CC8B77A0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DA8-C09F-47D3-B2E2-A712A354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EBC-DAA8-48D1-B124-665996B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989-4D39-4738-AED5-2CDD085D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3A9-53A8-40A2-A7DE-F346755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579-5D1C-4BF0-ABA1-7CC483C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346-4398-43DC-AF1E-0C20E93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C1E-DC5B-4ACA-8E84-CD167ED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5EB-2EA9-454D-8D3D-4848F8A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C4F-8887-49A3-9D41-0AEF1B2076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FD4-3F3E-44AB-BB4F-46EC17555CFA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Олимпийские игры в древност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1389240" y="599112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Награждение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победител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6" name="Picture 6" descr="Рисунок2"/>
          <p:cNvPicPr/>
          <p:nvPr/>
        </p:nvPicPr>
        <p:blipFill>
          <a:blip r:embed="rId1"/>
          <a:stretch/>
        </p:blipFill>
        <p:spPr>
          <a:xfrm>
            <a:off x="1023840" y="836640"/>
            <a:ext cx="2827440" cy="507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0" y="620280"/>
            <a:ext cx="439272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возвращении олимпиони-ка домой, земляки устраи-вали ему триумфальную встреч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н приносил жертву в храме и там в честь триумфатора ставили статую.До конца жизни город бесплатно ко-рмил олимпионик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ногие атлеты принимали участие в играх по 8-9 раз, рассматривая их как сред- ство подготовки к война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60320" y="11592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Чествование победителей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141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Праздник мир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Подготовка к игра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Олимпионик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5.Чествование побе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022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Почему идея Олимпийских игр была возрождена в к. 19 века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0" y="836280"/>
            <a:ext cx="4392720" cy="586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776 г.до н.э. в Греции про-шли первые олимпийские игр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легенде их учредил Ге-ракл в честь своего отца-Зевс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гры проходили 1 раз в 4 го-да в них участвовали атле-ты из всех полисов и коло-ни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время игр в Греции прек-ращались всей войны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Праздник мир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3" name="Picture 8" descr="6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31640" y="765000"/>
            <a:ext cx="4069080" cy="467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4" name="Text Box 9"/>
          <p:cNvSpPr/>
          <p:nvPr/>
        </p:nvSpPr>
        <p:spPr>
          <a:xfrm>
            <a:off x="153720" y="5703840"/>
            <a:ext cx="42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Древняя Олимпи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овременная реконструкци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3860280"/>
            <a:ext cx="8569440" cy="28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играх участвовали свободные греки.женжины не могли даже смотреть за состязаниями.За год до начала игр атлеты приступали к тренировкам. За месяц они приезжали в Южную Грецию и там продолжали свою подготовку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Подготовка к играм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7" name="Picture 4" descr="2"/>
          <p:cNvPicPr/>
          <p:nvPr/>
        </p:nvPicPr>
        <p:blipFill>
          <a:blip r:embed="rId2"/>
          <a:stretch/>
        </p:blipFill>
        <p:spPr>
          <a:xfrm>
            <a:off x="4078440" y="798480"/>
            <a:ext cx="4670280" cy="2992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8" name="Text Box 5"/>
          <p:cNvSpPr/>
          <p:nvPr/>
        </p:nvSpPr>
        <p:spPr>
          <a:xfrm>
            <a:off x="1119240" y="195912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Тренировка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исунок на вазе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64720" cy="248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гры проходили летом в течении 5 дн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первый день проходили жертвоприношения и атлеты и судьи клялись честно бороться и судить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остязания проходили на стадионе.Длина дорожки составляла 1 стадий(194 м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1" name="Picture 4" descr="Рисунок1"/>
          <p:cNvPicPr/>
          <p:nvPr/>
        </p:nvPicPr>
        <p:blipFill>
          <a:blip r:embed="rId2"/>
          <a:stretch/>
        </p:blipFill>
        <p:spPr>
          <a:xfrm>
            <a:off x="3203640" y="735120"/>
            <a:ext cx="5256000" cy="3414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2" name="Text Box 5"/>
          <p:cNvSpPr/>
          <p:nvPr/>
        </p:nvSpPr>
        <p:spPr>
          <a:xfrm>
            <a:off x="1145880" y="1989000"/>
            <a:ext cx="16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Античны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стадион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1"/>
          <p:cNvPicPr/>
          <p:nvPr/>
        </p:nvPicPr>
        <p:blipFill>
          <a:blip r:embed="rId1"/>
          <a:stretch/>
        </p:blipFill>
        <p:spPr>
          <a:xfrm>
            <a:off x="3851280" y="692280"/>
            <a:ext cx="4824360" cy="33987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62880" y="206064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Панкратион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8964720" cy="270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им из самых почетных состязаний был пакратион.Атлеты соревновались в беге,прыжках в длину,метании копья и диска и борьб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громный интерес  вызывали кулачный бой и бег с оружие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64720" cy="248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ипподроме устраивались гонки колесниц.Лавры победителя доставались не возничему, а владельцу упряжк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последний день проходило награждение.Победителей венчали венком из ветвей олив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80520" y="1989000"/>
            <a:ext cx="32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Гонки на колесницах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Современны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рисунок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0" name="Picture 6" descr="4"/>
          <p:cNvPicPr/>
          <p:nvPr/>
        </p:nvPicPr>
        <p:blipFill>
          <a:blip r:embed="rId2"/>
          <a:stretch/>
        </p:blipFill>
        <p:spPr>
          <a:xfrm>
            <a:off x="3676680" y="765000"/>
            <a:ext cx="5143320" cy="3410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.Олимпион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2" name="Picture 4" descr="2"/>
          <p:cNvPicPr/>
          <p:nvPr/>
        </p:nvPicPr>
        <p:blipFill>
          <a:blip r:embed="rId1"/>
          <a:stretch/>
        </p:blipFill>
        <p:spPr>
          <a:xfrm>
            <a:off x="395280" y="765000"/>
            <a:ext cx="4052880" cy="5083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03" name="Text Box 5"/>
          <p:cNvSpPr/>
          <p:nvPr/>
        </p:nvSpPr>
        <p:spPr>
          <a:xfrm>
            <a:off x="650880" y="60930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Милон поднимает быка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0" y="836280"/>
            <a:ext cx="4392720" cy="5869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реди победителей самым знаменитым был Милон. Еще в детстве он мог нести на плечах быка.Однажды он стал чемпионом потому, что его соперники испу-гались бороться.Полидам мог удержать за колесо чет верку лощадей. А однажды он задушил льва в руко-пашной схватке. Феаген, будучи юношей унес с пло-щади бронзовую стату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06:11:42Z</dcterms:created>
  <dc:creator>ЧЕРНОВ АЛЕКСЕЙ</dc:creator>
  <dc:description/>
  <dc:language>en-US</dc:language>
  <cp:lastModifiedBy>1</cp:lastModifiedBy>
  <dcterms:modified xsi:type="dcterms:W3CDTF">2012-10-15T08:45:59Z</dcterms:modified>
  <cp:revision>26</cp:revision>
  <dc:subject/>
  <dc:title>Заголовок слайда отсутствует</dc:title>
</cp:coreProperties>
</file>