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BD7A-52DD-4B71-834F-7C9274A3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B0A-5577-436A-85F0-DF33CC48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3CB5-E174-4334-9C1A-4A77849E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8D6-5D6B-4F39-9732-0C0B15EA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1E3FD-6004-4BD0-BA08-56B1C5DA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AFB0E-3609-48C1-B183-864034D1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F6C12-ABBA-415A-AFD8-CCEBF6E1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87EEE-F8F9-4C49-9A51-73C6D27A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EF73F-328F-4360-915A-F752CDC8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19ADC-D58B-4257-B28A-065999EA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B1AA9-E843-48A3-954F-9FB2525F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0D57-8A42-488D-B84D-7EC2389A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FE540-7E05-4318-8B3F-88608986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01107-8735-4B73-8BFA-04121E33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E3083-EDE5-43DE-95C6-88605B09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71A9F-8C11-48B6-A169-8A857B2E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8EBA0-365A-4FCF-AEC5-1BDA2916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806DF-8357-4E08-9C81-CBEFD539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3EF306-AA74-4DF1-8F09-5E8BF91C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4594B7-7A7F-4740-B54F-2F8BD437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29947-B25B-41BB-9A5D-723C6418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0031F-F096-4881-A355-676883DE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B537-29FA-4429-9DDC-16E71050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D4852B-EB39-4CDC-BE8D-4A090F7B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465EC-DC7D-46BE-98B5-8CB323C6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23F61-E536-4A21-9C5F-9FCE4056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9C077-3141-4F4E-98FC-B7FAC338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B4403A-FE22-4A69-BFFB-BC6A1DE0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30FAA-05E3-4B3F-8EFE-55CE7174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C4BC2-852B-4D68-8203-9E26E737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CEBCF-CA7F-4884-A378-03324116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8C45D-7EBD-49B6-9E5F-4968F04F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2CDDE-7FAE-43DB-8C6D-7263AA16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3F1F-AF7A-426C-AF71-839092A5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778D2-8FE3-45A1-BFD5-D639B6CE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666A7-D1F1-407B-82B8-7C4D452E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2241C-C113-4F9B-A635-ED187401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7EDF2-7228-47B1-9B6F-348C5253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9DBA7-B0BE-4C65-B560-F3C5F6D3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44374-D1FA-4F69-9E4D-0AE82791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DF4C0-5C5E-48EA-AA7D-AEDDB7A8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719CE-3A6C-4EF6-B98C-495E9670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F51E6-91A0-4A59-9316-90ECBA34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D87B2-E40D-4F34-A2AC-2B155273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4BC3-054B-491C-BA4F-D570E576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4EEB6-9BA6-490A-93D4-1DCA666F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09620-D4A1-4009-B9DF-6782202B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C60A4-6540-4056-9FBE-A326CDC8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2FD14-1B72-4300-B17A-5E1CA745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57EB0-38D7-4392-9E8B-F2E5D364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50625-F910-4A6D-A15D-F761E22A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152CE-62E8-4036-A9D3-AD64718C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0C2AD-0EF7-4EF8-A005-40CB5FDA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E2FA7-48FB-4F10-994F-E955B1B8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AFC46-41EC-4C51-9AAF-242B2B9A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799A-1067-47F0-A731-7062F9C8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875A4-8674-4C0E-850A-78D0BAB1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A0C12-5468-42EE-88BA-E6026E21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9D4CA-95ED-4175-BB39-B559091F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AF958-FF73-4BF2-86B0-18C53340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16B0F-1D5B-475F-AAF4-70E4CF53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0DEFB-2EEA-490C-AF92-E9BD0B5E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87658-E549-4388-930A-F5571A40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95DB9-AD8E-4178-9E49-AB0E13A2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0E883-5443-4639-8574-49D7778E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8EAC6-C871-4AEC-91E4-5AA5B758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D91-5BB3-4490-BC02-C97BE67C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90028-7DC8-4AD9-AB38-8C680AD7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25433-3849-4296-AB36-CF2B9C63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F1355-0A49-4F6C-B2D0-E7EC2A18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E33F1-A46C-4E0A-9C09-CE8E47D2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5A299-02A3-41E1-9DA2-3B60F7EB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EDA16-4767-4019-A4A7-A68F31B0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F3EB5-6595-4D5F-A998-75C00EA6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204FB-E0F0-4ED2-ACF9-C566BCD3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F59FA-4F20-41CC-A870-BD67A336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F0A7C-6D19-4CD9-B018-396092CD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4A7E-F613-4F31-9794-0E73D9E5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4FB5D-E8D7-4BBD-B8B1-8374C7E6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364EA-29F5-4569-BF34-A0FF554C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132BB-DA37-47C6-BFD8-1FFBDCFE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6BC74-BE7A-4E01-9FCF-47B7D474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84EE3-85D6-4A16-8AC2-6A7F70C0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FAD1-548A-4968-B968-828DE7B6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6e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4584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5bd0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a5d0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05e0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3D80-2D79-4683-BD7D-20331A2E46D9}" type="slidenum">
              <a:rPr b="0" lang="ru-RU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4584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5bd0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a5d0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05e0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2302-E03F-4852-B086-DDD03DD7E4FA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4584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5bd0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a5d0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05e0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43F0-2B52-4A3B-AD41-3874466AB676}" type="slidenum">
              <a:rPr b="0" lang="ru-RU" sz="11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6e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4584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5bd0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a5d0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05e0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E62E-F3FF-4477-83E1-1E4C777BAFAE}" type="slidenum">
              <a:rPr b="0" lang="ru-RU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4584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5bd0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a5d0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05e0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C639-D06E-4AA2-9111-4962B5DED71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3e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e7fc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6e7fc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4584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e7fc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6e7fc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5bd0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e7fc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6e7fc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a5d0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e7fc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6e7fc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05e0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e7fc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6e7fc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e7fc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6e7fc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e7fc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6e7fc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3BD5-B13A-4874-B689-BFCF05F29D5E}" type="slidenum">
              <a:rPr b="0" lang="ru-RU" sz="11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6e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4584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5bd0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a5d0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05e0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52AA-84C4-4E47-9707-8CD3BC179BF6}" type="slidenum">
              <a:rPr b="0" lang="ru-RU" sz="11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" descr="14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lvl="2" marL="9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ыполнила Малыгина О.Н., </a:t>
            </a:r>
            <a:endParaRPr b="0" lang="en-US" sz="1600" spc="-1" strike="noStrike">
              <a:solidFill>
                <a:srgbClr val="073e87"/>
              </a:solidFill>
              <a:latin typeface="Franklin Gothic Medium"/>
            </a:endParaRPr>
          </a:p>
          <a:p>
            <a:pPr lvl="2" marL="9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читель ГБОУ СОШ № 88</a:t>
            </a:r>
            <a:endParaRPr b="0" lang="en-US" sz="1600" spc="-1" strike="noStrike">
              <a:solidFill>
                <a:srgbClr val="073e87"/>
              </a:solidFill>
              <a:latin typeface="Franklin Gothic Medium"/>
            </a:endParaRPr>
          </a:p>
          <a:p>
            <a:pPr lvl="2" marL="9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Г. Санкт-Петербург</a:t>
            </a:r>
            <a:endParaRPr b="0" lang="en-US" sz="1600" spc="-1" strike="noStrike">
              <a:solidFill>
                <a:srgbClr val="073e87"/>
              </a:solidFill>
              <a:latin typeface="Franklin Gothic Medium"/>
            </a:endParaRPr>
          </a:p>
          <a:p>
            <a:pPr lvl="2" marL="9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2014г.</a:t>
            </a:r>
            <a:endParaRPr b="0" lang="en-US" sz="1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ЕЧИЕ</a:t>
            </a: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ФОГРАФИЧЕСКИЙ МАРАФОН  </a:t>
            </a:r>
            <a:br>
              <a:rPr sz="5400"/>
            </a:b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РОК РУССКОГО ЯЗЫКА В 7 КЛАССЕ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04" name="Picture 65" descr="Рисунок1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вторить написание изученных орфограмм в наречиях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репить полученные знания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ЦЕЛЬ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07" name="Picture 4" descr="books-150x150"/>
          <p:cNvPicPr/>
          <p:nvPr/>
        </p:nvPicPr>
        <p:blipFill>
          <a:blip r:embed="rId1"/>
          <a:stretch/>
        </p:blipFill>
        <p:spPr>
          <a:xfrm>
            <a:off x="6095880" y="41148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магистр"/>
          <p:cNvPicPr/>
          <p:nvPr/>
        </p:nvPicPr>
        <p:blipFill>
          <a:blip r:embed="rId2"/>
          <a:stretch/>
        </p:blipFill>
        <p:spPr>
          <a:xfrm>
            <a:off x="6477120" y="152280"/>
            <a:ext cx="2576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0880" y="1523520"/>
            <a:ext cx="840744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олько Н пишется в суффиксах наречий на О - Е?</a:t>
            </a:r>
            <a:endParaRPr b="0" lang="en-US" sz="28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 пишется Не  с наречиями?</a:t>
            </a:r>
            <a:endParaRPr b="0" lang="en-US" sz="28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ъясните написание приставок НЕ и НИ  в наречиях.</a:t>
            </a:r>
            <a:endParaRPr b="0" lang="en-US" sz="28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гда в наречиях после шипящих пишется О, когда Е?</a:t>
            </a:r>
            <a:endParaRPr b="0" lang="en-US" sz="28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гда пишется дефис между частями в наречиях?</a:t>
            </a:r>
            <a:endParaRPr b="0" lang="en-US" sz="28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ПОВТОРИМ ТЕОРИЮ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11" name="Picture 7" descr="49"/>
          <p:cNvPicPr/>
          <p:nvPr/>
        </p:nvPicPr>
        <p:blipFill>
          <a:blip r:embed="rId1"/>
          <a:stretch/>
        </p:blipFill>
        <p:spPr>
          <a:xfrm>
            <a:off x="7086600" y="380880"/>
            <a:ext cx="1905120" cy="18478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003"/>
          <p:cNvPicPr/>
          <p:nvPr/>
        </p:nvPicPr>
        <p:blipFill>
          <a:blip r:embed="rId2"/>
          <a:stretch/>
        </p:blipFill>
        <p:spPr>
          <a:xfrm>
            <a:off x="7323120" y="5562720"/>
            <a:ext cx="1800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волнованный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тересованный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ченный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думанный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еянный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ный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64832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волнова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тересова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че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дума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ея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УЙТЕ НАРЕЧИЯ, ОБЪЯСНИТЕ НАПИСАНИ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Н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16" name="Picture 4" descr="003"/>
          <p:cNvPicPr/>
          <p:nvPr/>
        </p:nvPicPr>
        <p:blipFill>
          <a:blip r:embed="rId1"/>
          <a:stretch/>
        </p:blipFill>
        <p:spPr>
          <a:xfrm>
            <a:off x="6477120" y="4800600"/>
            <a:ext cx="2361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228600" y="1719360"/>
            <a:ext cx="457200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Взлететь (не )высоко, а низко; приезжал (не) часто, а редко;  </a:t>
            </a:r>
            <a:endParaRPr b="0" lang="en-US" sz="26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исать (не)аккуратно, (не)ряшливо,</a:t>
            </a:r>
            <a:endParaRPr b="0" lang="en-US" sz="26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появиться (не)ожиданно;   читать (не)громко, нисколько (не)трудно помочь;                поступил вовсе (не) красиво; ушел (не)далеко от дома; вовсе (не) интересно.</a:t>
            </a:r>
            <a:endParaRPr b="0" lang="en-US" sz="26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876920" y="1719000"/>
            <a:ext cx="3962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злететь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</a:t>
            </a:r>
            <a:r>
              <a:rPr b="1" lang="ru-RU" sz="2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высоко, а низко; приезжал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</a:t>
            </a:r>
            <a:r>
              <a:rPr b="1" lang="ru-RU" sz="2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часто, а редко; писать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</a:t>
            </a:r>
            <a:r>
              <a:rPr b="1" lang="ru-RU" sz="2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аккуратно,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</a:t>
            </a:r>
            <a:r>
              <a:rPr b="1" lang="ru-RU" sz="2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яшливо; появиться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</a:t>
            </a:r>
            <a:r>
              <a:rPr b="1" lang="ru-RU" sz="2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жиданно; читать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</a:t>
            </a:r>
            <a:r>
              <a:rPr b="1" lang="ru-RU" sz="2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громко, нисколько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 </a:t>
            </a:r>
            <a:r>
              <a:rPr b="1" lang="ru-RU" sz="2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рудно помочь; поступил вовсе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</a:t>
            </a:r>
            <a:r>
              <a:rPr b="1" lang="ru-RU" sz="2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красиво; ушел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</a:t>
            </a:r>
            <a:r>
              <a:rPr b="1" lang="ru-RU" sz="2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алеко от дома; вовсе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</a:t>
            </a:r>
            <a:r>
              <a:rPr b="1" lang="ru-RU" sz="2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интересно.</a:t>
            </a:r>
            <a:endParaRPr b="0" lang="en-US" sz="26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ТНО ИЛИ РАЗДЕЛЬНО?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0" name="Picture 11" descr="картинки-книг1-150x150"/>
          <p:cNvPicPr/>
          <p:nvPr/>
        </p:nvPicPr>
        <p:blipFill>
          <a:blip r:embed="rId1"/>
          <a:stretch/>
        </p:blipFill>
        <p:spPr>
          <a:xfrm>
            <a:off x="7391520" y="152280"/>
            <a:ext cx="1608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1599840"/>
            <a:ext cx="8407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вариант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           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|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вариант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НИ</a:t>
            </a:r>
            <a:endParaRPr b="0" lang="en-US" sz="28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_когда сходить в театр; н_откуда нет помощи; н_откуда ждать вестей; н_где не было света; н_где остановиться; н_чуть не боялся; н_как не дойти; н_где  встретиться; н_сколько не удивился; н_когда ни на кого не обижался;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_куда сходить.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ОРОЧНО-РАСПРЕДЕЛИТЕЛЬНАЯ РАБОТА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3" name="Picture 5" descr="Рисунок5"/>
          <p:cNvPicPr/>
          <p:nvPr/>
        </p:nvPicPr>
        <p:blipFill>
          <a:blip r:embed="rId1"/>
          <a:stretch/>
        </p:blipFill>
        <p:spPr>
          <a:xfrm>
            <a:off x="7164360" y="4800600"/>
            <a:ext cx="1674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епло 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Жить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делать 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лакать 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стретить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ыть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тдохнуть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Шевелится 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64832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Чуть)чуть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о)ребячьи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о)волчьи (по)дружески (по)весеннему       (по)своему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о)настоящему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бок)о(бок)</a:t>
            </a:r>
            <a:endParaRPr b="0" lang="en-US" sz="32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ОТНЕСИ СЛОВА, ОБРАЗУЯ СЛОВОСОЧЕТАНИЯ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7" name="Рисунок 5" descr="75976674_large_bumphead.gif"/>
          <p:cNvPicPr/>
          <p:nvPr/>
        </p:nvPicPr>
        <p:blipFill>
          <a:blip r:embed="rId1"/>
          <a:stretch/>
        </p:blipFill>
        <p:spPr>
          <a:xfrm>
            <a:off x="7086600" y="838080"/>
            <a:ext cx="2173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73e87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73e87"/>
                </a:solidFill>
                <a:latin typeface="바탕"/>
                <a:ea typeface="바탕"/>
              </a:rPr>
              <a:t>     </a:t>
            </a:r>
            <a:r>
              <a:rPr b="1" lang="ru-RU" sz="5400" spc="-1" strike="noStrike">
                <a:solidFill>
                  <a:srgbClr val="073e87"/>
                </a:solidFill>
                <a:latin typeface="바탕"/>
                <a:ea typeface="바탕"/>
              </a:rPr>
              <a:t>Желаю успехов!</a:t>
            </a:r>
            <a:endParaRPr b="0" lang="en-US" sz="54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Medium"/>
              </a:rPr>
              <a:t>ИТОГИ МАРАФОНА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30" name="Picture 7" descr="smail17"/>
          <p:cNvPicPr/>
          <p:nvPr/>
        </p:nvPicPr>
        <p:blipFill>
          <a:blip r:embed="rId1"/>
          <a:stretch/>
        </p:blipFill>
        <p:spPr>
          <a:xfrm>
            <a:off x="3218040" y="4114800"/>
            <a:ext cx="2971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ЧННГ</cp:lastModifiedBy>
  <dcterms:modified xsi:type="dcterms:W3CDTF">2014-01-25T14:01:17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