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gif" ContentType="image/gif"/>
  <Override PartName="/ppt/media/image6.jpeg" ContentType="image/jpeg"/>
  <Override PartName="/ppt/media/image10.png" ContentType="image/png"/>
  <Override PartName="/ppt/media/image4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15.png" ContentType="image/png"/>
  <Override PartName="/ppt/media/image2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3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1D4-FA79-4612-9F24-3649B150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901-3ECE-498C-B55C-6498D906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9C4-B004-4F65-9115-12450CE1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965-FC40-4858-BF51-D042CF00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885-A0B8-4427-8AC6-6B5DFF4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14D-BF78-4D76-9D77-C1D1A6F3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590-4DAC-4EDF-936E-F9400DC4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373-B7E6-4E18-9268-74E18E5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53C-7BBD-454B-969E-85AD96E3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62B-1A47-42F4-B018-D74551A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7D4-8B68-4D04-BED8-AA12D9C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14B-7B08-4D59-9B76-893B9810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D3A-BCF2-4F6A-A41B-7ED69C54DD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6" descr="0906294828c3287665732957b50e8a4f.jpg"/>
          <p:cNvPicPr/>
          <p:nvPr/>
        </p:nvPicPr>
        <p:blipFill>
          <a:blip r:embed="rId1"/>
          <a:stretch/>
        </p:blipFill>
        <p:spPr>
          <a:xfrm>
            <a:off x="128592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543800" cy="9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Animal chat 1.gif"/>
          <p:cNvPicPr/>
          <p:nvPr/>
        </p:nvPicPr>
        <p:blipFill>
          <a:blip r:embed="rId1"/>
          <a:stretch/>
        </p:blipFill>
        <p:spPr>
          <a:xfrm>
            <a:off x="1428840" y="1857240"/>
            <a:ext cx="1857240" cy="26704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4214880" y="857160"/>
            <a:ext cx="41432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071960" y="857160"/>
            <a:ext cx="4357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1d7a00"/>
                </a:solidFill>
                <a:latin typeface="Calibri"/>
              </a:rPr>
              <a:t>14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Animal dalmatier2_g.gif"/>
          <p:cNvPicPr/>
          <p:nvPr/>
        </p:nvPicPr>
        <p:blipFill>
          <a:blip r:embed="rId1"/>
          <a:stretch/>
        </p:blipFill>
        <p:spPr>
          <a:xfrm>
            <a:off x="1906560" y="1392120"/>
            <a:ext cx="18702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28.gif"/>
          <p:cNvPicPr/>
          <p:nvPr/>
        </p:nvPicPr>
        <p:blipFill>
          <a:blip r:embed="rId1"/>
          <a:stretch/>
        </p:blipFill>
        <p:spPr>
          <a:xfrm>
            <a:off x="928800" y="2428920"/>
            <a:ext cx="3263760" cy="1735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3857760" y="785880"/>
            <a:ext cx="37861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dog_3d.gif"/>
          <p:cNvPicPr/>
          <p:nvPr/>
        </p:nvPicPr>
        <p:blipFill>
          <a:blip r:embed="rId1"/>
          <a:stretch/>
        </p:blipFill>
        <p:spPr>
          <a:xfrm>
            <a:off x="1714680" y="2071800"/>
            <a:ext cx="1793520" cy="2055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4071960" y="857160"/>
            <a:ext cx="4357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A21154.jpg"/>
          <p:cNvPicPr/>
          <p:nvPr/>
        </p:nvPicPr>
        <p:blipFill>
          <a:blip r:embed="rId1"/>
          <a:stretch/>
        </p:blipFill>
        <p:spPr>
          <a:xfrm>
            <a:off x="4929120" y="1500120"/>
            <a:ext cx="1928880" cy="2584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Спасибо всем 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1574782.jpg"/>
          <p:cNvPicPr/>
          <p:nvPr/>
        </p:nvPicPr>
        <p:blipFill>
          <a:blip r:embed="rId2"/>
          <a:stretch/>
        </p:blipFill>
        <p:spPr>
          <a:xfrm>
            <a:off x="1285920" y="400068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big.jpg"/>
          <p:cNvPicPr/>
          <p:nvPr/>
        </p:nvPicPr>
        <p:blipFill>
          <a:blip r:embed="rId3"/>
          <a:stretch/>
        </p:blipFill>
        <p:spPr>
          <a:xfrm>
            <a:off x="7000920" y="1143000"/>
            <a:ext cx="1952640" cy="3017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cover.jpg"/>
          <p:cNvPicPr/>
          <p:nvPr/>
        </p:nvPicPr>
        <p:blipFill>
          <a:blip r:embed="rId4"/>
          <a:stretch/>
        </p:blipFill>
        <p:spPr>
          <a:xfrm>
            <a:off x="285840" y="1285920"/>
            <a:ext cx="2017800" cy="3036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0" descr="coverау.jpg"/>
          <p:cNvPicPr/>
          <p:nvPr/>
        </p:nvPicPr>
        <p:blipFill>
          <a:blip r:embed="rId5"/>
          <a:stretch/>
        </p:blipFill>
        <p:spPr>
          <a:xfrm>
            <a:off x="3643200" y="3786120"/>
            <a:ext cx="1905120" cy="289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1260806603_4602000009395.jpg"/>
          <p:cNvPicPr/>
          <p:nvPr/>
        </p:nvPicPr>
        <p:blipFill>
          <a:blip r:embed="rId6"/>
          <a:stretch/>
        </p:blipFill>
        <p:spPr>
          <a:xfrm>
            <a:off x="2357280" y="1500120"/>
            <a:ext cx="227196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be ав.jpg"/>
          <p:cNvPicPr/>
          <p:nvPr/>
        </p:nvPicPr>
        <p:blipFill>
          <a:blip r:embed="rId7"/>
          <a:stretch/>
        </p:blipFill>
        <p:spPr>
          <a:xfrm>
            <a:off x="6286680" y="385776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0120" y="28548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00"/>
                </a:solidFill>
                <a:latin typeface="Monotype Corsiva"/>
              </a:rPr>
              <a:t>Тема урока: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71400" y="2286000"/>
            <a:ext cx="51433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Умножение и деление на 2 и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Закреплени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AWARD.WMF"/>
          <p:cNvPicPr/>
          <p:nvPr/>
        </p:nvPicPr>
        <p:blipFill>
          <a:blip r:embed="rId2"/>
          <a:stretch/>
        </p:blipFill>
        <p:spPr>
          <a:xfrm>
            <a:off x="6377040" y="3500280"/>
            <a:ext cx="27669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a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трелка вправо 3"/>
          <p:cNvSpPr/>
          <p:nvPr/>
        </p:nvSpPr>
        <p:spPr>
          <a:xfrm rot="19917600">
            <a:off x="90360" y="1552680"/>
            <a:ext cx="1392480" cy="734760"/>
          </a:xfrm>
          <a:prstGeom prst="rightArrow">
            <a:avLst>
              <a:gd name="adj1" fmla="val 62417"/>
              <a:gd name="adj2" fmla="val 33612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4"/>
          <p:cNvSpPr/>
          <p:nvPr/>
        </p:nvSpPr>
        <p:spPr>
          <a:xfrm rot="20578800">
            <a:off x="2720880" y="401400"/>
            <a:ext cx="1390680" cy="734760"/>
          </a:xfrm>
          <a:prstGeom prst="rightArrow">
            <a:avLst>
              <a:gd name="adj1" fmla="val 62417"/>
              <a:gd name="adj2" fmla="val 33613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5"/>
          <p:cNvSpPr/>
          <p:nvPr/>
        </p:nvSpPr>
        <p:spPr>
          <a:xfrm rot="20031000">
            <a:off x="1376280" y="923400"/>
            <a:ext cx="1390680" cy="736920"/>
          </a:xfrm>
          <a:prstGeom prst="rightArrow">
            <a:avLst>
              <a:gd name="adj1" fmla="val 62417"/>
              <a:gd name="adj2" fmla="val 33584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6"/>
          <p:cNvSpPr/>
          <p:nvPr/>
        </p:nvSpPr>
        <p:spPr>
          <a:xfrm rot="1953000">
            <a:off x="5816520" y="744120"/>
            <a:ext cx="1924200" cy="736560"/>
          </a:xfrm>
          <a:prstGeom prst="rightArrow">
            <a:avLst>
              <a:gd name="adj1" fmla="val 62417"/>
              <a:gd name="adj2" fmla="val 33598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х2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7"/>
          <p:cNvSpPr/>
          <p:nvPr/>
        </p:nvSpPr>
        <p:spPr>
          <a:xfrm rot="372600">
            <a:off x="4106520" y="166680"/>
            <a:ext cx="1798560" cy="735120"/>
          </a:xfrm>
          <a:prstGeom prst="rightArrow">
            <a:avLst>
              <a:gd name="adj1" fmla="val 62417"/>
              <a:gd name="adj2" fmla="val 33596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10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8"/>
          <p:cNvSpPr/>
          <p:nvPr/>
        </p:nvSpPr>
        <p:spPr>
          <a:xfrm rot="2178000">
            <a:off x="7403760" y="1996560"/>
            <a:ext cx="1922400" cy="736920"/>
          </a:xfrm>
          <a:prstGeom prst="rightArrow">
            <a:avLst>
              <a:gd name="adj1" fmla="val 62417"/>
              <a:gd name="adj2" fmla="val 3358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3+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9"/>
          <p:cNvSpPr/>
          <p:nvPr/>
        </p:nvSpPr>
        <p:spPr>
          <a:xfrm rot="1688400">
            <a:off x="151920" y="3155760"/>
            <a:ext cx="1559160" cy="734760"/>
          </a:xfrm>
          <a:prstGeom prst="rightArrow">
            <a:avLst>
              <a:gd name="adj1" fmla="val 62417"/>
              <a:gd name="adj2" fmla="val 33618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х2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0"/>
          <p:cNvSpPr/>
          <p:nvPr/>
        </p:nvSpPr>
        <p:spPr>
          <a:xfrm rot="19466400">
            <a:off x="1627200" y="3139560"/>
            <a:ext cx="1700280" cy="735120"/>
          </a:xfrm>
          <a:prstGeom prst="rightArrow">
            <a:avLst>
              <a:gd name="adj1" fmla="val 62417"/>
              <a:gd name="adj2" fmla="val 33591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х2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1"/>
          <p:cNvSpPr/>
          <p:nvPr/>
        </p:nvSpPr>
        <p:spPr>
          <a:xfrm rot="1855800">
            <a:off x="6559200" y="2966760"/>
            <a:ext cx="2193840" cy="736560"/>
          </a:xfrm>
          <a:prstGeom prst="rightArrow">
            <a:avLst>
              <a:gd name="adj1" fmla="val 62417"/>
              <a:gd name="adj2" fmla="val 33605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х2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2"/>
          <p:cNvSpPr/>
          <p:nvPr/>
        </p:nvSpPr>
        <p:spPr>
          <a:xfrm rot="1688400">
            <a:off x="2989080" y="2692440"/>
            <a:ext cx="1904760" cy="735120"/>
          </a:xfrm>
          <a:prstGeom prst="rightArrow">
            <a:avLst>
              <a:gd name="adj1" fmla="val 62417"/>
              <a:gd name="adj2" fmla="val 33588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4+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 rot="20020200">
            <a:off x="4852800" y="2674800"/>
            <a:ext cx="1868400" cy="735120"/>
          </a:xfrm>
          <a:prstGeom prst="rightArrow">
            <a:avLst>
              <a:gd name="adj1" fmla="val 62417"/>
              <a:gd name="adj2" fmla="val 33594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8+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 rot="1017600">
            <a:off x="42840" y="4896000"/>
            <a:ext cx="2338560" cy="734760"/>
          </a:xfrm>
          <a:prstGeom prst="rightArrow">
            <a:avLst>
              <a:gd name="adj1" fmla="val 62417"/>
              <a:gd name="adj2" fmla="val 33610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50-17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5"/>
          <p:cNvSpPr/>
          <p:nvPr/>
        </p:nvSpPr>
        <p:spPr>
          <a:xfrm rot="20506800">
            <a:off x="2270160" y="4916160"/>
            <a:ext cx="2355840" cy="735120"/>
          </a:xfrm>
          <a:prstGeom prst="rightArrow">
            <a:avLst>
              <a:gd name="adj1" fmla="val 62417"/>
              <a:gd name="adj2" fmla="val 33590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64-36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 rot="1689600">
            <a:off x="4384440" y="4827600"/>
            <a:ext cx="2479680" cy="736560"/>
          </a:xfrm>
          <a:prstGeom prst="rightArrow">
            <a:avLst>
              <a:gd name="adj1" fmla="val 62417"/>
              <a:gd name="adj2" fmla="val 33603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16+18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7"/>
          <p:cNvSpPr/>
          <p:nvPr/>
        </p:nvSpPr>
        <p:spPr>
          <a:xfrm rot="20506800">
            <a:off x="6555960" y="5277960"/>
            <a:ext cx="2355840" cy="736560"/>
          </a:xfrm>
          <a:prstGeom prst="rightArrow">
            <a:avLst>
              <a:gd name="adj1" fmla="val 62417"/>
              <a:gd name="adj2" fmla="val 33598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56-30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трелка вправо 18"/>
          <p:cNvSpPr/>
          <p:nvPr/>
        </p:nvSpPr>
        <p:spPr>
          <a:xfrm>
            <a:off x="714240" y="785880"/>
            <a:ext cx="92880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185724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214800" y="7858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31316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545616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6670800" y="785880"/>
            <a:ext cx="133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813800" y="7858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1857240" y="255600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309888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5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438480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3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5599080" y="255600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688500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192888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66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324180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56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50072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6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574200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5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40"/>
          <p:cNvSpPr/>
          <p:nvPr/>
        </p:nvSpPr>
        <p:spPr>
          <a:xfrm>
            <a:off x="785880" y="4500720"/>
            <a:ext cx="928800" cy="9284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41"/>
          <p:cNvSpPr/>
          <p:nvPr/>
        </p:nvSpPr>
        <p:spPr>
          <a:xfrm>
            <a:off x="785880" y="2643120"/>
            <a:ext cx="92880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Группа 4"/>
          <p:cNvGrpSpPr/>
          <p:nvPr/>
        </p:nvGrpSpPr>
        <p:grpSpPr>
          <a:xfrm>
            <a:off x="500040" y="214200"/>
            <a:ext cx="2428920" cy="2535480"/>
            <a:chOff x="500040" y="214200"/>
            <a:chExt cx="2428920" cy="2535480"/>
          </a:xfrm>
        </p:grpSpPr>
        <p:pic>
          <p:nvPicPr>
            <p:cNvPr id="80" name="Рисунок 1" descr="CHICKEN2.WMF"/>
            <p:cNvPicPr/>
            <p:nvPr/>
          </p:nvPicPr>
          <p:blipFill>
            <a:blip r:embed="rId2"/>
            <a:stretch/>
          </p:blipFill>
          <p:spPr>
            <a:xfrm>
              <a:off x="1290960" y="214200"/>
              <a:ext cx="118620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2" descr="CHICKEN2.WMF"/>
            <p:cNvPicPr/>
            <p:nvPr/>
          </p:nvPicPr>
          <p:blipFill>
            <a:blip r:embed="rId3"/>
            <a:stretch/>
          </p:blipFill>
          <p:spPr>
            <a:xfrm>
              <a:off x="500040" y="1030320"/>
              <a:ext cx="118620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Рисунок 3" descr="CHICKEN2.WMF"/>
            <p:cNvPicPr/>
            <p:nvPr/>
          </p:nvPicPr>
          <p:blipFill>
            <a:blip r:embed="rId4"/>
            <a:stretch/>
          </p:blipFill>
          <p:spPr>
            <a:xfrm>
              <a:off x="1742760" y="1263600"/>
              <a:ext cx="1186200" cy="14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Группа 5"/>
          <p:cNvGrpSpPr/>
          <p:nvPr/>
        </p:nvGrpSpPr>
        <p:grpSpPr>
          <a:xfrm>
            <a:off x="4572000" y="285840"/>
            <a:ext cx="2500200" cy="2535120"/>
            <a:chOff x="4572000" y="285840"/>
            <a:chExt cx="2500200" cy="2535120"/>
          </a:xfrm>
        </p:grpSpPr>
        <p:pic>
          <p:nvPicPr>
            <p:cNvPr id="84" name="Рисунок 6" descr="CHICKEN2.WMF"/>
            <p:cNvPicPr/>
            <p:nvPr/>
          </p:nvPicPr>
          <p:blipFill>
            <a:blip r:embed="rId5"/>
            <a:stretch/>
          </p:blipFill>
          <p:spPr>
            <a:xfrm>
              <a:off x="5385960" y="285840"/>
              <a:ext cx="122112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7" descr="CHICKEN2.WMF"/>
            <p:cNvPicPr/>
            <p:nvPr/>
          </p:nvPicPr>
          <p:blipFill>
            <a:blip r:embed="rId6"/>
            <a:stretch/>
          </p:blipFill>
          <p:spPr>
            <a:xfrm>
              <a:off x="4572000" y="1101960"/>
              <a:ext cx="122112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Рисунок 8" descr="CHICKEN2.WMF"/>
            <p:cNvPicPr/>
            <p:nvPr/>
          </p:nvPicPr>
          <p:blipFill>
            <a:blip r:embed="rId7"/>
            <a:stretch/>
          </p:blipFill>
          <p:spPr>
            <a:xfrm>
              <a:off x="5851080" y="1335240"/>
              <a:ext cx="1221120" cy="14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9"/>
          <p:cNvGrpSpPr/>
          <p:nvPr/>
        </p:nvGrpSpPr>
        <p:grpSpPr>
          <a:xfrm>
            <a:off x="6000840" y="3786120"/>
            <a:ext cx="2571840" cy="2678040"/>
            <a:chOff x="6000840" y="3786120"/>
            <a:chExt cx="2571840" cy="2678040"/>
          </a:xfrm>
        </p:grpSpPr>
        <p:pic>
          <p:nvPicPr>
            <p:cNvPr id="88" name="Рисунок 10" descr="CHICKEN2.WMF"/>
            <p:cNvPicPr/>
            <p:nvPr/>
          </p:nvPicPr>
          <p:blipFill>
            <a:blip r:embed="rId8"/>
            <a:stretch/>
          </p:blipFill>
          <p:spPr>
            <a:xfrm>
              <a:off x="6838200" y="3786120"/>
              <a:ext cx="1256040" cy="156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11" descr="CHICKEN2.WMF"/>
            <p:cNvPicPr/>
            <p:nvPr/>
          </p:nvPicPr>
          <p:blipFill>
            <a:blip r:embed="rId9"/>
            <a:stretch/>
          </p:blipFill>
          <p:spPr>
            <a:xfrm>
              <a:off x="6000840" y="4648320"/>
              <a:ext cx="1256040" cy="156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12" descr="CHICKEN2.WMF"/>
            <p:cNvPicPr/>
            <p:nvPr/>
          </p:nvPicPr>
          <p:blipFill>
            <a:blip r:embed="rId10"/>
            <a:stretch/>
          </p:blipFill>
          <p:spPr>
            <a:xfrm>
              <a:off x="7316640" y="4894560"/>
              <a:ext cx="1256040" cy="156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Группа 13"/>
          <p:cNvGrpSpPr/>
          <p:nvPr/>
        </p:nvGrpSpPr>
        <p:grpSpPr>
          <a:xfrm>
            <a:off x="2071800" y="3929040"/>
            <a:ext cx="2500200" cy="2714760"/>
            <a:chOff x="2071800" y="3929040"/>
            <a:chExt cx="2500200" cy="2714760"/>
          </a:xfrm>
        </p:grpSpPr>
        <p:pic>
          <p:nvPicPr>
            <p:cNvPr id="92" name="Рисунок 14" descr="CHICKEN2.WMF"/>
            <p:cNvPicPr/>
            <p:nvPr/>
          </p:nvPicPr>
          <p:blipFill>
            <a:blip r:embed="rId11"/>
            <a:stretch/>
          </p:blipFill>
          <p:spPr>
            <a:xfrm>
              <a:off x="2885760" y="3929040"/>
              <a:ext cx="1221120" cy="159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Рисунок 15" descr="CHICKEN2.WMF"/>
            <p:cNvPicPr/>
            <p:nvPr/>
          </p:nvPicPr>
          <p:blipFill>
            <a:blip r:embed="rId12"/>
            <a:stretch/>
          </p:blipFill>
          <p:spPr>
            <a:xfrm>
              <a:off x="2071800" y="4802760"/>
              <a:ext cx="1221120" cy="159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16" descr="CHICKEN2.WMF"/>
            <p:cNvPicPr/>
            <p:nvPr/>
          </p:nvPicPr>
          <p:blipFill>
            <a:blip r:embed="rId13"/>
            <a:stretch/>
          </p:blipFill>
          <p:spPr>
            <a:xfrm>
              <a:off x="3350880" y="5052600"/>
              <a:ext cx="1221120" cy="159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8 крольчат рассадите в клетки по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26"/>
          <p:cNvSpPr/>
          <p:nvPr/>
        </p:nvSpPr>
        <p:spPr>
          <a:xfrm>
            <a:off x="285840" y="4286160"/>
            <a:ext cx="216036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7"/>
          <p:cNvSpPr/>
          <p:nvPr/>
        </p:nvSpPr>
        <p:spPr>
          <a:xfrm>
            <a:off x="242892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8"/>
          <p:cNvSpPr/>
          <p:nvPr/>
        </p:nvSpPr>
        <p:spPr>
          <a:xfrm>
            <a:off x="464328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9"/>
          <p:cNvSpPr/>
          <p:nvPr/>
        </p:nvSpPr>
        <p:spPr>
          <a:xfrm>
            <a:off x="676908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285920" y="2143080"/>
            <a:ext cx="74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олько …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1" descr="rab3.gif"/>
          <p:cNvPicPr/>
          <p:nvPr/>
        </p:nvPicPr>
        <p:blipFill>
          <a:blip r:embed="rId2"/>
          <a:stretch/>
        </p:blipFill>
        <p:spPr>
          <a:xfrm>
            <a:off x="542916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2" descr="rab3.gif"/>
          <p:cNvPicPr/>
          <p:nvPr/>
        </p:nvPicPr>
        <p:blipFill>
          <a:blip r:embed="rId3"/>
          <a:stretch/>
        </p:blipFill>
        <p:spPr>
          <a:xfrm>
            <a:off x="321480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3" descr="rab3.gif"/>
          <p:cNvPicPr/>
          <p:nvPr/>
        </p:nvPicPr>
        <p:blipFill>
          <a:blip r:embed="rId4"/>
          <a:stretch/>
        </p:blipFill>
        <p:spPr>
          <a:xfrm>
            <a:off x="221472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4" descr="rab3.gif"/>
          <p:cNvPicPr/>
          <p:nvPr/>
        </p:nvPicPr>
        <p:blipFill>
          <a:blip r:embed="rId5"/>
          <a:stretch/>
        </p:blipFill>
        <p:spPr>
          <a:xfrm>
            <a:off x="442908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5" descr="rab3.gif"/>
          <p:cNvPicPr/>
          <p:nvPr/>
        </p:nvPicPr>
        <p:blipFill>
          <a:blip r:embed="rId6"/>
          <a:stretch/>
        </p:blipFill>
        <p:spPr>
          <a:xfrm>
            <a:off x="107172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6" descr="rab3.gif"/>
          <p:cNvPicPr/>
          <p:nvPr/>
        </p:nvPicPr>
        <p:blipFill>
          <a:blip r:embed="rId7"/>
          <a:stretch/>
        </p:blipFill>
        <p:spPr>
          <a:xfrm>
            <a:off x="7128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7" descr="rab3.gif"/>
          <p:cNvPicPr/>
          <p:nvPr/>
        </p:nvPicPr>
        <p:blipFill>
          <a:blip r:embed="rId8"/>
          <a:stretch/>
        </p:blipFill>
        <p:spPr>
          <a:xfrm>
            <a:off x="742968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8" descr="rab3.gif"/>
          <p:cNvPicPr/>
          <p:nvPr/>
        </p:nvPicPr>
        <p:blipFill>
          <a:blip r:embed="rId9"/>
          <a:stretch/>
        </p:blipFill>
        <p:spPr>
          <a:xfrm>
            <a:off x="6572160" y="4643280"/>
            <a:ext cx="17146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000160" y="1428840"/>
            <a:ext cx="5572080" cy="40719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"/>
          <p:cNvSpPr/>
          <p:nvPr/>
        </p:nvSpPr>
        <p:spPr>
          <a:xfrm flipH="1">
            <a:off x="5500800" y="1430280"/>
            <a:ext cx="1440" cy="4071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"/>
          <p:cNvSpPr/>
          <p:nvPr/>
        </p:nvSpPr>
        <p:spPr>
          <a:xfrm flipH="1">
            <a:off x="2000160" y="3429720"/>
            <a:ext cx="5572080" cy="3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2000160" y="1428840"/>
            <a:ext cx="350064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2000160" y="3500280"/>
            <a:ext cx="350064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5572080" y="3500280"/>
            <a:ext cx="200016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5500800" y="1428840"/>
            <a:ext cx="207144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2000160" y="1428840"/>
            <a:ext cx="557208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000160" y="3500280"/>
            <a:ext cx="557208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2000160" y="1428840"/>
            <a:ext cx="342900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5429160" y="1428840"/>
            <a:ext cx="214308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2000160" y="1428840"/>
            <a:ext cx="557208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571680" y="214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Calibri"/>
              </a:rPr>
              <a:t>Сколько прямоугольников на рисун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7"/>
          <p:cNvSpPr/>
          <p:nvPr/>
        </p:nvSpPr>
        <p:spPr>
          <a:xfrm>
            <a:off x="1428840" y="1500120"/>
            <a:ext cx="6072120" cy="37148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E:\Для Виктории с диска Д\ОБОИ и КАРТИНКИ\предметы\еда\00011886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643040" y="164304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E:\Для Виктории с диска Д\ОБОИ и КАРТИНКИ\предметы\еда\00011886.jp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643040" y="364320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Для Виктории с диска Д\ОБОИ и КАРТИНКИ\предметы\еда\00011886.jpg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000840" y="378612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Для Виктории с диска Д\ОБОИ и КАРТИНКИ\предметы\еда\00011886.jp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000840" y="1714680"/>
            <a:ext cx="1251000" cy="122076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8"/>
          <p:cNvGrpSpPr/>
          <p:nvPr/>
        </p:nvGrpSpPr>
        <p:grpSpPr>
          <a:xfrm>
            <a:off x="7564320" y="2779560"/>
            <a:ext cx="1225800" cy="841680"/>
            <a:chOff x="7564320" y="2779560"/>
            <a:chExt cx="1225800" cy="841680"/>
          </a:xfrm>
        </p:grpSpPr>
        <p:pic>
          <p:nvPicPr>
            <p:cNvPr id="128" name="TextBox 8" descr=""/>
            <p:cNvPicPr/>
            <p:nvPr/>
          </p:nvPicPr>
          <p:blipFill>
            <a:blip r:embed="rId6"/>
            <a:stretch/>
          </p:blipFill>
          <p:spPr>
            <a:xfrm>
              <a:off x="7564320" y="2779560"/>
              <a:ext cx="12258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572240" y="2786040"/>
              <a:ext cx="1214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TextBox 9"/>
          <p:cNvGrpSpPr/>
          <p:nvPr/>
        </p:nvGrpSpPr>
        <p:grpSpPr>
          <a:xfrm>
            <a:off x="2066760" y="633240"/>
            <a:ext cx="5297760" cy="787680"/>
            <a:chOff x="2066760" y="633240"/>
            <a:chExt cx="5297760" cy="787680"/>
          </a:xfrm>
        </p:grpSpPr>
        <p:pic>
          <p:nvPicPr>
            <p:cNvPr id="131" name="TextBox 9" descr=""/>
            <p:cNvPicPr/>
            <p:nvPr/>
          </p:nvPicPr>
          <p:blipFill>
            <a:blip r:embed="rId7"/>
            <a:stretch/>
          </p:blipFill>
          <p:spPr>
            <a:xfrm>
              <a:off x="2066760" y="633240"/>
              <a:ext cx="529776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71800" y="642960"/>
              <a:ext cx="528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? на 3 м больше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10"/>
          <p:cNvSpPr/>
          <p:nvPr/>
        </p:nvSpPr>
        <p:spPr>
          <a:xfrm>
            <a:off x="3357720" y="2928960"/>
            <a:ext cx="22860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Р-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bpu50029b.jpg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4:43:16Z</dcterms:created>
  <dc:creator>Bjaka@Byka</dc:creator>
  <dc:description/>
  <dc:language>en-US</dc:language>
  <cp:lastModifiedBy>й</cp:lastModifiedBy>
  <dcterms:modified xsi:type="dcterms:W3CDTF">2011-11-14T08:44:14Z</dcterms:modified>
  <cp:revision>103</cp:revision>
  <dc:subject/>
  <dc:title>Слайд 1</dc:title>
</cp:coreProperties>
</file>