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2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F148-2537-4803-983D-ED927D2C51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A274-F699-4751-A018-48415F861E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0479-9503-46C1-92BD-E35FD0F7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E43B-2EE8-4D55-9A74-A203422D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BFBA-5C59-48CB-B81A-4FA238BE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BA07-2580-4E67-903E-65E6F5BA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16AA-3654-47D0-B5FB-75E40388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58AD-74C6-4C08-9C61-0133BB60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FFF2-2E2B-4BFB-8B55-37E1F7AC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8483-C7C3-402F-88A7-57F81D50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85A9-D448-467A-B436-4F4E0E1C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449B-1422-45CC-8B6F-A90D84F4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B410-3D30-4167-9BD2-3C16265B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21B8-474C-41BF-847B-C1A84324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E805-6B35-44B8-8691-03D22085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11BE-6055-4443-B326-0F05ADF8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351B-6909-429F-BCC0-8067411A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0823-9948-4B3A-B966-E44293114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FA9A-E983-4BA4-8229-47B2D85B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6CDF1-11F9-4EC8-A01C-4FFD7915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95BDB-B3AB-4981-AE95-BAEE7484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0B8B9-3F97-43D9-899E-30EC7D78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E1AE5-9612-4332-A5F7-D5EAA3C5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76A8F-F40B-42AE-AA48-F30EAA94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BF6C-0799-475C-A9D8-113A2189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D1E07-652E-4429-918A-0361139F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581AA-2023-4610-95D1-BBDDB5C1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997C8-20FB-4DD4-87E2-A46EEA3E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3F732-9F2F-4477-A055-BF31FE78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EACDF-3C46-4E32-8DED-C462E1B0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64B8D-1CA2-444D-972C-8513EF9A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686CC-7FEF-49B3-A34C-855E9F7B6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E80C1-CF57-4744-82F9-AAD1B6E4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AE7B2-FEAC-4B36-B851-C9F2668E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BC2AD-9781-4541-B788-B407CF20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3DF6-FCF8-4EAD-975B-C0EB5F5B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50A00-EDB2-4A13-A4E1-5737DEFE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EF0CD-244E-4685-A039-05CC0154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EE10F-EBD7-4BF9-B491-BC6C64EC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715BB-6D00-4290-AA86-543D34E7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5A98D-455B-4322-B000-B6E28096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1B123-BA5B-425A-967A-4815B7C9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C8DEF-14CB-4AE9-9B35-41518A10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2F51D-E652-420C-86FF-C74FB17B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1EC8F-3F4D-4F5E-9C64-770607B3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D61B6-BC6B-4D47-A12F-46679CCE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AD67-CE98-467E-8D75-8A68B8A5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23A25-5BF6-4D0D-ACDA-70D24CF3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21083-CAFF-4070-8C78-44B469A3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1FE72-B286-48EF-91F1-B875BCB6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3FA2C-A363-418E-8E1F-F6A504D4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4BE77-84AA-484D-85AE-0646C125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ECCA0-8CEA-4FA7-8201-E9A4743D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F71FD-9F02-4581-8D2C-2C5B61F3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0FA9D-3CC5-4D74-89E6-601F0D78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41F19-BAE5-4408-84DD-00B1FDC6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EC9EA-9740-4B70-9089-1004DB6A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6525-4613-4B08-B949-DDE12520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FCEE4-5F29-4F0A-855B-9F07E736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C8732-28BE-4A54-9FD6-7F32AD89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D4FDC-32AD-488B-A4E7-EBC50B6E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F347C-AD5A-4188-B61D-30FA3D23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5DC0E-690C-4F6E-816D-767CE9A3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DB1E1-6C49-49A0-91D8-B46F215C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28E50-86EC-4E0D-A514-478B730E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47840-097B-492B-B470-393DA617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CE573-9F7D-45E7-8B63-F8554CBC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0AF56-8F85-4BFF-8E32-5E609D40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C2C1-90C3-4B9D-83B2-40040A8B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914DE-C074-43E7-A83E-FC50FC17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B86DC-9147-4B74-A05F-6590C82C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2054C-63A1-4F21-9D1E-024E9276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FDC01-9A7B-4A1B-A50A-A85ECB2E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8C364-2359-445F-A402-C49864B2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F3568-05CB-490C-95B1-96E27F49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D801E-35A0-49ED-8992-3C6ECC21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76D8B-1F23-49C3-9E8A-34B088DF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27AAA-9EE5-4C3B-AF89-FA9528B0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C5EB4-B434-4254-BE4D-D74A4809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AC6E-6A15-4F41-9DBF-D79972DF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27C6B-75F3-4365-93AF-CABE0BE7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D3772-74C3-491B-BABE-ADDB4AFE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5B5D6-307F-40DF-B62C-0A87A324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9E174-4905-43A8-AAFB-108F3B53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B2493-8669-4E97-918D-7B9A637E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5FF6-8E17-4BFB-8A56-6866D728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BF3D-96A0-49DF-A28B-380D9502481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Oval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Oval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941C-E141-4D2E-B08F-A8906322B29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Oval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Oval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DA3F-6439-4F44-A873-F2D194C8CEA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7E03-AECF-4E9E-890A-171B0313DF3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2C7A-8087-4ADE-8B89-16E49ADA659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BBD6-94A9-4995-83B4-6388176C616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Flowchart: Process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Flowchart: Process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DAE4-AE50-49F8-84A4-117F7C44B96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Здоровье и среда обитания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28840" y="2714400"/>
            <a:ext cx="74073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4319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0e04"/>
                </a:solidFill>
                <a:latin typeface="Arial"/>
              </a:rPr>
              <a:t>Автор</a:t>
            </a:r>
            <a:r>
              <a:rPr b="1" lang="ru-RU" sz="1800" spc="-1" strike="noStrike">
                <a:solidFill>
                  <a:srgbClr val="320e04"/>
                </a:solidFill>
                <a:latin typeface="Corbe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19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Corbel"/>
              </a:rPr>
              <a:t>Щетинская В.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1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Corbel"/>
              </a:rPr>
              <a:t>Ученица 10 «Б» класс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1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Arial"/>
              </a:rPr>
              <a:t>МБОУ</a:t>
            </a:r>
            <a:r>
              <a:rPr b="0" lang="ru-RU" sz="1400" spc="-1" strike="noStrike">
                <a:solidFill>
                  <a:srgbClr val="320e04"/>
                </a:solidFill>
                <a:latin typeface="Corbel"/>
              </a:rPr>
              <a:t> «СОШ № 1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19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0e04"/>
                </a:solidFill>
                <a:latin typeface="Corbel"/>
              </a:rPr>
              <a:t>Руководитель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19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Corbel"/>
              </a:rPr>
              <a:t>Угрюмова Г. Ф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2"/>
          <a:stretch/>
        </p:blipFill>
        <p:spPr>
          <a:xfrm>
            <a:off x="1428840" y="2214720"/>
            <a:ext cx="4214880" cy="421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5"/>
          <p:cNvSpPr/>
          <p:nvPr/>
        </p:nvSpPr>
        <p:spPr>
          <a:xfrm>
            <a:off x="1071720" y="586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ежду тем лучшие умы России всегда связывали перспективы ее процветания с ростом численности народонаселения в сочетании с развитием его высоких духовных и созидательных качеств. В частности Д.И. Менделеев, основываясь на демографических показателях начала XX века, определял вероятную (и желательную) численность народонаселения Российской империи в 2000 г. как 594 млн человек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т нужды доказывать, что здоровье общества складывается в конечном результате из здоровья его граждан. Поэтому в настоящее время крайне важным стало обучение основам здорового образа жизни (ЗОЖ) и следование ем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доровый образ жизни (по A.M. Смирнову, 2000 г.) — это индивидуальная система поведения человека, обеспечивающая ему физическое,' душевное и социальное благополучие в реальной окружающей среде (природной, техногенной и социальной) и активное долголети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4788000" y="3933720"/>
            <a:ext cx="3881160" cy="229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"/>
          <p:cNvPicPr/>
          <p:nvPr/>
        </p:nvPicPr>
        <p:blipFill>
          <a:blip r:embed="rId3"/>
          <a:stretch/>
        </p:blipFill>
        <p:spPr>
          <a:xfrm>
            <a:off x="0" y="3917880"/>
            <a:ext cx="4786200" cy="2940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4"/>
          <a:stretch/>
        </p:blipFill>
        <p:spPr>
          <a:xfrm>
            <a:off x="4786200" y="3929040"/>
            <a:ext cx="4357800" cy="279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	</a:t>
            </a: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Прямоугольник 4"/>
          <p:cNvSpPr/>
          <p:nvPr/>
        </p:nvSpPr>
        <p:spPr>
          <a:xfrm>
            <a:off x="1258920" y="0"/>
            <a:ext cx="7715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Человека в его жизни, как и общество в целом, подстерегают самые различные опасности. Одни опасности имеют объективную природу, например природные катастрофы, другие порождены хозяйственной и военной деятельностью, третьи человек создает себе сам. Все эти виды опасности отражаются в конечном итоге на жизни, здоровье, качестве профессиональной деятельности и благосостоянии человек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3276720" y="1916280"/>
            <a:ext cx="3738600" cy="3963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3"/>
          <a:stretch/>
        </p:blipFill>
        <p:spPr>
          <a:xfrm>
            <a:off x="1214280" y="1928880"/>
            <a:ext cx="2017800" cy="13716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"/>
          <p:cNvPicPr/>
          <p:nvPr/>
        </p:nvPicPr>
        <p:blipFill>
          <a:blip r:embed="rId4"/>
          <a:stretch/>
        </p:blipFill>
        <p:spPr>
          <a:xfrm rot="163800">
            <a:off x="6803640" y="3068640"/>
            <a:ext cx="1782720" cy="11826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"/>
          <p:cNvPicPr/>
          <p:nvPr/>
        </p:nvPicPr>
        <p:blipFill>
          <a:blip r:embed="rId5"/>
          <a:stretch/>
        </p:blipFill>
        <p:spPr>
          <a:xfrm>
            <a:off x="7020000" y="1844640"/>
            <a:ext cx="1542960" cy="1131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9" descr=""/>
          <p:cNvPicPr/>
          <p:nvPr/>
        </p:nvPicPr>
        <p:blipFill>
          <a:blip r:embed="rId6"/>
          <a:stretch/>
        </p:blipFill>
        <p:spPr>
          <a:xfrm>
            <a:off x="6529320" y="4292640"/>
            <a:ext cx="2614680" cy="13032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2" descr=""/>
          <p:cNvPicPr/>
          <p:nvPr/>
        </p:nvPicPr>
        <p:blipFill>
          <a:blip r:embed="rId7"/>
          <a:stretch/>
        </p:blipFill>
        <p:spPr>
          <a:xfrm>
            <a:off x="2000160" y="4732200"/>
            <a:ext cx="2500560" cy="21258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4" descr=""/>
          <p:cNvPicPr/>
          <p:nvPr/>
        </p:nvPicPr>
        <p:blipFill>
          <a:blip r:embed="rId8"/>
          <a:stretch/>
        </p:blipFill>
        <p:spPr>
          <a:xfrm rot="20737200">
            <a:off x="1125360" y="3468240"/>
            <a:ext cx="1619280" cy="121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5"/>
          <p:cNvSpPr/>
          <p:nvPr/>
        </p:nvSpPr>
        <p:spPr>
          <a:xfrm>
            <a:off x="1071720" y="7128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Известно, что здоровье взрослого в основном формировалось в детстве. Согласно данным Минздрава и Госкомсанэпиднадзора России (1999 г.), лишь 14% детей школьного возраста здоровы, 50% имеют функциональные отклонения, 35—40% — хронические заболевания. Среди школьников за период обучения в 5 раз возрастает частота нарушений органов зрения, в 3 раза — патология органов пищеварения и мочеполовых путей, в 5 раз — нарушение осанки, в 4 раза — нервно-психические расстройств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1428840" y="2428920"/>
            <a:ext cx="2855880" cy="21524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"/>
          <p:cNvPicPr/>
          <p:nvPr/>
        </p:nvPicPr>
        <p:blipFill>
          <a:blip r:embed="rId3"/>
          <a:stretch/>
        </p:blipFill>
        <p:spPr>
          <a:xfrm>
            <a:off x="4714920" y="2286000"/>
            <a:ext cx="1809720" cy="13572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"/>
          <p:cNvPicPr/>
          <p:nvPr/>
        </p:nvPicPr>
        <p:blipFill>
          <a:blip r:embed="rId4"/>
          <a:stretch/>
        </p:blipFill>
        <p:spPr>
          <a:xfrm>
            <a:off x="5580000" y="3716280"/>
            <a:ext cx="2786040" cy="208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Прямоугольник 6"/>
          <p:cNvSpPr/>
          <p:nvPr/>
        </p:nvSpPr>
        <p:spPr>
          <a:xfrm>
            <a:off x="1071720" y="21420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Согласно Уставу Всемирной организации здравоохранения (ВОЗ), здоровье — это «состояние полного физического, душевного и социального благополучия, а не только отсутствие болезней и физических дефектов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Прямоугольник 7"/>
          <p:cNvSpPr/>
          <p:nvPr/>
        </p:nvSpPr>
        <p:spPr>
          <a:xfrm>
            <a:off x="1000080" y="1214280"/>
            <a:ext cx="8143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В настоящее время существует целый ряд определений здоровья, которые, как правило, содержат пять критериев последнего: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отсутствие болезни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нормальное функционирование организма в системе «человек — окружающая среда»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полное физическое, духовное, умственное и социальное благополучие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способность адаптироваться к постоянно меняющимся условиям существования в окружающей среде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способность к полноценному выполнению основных социальных функци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2928960" y="3786120"/>
            <a:ext cx="4429080" cy="2928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34"/>
          <p:cNvSpPr/>
          <p:nvPr/>
        </p:nvSpPr>
        <p:spPr>
          <a:xfrm>
            <a:off x="1854720" y="285840"/>
            <a:ext cx="68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rbel"/>
              </a:rPr>
              <a:t>Вредные привычки и среда обита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Прямоугольник 35"/>
          <p:cNvSpPr/>
          <p:nvPr/>
        </p:nvSpPr>
        <p:spPr>
          <a:xfrm>
            <a:off x="1071720" y="785880"/>
            <a:ext cx="785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урение. Согласно данным Министерства здравоохранения Китая, в стране ежегодно умирают от болезней, вызванных курением, до 2 млн человек, а в целом более 3 млн человек. Это число может увеличиться в предстоящую четверть века в 3 раза. Содержащийся в табаке никотин относится к ядам, вызывающим сначала привыкание, а затем болезненное влечение — токсикоманию. Истинная зависимость от табака возникает у одной трети курильщик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2"/>
          <a:stretch/>
        </p:blipFill>
        <p:spPr>
          <a:xfrm>
            <a:off x="3357720" y="3857760"/>
            <a:ext cx="4357440" cy="300024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36"/>
          <p:cNvSpPr/>
          <p:nvPr/>
        </p:nvSpPr>
        <p:spPr>
          <a:xfrm>
            <a:off x="1143000" y="2786040"/>
            <a:ext cx="771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Курильщик не только сам вдыхает вредные вещества, но и загрязняет воздух, подвергая опасности других людей. Установлено, что люди, находящиеся в одном помещении с курящими (их называют пассивными курильщиками), вдыхают даже больше вредных веществ, чем они сам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оугольник 32"/>
          <p:cNvSpPr/>
          <p:nvPr/>
        </p:nvSpPr>
        <p:spPr>
          <a:xfrm>
            <a:off x="1071720" y="142920"/>
            <a:ext cx="8072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Алкоголизм. Это болезнь, и болезнь коварная. В ее развитии различают три стадии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1) Начальная стадия характеризуется появлением влечения к алкоголю, его употребление становится систематическим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2) Средняя стадия характеризуется нарастающим влечением к алкоголю, изменением характера опьянения, потерей контроля над количеством выпитого, появлением состояния похмелья. На этой стадии отмечаются нарушения психики, изменения во внутренних органах и нервной системе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3) Последней стадии присуще снижение устойчивости к принимаемым дозам алкоголя, развитие запойного пьянства. Возникают тяжелые нервно-психологические нарушения, глубокие изменения со стороны внутренних орган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Когда появляется психическая зависимость от алкоголя, человек часто еще не считает себя больным.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2"/>
          <a:stretch/>
        </p:blipFill>
        <p:spPr>
          <a:xfrm>
            <a:off x="3857760" y="3857760"/>
            <a:ext cx="4000320" cy="266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оугольник 26"/>
          <p:cNvSpPr/>
          <p:nvPr/>
        </p:nvSpPr>
        <p:spPr>
          <a:xfrm>
            <a:off x="1000080" y="998640"/>
            <a:ext cx="8143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ркомания. По определению ВОЗ, «наркомания является состоянием периодической или хронической интоксикации, вредной для человека и общества, вызванной употреблением наркотика (естественного или синтетического происхождения)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словия, при которых человека следует считать наркоманом, таковы: 1) непреодолимое влечение к яду; 2) нарастающая толерантность — увеличение дозы; 3) невозможность воздержаться, так как психически и физически человек настолько зависит от наркотика и его действия, что внезапное прекращение приема вызывает физически тяжелое, а психологически подчас невыносимое состояние («ломку»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осударственные меры контроля и борьбы с такими «классическими» наркотиками, как опий, морфин, кокаин, гашиш, довольно жестки. Это привело к более широкому применению других токсикоманических средств. К ним относятся различные химические, биологические, лекарственные вещества, которые, однако, также вызывают привыкание и зависимост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ивыкание к таким сильнодействующим наркотическим средствам, как морфин, кокаин, героин и другие, обычно сочетается с пристрастием, т.е. непреодолимым стремлением больного прибегнуть к новому приему этих препаратов. При повторном введении таких веществ в организм у больного возникает временное улучшение самочувствия. Но это ощущение быстро улетучивается, и наступает в буквальном смысле страшное похмель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2"/>
          <a:stretch/>
        </p:blipFill>
        <p:spPr>
          <a:xfrm>
            <a:off x="0" y="71280"/>
            <a:ext cx="5005440" cy="73342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"/>
          <p:cNvPicPr/>
          <p:nvPr/>
        </p:nvPicPr>
        <p:blipFill>
          <a:blip r:embed="rId3"/>
          <a:stretch/>
        </p:blipFill>
        <p:spPr>
          <a:xfrm>
            <a:off x="5214960" y="142920"/>
            <a:ext cx="3809880" cy="35240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"/>
          <p:cNvPicPr/>
          <p:nvPr/>
        </p:nvPicPr>
        <p:blipFill>
          <a:blip r:embed="rId4"/>
          <a:stretch/>
        </p:blipFill>
        <p:spPr>
          <a:xfrm>
            <a:off x="5214960" y="3929040"/>
            <a:ext cx="3809880" cy="241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7"/>
          <p:cNvSpPr/>
          <p:nvPr/>
        </p:nvSpPr>
        <p:spPr>
          <a:xfrm>
            <a:off x="1143000" y="14292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rbel"/>
              </a:rPr>
              <a:t>Здоровый образ жизни граждан как основа              устойчивого развития обществ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Прямоугольник 8"/>
          <p:cNvSpPr/>
          <p:nvPr/>
        </p:nvSpPr>
        <p:spPr>
          <a:xfrm>
            <a:off x="1116000" y="1268280"/>
            <a:ext cx="756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 данным государственной статистики, в России с 1992 г. наметилась пугающая тенденция к сокращению численности населения, которая сохранилась и до настоящего времен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сновная причина такого положения — естественная убыль населения, которая обусловлена превышением смертных случаев над числом родившихся. Так, численность населения страны к 2000 г. составила около 146 млн человек и по сравнению с концом 1992 г. сократилась почти на 3 млн человек. Из республик бывшего Союза аналогичная тенденция характерна только для Украины. В Послании Президента РФ Федеральному Собранию (июль 2000 г.) отмечалось, что если сохранится указанная тенденция, то к 2025 г. Россия потеряет более 20 млн человек. Эта цифра сопоставима с потерями Советского Союза во второй мировой войн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Прямоугольник 9"/>
          <p:cNvSpPr/>
          <p:nvPr/>
        </p:nvSpPr>
        <p:spPr>
          <a:xfrm>
            <a:off x="1071720" y="4572000"/>
            <a:ext cx="7929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Крайне низкой является и продолжительность жизни населения современной России. В 1994 г. она составила для мужчин 57,7 лет, для женщин — 71,3 и имеет тенденцию снижаться и дальше. При этом все чаще умирают люди работоспособного возраста. Для сравнения: средняя продолжительность жизни жителей США и Англии — 75 лет, Канады, Швеции и Японии — соответственно 76, 78, 79 лет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5:43:58Z</dcterms:created>
  <dc:creator>Artem Kalachev</dc:creator>
  <dc:description/>
  <dc:language>en-US</dc:language>
  <cp:lastModifiedBy>xxx</cp:lastModifiedBy>
  <dcterms:modified xsi:type="dcterms:W3CDTF">2014-01-27T13:29:55Z</dcterms:modified>
  <cp:revision>184</cp:revision>
  <dc:subject/>
  <dc:title>Intel Parallel Studio</dc:title>
</cp:coreProperties>
</file>