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7894-A38C-46CE-A184-7F44E2CA45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7621-4BB4-4087-8DC7-8DD9C10D31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009-8429-4147-B6C9-3AAF706A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D06-4DCE-4917-ACD9-E92143F7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FF1-0EC1-4ECC-B3F4-893B254F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AE0-BA9F-4090-AD17-0724A890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FCC8-D2AA-4F3D-B6D1-4D47E527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BB7E-7E06-492C-B9F7-8584366D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B260-0C5F-436D-BAF8-89582AD8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1014-CA18-4DE3-8A0C-A63E9F0D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4FD4-F535-4E3E-90CC-7C36687D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7555-7AD3-4B8D-B362-7FE59155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B2BA-1EBE-45C3-8D95-A80ED0F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FD0-00A9-442F-B4F8-9874C12D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700E-4747-48BD-A0C9-408FB78A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8020-5C0E-4695-837D-1A95B32C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0D9B-702D-4197-9E64-870C0672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E12F-1D36-4CF7-8265-B1FBD660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8C2B-3650-42F3-B5EF-4B036BE2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04D5-8E16-4767-B60F-2E8FAC9C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B164-5E86-4012-8515-1ADB9081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32AF-DD00-45DE-B3C5-E7B528FD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4959-5F6C-485B-A60D-C92FB60D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EA29-D085-4927-AE98-4C305038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F12-7FDF-4BC6-90C3-25B5C710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0DA6-996F-4095-9653-757B413D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453E-1616-4986-8662-4CD8FDF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525D-9458-4BE3-8961-55EEDB56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F9AA-87B9-4035-B1B9-7CD90BB3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3152-87C5-4024-A6FB-374E1F6E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FEA2-CC28-4EA4-8A58-356E24C0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C48B-AD6B-494E-8CE3-CFE0C596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01A32-EAA9-4EDE-96AA-F13ADECF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9B80-7FCB-41BD-8FA1-77A9EF02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47A4-E20B-4407-9F30-39FA2DCC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662-989C-40F1-AF6C-43DAB498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82246-3A62-4047-9D5C-33F81498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70715-F54C-4D2A-8C1F-A2C71746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3DF13-B9AB-440B-B349-90B9E47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8AAD-A489-463A-8630-4106951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466F-80CC-4A6E-8AFA-C33E626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858D-00CD-4474-8A00-8F0DDF3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D98B8-BBEF-4904-BEB9-5E81541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CE0A-D6F6-4706-B092-5D54EF34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A352-DBA8-4F93-9C84-C39DEB35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DDE7E-3040-4847-9552-7D9064AD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947-C76A-4044-8B88-D0331FC5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BB477-C3F8-453F-8E47-382E330F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B174-1C90-4D7D-9CF0-A6AF98E8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26CBF-02F0-42E3-8EFD-7938752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54C87-D05F-401C-8C64-74EF7864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945DF-CEA9-4F38-B313-B629F630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850DE-FF95-41CE-A4F8-06B90204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DE3EC-BCF2-4651-81F1-24CC322A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3A2B-053E-4D57-B343-C2506B5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D43E-C0C8-4988-9EF7-68AC19DB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F7D7-7F4B-43C9-BCC1-24530DD8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C11-CBF4-4BD5-A4FD-8A41E5B1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06EB-8139-4D10-AECA-BB8C1EB7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FDAD2-65AD-4CC6-8087-AB670B44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B3B30-1B97-41C9-885B-860D32DC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D0E19-4FCB-4680-8AE4-B0B19F05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B4EF2-19E6-4521-B300-F309260A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5395B-3652-4D40-817E-301805D4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A2FC0-A3EF-41DE-8635-0A5813A1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47C2-93BB-40C9-A7CB-7A8B921C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1A280-807D-43C3-941F-5F80E89A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D4AF3-3F94-49C0-A655-B54A85FF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95C-8CC4-4A16-BEE5-F48ACE19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E241-2C0F-4B95-9AC6-6AB322DF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D145-8E3F-45CB-889A-FFDD6E5D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F8AD3-39E3-4CF2-A370-CA319480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2F4B-1B9A-45F7-9D56-A08CEA58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7EB2F-272A-4724-B236-231DDD65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10E09-15CD-4AD9-96FF-B7766226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CD0FE-5237-44EE-A070-FB32502E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B14E0-2BF9-4EAA-B925-6B9B3ED6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AA374-6339-4BC3-A8AA-2B3E932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8B51-F285-4383-823D-7442A01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B85-7DB2-478F-B77D-88E81FF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BF8F2-5AF2-410E-9D23-CA814AE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CC77-4E8B-4D92-B74C-5F0BFAC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3CF7B-0DC8-409D-B4AC-AEF12D50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FFE1-F2B4-4478-B562-277FB667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EAB63-D98C-4C7F-BDD1-A73E4E04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B3F-1B48-4978-9E9F-632E44E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6D03-5797-4325-B29C-44B5D3975F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D37E-333A-4025-B8EC-18313FCAA43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7480-288C-49F8-8775-CEB2F532EC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F38D-267A-49AB-AC30-AB185887D5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C38A-E674-4A59-8414-69D1E38073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EFB4-BA3D-492A-AE38-6BA908AD58E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C500-84B1-4584-92AE-5CDD1F0738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Здоровье и среда обитани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28840" y="2714400"/>
            <a:ext cx="74073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4319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9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Щетинская В.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Ученица 10 «Б» кла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Arial"/>
              </a:rPr>
              <a:t>МБОУ</a:t>
            </a:r>
            <a:r>
              <a:rPr b="0" lang="ru-RU" sz="1400" spc="-1" strike="noStrike">
                <a:solidFill>
                  <a:srgbClr val="320e04"/>
                </a:solidFill>
                <a:latin typeface="Corbel"/>
              </a:rPr>
              <a:t> «СОШ № 1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19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19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Угрюмова Г. Ф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4214880" cy="42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5"/>
          <p:cNvSpPr/>
          <p:nvPr/>
        </p:nvSpPr>
        <p:spPr>
          <a:xfrm>
            <a:off x="1071720" y="586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ежду тем лучшие умы России всегда связывали перспективы ее процветания с ростом численности народонаселения в сочетании с развитием его высоких духовных и созидательных качеств. В частности Д.И. Менделеев, основываясь на демографических показателях начала XX века, определял вероятную (и желательную) численность народонаселения Российской империи в 2000 г. как 594 млн человек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т нужды доказывать, что здоровье общества складывается в конечном результате из здоровья его граждан. Поэтому в настоящее время крайне важным стало обучение основам здорового образа жизни (ЗОЖ) и следование ем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доровый образ жизни (по A.M. Смирнову, 2000 г.) — это индивидуальная система поведения человека, обеспечивающая ему физическое,' душевное и социальное благополучие в реальной окружающей среде (природной, техногенной и социальной) и активное долголет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88116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3"/>
          <a:stretch/>
        </p:blipFill>
        <p:spPr>
          <a:xfrm>
            <a:off x="0" y="3917880"/>
            <a:ext cx="4786200" cy="2940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4"/>
          <a:stretch/>
        </p:blipFill>
        <p:spPr>
          <a:xfrm>
            <a:off x="4786200" y="3929040"/>
            <a:ext cx="4357800" cy="279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Прямоугольник 4"/>
          <p:cNvSpPr/>
          <p:nvPr/>
        </p:nvSpPr>
        <p:spPr>
          <a:xfrm>
            <a:off x="1258920" y="0"/>
            <a:ext cx="7715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Человека в его жизни, как и общество в целом, подстерегают самые различные опасности. Одни опасности имеют объективную природу, например природные катастрофы, другие порождены хозяйственной и военной деятельностью, третьи человек создает себе сам. Все эти виды опасности отражаются в конечном итоге на жизни, здоровье, качестве профессиональной деятельности и благосостоянии челове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3738600" cy="3963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3"/>
          <a:stretch/>
        </p:blipFill>
        <p:spPr>
          <a:xfrm>
            <a:off x="1214280" y="1928880"/>
            <a:ext cx="2017800" cy="1371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4"/>
          <a:stretch/>
        </p:blipFill>
        <p:spPr>
          <a:xfrm rot="163800">
            <a:off x="6803640" y="3068640"/>
            <a:ext cx="1782720" cy="1182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5"/>
          <a:stretch/>
        </p:blipFill>
        <p:spPr>
          <a:xfrm>
            <a:off x="7020000" y="1844640"/>
            <a:ext cx="154296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6"/>
          <a:stretch/>
        </p:blipFill>
        <p:spPr>
          <a:xfrm>
            <a:off x="6529320" y="4292640"/>
            <a:ext cx="2614680" cy="1303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"/>
          <p:cNvPicPr/>
          <p:nvPr/>
        </p:nvPicPr>
        <p:blipFill>
          <a:blip r:embed="rId7"/>
          <a:stretch/>
        </p:blipFill>
        <p:spPr>
          <a:xfrm>
            <a:off x="2000160" y="4732200"/>
            <a:ext cx="2500560" cy="2125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4" descr=""/>
          <p:cNvPicPr/>
          <p:nvPr/>
        </p:nvPicPr>
        <p:blipFill>
          <a:blip r:embed="rId8"/>
          <a:stretch/>
        </p:blipFill>
        <p:spPr>
          <a:xfrm rot="20737200">
            <a:off x="1125360" y="3468240"/>
            <a:ext cx="1619280" cy="121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1071720" y="7128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Известно, что здоровье взрослого в основном формировалось в детстве. Согласно данным Минздрава и Госкомсанэпиднадзора России (1999 г.), лишь 14% детей школьного возраста здоровы, 50% имеют функциональные отклонения, 35—40% — хронические заболевания. Среди школьников за период обучения в 5 раз возрастает частота нарушений органов зрения, в 3 раза — патология органов пищеварения и мочеполовых путей, в 5 раз — нарушение осанки, в 4 раза — нервно-психические расстрой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2855880" cy="2152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3"/>
          <a:stretch/>
        </p:blipFill>
        <p:spPr>
          <a:xfrm>
            <a:off x="4714920" y="2286000"/>
            <a:ext cx="1809720" cy="1357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4"/>
          <a:stretch/>
        </p:blipFill>
        <p:spPr>
          <a:xfrm>
            <a:off x="5580000" y="37162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6"/>
          <p:cNvSpPr/>
          <p:nvPr/>
        </p:nvSpPr>
        <p:spPr>
          <a:xfrm>
            <a:off x="1071720" y="2142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огласно Уставу Всемирной организации здравоохранения (ВОЗ), здоровье — это «состояние полного физического, душевного и социального благополучия, а не только отсутствие болезней и физических дефектов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1000080" y="1214280"/>
            <a:ext cx="8143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В настоящее время существует целый ряд определений здоровья, которые, как правило, содержат пять критериев последнего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отсутствие болезн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нормальное функционирование организма в системе «человек — окружающая среда»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полное физическое, духовное, умственное и социальное благополучие;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пособность адаптироваться к постоянно меняющимся условиям существования в окружающей среде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пособность к полноценному выполнению основных социальных функц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2928960" y="3786120"/>
            <a:ext cx="4429080" cy="29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34"/>
          <p:cNvSpPr/>
          <p:nvPr/>
        </p:nvSpPr>
        <p:spPr>
          <a:xfrm>
            <a:off x="1854720" y="285840"/>
            <a:ext cx="68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Вредные привычки и среда обит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оугольник 35"/>
          <p:cNvSpPr/>
          <p:nvPr/>
        </p:nvSpPr>
        <p:spPr>
          <a:xfrm>
            <a:off x="1071720" y="78588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рение. Согласно данным Министерства здравоохранения Китая, в стране ежегодно умирают от болезней, вызванных курением, до 2 млн человек, а в целом более 3 млн человек. Это число может увеличиться в предстоящую четверть века в 3 раза. Содержащийся в табаке никотин относится к ядам, вызывающим сначала привыкание, а затем болезненное влечение — токсикоманию. Истинная зависимость от табака возникает у одной трети курильщик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3357720" y="3857760"/>
            <a:ext cx="4357440" cy="30002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36"/>
          <p:cNvSpPr/>
          <p:nvPr/>
        </p:nvSpPr>
        <p:spPr>
          <a:xfrm>
            <a:off x="1143000" y="2786040"/>
            <a:ext cx="77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Курильщик не только сам вдыхает вредные вещества, но и загрязняет воздух, подвергая опасности других людей. Установлено, что люди, находящиеся в одном помещении с курящими (их называют пассивными курильщиками), вдыхают даже больше вредных веществ, чем они с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32"/>
          <p:cNvSpPr/>
          <p:nvPr/>
        </p:nvSpPr>
        <p:spPr>
          <a:xfrm>
            <a:off x="1071720" y="1429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Алкоголизм. Это болезнь, и болезнь коварная. В ее развитии различают три стади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1) Начальная стадия характеризуется появлением влечения к алкоголю, его употребление становится систематическим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) Средняя стадия характеризуется нарастающим влечением к алкоголю, изменением характера опьянения, потерей контроля над количеством выпитого, появлением состояния похмелья. На этой стадии отмечаются нарушения психики, изменения во внутренних органах и нервной системе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3) Последней стадии присуще снижение устойчивости к принимаемым дозам алкоголя, развитие запойного пьянства. Возникают тяжелые нервно-психологические нарушения, глубокие изменения со стороны внутренних орган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Когда появляется психическая зависимость от алкоголя, человек часто еще не считает себя больным.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3857760" y="3857760"/>
            <a:ext cx="400032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26"/>
          <p:cNvSpPr/>
          <p:nvPr/>
        </p:nvSpPr>
        <p:spPr>
          <a:xfrm>
            <a:off x="1000080" y="998640"/>
            <a:ext cx="8143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ркомания. По определению ВОЗ, «наркомания является состоянием периодической или хронической интоксикации, вредной для человека и общества, вызванной употреблением наркотика (естественного или синтетического происхождения)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словия, при которых человека следует считать наркоманом, таковы: 1) непреодолимое влечение к яду; 2) нарастающая толерантность — увеличение дозы; 3) невозможность воздержаться, так как психически и физически человек настолько зависит от наркотика и его действия, что внезапное прекращение приема вызывает физически тяжелое, а психологически подчас невыносимое состояние («ломку»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сударственные меры контроля и борьбы с такими «классическими» наркотиками, как опий, морфин, кокаин, гашиш, довольно жестки. Это привело к более широкому применению других токсикоманических средств. К ним относятся различные химические, биологические, лекарственные вещества, которые, однако, также вызывают привыкание и зависим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ивыкание к таким сильнодействующим наркотическим средствам, как морфин, кокаин, героин и другие, обычно сочетается с пристрастием, т.е. непреодолимым стремлением больного прибегнуть к новому приему этих препаратов. При повторном введении таких веществ в организм у больного возникает временное улучшение самочувствия. Но это ощущение быстро улетучивается, и наступает в буквальном смысле страшное похмель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0" y="71280"/>
            <a:ext cx="5005440" cy="7334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5214960" y="142920"/>
            <a:ext cx="3809880" cy="3524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4"/>
          <a:stretch/>
        </p:blipFill>
        <p:spPr>
          <a:xfrm>
            <a:off x="5214960" y="3929040"/>
            <a:ext cx="3809880" cy="24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7"/>
          <p:cNvSpPr/>
          <p:nvPr/>
        </p:nvSpPr>
        <p:spPr>
          <a:xfrm>
            <a:off x="1143000" y="1429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Здоровый образ жизни граждан как основа              устойчивого развития общест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оугольник 8"/>
          <p:cNvSpPr/>
          <p:nvPr/>
        </p:nvSpPr>
        <p:spPr>
          <a:xfrm>
            <a:off x="1116000" y="126828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 данным государственной статистики, в России с 1992 г. наметилась пугающая тенденция к сокращению численности населения, которая сохранилась и до настоящего време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ая причина такого положения — естественная убыль населения, которая обусловлена превышением смертных случаев над числом родившихся. Так, численность населения страны к 2000 г. составила около 146 млн человек и по сравнению с концом 1992 г. сократилась почти на 3 млн человек. Из республик бывшего Союза аналогичная тенденция характерна только для Украины. В Послании Президента РФ Федеральному Собранию (июль 2000 г.) отмечалось, что если сохранится указанная тенденция, то к 2025 г. Россия потеряет более 20 млн человек. Эта цифра сопоставима с потерями Советского Союза во второй мировой войн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оугольник 9"/>
          <p:cNvSpPr/>
          <p:nvPr/>
        </p:nvSpPr>
        <p:spPr>
          <a:xfrm>
            <a:off x="1071720" y="4572000"/>
            <a:ext cx="792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Крайне низкой является и продолжительность жизни населения современной России. В 1994 г. она составила для мужчин 57,7 лет, для женщин — 71,3 и имеет тенденцию снижаться и дальше. При этом все чаще умирают люди работоспособного возраста. Для сравнения: средняя продолжительность жизни жителей США и Англии — 75 лет, Канады, Швеции и Японии — соответственно 76, 78, 79 ле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5:43:58Z</dcterms:created>
  <dc:creator>Artem Kalachev</dc:creator>
  <dc:description/>
  <dc:language>en-US</dc:language>
  <cp:lastModifiedBy>xxx</cp:lastModifiedBy>
  <dcterms:modified xsi:type="dcterms:W3CDTF">2014-01-27T13:29:55Z</dcterms:modified>
  <cp:revision>184</cp:revision>
  <dc:subject/>
  <dc:title>Intel Parallel Studio</dc:title>
</cp:coreProperties>
</file>