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AE2-308E-4D8E-880A-6DDBDF3076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A1F9-81EB-40F0-8813-356AA188D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8859-41CB-44EE-9EAB-A5F30203F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764-CCFA-4535-B2E7-DAA3B0E8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50D-AB0A-4CC6-9EB6-D9A3ABAD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8C4C6-453C-4CE0-8607-7BB099FD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70229-5CF2-4C2B-AAAA-C2BD1D4E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A2718-36CC-45DA-B66A-78B60F7B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8D201-8547-454D-9C43-EC1505F0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1E435-087C-4882-8B20-CE3766D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1992B-D2AA-4582-BF49-6F9B5D4F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5CFA6-7FA0-4C2F-B778-B2442493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61944-9CD2-4CC2-989E-44D63862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05A6F-E365-47A1-9635-46712F82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75F-5F9A-4372-BEB9-00A82FF8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ACD-6509-45CE-8861-441E0A48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E9D5-18BA-4BAB-841E-A0FE83A6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802F-3045-49C8-803F-5D8AEB66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1BDB-5D98-4267-B207-4C1F33BA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B766-3B6E-48E3-9665-4AC5C34F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DAF4-3176-4D4C-ADD9-6A548D91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5FD7-499E-4143-882C-D54D99D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68CC-6A17-4211-8F93-6BABEF75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B3E-3F3D-49CD-A7CA-3C8E99FC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37BB-A028-447E-A3AD-EECE1A9C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8BCC-F4C2-4BD4-A8C1-C5B6AD15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A0A3-27EA-4036-AA20-02607B7A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10D6-CD63-4E0B-9EE8-7B5750C5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1850-3228-4201-AAAE-DE849AE7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AEFB-5374-4947-8193-FDF225DE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25B2-1A66-439F-9AA5-89129067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EFFF-A900-464A-8E6B-636F1142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CD64-E8C6-48AD-B8D2-351F0E6C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92AB-3345-4A6E-83C6-CDAD3192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97D-E3D3-453A-90E7-2EF69F0D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3580-4DC7-477C-A868-FC6C4234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01B3-2229-436C-A59B-260EA62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0135-7628-48C7-9FF3-F6E1D9CA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5984-1637-4EAA-8FA8-C6DEC119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A722-A2BD-46F6-A4E7-43EDFA02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A145-EC4F-4E5C-A4E3-7BF5BFBA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F2ED-4E3A-4EC2-8B31-83C86259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0EB9-7FD1-4D69-9971-1FF3C46D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B9F0-33E6-483C-9A15-6185D1B6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6C96-4EA1-432E-960A-94FE7B12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5CE-A6FC-4E0B-89F9-093104AC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65ED-BA9A-4C4F-ADC5-220984E0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85E9-B9A1-422A-8CC2-311CD7B2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6753-AD9A-4226-A903-3FB79326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7EF8E-1F3B-4D99-90DF-2B53CACF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E11E-337E-4CB7-AA6D-9BEA16D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CF8F2-8B77-4A38-A73C-03E68D93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B144-63FE-49FA-9A22-2A0CE69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FFFF-634E-41E2-A4E0-869E6FB8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7444-2717-461D-A9ED-FB046A03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D9BB5-D8F6-4B32-AD4A-94635CE4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441-9070-4F96-A7A8-6DBE1676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6423B-5D6D-4D75-BF1F-2A6808FB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051E5-7B3E-4238-9AB9-25E18BF9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2EED-3936-4BC5-8D59-BC554A7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FC9E1-93FB-4EF0-B073-CE238643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59A6E-085A-4473-BF83-A0F2E7D6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34393-62E8-4760-B741-C388D60F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04081-3DBC-40CE-95DA-41E7161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9F7B-7B8F-4C4E-8129-23CAFD75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6196-33DC-462E-9332-12C0BB18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3C8D3-6AE3-4541-B673-ADF74ACF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08E-1B8D-4996-8170-4C1CBDB5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1EE1E-182F-42FD-8AD8-CBA3EE1B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16C12-5B2F-45EA-8150-21B68C4C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37EB-3948-4858-B8D3-5091226B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530F-5C49-4FA5-8DC8-689285E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034EB-B705-48B0-AC72-04C3ED4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32889-E698-4B55-A20E-2131A164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3D829-6B49-4BAC-99FF-13955F04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91BBC-6D07-4D5C-BBEA-66A575E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55E7A-A7D6-46E3-9318-400CCBF7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A76F5-EE26-4ACB-853F-5A77AF8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3A9-A885-46FA-9C7C-263EFEBB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371C-1F98-4443-90B4-48DA2011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460E6-A2E9-4BD9-96E2-EE18DD4B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89DB3-219A-4EF6-ADB4-578DEF58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F145A-38A3-409B-810B-58279240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7ED5-34D8-4E01-A9C5-7D448FBC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108E6-6F3F-4BD3-AB9C-8F85B8C2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E9B40-B6C7-40B5-BAF0-078C9B9E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734A0-0B9F-4CA6-A9B8-A77EEC84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71302-6D28-44EB-9CF2-8528E12A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981E9-BC8E-4745-A3C6-76A8042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577-A115-44E0-830B-C6953016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60EBE-A6FA-4A15-AF8F-E83EFF22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C28B3-4B0A-43DF-8918-817D69F8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8456F-607B-475E-92D5-ABDB318F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94757-32E9-463A-98AC-8661E46A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47BAD-CCEB-4AE0-8903-96595A95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5417A-294B-49FE-88DB-4537DBFB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2234D-8FD5-48A2-9634-C82AB044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45C5F-B4F4-4918-96F1-21505F77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2C933-B6D4-40FF-B18D-12A0AAF5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6F4B1-4F48-480C-9F47-57C5E8A1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FCD-DCC1-4192-9404-B0151B9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11904-90A2-4885-B5BD-2DD1BE7E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57DC-AC9C-42BE-8F3D-E35B0D32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51E7-B54D-4A7E-B727-3795F70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9BB6E-5607-438C-B786-02DABB5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EED7B-A20D-47BA-9A36-FA2B39D6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C700F-C925-47CC-9AB2-1721964F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FA053-8D6A-4890-A4C5-5CC6F115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2D267-8774-4B24-8E5C-2FFFAAE5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5A0F9-E90A-4CD3-9245-E2798C97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95E16-B845-4962-BE8D-E40CBBDD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DB30-582A-4DC0-8909-FD0A98956F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C67B-AF9E-43E6-B38D-C58378961D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E0D9-50AC-457E-A6C0-8BAC23A52B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99F-E1AE-4B8B-83EF-E8E30B2CCB0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455-93B0-421C-BB75-0CEED7DD4A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4E72-DB2A-4FD6-BC87-CB313140FA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A788-5F53-4069-B364-6D0277B820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8A6E-9D9C-43EF-8C8E-D42A30AD96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C7AA-32FD-454A-8C3A-F4B5ED29D3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03b14"/>
                </a:solidFill>
                <a:latin typeface="Arial"/>
              </a:rPr>
              <a:t>Численность и воспроизводство населения мира</a:t>
            </a:r>
            <a:endParaRPr b="0" lang="en-US" sz="6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603b14"/>
                </a:solidFill>
                <a:latin typeface="Arial"/>
              </a:rPr>
              <a:t>Учитель географии МОУ гимназии № 44 г. Иваново Дработухина О.В.</a:t>
            </a:r>
            <a:endParaRPr b="0" lang="en-US" sz="37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Динамику численности населения определяет процесс  воспроизводства населения.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Это соотношение рождаемости и смертности, обеспечивающие беспрерывное возобновление и смену людских поколений.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Разница между рождаемостью и смертностью называется естественным приростом.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                                 </a:t>
            </a:r>
            <a:r>
              <a:rPr b="1" lang="ru-RU" sz="2900" spc="-1" strike="noStrike">
                <a:solidFill>
                  <a:srgbClr val="534b38"/>
                </a:solidFill>
                <a:latin typeface="Arial"/>
              </a:rPr>
              <a:t>Р – С = ЕП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304920" y="1554120"/>
          <a:ext cx="8686800" cy="51213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1 тип вос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2 тип вос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 И КАНАДА  Р=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 И ОКЕАНИЯ  Р=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 СНГ  Р=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АЯ ЕВРОПА Р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ИНСКАЯ АМЕРИКА  Р=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   Р=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АЯ АЗИЯ Р=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=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80520" y="857160"/>
            <a:ext cx="845820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43329"/>
                </a:solidFill>
                <a:latin typeface="Arial"/>
              </a:rPr>
              <a:t>Вывод: </a:t>
            </a:r>
            <a:r>
              <a:rPr b="0" i="1" lang="ru-RU" sz="4000" spc="-1" strike="noStrike">
                <a:solidFill>
                  <a:srgbClr val="443329"/>
                </a:solidFill>
                <a:latin typeface="Arial"/>
              </a:rPr>
              <a:t>Высокий уровень естественного прироста характерен для стран с низким уровнем экономики, развивающимся. Для стран  с высоким уровнем развития экономики характерен средний и низкий уровень прироста населения.</a:t>
            </a:r>
            <a:endParaRPr b="0" lang="en-US" sz="40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ЧИСЛЕННОСТЬ И ЕСТЕСТВЕННЫЙ ПРИРОСТ НАСЕЛЕНИЯ ИВАНОВСКОЙ ОБЛАСТИ</a:t>
            </a:r>
            <a:endParaRPr b="0" lang="en-US" sz="2400" spc="-1" strike="noStrike">
              <a:solidFill>
                <a:srgbClr val="4e3b3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85840" y="2571840"/>
          <a:ext cx="8686800" cy="2469960"/>
        </p:xfrm>
        <a:graphic>
          <a:graphicData uri="http://schemas.openxmlformats.org/drawingml/2006/table">
            <a:tbl>
              <a:tblPr/>
              <a:tblGrid>
                <a:gridCol w="4000320"/>
                <a:gridCol w="1643040"/>
                <a:gridCol w="1500480"/>
                <a:gridCol w="154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постоянного населения на 1 января, количество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99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78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96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ественный прирост населения, количество человек, значение показателя за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7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35" name="TextBox 4"/>
          <p:cNvSpPr/>
          <p:nvPr/>
        </p:nvSpPr>
        <p:spPr>
          <a:xfrm>
            <a:off x="428760" y="14288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данные таблицы, определите показатель ЕП населения в промилле в 2007 году для Иван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500040" y="52149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й результат округлите до цел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378000" y="201600"/>
            <a:ext cx="8467560" cy="588168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3" descr="555.jpg"/>
          <p:cNvPicPr/>
          <p:nvPr/>
        </p:nvPicPr>
        <p:blipFill>
          <a:blip r:embed="rId2"/>
          <a:stretch/>
        </p:blipFill>
        <p:spPr>
          <a:xfrm>
            <a:off x="714240" y="1214280"/>
            <a:ext cx="2714760" cy="385776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IMG_0006.jpg"/>
          <p:cNvPicPr/>
          <p:nvPr/>
        </p:nvPicPr>
        <p:blipFill>
          <a:blip r:embed="rId3"/>
          <a:stretch/>
        </p:blipFill>
        <p:spPr>
          <a:xfrm>
            <a:off x="4357800" y="1214280"/>
            <a:ext cx="4500360" cy="38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80520" y="285480"/>
            <a:ext cx="845820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4b38"/>
                </a:solidFill>
                <a:latin typeface="Arial"/>
              </a:rPr>
              <a:t>Каким из представленных на рисунках половозрастных пирамид, построенных на 2005 г., соответствуют указанные ниже страны? Поясните свой выбор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4b38"/>
                </a:solidFill>
                <a:latin typeface="Arial"/>
              </a:rPr>
              <a:t>I. Вьетнам, Китай, США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4b38"/>
                </a:solidFill>
                <a:latin typeface="Arial"/>
              </a:rPr>
              <a:t>II. Чад, Германия, ОАЭ.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43-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4280" y="0"/>
            <a:ext cx="6500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81160" y="1852560"/>
            <a:ext cx="8613720" cy="41641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80520" y="499680"/>
            <a:ext cx="8458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3329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78000" y="1779480"/>
            <a:ext cx="8467560" cy="43038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80520" y="28584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34b38"/>
                </a:solidFill>
                <a:latin typeface="Arial"/>
              </a:rPr>
              <a:t>Динамика численности населения с начала нашей эры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11" name="Содержимое 7" descr="IMG_0006 (2).jpg"/>
          <p:cNvPicPr/>
          <p:nvPr/>
        </p:nvPicPr>
        <p:blipFill>
          <a:blip r:embed="rId2"/>
          <a:stretch/>
        </p:blipFill>
        <p:spPr>
          <a:xfrm>
            <a:off x="1785960" y="1714680"/>
            <a:ext cx="5857920" cy="435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За всю историю человечества на Земле 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родилось 8О млрд. человек.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Ежегодно в мире рождается около 140 млн. человек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ую секунду – 3 человека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ую минуту – 175; 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ый час – 10,4 тысяч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ые сутки – 250 тысяч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ую неделю на Земле добавляется как бы новый Харьков или Гамбург;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- каждый месяц – население страны Австралии или Туниса.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786200" y="285840"/>
            <a:ext cx="405288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347688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329"/>
                </a:solidFill>
                <a:latin typeface="Arial"/>
                <a:ea typeface="Arial"/>
              </a:rPr>
              <a:t>Каждую неделю  появляется новый город, такой, как  Гамбург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329"/>
                </a:solidFill>
                <a:latin typeface="Arial"/>
                <a:ea typeface="Arial"/>
              </a:rPr>
              <a:t>Каждый месяц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329"/>
                </a:solidFill>
                <a:latin typeface="Arial"/>
                <a:ea typeface="Arial"/>
              </a:rPr>
              <a:t>появляется население такой страны, как Австрия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415" name="Picture 13" descr=""/>
          <p:cNvPicPr/>
          <p:nvPr/>
        </p:nvPicPr>
        <p:blipFill>
          <a:blip r:embed="rId1"/>
          <a:stretch/>
        </p:blipFill>
        <p:spPr>
          <a:xfrm>
            <a:off x="4714920" y="28584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357800" cy="314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967960" cy="10731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Пользовательский\Desktop\Отсканированые файлы\2008_10_21\IMG_0002.jpg"/>
          <p:cNvPicPr/>
          <p:nvPr/>
        </p:nvPicPr>
        <p:blipFill>
          <a:blip r:embed="rId2"/>
          <a:stretch/>
        </p:blipFill>
        <p:spPr>
          <a:xfrm>
            <a:off x="884160" y="1554120"/>
            <a:ext cx="75279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916360" y="2492280"/>
            <a:ext cx="5868720" cy="41054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4e3b30"/>
                </a:solidFill>
                <a:latin typeface="Arial"/>
              </a:rPr>
              <a:t>Мальтус (Malthus) Томас Роберт (1766-1834), английский экономист, основоположник мальтузианства – теории, созданной в конце 18 в. В соответствии с этой теорией благосостояние населения определяется естественным законом народонаселения: темпы роста народонаселения значительно превышают темпы увеличения производства средств существования (их соотношение, в первоначальной формулировке Мальтуса, выводилось из сравнения геометрической и арифметической прогрессий). Перенаселение в концепции Мальтуса - не только беда человечества, но определенное благо, которое заставляет многочисленных и ленивых от природы рабочих из-за конкуренции качественно трудиться за невысокую плату. Теория Мальтуса с момента выхода книги стала предметом острых дискуссий - одни критиковали автора за негуманность идеи, другие стали его приверженцами, увидев в ней закон, действительный для любой эпохи.</a:t>
            </a:r>
            <a:r>
              <a:rPr b="0" lang="ru-RU" sz="1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843280" y="2781360"/>
            <a:ext cx="5976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395280" y="1052640"/>
            <a:ext cx="8353440" cy="93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мограф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 греч. demos – народ и grapho – пишу) – наука о закономерностях производства населения, изучающая его численность, естественный прирост, возрастной и половой состав и т. 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malthus"/>
          <p:cNvPicPr/>
          <p:nvPr/>
        </p:nvPicPr>
        <p:blipFill>
          <a:blip r:embed="rId1"/>
          <a:stretch/>
        </p:blipFill>
        <p:spPr>
          <a:xfrm>
            <a:off x="395280" y="2852640"/>
            <a:ext cx="2187720" cy="331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193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ff"/>
                </a:solidFill>
                <a:latin typeface="Arial"/>
              </a:rPr>
              <a:t>ОСНОВОПОЛОЖНИКИ ДЕМОГРАФИИ</a:t>
            </a:r>
            <a:endParaRPr b="0" lang="en-US" sz="25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4992840" cy="1506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orquelasdiferencias6 A"/>
          <p:cNvPicPr/>
          <p:nvPr/>
        </p:nvPicPr>
        <p:blipFill>
          <a:blip r:embed="rId2"/>
          <a:stretch/>
        </p:blipFill>
        <p:spPr>
          <a:xfrm>
            <a:off x="642960" y="1714680"/>
            <a:ext cx="4572000" cy="4429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3"/>
          <a:stretch/>
        </p:blipFill>
        <p:spPr>
          <a:xfrm>
            <a:off x="5857920" y="28584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Porquelasdiferencias2A"/>
          <p:cNvPicPr/>
          <p:nvPr/>
        </p:nvPicPr>
        <p:blipFill>
          <a:blip r:embed="rId4"/>
          <a:stretch/>
        </p:blipFill>
        <p:spPr>
          <a:xfrm>
            <a:off x="6072120" y="3857760"/>
            <a:ext cx="2786040" cy="300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20840"/>
            <a:ext cx="8699400" cy="2286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1428840" y="2857680"/>
            <a:ext cx="6000840" cy="371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09:03Z</dcterms:created>
  <dc:creator>ДработухинаОВ</dc:creator>
  <dc:description/>
  <dc:language>en-US</dc:language>
  <cp:lastModifiedBy>user</cp:lastModifiedBy>
  <dcterms:modified xsi:type="dcterms:W3CDTF">2014-01-27T13:50:24Z</dcterms:modified>
  <cp:revision>46</cp:revision>
  <dc:subject/>
  <dc:title>Слайд 1</dc:title>
</cp:coreProperties>
</file>