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E7D1-FAF5-49A4-B054-A6F9C2630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8E6C-6A8A-4F6D-9403-94FF39BD9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E07D-48B8-4297-AA74-5372BE12F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DEF-1106-4582-9508-5620AC95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1B5-E259-47A5-84F1-A95185A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1AF78-9F7A-41BA-B1C7-FFDE241A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52AA2-ADC6-4139-AD03-41EFA02D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B0E65-EF91-4811-B36D-58B42F0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235C2-73E4-4AA4-A573-300011D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18BD-D9E1-4349-8188-E2D7016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4DD9A-3343-490E-81A8-A19ABF1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D813-245D-45A9-878B-2B39A71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6FAA-E9FD-46CC-B2F0-B2478C3C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0F257-06D4-4454-AF33-B4159C15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529-B390-438F-BFEC-769DC8D8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D9F-1EB6-4E6E-BAA3-AA52F985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774F-CA20-43D8-80B2-7DEF9030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C1A-B51E-4E9B-BA11-C31B52DF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6B5-E3D9-477A-BB7B-3DCFC6B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53A-FACE-4E90-B944-3E73493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8C9-1118-4521-AE77-D5AB4E7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2EBD-3BDD-4978-A8AB-2C64CD5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F271-53A8-4A67-BA4D-0ECE108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3BA-3D98-43CE-891D-3427EE8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6891-F1B8-4BD8-80D5-A101711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E3F2-63D2-411E-8084-9186371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91F-C3A2-40EF-9433-87F83278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738C-D51C-459C-B3CD-C2107A5B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0CAB-B679-4BF0-A370-BB85D324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F74C-CC18-4E56-BF21-015E5D6F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3A0E-8A06-4845-95F2-5089DE0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AE1E-7B7A-4A23-A67D-21F3E08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A65A-6386-4A8C-91B2-7C21BC2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B91D-D331-4E1C-8637-AB02EC6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808-C4D2-40F9-B88A-B3DCD85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5BF2-CF2B-4244-B844-4AF9855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F076-7B34-4E0B-B3C3-5A4E832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B709-8CCE-40B6-90E9-32E5215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E978-32AD-49D9-8621-7810969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5BB1-3AE5-42F9-97EE-1BD14180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3C29-321A-4E31-A313-04554A3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C2B2-D43F-4B67-98BD-05E520CA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A66C-7088-4A1C-A5C9-25FBB717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81E8-957F-4E13-8F1A-7F8F22C9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93C3-34BE-48E6-8AA6-9BF4023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00B-C9F7-4CF6-9A1E-A92A87C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EFA8-E1D3-4AB0-85DB-F0E3876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2396-B759-40D2-8420-783406B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7D83-C0E8-4508-B439-EA3316A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AD8B-8435-43F7-AD9C-EC373C5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63C0-F3CC-4511-9675-5435109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2D81-E591-4397-8328-A6DC1E8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9A59-AB0A-400A-B19D-1D018EC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E318-9428-4BEA-A41B-F22BDFB2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9885-C3BF-4EBD-BD5B-849D5EF1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417E-746C-4C2E-B61F-A3EE4C40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F13-E1AE-4415-8D04-823FDA64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AA8A-816C-47D5-807C-C6FBA9B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419A-4B32-4622-8F91-6D747E0F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165D-D20E-4CD1-8844-69E628F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B5E5-F58B-48CF-BCD4-8FFDBB6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AA8D-F0A8-4F00-98E2-73FBA47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6376-4FF2-4AC6-8A26-087713F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67DF-01F2-43C5-84C1-04EB3E4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3A9B-6CAC-48A7-B53D-8E7957A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48F3-DD18-4E94-A19C-B346C80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E726-4031-4409-82EC-FCD7F96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029-EC79-4D9C-A0F6-3823393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C2DA-2EF6-4960-8F42-633B8A31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FA95-6713-41EB-B8AF-4EAA8074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7D046-52D3-4464-A512-9B99B94B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D0C5-760A-4E29-9F42-52BAA5B7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9D6A4-8CD9-485B-B0D8-9C574261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3815-E597-40A8-B193-0FC5BDE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038D-5257-4297-B4D8-52319258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B085-5304-4F23-A8BC-D354C56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C612F-C21E-4807-BD72-BD2C6E6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7CD3-24F5-4056-B5D2-B26F29C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5CE-44F1-4296-B967-A5CC729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152E1-6D14-4BC2-8A0A-7414BA25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B9701-34AF-41E6-8B1B-4929679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EC90-00E9-4EE8-B01F-25FD4F6B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98BC-0CB7-4DE0-AD88-B5733E55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52D2-AD4C-4703-A8D3-F6F63BF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ABE9-7A30-4A65-B26A-DFF5C91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04465-23A3-450D-BF61-678667F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0DABB-EAD8-4A33-8412-BCC1CFA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1469-1C27-4583-ABA6-120355F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1265-FF36-4115-946D-AC38FF8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088-CEFE-454C-B2FB-473E65CF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6B6A9-B618-4BA7-9D20-D06D3AF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B6CC-440A-428B-8B73-74A9074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1031D-D957-448A-926C-7BB57676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F87E-4852-48AB-9531-08AE124E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123E-716C-4D73-871C-691EFFD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16CCE-7BE5-4DF5-A916-BAB39AC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3675-882C-4945-82EF-3F45676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92830-9C2A-4F2F-B0FE-1D2800AF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CF29F-4577-4EC7-80B2-6720FE5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AF97-2B09-4D9D-878D-83AB9B5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B7F-3802-4BCE-8C4F-CB37777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C2EA-E329-4939-8110-B9C7A7F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C58C-2832-445E-A9E9-59C02F7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6DE15-99FB-4F16-B6E5-8933D94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2C20-DCD9-4630-B90B-1932400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79A7-F01D-486E-B792-490656AB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DFFD-4521-40C6-A8B1-8C1BEB3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E3CF2-D277-4450-A5FC-27932036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22111-FCB9-4220-817C-4F82C341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1AA03-6661-4964-989C-1D64A37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CF9C-1B89-49A1-971D-009947CB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B2C-72B7-4529-92EA-E21A5F4F34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31AF-0B75-4958-A414-B3B969583F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936-65C8-4F42-B5B6-002A3B63A4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1F5-26A3-4B89-A52F-F74AE9BE86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EC1B-32F0-40FC-BFCB-B7E0E74B26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490-E69B-4FB9-AEA7-68953C9D9B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AB7-AB81-42FA-BD34-CFB90F5F6C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E6C-7E5E-42D2-BA95-DD37426607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28D9-ED82-48BF-9EBA-652C98B1AF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03b14"/>
                </a:solidFill>
                <a:latin typeface="Arial"/>
              </a:rPr>
              <a:t>Численность и воспроизводство населения мира</a:t>
            </a:r>
            <a:endParaRPr b="0" lang="en-US" sz="6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603b14"/>
                </a:solidFill>
                <a:latin typeface="Arial"/>
              </a:rPr>
              <a:t>Учитель географии МОУ гимназии № 44 г. Иваново Дработухина О.В.</a:t>
            </a:r>
            <a:endParaRPr b="0" lang="en-US" sz="37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Динамику численности населения определяет процесс  воспроизводства населения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Это соотношение рождаемости и смертности, обеспечивающие беспрерывное возобновление и смену людских поколений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Разница между рождаемостью и смертностью называется естественным приростом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                                 </a:t>
            </a: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Р – С = ЕП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04920" y="1554120"/>
          <a:ext cx="8686800" cy="51213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1 тип вос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2 тип вос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 И КАНАДА  Р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И ОКЕАНИЯ  Р=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СНГ  Р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АЯ ЕВРОПА Р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АЯ АМЕРИКА  Р=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   Р=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АЯ АЗИЯ Р=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80520" y="857160"/>
            <a:ext cx="845820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43329"/>
                </a:solidFill>
                <a:latin typeface="Arial"/>
              </a:rPr>
              <a:t>Вывод: </a:t>
            </a:r>
            <a:r>
              <a:rPr b="0" i="1" lang="ru-RU" sz="4000" spc="-1" strike="noStrike">
                <a:solidFill>
                  <a:srgbClr val="443329"/>
                </a:solidFill>
                <a:latin typeface="Arial"/>
              </a:rPr>
              <a:t>Высокий уровень естественного прироста характерен для стран с низким уровнем экономики, развивающимся. Для стран  с высоким уровнем развития экономики характерен средний и низкий уровень прироста населения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ЧИСЛЕННОСТЬ И ЕСТЕСТВЕННЫЙ ПРИРОСТ НАСЕЛЕНИЯ ИВАНОВСКОЙ ОБЛАСТИ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5840" y="2571840"/>
          <a:ext cx="8686800" cy="2469960"/>
        </p:xfrm>
        <a:graphic>
          <a:graphicData uri="http://schemas.openxmlformats.org/drawingml/2006/table">
            <a:tbl>
              <a:tblPr/>
              <a:tblGrid>
                <a:gridCol w="4000320"/>
                <a:gridCol w="1643040"/>
                <a:gridCol w="1500480"/>
                <a:gridCol w="154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постоянного населения на 1 января, 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9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9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 прирост населения, количество человек, значение показателя за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42876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данные таблицы, определите показатель ЕП населения в промилле в 2007 году для Иван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500040" y="52149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й результат округлите до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8467560" cy="58816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555.jpg"/>
          <p:cNvPicPr/>
          <p:nvPr/>
        </p:nvPicPr>
        <p:blipFill>
          <a:blip r:embed="rId2"/>
          <a:stretch/>
        </p:blipFill>
        <p:spPr>
          <a:xfrm>
            <a:off x="714240" y="1214280"/>
            <a:ext cx="2714760" cy="385776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IMG_0006.jpg"/>
          <p:cNvPicPr/>
          <p:nvPr/>
        </p:nvPicPr>
        <p:blipFill>
          <a:blip r:embed="rId3"/>
          <a:stretch/>
        </p:blipFill>
        <p:spPr>
          <a:xfrm>
            <a:off x="4357800" y="1214280"/>
            <a:ext cx="450036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80520" y="2854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Каким из представленных на рисунках половозрастных пирамид, построенных на 2005 г., соответствуют указанные ниже страны? Поясните свой выбо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I. Вьетнам, Китай, США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II. Чад, Германия, ОАЭ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43-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4280" y="0"/>
            <a:ext cx="6500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81160" y="1852560"/>
            <a:ext cx="8613720" cy="41641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49968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32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467560" cy="43038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28584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34b38"/>
                </a:solidFill>
                <a:latin typeface="Arial"/>
              </a:rPr>
              <a:t>Динамика численности населения с начала нашей эры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1" name="Содержимое 7" descr="IMG_0006 (2).jpg"/>
          <p:cNvPicPr/>
          <p:nvPr/>
        </p:nvPicPr>
        <p:blipFill>
          <a:blip r:embed="rId2"/>
          <a:stretch/>
        </p:blipFill>
        <p:spPr>
          <a:xfrm>
            <a:off x="1785960" y="1714680"/>
            <a:ext cx="5857920" cy="43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За всю историю человечества на Земле 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родилось 8О млрд. человек.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Ежегодно в мире рождается около 140 млн. человек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секунду – 3 человека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минуту – 175; 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й час – 10,4 тысяч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е сутки – 250 тысяч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неделю на Земле добавляется как бы новый Харьков или Гамбург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й месяц – население страны Австралии или Туниса.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86200" y="285840"/>
            <a:ext cx="405288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347688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Каждую неделю  появляется новый город, такой, как  Гамбург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Каждый месяц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появляется население такой страны, как Австрия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5" name="Picture 13" descr=""/>
          <p:cNvPicPr/>
          <p:nvPr/>
        </p:nvPicPr>
        <p:blipFill>
          <a:blip r:embed="rId1"/>
          <a:stretch/>
        </p:blipFill>
        <p:spPr>
          <a:xfrm>
            <a:off x="4714920" y="28584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57800" cy="314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67960" cy="1073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Пользовательский\Desktop\Отсканированые файлы\2008_10_21\IMG_0002.jpg"/>
          <p:cNvPicPr/>
          <p:nvPr/>
        </p:nvPicPr>
        <p:blipFill>
          <a:blip r:embed="rId2"/>
          <a:stretch/>
        </p:blipFill>
        <p:spPr>
          <a:xfrm>
            <a:off x="884160" y="1554120"/>
            <a:ext cx="75279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916360" y="2492280"/>
            <a:ext cx="5868720" cy="4105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4e3b30"/>
                </a:solidFill>
                <a:latin typeface="Arial"/>
              </a:rPr>
              <a:t>Мальтус (Malthus) Томас Роберт (1766-1834), английский экономист, основоположник мальтузианства – теории, созданной в конце 18 в. В соответствии с этой теорией благосостояние населения определяется естественным законом народонаселения: темпы роста народонаселения значительно превышают темпы увеличения производства средств существования (их соотношение, в первоначальной формулировке Мальтуса, выводилось из сравнения геометрической и арифметической прогрессий). Перенаселение в концепции Мальтуса - не только беда человечества, но определенное благо, которое заставляет многочисленных и ленивых от природы рабочих из-за конкуренции качественно трудиться за невысокую плату. Теория Мальтуса с момента выхода книги стала предметом острых дискуссий - одни критиковали автора за негуманность идеи, другие стали его приверженцами, увидев в ней закон, действительный для любой эпохи.</a:t>
            </a: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843280" y="2781360"/>
            <a:ext cx="5976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95280" y="1052640"/>
            <a:ext cx="8353440" cy="93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ограф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греч. demos – народ и grapho – пишу) – наука о закономерностях производства населения, изучающая его численность, естественный прирост, возрастной и половой состав и т. 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malthus"/>
          <p:cNvPicPr/>
          <p:nvPr/>
        </p:nvPicPr>
        <p:blipFill>
          <a:blip r:embed="rId1"/>
          <a:stretch/>
        </p:blipFill>
        <p:spPr>
          <a:xfrm>
            <a:off x="395280" y="2852640"/>
            <a:ext cx="218772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ff"/>
                </a:solidFill>
                <a:latin typeface="Arial"/>
              </a:rPr>
              <a:t>ОСНОВОПОЛОЖНИКИ ДЕМОГРАФИИ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4992840" cy="150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orquelasdiferencias6 A"/>
          <p:cNvPicPr/>
          <p:nvPr/>
        </p:nvPicPr>
        <p:blipFill>
          <a:blip r:embed="rId2"/>
          <a:stretch/>
        </p:blipFill>
        <p:spPr>
          <a:xfrm>
            <a:off x="642960" y="1714680"/>
            <a:ext cx="4572000" cy="4429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3"/>
          <a:stretch/>
        </p:blipFill>
        <p:spPr>
          <a:xfrm>
            <a:off x="5857920" y="28584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Porquelasdiferencias2A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30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2286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6000840" cy="37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9:03Z</dcterms:created>
  <dc:creator>ДработухинаОВ</dc:creator>
  <dc:description/>
  <dc:language>en-US</dc:language>
  <cp:lastModifiedBy>user</cp:lastModifiedBy>
  <dcterms:modified xsi:type="dcterms:W3CDTF">2014-01-27T13:50:24Z</dcterms:modified>
  <cp:revision>46</cp:revision>
  <dc:subject/>
  <dc:title>Слайд 1</dc:title>
</cp:coreProperties>
</file>