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A824-BC34-4C06-9069-176164DED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307E-ADD3-49EB-A901-169B9ADD8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A801-3E47-4851-A4A8-5DA10AE15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FDB4-0749-4B89-80B3-A3C10429C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81A3-4E9A-4C93-9665-CDD0DCD93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9705-FC69-44DF-BC8E-D3A024E77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4C47-B382-4582-937A-1C973541B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843A-29B9-4457-87C7-C5C911598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DFD6-E6C1-4AF4-A42A-03055974A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4D35-3B89-4C1A-95F2-888EE2B15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095D-E9B5-48AA-8844-81ED25584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F7F0-F20E-494D-8EF9-3A18AB31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2C27B-6C87-4B2E-8B91-72EC98A058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642960" y="1857240"/>
            <a:ext cx="7929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b050"/>
                </a:solidFill>
                <a:latin typeface="Arial"/>
              </a:rPr>
              <a:t>Экологическое воспитание младших школьник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4719600"/>
            <a:ext cx="6400800" cy="18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полнила: учитель начальны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ассов МОУ «Ялгинская СОШ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уженкова Т.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3" descr="сценка 4.JPG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C:\Documents and Settings\Татьяна\Мои документы\P4220149.JPG"/>
          <p:cNvPicPr/>
          <p:nvPr/>
        </p:nvPicPr>
        <p:blipFill>
          <a:blip r:embed="rId1"/>
          <a:stretch/>
        </p:blipFill>
        <p:spPr>
          <a:xfrm>
            <a:off x="714240" y="571680"/>
            <a:ext cx="7643880" cy="518616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5712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аршеклассники-зеленомировцы посвящают наш класс в юные эколог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C:\Documents and Settings\Татьяна\Мои документы\P422015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:\Documents and Settings\Татьяна\Мои документы\P422015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C:\Documents and Settings\Татьяна\Мои документы\P4220136.JPG"/>
          <p:cNvPicPr/>
          <p:nvPr/>
        </p:nvPicPr>
        <p:blipFill>
          <a:blip r:embed="rId1"/>
          <a:stretch/>
        </p:blipFill>
        <p:spPr>
          <a:xfrm>
            <a:off x="-333360" y="0"/>
            <a:ext cx="9477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C:\Documents and Settings\Татьяна\Мои документы\P4220135.JPG"/>
          <p:cNvPicPr/>
          <p:nvPr/>
        </p:nvPicPr>
        <p:blipFill>
          <a:blip r:embed="rId1"/>
          <a:stretch/>
        </p:blipFill>
        <p:spPr>
          <a:xfrm>
            <a:off x="857160" y="214200"/>
            <a:ext cx="7429680" cy="51436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8760" y="55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алина Васильевна Лёвина, заведующий отделом, педагог Республиканского центра дополнительного образования дет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ружок «Экология и мы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евиз: «Мысли глобально – действуй локально!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занятиях кружка Г.В. Лёвина помогает ребятам взглянуть на мир с разных точек зрения. Дети учатся принимать решения и не оставаться равнодушными по устранению экологических нарушений Мордовии, любить, ценить и оберегать окружающую их природ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8400" y="857160"/>
            <a:ext cx="8429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ведение исследований, и как итог –  участие в научно-практических конференциях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571320" y="4714920"/>
            <a:ext cx="81435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сследовательская работа на тему: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Влияние стимуляторов на рост и развитие декоративных комнатных растений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Содержимое 3" descr="IMG_6353.jpg"/>
          <p:cNvPicPr/>
          <p:nvPr/>
        </p:nvPicPr>
        <p:blipFill>
          <a:blip r:embed="rId1"/>
          <a:stretch/>
        </p:blipFill>
        <p:spPr>
          <a:xfrm>
            <a:off x="714240" y="1643040"/>
            <a:ext cx="2071800" cy="265104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4" descr="IMG_6581.jpg"/>
          <p:cNvPicPr/>
          <p:nvPr/>
        </p:nvPicPr>
        <p:blipFill>
          <a:blip r:embed="rId2"/>
          <a:stretch/>
        </p:blipFill>
        <p:spPr>
          <a:xfrm>
            <a:off x="6572160" y="1816200"/>
            <a:ext cx="1982880" cy="26431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F:\Фото работа по стимуляторам\IMG_6359.jpg"/>
          <p:cNvPicPr/>
          <p:nvPr/>
        </p:nvPicPr>
        <p:blipFill>
          <a:blip r:embed="rId3"/>
          <a:stretch/>
        </p:blipFill>
        <p:spPr>
          <a:xfrm>
            <a:off x="3071880" y="1857240"/>
            <a:ext cx="314316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зготовление поделок из природного и других материа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428760" y="2000160"/>
            <a:ext cx="4786200" cy="3303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4214880" y="3429000"/>
            <a:ext cx="4519440" cy="30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8581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бота на пришкольном участк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071720" y="4642920"/>
            <a:ext cx="71863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сследовательская работа на тему «Влияние сроков посева семян свеклы столовой на ее урожайность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http://im6-tub.yandex.net/i?id=140207234&amp;tov=6"/>
          <p:cNvPicPr/>
          <p:nvPr/>
        </p:nvPicPr>
        <p:blipFill>
          <a:blip r:embed="rId1"/>
          <a:stretch/>
        </p:blipFill>
        <p:spPr>
          <a:xfrm>
            <a:off x="714240" y="1500120"/>
            <a:ext cx="4572000" cy="3022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F:\P1010309.JPG"/>
          <p:cNvPicPr/>
          <p:nvPr/>
        </p:nvPicPr>
        <p:blipFill>
          <a:blip r:embed="rId2"/>
          <a:stretch/>
        </p:blipFill>
        <p:spPr>
          <a:xfrm>
            <a:off x="5715000" y="1500120"/>
            <a:ext cx="278604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з красивое к человеческому»- такова закономерность воспитания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бы правильно охранять природу, надо её хорошо знать . Прогулки и экскурсии в природу таят в себе много полезного для развития внимания и наблюдательности детей, стремления проникнуть в тайны природы . Для меня огромная радость, когда не я, а дети обращают внимание на быстро меняющиеся краски утренних облаков, на красиво падающий снег…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 живой угол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обое  значение для экологического воспитания школьников имеет труд в природе и исследовательская работа  учащихся.Усилиями и детей, и родителей у нас в классе есть живой уголок, в котором обитают  рыбки,  водная черепашка Тотошка,  хомячок  Хомка, озорные попугайчики Яшка и Дашка и пушистый кролик Гоша. Дети ухаживают за ни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Хомячок Хом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Содержимое 4" descr="xom2[1].jpg"/>
          <p:cNvPicPr/>
          <p:nvPr/>
        </p:nvPicPr>
        <p:blipFill>
          <a:blip r:embed="rId1"/>
          <a:stretch/>
        </p:blipFill>
        <p:spPr>
          <a:xfrm>
            <a:off x="642960" y="1428840"/>
            <a:ext cx="778680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ерепашка Тотош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C:\Documents and Settings\Татьяна\Мои документы\Мои рисунки\jivoi.1[1].jpg"/>
          <p:cNvPicPr/>
          <p:nvPr/>
        </p:nvPicPr>
        <p:blipFill>
          <a:blip r:embed="rId2"/>
          <a:stretch/>
        </p:blipFill>
        <p:spPr>
          <a:xfrm>
            <a:off x="500040" y="1357200"/>
            <a:ext cx="821520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пугайчики Яша и Даш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857160" y="1643040"/>
            <a:ext cx="7572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C:\Documents and Settings\Татьяна\Мои документы\DSC0415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C:\Documents and Settings\Татьяна\Мои документы\DSC0404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C:\Documents and Settings\Татьяна\Мои документы\DSC04005.JPG"/>
          <p:cNvPicPr/>
          <p:nvPr/>
        </p:nvPicPr>
        <p:blipFill>
          <a:blip r:embed="rId2"/>
          <a:stretch/>
        </p:blipFill>
        <p:spPr>
          <a:xfrm>
            <a:off x="-4572000" y="-1714680"/>
            <a:ext cx="18288000" cy="102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.М. Смирнов –заслуженный эколог Российской Федераци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ичего не изменится в лучшую сторону в нашей стране, пока мы не вложим в души детей любовь и заботу о природе, а в их головы- экологическое сознание. Ребёнок  никогда не будет стремиться вернуть чистоту реке, если она не протекает через его сердце»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0040" y="1499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 презентацию учитель  начальных классов Ялгинской  средней     школы Руженкова Т. А           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аблюдение за редкими растениями и степной растительностью Левженского склон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алеко от нашего поселка Ялга, в четырех километрах, находится участок красочных луговых степей, который получил название – Левженский склон. Каждый год, начиная с апреля, мы с классом ходим сюда и наблюдаем за ростом растений, их цветением, собираем гербарий. Это место имеет особую ценность, потому что здесь сохранилась естественная растительность луговых степ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т островок лесостепи включает лесную, кустарниковую и травянистую растительность. Она занимает площадь 20 га. А всего насчитывается здесь 250 видов растений, среди которых много редких, не обнаруженных в других районах республи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5"/>
          <p:cNvSpPr txBox="1"/>
          <p:nvPr/>
        </p:nvSpPr>
        <p:spPr>
          <a:xfrm>
            <a:off x="2411280" y="333360"/>
            <a:ext cx="324036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99"/>
                </a:solidFill>
                <a:latin typeface="Impact"/>
              </a:rPr>
              <a:t>Апрел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3399"/>
              </a:solidFill>
              <a:latin typeface="Impact"/>
              <a:ea typeface="Impact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395280" y="1413000"/>
            <a:ext cx="70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1116000" y="5877000"/>
            <a:ext cx="47149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склоне на открытых местах зацветает сон-трава или простр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7" descr="Nov01333"/>
          <p:cNvPicPr/>
          <p:nvPr/>
        </p:nvPicPr>
        <p:blipFill>
          <a:blip r:embed="rId1"/>
          <a:stretch/>
        </p:blipFill>
        <p:spPr>
          <a:xfrm>
            <a:off x="1714680" y="1857240"/>
            <a:ext cx="4968720" cy="3845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Nov01333"/>
          <p:cNvPicPr/>
          <p:nvPr/>
        </p:nvPicPr>
        <p:blipFill>
          <a:blip r:embed="rId2"/>
          <a:stretch/>
        </p:blipFill>
        <p:spPr>
          <a:xfrm>
            <a:off x="1714680" y="1857240"/>
            <a:ext cx="5040000" cy="38451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блюдение за цветением кустарников: сливы степной, миндаля низког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WordArt 4"/>
          <p:cNvSpPr txBox="1"/>
          <p:nvPr/>
        </p:nvSpPr>
        <p:spPr>
          <a:xfrm>
            <a:off x="2340000" y="476280"/>
            <a:ext cx="32400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99"/>
                </a:solidFill>
                <a:latin typeface="Impact"/>
              </a:rPr>
              <a:t>Июн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3399"/>
              </a:solidFill>
              <a:latin typeface="Impact"/>
              <a:ea typeface="Impact"/>
            </a:endParaRPr>
          </a:p>
        </p:txBody>
      </p:sp>
      <p:pic>
        <p:nvPicPr>
          <p:cNvPr id="56" name="Picture 6" descr="46"/>
          <p:cNvPicPr/>
          <p:nvPr/>
        </p:nvPicPr>
        <p:blipFill>
          <a:blip r:embed="rId1"/>
          <a:stretch/>
        </p:blipFill>
        <p:spPr>
          <a:xfrm>
            <a:off x="4859280" y="1557360"/>
            <a:ext cx="2614680" cy="3311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33"/>
          <p:cNvPicPr/>
          <p:nvPr/>
        </p:nvPicPr>
        <p:blipFill>
          <a:blip r:embed="rId2"/>
          <a:stretch/>
        </p:blipFill>
        <p:spPr>
          <a:xfrm>
            <a:off x="0" y="1557360"/>
            <a:ext cx="3260880" cy="3535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27"/>
          <p:cNvPicPr/>
          <p:nvPr/>
        </p:nvPicPr>
        <p:blipFill>
          <a:blip r:embed="rId3"/>
          <a:stretch/>
        </p:blipFill>
        <p:spPr>
          <a:xfrm>
            <a:off x="2268360" y="2492280"/>
            <a:ext cx="3635640" cy="37162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0"/>
          <p:cNvSpPr/>
          <p:nvPr/>
        </p:nvSpPr>
        <p:spPr>
          <a:xfrm>
            <a:off x="2268360" y="5734080"/>
            <a:ext cx="367056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df9f9"/>
                </a:solidFill>
                <a:latin typeface="Arial"/>
              </a:rPr>
              <a:t>В конце июня цветёт шиповник, калина, бересклет бородавчат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27"/>
          <p:cNvPicPr/>
          <p:nvPr/>
        </p:nvPicPr>
        <p:blipFill>
          <a:blip r:embed="rId4"/>
          <a:stretch/>
        </p:blipFill>
        <p:spPr>
          <a:xfrm>
            <a:off x="2214720" y="2000160"/>
            <a:ext cx="363528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WordArt 4"/>
          <p:cNvSpPr txBox="1"/>
          <p:nvPr/>
        </p:nvSpPr>
        <p:spPr>
          <a:xfrm>
            <a:off x="1476360" y="404640"/>
            <a:ext cx="5329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99"/>
                </a:solidFill>
                <a:latin typeface="Impact"/>
              </a:rPr>
              <a:t>Естественные луга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3399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99"/>
                </a:solidFill>
                <a:latin typeface="Impact"/>
              </a:rPr>
              <a:t>зелёное золото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3399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99"/>
                </a:solidFill>
                <a:latin typeface="Impact"/>
              </a:rPr>
              <a:t>Левженского склон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3399"/>
              </a:solidFill>
              <a:latin typeface="Impact"/>
              <a:ea typeface="Impact"/>
            </a:endParaRPr>
          </a:p>
        </p:txBody>
      </p:sp>
      <p:pic>
        <p:nvPicPr>
          <p:cNvPr id="62" name="Picture 5" descr="47"/>
          <p:cNvPicPr/>
          <p:nvPr/>
        </p:nvPicPr>
        <p:blipFill>
          <a:blip r:embed="rId1"/>
          <a:stretch/>
        </p:blipFill>
        <p:spPr>
          <a:xfrm>
            <a:off x="1908000" y="1773360"/>
            <a:ext cx="4160880" cy="48243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6"/>
          <p:cNvSpPr/>
          <p:nvPr/>
        </p:nvSpPr>
        <p:spPr>
          <a:xfrm>
            <a:off x="1979640" y="5877000"/>
            <a:ext cx="4032360" cy="733320"/>
          </a:xfrm>
          <a:prstGeom prst="rect">
            <a:avLst/>
          </a:prstGeom>
          <a:solidFill>
            <a:srgbClr val="f7d8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выль перистый – растение степной зоны. Встречается на Левженском склоне и в Зубово-Полянском район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ткрытое внеклассное мероприятие: «Защита времён года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 две недели до мероприятия была вывешена газета под названием: «Когда мы родились?» Дети записали под соответствующим временем года свою фамилию и имя. Обязательное условие : рядом  с написанными данными нарисовать атрибут этого времени года . Наиболее часто повторяющийся знак стал эмблемой команд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1" descr="утренник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7T06:15:54Z</dcterms:created>
  <dc:creator>Татьяна</dc:creator>
  <dc:description/>
  <dc:language>en-US</dc:language>
  <cp:lastModifiedBy>KOMP</cp:lastModifiedBy>
  <dcterms:modified xsi:type="dcterms:W3CDTF">2014-01-27T18:35:23Z</dcterms:modified>
  <cp:revision>39</cp:revision>
  <dc:subject/>
  <dc:title>Слайд 1</dc:title>
</cp:coreProperties>
</file>