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53.png" ContentType="image/png"/>
  <Override PartName="/ppt/media/image58.jpeg" ContentType="image/jpeg"/>
  <Override PartName="/ppt/media/image49.jpeg" ContentType="image/jpeg"/>
  <Override PartName="/ppt/media/image57.jpeg" ContentType="image/jpeg"/>
  <Override PartName="/ppt/media/image36.jpeg" ContentType="image/jpeg"/>
  <Override PartName="/ppt/media/image35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94B-74B4-4C7D-830D-347DDDF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EA0-2CC8-49CD-977F-5926CE04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71F-AE68-4AAC-B77E-FE4A3EFC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C12-D8D4-44E3-87F7-0DDBE026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B68-3B3B-4090-A131-5E87B576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D87-2181-4581-87F9-D6876DC1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5181-D9E4-42A3-B8F1-5D7AAF24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7AA-EE54-4C1F-87B0-6CCB506B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D329-BCE0-4739-A852-52517B2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31E-B797-48E1-83FF-F6CC180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51FC-E919-472E-9BB3-67C91BF6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F63-096D-45FB-A449-AF02631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452-6D95-4CAD-93C9-20B0695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4883-21A7-4375-9D7E-2D55507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EAA9-B2EC-4F6F-AAA5-80AB3CE1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0B43-5A56-492A-86D9-65ECDFDF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BC34-B85D-4D82-ACB4-3D85925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C9FC-318D-4FD5-96C6-7135698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CCD3-129D-4FB5-8193-024B6688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FE89-F46F-4D64-8888-D5703F96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FA15-72C6-4C8E-94EA-432495FA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9F20-2754-4522-8CC2-F59D26B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9A3-BD55-4881-A873-1D5393F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3BF5-6CD6-44E3-A19B-C997A8E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3359-0A5B-4F40-ABE0-F95CBF6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787F-4CB8-4A45-99DD-6486FA4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BCA4-CB78-48FB-ABA8-62184C3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E4AD-4151-4FB4-B937-E965AEC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79DD-1D47-4D07-8CF6-8D2E11BE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5969-F253-47EF-A835-6E86F0F7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D037-6BDF-4973-8E99-E261E06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EFFA-CABA-4A28-B2E4-821B98D9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3F5A-7F10-4708-8C8A-5411F5A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0B6-0726-4598-AA61-2B16106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03E6-AFF3-421C-B2F0-A80AA52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218B-F30C-49FD-89B7-2168AD4A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2154-8607-406D-B5DC-B86D5E3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E08E-2053-4B4A-8358-1A0DD79E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FB9D2-AC0E-4BB7-B3C7-28E81469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25DE-1308-4EBB-A094-E644255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784A-CBD2-4E39-9333-8BEDF91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91B5-E468-442A-9E3C-69CD2936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0DB7F-41EE-47FE-BCF5-A3A26B74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8D6B-E4C0-4E18-AE8D-88552E36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D2D-7590-4411-ADE2-CDF79347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46F0-4036-4E22-AB70-C171F1C2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E4134-2628-4303-8EE4-4233F8C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AC05-0D5D-4DFF-9C2A-3D9A108E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7975-1758-4B41-91DD-FB977C08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9265-4D17-417B-8CB8-D1B1EED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1D36-55D8-4BF1-A5FC-EF426D7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34681-F1E3-41AB-9F63-9524F45C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640CA-122F-4504-964E-0263779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BD5A4-CD52-4BB8-914D-8420F09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A676-52D4-40B1-BEEC-EF5ABE77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DE0-C5C2-4477-8838-7F1FBFD9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663B-B446-4709-90A3-55D52E8A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C550-A0A6-45C5-8526-E14F9A46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FD69-2418-404B-AE7B-05A4183A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4762-06BC-4425-B5DF-E5B52D7F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6D17-781C-4AB0-AA1B-3168927F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99BD-1748-45EA-92CC-A752646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A9DA-32A2-4086-BC25-F9C056A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FE19-33FA-4670-97DD-4D9029D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C65A5-1BF4-4F11-89E4-40B291FA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59D2-9480-4A28-A0E2-4CEB3C9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51E-0B9C-4CA1-B998-2F68C4A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215C-A895-4A0A-B6B3-9D4BDD92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99BDB-C957-4760-B1F0-824B1A2B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7D42-9B9A-4588-95A7-C58FCBEC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6E90-080C-47EB-9416-440F3F7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49D1-50F1-4789-A101-AA2792D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995CF-ED81-43B1-B0CD-AB7C5E3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202E0-1D30-415E-AEB4-26057710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9FA6-201D-4013-AE9A-A7059C8F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40B78-B25D-404C-9502-EF15941E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9A6D-630E-48E7-874E-EAA7114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32C-D4C2-45E8-A9BE-27AA06D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D740C-03A3-4BAD-8195-D9CC546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BBC29-B594-4050-940F-0B42B6D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8E2D-BAE6-4F41-B3F9-255B4776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1E05-9D3B-4671-B73E-91B541CE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A065-802F-434F-8957-2882E781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B670-8E58-4D24-B82C-FB815576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7DBF-3695-48A3-B1C9-334E5C7B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4475-7AB3-4F85-80CA-C16BF960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DCAD-4C79-443C-BAA7-B339A2C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EF92-3813-48E0-B556-053953EA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F29-088B-4593-9D7D-0E853D9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DF522-00D1-4877-B241-21E2B3A5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E67A7-CB49-41BF-AFCE-62FA9BC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B933-8038-4A6C-BBBD-97D71DA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E281-E842-4964-8796-EEA2F1C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78AE-8FFE-4014-AC4C-D9C8B0BD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1C57C-032C-4728-8DAF-2D7F4F7D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1B16-8E86-4341-8EA7-6414A290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EC9-0781-4EA6-92C4-5C771FB3445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F23A-03F5-4D47-89B2-96B4BE41E6C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9144-BCBD-4193-908B-852E88551C9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8FAD-789D-48E3-AA5E-25EDA4109B8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3423-0406-4B83-99A7-10EA01C879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F1D-18B8-46FC-A777-DE00ECD245B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257-0750-45D6-B603-4F4DC606B9D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E3F3-A77E-46FB-A547-CC637F58340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53880" y="2273400"/>
            <a:ext cx="77835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85880" y="56577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Выполнил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Левкина С.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extBox 3" descr=""/>
          <p:cNvPicPr/>
          <p:nvPr/>
        </p:nvPicPr>
        <p:blipFill>
          <a:blip r:embed="rId2"/>
          <a:stretch/>
        </p:blipFill>
        <p:spPr>
          <a:xfrm>
            <a:off x="2341440" y="396720"/>
            <a:ext cx="4608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120" y="357120"/>
            <a:ext cx="8329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южетно-ролевая игра: «Базар Новогодних ел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Рисунок 3" descr="DSC02789.JPG"/>
          <p:cNvPicPr/>
          <p:nvPr/>
        </p:nvPicPr>
        <p:blipFill>
          <a:blip r:embed="rId1"/>
          <a:stretch/>
        </p:blipFill>
        <p:spPr>
          <a:xfrm>
            <a:off x="1071720" y="1571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DSC02791.JPG"/>
          <p:cNvPicPr/>
          <p:nvPr/>
        </p:nvPicPr>
        <p:blipFill>
          <a:blip r:embed="rId2"/>
          <a:stretch/>
        </p:blipFill>
        <p:spPr>
          <a:xfrm>
            <a:off x="4714920" y="178596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DSC02799.JPG"/>
          <p:cNvPicPr/>
          <p:nvPr/>
        </p:nvPicPr>
        <p:blipFill>
          <a:blip r:embed="rId3"/>
          <a:stretch/>
        </p:blipFill>
        <p:spPr>
          <a:xfrm>
            <a:off x="2786040" y="42148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1384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\и  на тему: «Лес», «4-ий лишний», «Выложи из палочек», «Выложи из пробок», «Что это за дерево, как оно называется», «С кем дружит ель».»Что где растет, кто где живет», «От каких деревьев  листья и плоды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Рисунок 3" descr="DSC02738.JPG"/>
          <p:cNvPicPr/>
          <p:nvPr/>
        </p:nvPicPr>
        <p:blipFill>
          <a:blip r:embed="rId1"/>
          <a:stretch/>
        </p:blipFill>
        <p:spPr>
          <a:xfrm>
            <a:off x="0" y="235728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6" descr="DSC02749.JPG"/>
          <p:cNvPicPr/>
          <p:nvPr/>
        </p:nvPicPr>
        <p:blipFill>
          <a:blip r:embed="rId2"/>
          <a:stretch/>
        </p:blipFill>
        <p:spPr>
          <a:xfrm>
            <a:off x="3071880" y="2286000"/>
            <a:ext cx="2452680" cy="32702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7" descr="DSC02753.JPG"/>
          <p:cNvPicPr/>
          <p:nvPr/>
        </p:nvPicPr>
        <p:blipFill>
          <a:blip r:embed="rId3"/>
          <a:stretch/>
        </p:blipFill>
        <p:spPr>
          <a:xfrm>
            <a:off x="5786280" y="228600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DSC02752.JPG"/>
          <p:cNvPicPr/>
          <p:nvPr/>
        </p:nvPicPr>
        <p:blipFill>
          <a:blip r:embed="rId4"/>
          <a:stretch/>
        </p:blipFill>
        <p:spPr>
          <a:xfrm>
            <a:off x="285840" y="46432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9" descr="DSC02751.JPG"/>
          <p:cNvPicPr/>
          <p:nvPr/>
        </p:nvPicPr>
        <p:blipFill>
          <a:blip r:embed="rId5"/>
          <a:stretch/>
        </p:blipFill>
        <p:spPr>
          <a:xfrm>
            <a:off x="5929200" y="4429080"/>
            <a:ext cx="1820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3840" y="213840"/>
            <a:ext cx="8472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тильное обследование веток ели, сосны. искусственной ветки и ветки из бумаг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ригами - хвойные ве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Рисунок 3" descr="DSC02724.JPG"/>
          <p:cNvPicPr/>
          <p:nvPr/>
        </p:nvPicPr>
        <p:blipFill>
          <a:blip r:embed="rId1"/>
          <a:stretch/>
        </p:blipFill>
        <p:spPr>
          <a:xfrm>
            <a:off x="214200" y="1785960"/>
            <a:ext cx="3000600" cy="22496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DSC02730.JPG"/>
          <p:cNvPicPr/>
          <p:nvPr/>
        </p:nvPicPr>
        <p:blipFill>
          <a:blip r:embed="rId2"/>
          <a:stretch/>
        </p:blipFill>
        <p:spPr>
          <a:xfrm>
            <a:off x="5643720" y="17146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5" descr="DSC02770.JPG"/>
          <p:cNvPicPr/>
          <p:nvPr/>
        </p:nvPicPr>
        <p:blipFill>
          <a:blip r:embed="rId3"/>
          <a:stretch/>
        </p:blipFill>
        <p:spPr>
          <a:xfrm>
            <a:off x="3214800" y="242892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DSC02785.JPG"/>
          <p:cNvPicPr/>
          <p:nvPr/>
        </p:nvPicPr>
        <p:blipFill>
          <a:blip r:embed="rId4"/>
          <a:stretch/>
        </p:blipFill>
        <p:spPr>
          <a:xfrm>
            <a:off x="857160" y="4357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7" descr="DSC02807.JPG"/>
          <p:cNvPicPr/>
          <p:nvPr/>
        </p:nvPicPr>
        <p:blipFill>
          <a:blip r:embed="rId5"/>
          <a:stretch/>
        </p:blipFill>
        <p:spPr>
          <a:xfrm>
            <a:off x="4429080" y="43578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57120" y="213840"/>
            <a:ext cx="83296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кспериментировани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бор шиш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сбор семя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посадка семя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наблюдение за всходами елоч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наблюдение за ростом елоч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Рисунок 3" descr="DSC02550.JPG"/>
          <p:cNvPicPr/>
          <p:nvPr/>
        </p:nvPicPr>
        <p:blipFill>
          <a:blip r:embed="rId1"/>
          <a:stretch/>
        </p:blipFill>
        <p:spPr>
          <a:xfrm>
            <a:off x="0" y="3000240"/>
            <a:ext cx="2357280" cy="17686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DSC02670.JPG"/>
          <p:cNvPicPr/>
          <p:nvPr/>
        </p:nvPicPr>
        <p:blipFill>
          <a:blip r:embed="rId2"/>
          <a:stretch/>
        </p:blipFill>
        <p:spPr>
          <a:xfrm>
            <a:off x="2786040" y="292896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5" descr="DSC02674.JPG"/>
          <p:cNvPicPr/>
          <p:nvPr/>
        </p:nvPicPr>
        <p:blipFill>
          <a:blip r:embed="rId3"/>
          <a:stretch/>
        </p:blipFill>
        <p:spPr>
          <a:xfrm>
            <a:off x="6072120" y="292896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DSC02760.JPG"/>
          <p:cNvPicPr/>
          <p:nvPr/>
        </p:nvPicPr>
        <p:blipFill>
          <a:blip r:embed="rId4"/>
          <a:stretch/>
        </p:blipFill>
        <p:spPr>
          <a:xfrm>
            <a:off x="1143000" y="508968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DSC02758.JPG"/>
          <p:cNvPicPr/>
          <p:nvPr/>
        </p:nvPicPr>
        <p:blipFill>
          <a:blip r:embed="rId5"/>
          <a:stretch/>
        </p:blipFill>
        <p:spPr>
          <a:xfrm>
            <a:off x="4786200" y="478620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400" y="856800"/>
            <a:ext cx="82580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зарисовка всех этапов посадки елоче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Рисунок 3" descr="DSC02782.JPG"/>
          <p:cNvPicPr/>
          <p:nvPr/>
        </p:nvPicPr>
        <p:blipFill>
          <a:blip r:embed="rId1"/>
          <a:stretch/>
        </p:blipFill>
        <p:spPr>
          <a:xfrm>
            <a:off x="357120" y="20718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4" descr="DSC02783.JPG"/>
          <p:cNvPicPr/>
          <p:nvPr/>
        </p:nvPicPr>
        <p:blipFill>
          <a:blip r:embed="rId2"/>
          <a:stretch/>
        </p:blipFill>
        <p:spPr>
          <a:xfrm>
            <a:off x="4929120" y="20718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57120" y="785520"/>
            <a:ext cx="84297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готовление детьми из бумаги и картона ёлочек, «Хоровод новогодних ёлок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407880" y="66600"/>
            <a:ext cx="8498160" cy="1023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" descr="DSC02773.JPG"/>
          <p:cNvPicPr/>
          <p:nvPr/>
        </p:nvPicPr>
        <p:blipFill>
          <a:blip r:embed="rId2"/>
          <a:stretch/>
        </p:blipFill>
        <p:spPr>
          <a:xfrm>
            <a:off x="500040" y="2357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4" descr="DSC02778.JPG"/>
          <p:cNvPicPr/>
          <p:nvPr/>
        </p:nvPicPr>
        <p:blipFill>
          <a:blip r:embed="rId3"/>
          <a:stretch/>
        </p:blipFill>
        <p:spPr>
          <a:xfrm>
            <a:off x="4857840" y="2357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формление папки-передвижки для родителей «Берегите лес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здник около новогодней нарядной , искусственной ёл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7" name="Рисунок 3" descr="IMG_5927.JPG"/>
          <p:cNvPicPr/>
          <p:nvPr/>
        </p:nvPicPr>
        <p:blipFill>
          <a:blip r:embed="rId1"/>
          <a:stretch/>
        </p:blipFill>
        <p:spPr>
          <a:xfrm>
            <a:off x="2928960" y="3571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4" descr="SAM_0009.JPG"/>
          <p:cNvPicPr/>
          <p:nvPr/>
        </p:nvPicPr>
        <p:blipFill>
          <a:blip r:embed="rId2"/>
          <a:stretch/>
        </p:blipFill>
        <p:spPr>
          <a:xfrm>
            <a:off x="214200" y="3286080"/>
            <a:ext cx="2643480" cy="336096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5" descr="IMG_5935.JPG"/>
          <p:cNvPicPr/>
          <p:nvPr/>
        </p:nvPicPr>
        <p:blipFill>
          <a:blip r:embed="rId3"/>
          <a:stretch/>
        </p:blipFill>
        <p:spPr>
          <a:xfrm>
            <a:off x="6357960" y="3214800"/>
            <a:ext cx="2357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3840" y="642960"/>
            <a:ext cx="8472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Цель проек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расширение представлений детей о  важной функции деревьев и о необходимости их сохран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Актуальность проекта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временном мире есть такая проблема – вырубка лесов. Это грозит экологической катастрофой. Чтобы этого не произошло, донести до детей и родителей знания о защите природы. Пропагандировать посадку деревьев вокруг детского сада, домов и в пар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Задачи проект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ививать любовь к природ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одолжать знакомить с природой родного края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Дать детям возможность осознать и применять способы сохранения хвойных деревьев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уществлять экспериментальную деятельность по выращиванию елк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чить ухаживать за деревьям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оспитывать бережное отношение к природ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Паспорт проект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ид проекта: исследовательский, практико-ориентированны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роки реализации проекта: долгосрочны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частники проекта: воспитатели, де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5480" y="213840"/>
            <a:ext cx="8643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Образовательные области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знавательно-речевое (коммуникация, познание, чтение художественной литературы)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циально-личностное развитие (социализация, труд)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художественно-эстетическое (творчество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изическое развитие (здоровье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Технологии проекта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Личностно-ориентированные: упражнения, наблюдения, игр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циоигровые технологии: коллективные дела, сюжетно-ролевая игр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хнологии проектирования: наблюдение, сравнение, беседы, дискуссии, метод взаимодейств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хнологии поисковой деятельност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доровьесберегающие: пальчиковая, дыхательная гимнастик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хнологии моделирова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пытно-исследовательская технология 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2560" y="714240"/>
            <a:ext cx="8472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матривание репродукций и фотограф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седа о пользе хвойных деревьев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95120" y="-122400"/>
            <a:ext cx="8498160" cy="10558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DSC02541.JPG"/>
          <p:cNvPicPr/>
          <p:nvPr/>
        </p:nvPicPr>
        <p:blipFill>
          <a:blip r:embed="rId2"/>
          <a:stretch/>
        </p:blipFill>
        <p:spPr>
          <a:xfrm>
            <a:off x="3286080" y="1714680"/>
            <a:ext cx="2517840" cy="33573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6" descr="5477167.jpg"/>
          <p:cNvPicPr/>
          <p:nvPr/>
        </p:nvPicPr>
        <p:blipFill>
          <a:blip r:embed="rId3"/>
          <a:stretch/>
        </p:blipFill>
        <p:spPr>
          <a:xfrm>
            <a:off x="642960" y="4632480"/>
            <a:ext cx="3500280" cy="2225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7" descr="bd394895fea0.jpg"/>
          <p:cNvPicPr/>
          <p:nvPr/>
        </p:nvPicPr>
        <p:blipFill>
          <a:blip r:embed="rId4"/>
          <a:stretch/>
        </p:blipFill>
        <p:spPr>
          <a:xfrm>
            <a:off x="5072040" y="444672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000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кскурсия к хвойным деревья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Рисунок 3" descr="DSC02687.JPG"/>
          <p:cNvPicPr/>
          <p:nvPr/>
        </p:nvPicPr>
        <p:blipFill>
          <a:blip r:embed="rId1"/>
          <a:stretch/>
        </p:blipFill>
        <p:spPr>
          <a:xfrm>
            <a:off x="3214800" y="1643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DSC02689.JPG"/>
          <p:cNvPicPr/>
          <p:nvPr/>
        </p:nvPicPr>
        <p:blipFill>
          <a:blip r:embed="rId2"/>
          <a:stretch/>
        </p:blipFill>
        <p:spPr>
          <a:xfrm>
            <a:off x="6119640" y="107172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5" descr="DSC02691.JPG"/>
          <p:cNvPicPr/>
          <p:nvPr/>
        </p:nvPicPr>
        <p:blipFill>
          <a:blip r:embed="rId3"/>
          <a:stretch/>
        </p:blipFill>
        <p:spPr>
          <a:xfrm>
            <a:off x="214200" y="107172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6" descr="DSC02693.JPG"/>
          <p:cNvPicPr/>
          <p:nvPr/>
        </p:nvPicPr>
        <p:blipFill>
          <a:blip r:embed="rId4"/>
          <a:stretch/>
        </p:blipFill>
        <p:spPr>
          <a:xfrm>
            <a:off x="285840" y="392904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7" descr="DSC02699.JPG"/>
          <p:cNvPicPr/>
          <p:nvPr/>
        </p:nvPicPr>
        <p:blipFill>
          <a:blip r:embed="rId5"/>
          <a:stretch/>
        </p:blipFill>
        <p:spPr>
          <a:xfrm>
            <a:off x="5500800" y="4000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57120" y="642960"/>
            <a:ext cx="83296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блюдение за этапами роста елочек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/и  «Что сначала, что потом?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Рисунок 3" descr="DSC02705.JPG"/>
          <p:cNvPicPr/>
          <p:nvPr/>
        </p:nvPicPr>
        <p:blipFill>
          <a:blip r:embed="rId1"/>
          <a:stretch/>
        </p:blipFill>
        <p:spPr>
          <a:xfrm>
            <a:off x="0" y="1714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DSC02702.JPG"/>
          <p:cNvPicPr/>
          <p:nvPr/>
        </p:nvPicPr>
        <p:blipFill>
          <a:blip r:embed="rId2"/>
          <a:stretch/>
        </p:blipFill>
        <p:spPr>
          <a:xfrm>
            <a:off x="3143160" y="185724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5" descr="DSC02712.JPG"/>
          <p:cNvPicPr/>
          <p:nvPr/>
        </p:nvPicPr>
        <p:blipFill>
          <a:blip r:embed="rId3"/>
          <a:stretch/>
        </p:blipFill>
        <p:spPr>
          <a:xfrm>
            <a:off x="6072120" y="18572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DSC02716.JPG"/>
          <p:cNvPicPr/>
          <p:nvPr/>
        </p:nvPicPr>
        <p:blipFill>
          <a:blip r:embed="rId4"/>
          <a:stretch/>
        </p:blipFill>
        <p:spPr>
          <a:xfrm>
            <a:off x="714240" y="4143240"/>
            <a:ext cx="3000600" cy="22496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DSC02711.JPG"/>
          <p:cNvPicPr/>
          <p:nvPr/>
        </p:nvPicPr>
        <p:blipFill>
          <a:blip r:embed="rId5"/>
          <a:stretch/>
        </p:blipFill>
        <p:spPr>
          <a:xfrm>
            <a:off x="4500720" y="4143240"/>
            <a:ext cx="3071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49968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крашивание раскрасок на тему»Деревья» и на новогоднюю тему: «Новый год в лесу», «Новогодний карнавал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исование хвойных веток, деревьев. Выставка рисун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72440" cy="1023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3" descr="dziecko-i-choinka-1-b2677.jpg"/>
          <p:cNvPicPr/>
          <p:nvPr/>
        </p:nvPicPr>
        <p:blipFill>
          <a:blip r:embed="rId2"/>
          <a:stretch/>
        </p:blipFill>
        <p:spPr>
          <a:xfrm>
            <a:off x="714240" y="2714760"/>
            <a:ext cx="1857600" cy="24764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223469.jpg"/>
          <p:cNvPicPr/>
          <p:nvPr/>
        </p:nvPicPr>
        <p:blipFill>
          <a:blip r:embed="rId3"/>
          <a:stretch/>
        </p:blipFill>
        <p:spPr>
          <a:xfrm>
            <a:off x="7000920" y="2500200"/>
            <a:ext cx="2143080" cy="226872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DSC02732.JPG"/>
          <p:cNvPicPr/>
          <p:nvPr/>
        </p:nvPicPr>
        <p:blipFill>
          <a:blip r:embed="rId4"/>
          <a:stretch/>
        </p:blipFill>
        <p:spPr>
          <a:xfrm>
            <a:off x="3071880" y="22147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DSC02734.JPG"/>
          <p:cNvPicPr/>
          <p:nvPr/>
        </p:nvPicPr>
        <p:blipFill>
          <a:blip r:embed="rId5"/>
          <a:stretch/>
        </p:blipFill>
        <p:spPr>
          <a:xfrm>
            <a:off x="3286080" y="466092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DSC02718.JPG"/>
          <p:cNvPicPr/>
          <p:nvPr/>
        </p:nvPicPr>
        <p:blipFill>
          <a:blip r:embed="rId6"/>
          <a:stretch/>
        </p:blipFill>
        <p:spPr>
          <a:xfrm>
            <a:off x="6715080" y="4857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8" descr="DSC02721.JPG"/>
          <p:cNvPicPr/>
          <p:nvPr/>
        </p:nvPicPr>
        <p:blipFill>
          <a:blip r:embed="rId7"/>
          <a:stretch/>
        </p:blipFill>
        <p:spPr>
          <a:xfrm>
            <a:off x="928800" y="5143680"/>
            <a:ext cx="17859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тение и заучивание стихов и загадок о хвойных деревьях: «На лесной опушке», «Ель», «Сосна», «Елка-недотрога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седы:»Зачем нам деревья», «как вести себя в лесу»,»Какие полезные свойства вы запомнили», «Что произойдет если вырубят все елки», «Берегите лес - правила поведения детей и взрослых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Рисунок 2" descr="DSC02786.JPG"/>
          <p:cNvPicPr/>
          <p:nvPr/>
        </p:nvPicPr>
        <p:blipFill>
          <a:blip r:embed="rId1"/>
          <a:stretch/>
        </p:blipFill>
        <p:spPr>
          <a:xfrm>
            <a:off x="214200" y="400068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DSC02788.JPG"/>
          <p:cNvPicPr/>
          <p:nvPr/>
        </p:nvPicPr>
        <p:blipFill>
          <a:blip r:embed="rId2"/>
          <a:stretch/>
        </p:blipFill>
        <p:spPr>
          <a:xfrm>
            <a:off x="5929200" y="3929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DSC02739.JPG"/>
          <p:cNvPicPr/>
          <p:nvPr/>
        </p:nvPicPr>
        <p:blipFill>
          <a:blip r:embed="rId3"/>
          <a:stretch/>
        </p:blipFill>
        <p:spPr>
          <a:xfrm>
            <a:off x="3000240" y="39290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9:05:39Z</dcterms:created>
  <dc:creator>123</dc:creator>
  <dc:description/>
  <dc:language>en-US</dc:language>
  <cp:lastModifiedBy>123</cp:lastModifiedBy>
  <dcterms:modified xsi:type="dcterms:W3CDTF">2014-01-27T18:51:04Z</dcterms:modified>
  <cp:revision>15</cp:revision>
  <dc:subject/>
  <dc:title>Презентация проекта: «Хоровод новогодних ёлок»</dc:title>
</cp:coreProperties>
</file>