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4.jpeg" ContentType="image/jpeg"/>
  <Override PartName="/ppt/media/image53.png" ContentType="image/png"/>
  <Override PartName="/ppt/media/image58.jpeg" ContentType="image/jpeg"/>
  <Override PartName="/ppt/media/image49.jpeg" ContentType="image/jpeg"/>
  <Override PartName="/ppt/media/image57.jpeg" ContentType="image/jpeg"/>
  <Override PartName="/ppt/media/image36.jpeg" ContentType="image/jpeg"/>
  <Override PartName="/ppt/media/image35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079-B159-4A8F-949F-4918B560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F90-520C-46A7-9A33-BD4784B8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663-E3A0-42EF-9327-B3E949F3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161-D636-4696-B8E5-897BD0A0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76DE-B64D-46B9-925E-C8D0BAEC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C111-BE8B-48F3-95E6-81E50D6D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85D3-C8C9-4E31-BCC8-CD16B3E9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E56C-6483-41FD-96A0-1E992C2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9CFC-19EB-4D9E-844D-EE0D95D3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D2DB-A6A9-4053-BE0D-BF0551A6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E65F-714E-415A-B520-BC92D79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E09-703A-467C-9C73-5FD2444C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9F20-2EA8-4583-8BF9-4E655FC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680-9FE8-49DD-948E-17D1DF61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0426-72FF-49B8-ABF1-409DE7B0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0926-E414-46F5-9A97-2849786E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61D8-CEAD-4AB4-837A-AD51AAB5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8EBB-6E88-4097-8898-085EE0B9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9A72-9DB3-465B-923E-393F076A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37B5-D267-413E-9173-CE832FAA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1BACA-0C80-4426-8E5A-63693214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39006-5585-42A0-99A6-8829BB43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357-9E22-4EB5-B1F4-3A1ABC27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05B7-D2C3-488A-B8FA-BE227CB9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EAD9-08F1-4449-A56D-027FFBB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1996C-44E2-4CE0-9FE5-CF63019B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B6FB-E83D-4DE2-9E20-146791E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013C-3A4A-4C18-9B0D-DC1E8FEE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2442-8D59-40F1-99EF-80A0B58C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E0A3-F55C-4E0D-BC72-FCDC2340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17E5B-6A27-49AC-87B4-AC8A94BF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1E94-6FF1-4AF0-8704-DDE77F34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BD80-BA92-4CA0-8021-A6EB781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99F-A79D-41E6-8F92-93BF7C30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50D3-0324-4933-9824-AC9A229A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A49F6-9166-498A-8A8B-B8484603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9419-DFF9-45BF-9436-305C1771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0B88-A815-4B80-9043-2E23BD3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E8D0-275F-4A0E-94F1-53B88595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5DFE0-080F-4DE5-90BE-D5EF5B9F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4370-2EC3-4542-8DDE-E234882C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34A6-F6F8-4C04-9164-D0C2C2E8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9985-3167-4780-B728-6F31D4F6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061B7-2010-4948-ACEE-3E49FE56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FD7-EA1F-4B3B-B71C-708F1CBF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E8F53-E1F7-4E79-979E-64493011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5FFDF-D4E2-4029-BFC4-E3B0CF91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5DDF4-2F88-4FA4-8105-BFCA8734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9227C-170C-477A-97E8-B5757934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25C85-DDCB-42C7-B135-B9F15E5B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6E40-2D8F-41B3-A86C-642958C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6998-C5B0-4534-BC4D-DAE17A93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2FF9-0D1B-4D20-AFFD-90F4D1FE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E525B-652B-4E15-9D5E-4B650CD0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9DF78-C02D-4DDC-9FB5-8195AEFD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860-CD91-487C-A6A4-73D17331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7D23-CC69-4F57-A3B6-A01CC505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22B8-C2D4-4886-8BA8-A0502305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E591-6016-4CC2-838A-DBF2F11B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75798-CDF4-4390-BCBA-588EA8F7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91C22-4412-4FC4-8B7B-1F4AA893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66592-FBDE-4631-A608-1ECA41E8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7B71-B678-449E-9336-65103DF9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FCB74-1AEC-4D62-B26D-F83CBF2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28C7D-6E1F-4387-B7EC-2177AA5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BEBB-4D03-492C-8154-B622888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9BB-2FC3-4365-B864-B4319A1D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B3E46-DFDE-48D8-B9EF-67266666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FD3F-07A0-48A3-B62F-C9CB2357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B21B-9BAA-4461-B58B-90DAAC06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55464-5D20-45AD-9AB9-F2046BC1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2D005-F6C0-437D-A8BA-CD10BB3B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D6CD-2ECE-467C-B16E-860E4AC3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974F-A141-4430-A4EA-84AFE2A7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1157E-61F8-4C21-8AF2-12F7B314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D1DB-039B-4779-9383-8D33FF1D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649DA-6E96-4E56-98CB-BB68092D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2E7-7C42-49DB-A683-C0F745DC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03FDF-9CA2-44A2-9437-F7CEC31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021A3-2A8A-467B-B553-5B13389C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309C3-9DE2-4E46-81F9-EC0A5C9A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47174-451F-47A0-A5EB-0A6E2276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341CE-487F-45CD-A046-9CDDBA65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D83B9-E44D-40C0-A9E9-9C39610D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571F5-0D3C-4A3C-BC6C-8BCC7768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1CFD-8793-48F1-9F47-B6A85716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7D4DF-5574-4EB7-BC60-7802357C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EA0D3-BB1F-422B-A5BA-29AEA35F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F09-6FA7-4468-A355-691E2E10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5EF2B-181B-4344-BC13-A2BA11B7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D2D0B-9F13-4E38-B67E-428F799D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1FD7D-ABAE-4AC9-81A9-1C9B59B6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28323-8B14-47BE-A591-D910E865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A0567-B170-4E1C-ADBE-5B1AF587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F8EFE-C786-48CD-A2F6-CEA18EB7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A3924-38A9-47E4-B9D0-7A4F978E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561-38E3-45F9-804F-C1B083192DD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8DDD-4BC5-4DA0-8602-0D1810A3A4B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3170-C4B8-4049-80AB-FB1E9BA084E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A849-B939-480E-885D-9636EC6D51B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3EC4-447D-4E7F-9859-8559CA556DD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79BD-204C-41F8-9932-A73E3C38AB1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BA65-7AA0-428D-83C4-0E853088D8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1EBB-0569-4EB4-8F03-C2F12F690D0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53880" y="2273400"/>
            <a:ext cx="77835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85880" y="565776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Lucida Sans Unicode"/>
              </a:rPr>
              <a:t>Выполнил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Lucida Sans Unicode"/>
              </a:rPr>
              <a:t>Левкина С.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extBox 3" descr=""/>
          <p:cNvPicPr/>
          <p:nvPr/>
        </p:nvPicPr>
        <p:blipFill>
          <a:blip r:embed="rId2"/>
          <a:stretch/>
        </p:blipFill>
        <p:spPr>
          <a:xfrm>
            <a:off x="2341440" y="396720"/>
            <a:ext cx="4608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57120" y="357120"/>
            <a:ext cx="83296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южетно-ролевая игра: «Базар Новогодних елок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Рисунок 3" descr="DSC02789.JPG"/>
          <p:cNvPicPr/>
          <p:nvPr/>
        </p:nvPicPr>
        <p:blipFill>
          <a:blip r:embed="rId1"/>
          <a:stretch/>
        </p:blipFill>
        <p:spPr>
          <a:xfrm>
            <a:off x="1071720" y="15717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DSC02791.JPG"/>
          <p:cNvPicPr/>
          <p:nvPr/>
        </p:nvPicPr>
        <p:blipFill>
          <a:blip r:embed="rId2"/>
          <a:stretch/>
        </p:blipFill>
        <p:spPr>
          <a:xfrm>
            <a:off x="4714920" y="178596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6" descr="DSC02799.JPG"/>
          <p:cNvPicPr/>
          <p:nvPr/>
        </p:nvPicPr>
        <p:blipFill>
          <a:blip r:embed="rId3"/>
          <a:stretch/>
        </p:blipFill>
        <p:spPr>
          <a:xfrm>
            <a:off x="2786040" y="421488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1384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\и  на тему: «Лес», «4-ий лишний», «Выложи из палочек», «Выложи из пробок», «Что это за дерево, как оно называется», «С кем дружит ель».»Что где растет, кто где живет», «От каких деревьев  листья и плоды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Рисунок 3" descr="DSC02738.JPG"/>
          <p:cNvPicPr/>
          <p:nvPr/>
        </p:nvPicPr>
        <p:blipFill>
          <a:blip r:embed="rId1"/>
          <a:stretch/>
        </p:blipFill>
        <p:spPr>
          <a:xfrm>
            <a:off x="0" y="235728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6" descr="DSC02749.JPG"/>
          <p:cNvPicPr/>
          <p:nvPr/>
        </p:nvPicPr>
        <p:blipFill>
          <a:blip r:embed="rId2"/>
          <a:stretch/>
        </p:blipFill>
        <p:spPr>
          <a:xfrm>
            <a:off x="3071880" y="2286000"/>
            <a:ext cx="2452680" cy="327024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7" descr="DSC02753.JPG"/>
          <p:cNvPicPr/>
          <p:nvPr/>
        </p:nvPicPr>
        <p:blipFill>
          <a:blip r:embed="rId3"/>
          <a:stretch/>
        </p:blipFill>
        <p:spPr>
          <a:xfrm>
            <a:off x="5786280" y="228600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8" descr="DSC02752.JPG"/>
          <p:cNvPicPr/>
          <p:nvPr/>
        </p:nvPicPr>
        <p:blipFill>
          <a:blip r:embed="rId4"/>
          <a:stretch/>
        </p:blipFill>
        <p:spPr>
          <a:xfrm>
            <a:off x="285840" y="464328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9" descr="DSC02751.JPG"/>
          <p:cNvPicPr/>
          <p:nvPr/>
        </p:nvPicPr>
        <p:blipFill>
          <a:blip r:embed="rId5"/>
          <a:stretch/>
        </p:blipFill>
        <p:spPr>
          <a:xfrm>
            <a:off x="5929200" y="4429080"/>
            <a:ext cx="1820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3840" y="213840"/>
            <a:ext cx="8472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тильное обследование веток ели, сосны. искусственной ветки и ветки из бумаг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ригами - хвойные вет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Рисунок 3" descr="DSC02724.JPG"/>
          <p:cNvPicPr/>
          <p:nvPr/>
        </p:nvPicPr>
        <p:blipFill>
          <a:blip r:embed="rId1"/>
          <a:stretch/>
        </p:blipFill>
        <p:spPr>
          <a:xfrm>
            <a:off x="214200" y="1785960"/>
            <a:ext cx="3000600" cy="22496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" descr="DSC02730.JPG"/>
          <p:cNvPicPr/>
          <p:nvPr/>
        </p:nvPicPr>
        <p:blipFill>
          <a:blip r:embed="rId2"/>
          <a:stretch/>
        </p:blipFill>
        <p:spPr>
          <a:xfrm>
            <a:off x="5643720" y="17146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5" descr="DSC02770.JPG"/>
          <p:cNvPicPr/>
          <p:nvPr/>
        </p:nvPicPr>
        <p:blipFill>
          <a:blip r:embed="rId3"/>
          <a:stretch/>
        </p:blipFill>
        <p:spPr>
          <a:xfrm>
            <a:off x="3214800" y="242892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6" descr="DSC02785.JPG"/>
          <p:cNvPicPr/>
          <p:nvPr/>
        </p:nvPicPr>
        <p:blipFill>
          <a:blip r:embed="rId4"/>
          <a:stretch/>
        </p:blipFill>
        <p:spPr>
          <a:xfrm>
            <a:off x="857160" y="435780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7" descr="DSC02807.JPG"/>
          <p:cNvPicPr/>
          <p:nvPr/>
        </p:nvPicPr>
        <p:blipFill>
          <a:blip r:embed="rId5"/>
          <a:stretch/>
        </p:blipFill>
        <p:spPr>
          <a:xfrm>
            <a:off x="4429080" y="43578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57120" y="213840"/>
            <a:ext cx="83296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кспериментировани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бор шишек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сбор семя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посадка семя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наблюдение за всходами елочек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наблюдение за ростом елочек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Рисунок 3" descr="DSC02550.JPG"/>
          <p:cNvPicPr/>
          <p:nvPr/>
        </p:nvPicPr>
        <p:blipFill>
          <a:blip r:embed="rId1"/>
          <a:stretch/>
        </p:blipFill>
        <p:spPr>
          <a:xfrm>
            <a:off x="0" y="3000240"/>
            <a:ext cx="2357280" cy="17686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DSC02670.JPG"/>
          <p:cNvPicPr/>
          <p:nvPr/>
        </p:nvPicPr>
        <p:blipFill>
          <a:blip r:embed="rId2"/>
          <a:stretch/>
        </p:blipFill>
        <p:spPr>
          <a:xfrm>
            <a:off x="2786040" y="2928960"/>
            <a:ext cx="2428920" cy="18223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5" descr="DSC02674.JPG"/>
          <p:cNvPicPr/>
          <p:nvPr/>
        </p:nvPicPr>
        <p:blipFill>
          <a:blip r:embed="rId3"/>
          <a:stretch/>
        </p:blipFill>
        <p:spPr>
          <a:xfrm>
            <a:off x="6072120" y="292896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DSC02760.JPG"/>
          <p:cNvPicPr/>
          <p:nvPr/>
        </p:nvPicPr>
        <p:blipFill>
          <a:blip r:embed="rId4"/>
          <a:stretch/>
        </p:blipFill>
        <p:spPr>
          <a:xfrm>
            <a:off x="1143000" y="5089680"/>
            <a:ext cx="2357280" cy="17683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DSC02758.JPG"/>
          <p:cNvPicPr/>
          <p:nvPr/>
        </p:nvPicPr>
        <p:blipFill>
          <a:blip r:embed="rId5"/>
          <a:stretch/>
        </p:blipFill>
        <p:spPr>
          <a:xfrm>
            <a:off x="4786200" y="4786200"/>
            <a:ext cx="24289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8400" y="856800"/>
            <a:ext cx="82580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зарисовка всех этапов посадки елочек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Рисунок 3" descr="DSC02782.JPG"/>
          <p:cNvPicPr/>
          <p:nvPr/>
        </p:nvPicPr>
        <p:blipFill>
          <a:blip r:embed="rId1"/>
          <a:stretch/>
        </p:blipFill>
        <p:spPr>
          <a:xfrm>
            <a:off x="357120" y="20718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4" descr="DSC02783.JPG"/>
          <p:cNvPicPr/>
          <p:nvPr/>
        </p:nvPicPr>
        <p:blipFill>
          <a:blip r:embed="rId2"/>
          <a:stretch/>
        </p:blipFill>
        <p:spPr>
          <a:xfrm>
            <a:off x="4929120" y="207180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57120" y="785520"/>
            <a:ext cx="84297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готовление детьми из бумаги и картона ёлочек, «Хоровод новогодних ёлок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407880" y="66600"/>
            <a:ext cx="8498160" cy="1023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3" descr="DSC02773.JPG"/>
          <p:cNvPicPr/>
          <p:nvPr/>
        </p:nvPicPr>
        <p:blipFill>
          <a:blip r:embed="rId2"/>
          <a:stretch/>
        </p:blipFill>
        <p:spPr>
          <a:xfrm>
            <a:off x="500040" y="2357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4" descr="DSC02778.JPG"/>
          <p:cNvPicPr/>
          <p:nvPr/>
        </p:nvPicPr>
        <p:blipFill>
          <a:blip r:embed="rId3"/>
          <a:stretch/>
        </p:blipFill>
        <p:spPr>
          <a:xfrm>
            <a:off x="4857840" y="2357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формление папки-передвижки для родителей «Берегите лес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здник около новогодней нарядной , искусственной ёл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37" name="Рисунок 3" descr="IMG_5927.JPG"/>
          <p:cNvPicPr/>
          <p:nvPr/>
        </p:nvPicPr>
        <p:blipFill>
          <a:blip r:embed="rId1"/>
          <a:stretch/>
        </p:blipFill>
        <p:spPr>
          <a:xfrm>
            <a:off x="2928960" y="35719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4" descr="SAM_0009.JPG"/>
          <p:cNvPicPr/>
          <p:nvPr/>
        </p:nvPicPr>
        <p:blipFill>
          <a:blip r:embed="rId2"/>
          <a:stretch/>
        </p:blipFill>
        <p:spPr>
          <a:xfrm>
            <a:off x="214200" y="3286080"/>
            <a:ext cx="2643480" cy="336096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5" descr="IMG_5935.JPG"/>
          <p:cNvPicPr/>
          <p:nvPr/>
        </p:nvPicPr>
        <p:blipFill>
          <a:blip r:embed="rId3"/>
          <a:stretch/>
        </p:blipFill>
        <p:spPr>
          <a:xfrm>
            <a:off x="6357960" y="3214800"/>
            <a:ext cx="2357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13840" y="642960"/>
            <a:ext cx="8472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Цель проек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 расширение представлений детей о  важной функции деревьев и о необходимости их сохран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Актуальность проекта: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овременном мире есть такая проблема – вырубка лесов. Это грозит экологической катастрофой. Чтобы этого не произошло, донести до детей и родителей знания о защите природы. Пропагандировать посадку деревьев вокруг детского сада, домов и в парк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285480" y="28584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Задачи проекта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ививать любовь к природ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одолжать знакомить с природой родного края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Дать детям возможность осознать и применять способы сохранения хвойных деревьев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существлять экспериментальную деятельность по выращиванию елк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чить ухаживать за деревьям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оспитывать бережное отношение к природе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Паспорт проекта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ид проекта: исследовательский, практико-ориентированный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роки реализации проекта: долгосрочный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частники проекта: воспитатели, де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85480" y="213840"/>
            <a:ext cx="86439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Образовательные области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знавательно-речевое (коммуникация, познание, чтение художественной литературы)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циально-личностное развитие (социализация, труд)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художественно-эстетическое (творчество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физическое развитие (здоровье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Технологии проекта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Личностно-ориентированные: упражнения, наблюдения, игры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циоигровые технологии: коллективные дела, сюжетно-ролевая игр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хнологии проектирования: наблюдение, сравнение, беседы, дискуссии, метод взаимодейств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хнологии поисковой деятельност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доровьесберегающие: пальчиковая, дыхательная гимнастик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хнологии моделирова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пытно-исследовательская технология 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42560" y="714240"/>
            <a:ext cx="8472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сматривание репродукций и фотографий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седа о пользе хвойных деревьев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195120" y="-122400"/>
            <a:ext cx="8498160" cy="10558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DSC02541.JPG"/>
          <p:cNvPicPr/>
          <p:nvPr/>
        </p:nvPicPr>
        <p:blipFill>
          <a:blip r:embed="rId2"/>
          <a:stretch/>
        </p:blipFill>
        <p:spPr>
          <a:xfrm>
            <a:off x="3286080" y="1714680"/>
            <a:ext cx="2517840" cy="33573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6" descr="5477167.jpg"/>
          <p:cNvPicPr/>
          <p:nvPr/>
        </p:nvPicPr>
        <p:blipFill>
          <a:blip r:embed="rId3"/>
          <a:stretch/>
        </p:blipFill>
        <p:spPr>
          <a:xfrm>
            <a:off x="642960" y="4632480"/>
            <a:ext cx="3500280" cy="22255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7" descr="bd394895fea0.jpg"/>
          <p:cNvPicPr/>
          <p:nvPr/>
        </p:nvPicPr>
        <p:blipFill>
          <a:blip r:embed="rId4"/>
          <a:stretch/>
        </p:blipFill>
        <p:spPr>
          <a:xfrm>
            <a:off x="5072040" y="444672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000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кскурсия к хвойным деревья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Рисунок 3" descr="DSC02687.JPG"/>
          <p:cNvPicPr/>
          <p:nvPr/>
        </p:nvPicPr>
        <p:blipFill>
          <a:blip r:embed="rId1"/>
          <a:stretch/>
        </p:blipFill>
        <p:spPr>
          <a:xfrm>
            <a:off x="3214800" y="16430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DSC02689.JPG"/>
          <p:cNvPicPr/>
          <p:nvPr/>
        </p:nvPicPr>
        <p:blipFill>
          <a:blip r:embed="rId2"/>
          <a:stretch/>
        </p:blipFill>
        <p:spPr>
          <a:xfrm>
            <a:off x="6119640" y="1071720"/>
            <a:ext cx="2595600" cy="19461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5" descr="DSC02691.JPG"/>
          <p:cNvPicPr/>
          <p:nvPr/>
        </p:nvPicPr>
        <p:blipFill>
          <a:blip r:embed="rId3"/>
          <a:stretch/>
        </p:blipFill>
        <p:spPr>
          <a:xfrm>
            <a:off x="214200" y="107172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6" descr="DSC02693.JPG"/>
          <p:cNvPicPr/>
          <p:nvPr/>
        </p:nvPicPr>
        <p:blipFill>
          <a:blip r:embed="rId4"/>
          <a:stretch/>
        </p:blipFill>
        <p:spPr>
          <a:xfrm>
            <a:off x="285840" y="3929040"/>
            <a:ext cx="3214440" cy="24112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7" descr="DSC02699.JPG"/>
          <p:cNvPicPr/>
          <p:nvPr/>
        </p:nvPicPr>
        <p:blipFill>
          <a:blip r:embed="rId5"/>
          <a:stretch/>
        </p:blipFill>
        <p:spPr>
          <a:xfrm>
            <a:off x="5500800" y="4000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57120" y="642960"/>
            <a:ext cx="83296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блюдение за этапами роста елочек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/и  «Что сначала, что потом?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Рисунок 3" descr="DSC02705.JPG"/>
          <p:cNvPicPr/>
          <p:nvPr/>
        </p:nvPicPr>
        <p:blipFill>
          <a:blip r:embed="rId1"/>
          <a:stretch/>
        </p:blipFill>
        <p:spPr>
          <a:xfrm>
            <a:off x="0" y="1714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DSC02702.JPG"/>
          <p:cNvPicPr/>
          <p:nvPr/>
        </p:nvPicPr>
        <p:blipFill>
          <a:blip r:embed="rId2"/>
          <a:stretch/>
        </p:blipFill>
        <p:spPr>
          <a:xfrm>
            <a:off x="3143160" y="1857240"/>
            <a:ext cx="2714760" cy="20354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5" descr="DSC02712.JPG"/>
          <p:cNvPicPr/>
          <p:nvPr/>
        </p:nvPicPr>
        <p:blipFill>
          <a:blip r:embed="rId3"/>
          <a:stretch/>
        </p:blipFill>
        <p:spPr>
          <a:xfrm>
            <a:off x="6072120" y="18572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6" descr="DSC02716.JPG"/>
          <p:cNvPicPr/>
          <p:nvPr/>
        </p:nvPicPr>
        <p:blipFill>
          <a:blip r:embed="rId4"/>
          <a:stretch/>
        </p:blipFill>
        <p:spPr>
          <a:xfrm>
            <a:off x="714240" y="4143240"/>
            <a:ext cx="3000600" cy="22496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7" descr="DSC02711.JPG"/>
          <p:cNvPicPr/>
          <p:nvPr/>
        </p:nvPicPr>
        <p:blipFill>
          <a:blip r:embed="rId5"/>
          <a:stretch/>
        </p:blipFill>
        <p:spPr>
          <a:xfrm>
            <a:off x="4500720" y="4143240"/>
            <a:ext cx="30715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49968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крашивание раскрасок на тему»Деревья» и на новогоднюю тему: «Новый год в лесу», «Новогодний карнавал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исование хвойных веток, деревьев. Выставка рисун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272440" cy="10238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3" descr="dziecko-i-choinka-1-b2677.jpg"/>
          <p:cNvPicPr/>
          <p:nvPr/>
        </p:nvPicPr>
        <p:blipFill>
          <a:blip r:embed="rId2"/>
          <a:stretch/>
        </p:blipFill>
        <p:spPr>
          <a:xfrm>
            <a:off x="714240" y="2714760"/>
            <a:ext cx="1857600" cy="24764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4" descr="223469.jpg"/>
          <p:cNvPicPr/>
          <p:nvPr/>
        </p:nvPicPr>
        <p:blipFill>
          <a:blip r:embed="rId3"/>
          <a:stretch/>
        </p:blipFill>
        <p:spPr>
          <a:xfrm>
            <a:off x="7000920" y="2500200"/>
            <a:ext cx="2143080" cy="226872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5" descr="DSC02732.JPG"/>
          <p:cNvPicPr/>
          <p:nvPr/>
        </p:nvPicPr>
        <p:blipFill>
          <a:blip r:embed="rId4"/>
          <a:stretch/>
        </p:blipFill>
        <p:spPr>
          <a:xfrm>
            <a:off x="3071880" y="22147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DSC02734.JPG"/>
          <p:cNvPicPr/>
          <p:nvPr/>
        </p:nvPicPr>
        <p:blipFill>
          <a:blip r:embed="rId5"/>
          <a:stretch/>
        </p:blipFill>
        <p:spPr>
          <a:xfrm>
            <a:off x="3286080" y="466092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7" descr="DSC02718.JPG"/>
          <p:cNvPicPr/>
          <p:nvPr/>
        </p:nvPicPr>
        <p:blipFill>
          <a:blip r:embed="rId6"/>
          <a:stretch/>
        </p:blipFill>
        <p:spPr>
          <a:xfrm>
            <a:off x="6715080" y="4857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8" descr="DSC02721.JPG"/>
          <p:cNvPicPr/>
          <p:nvPr/>
        </p:nvPicPr>
        <p:blipFill>
          <a:blip r:embed="rId7"/>
          <a:stretch/>
        </p:blipFill>
        <p:spPr>
          <a:xfrm>
            <a:off x="928800" y="5143680"/>
            <a:ext cx="178596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287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тение и заучивание стихов и загадок о хвойных деревьях: «На лесной опушке», «Ель», «Сосна», «Елка-недотрога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еседы:»Зачем нам деревья», «как вести себя в лесу»,»Какие полезные свойства вы запомнили», «Что произойдет если вырубят все елки», «Берегите лес - правила поведения детей и взрослых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Рисунок 2" descr="DSC02786.JPG"/>
          <p:cNvPicPr/>
          <p:nvPr/>
        </p:nvPicPr>
        <p:blipFill>
          <a:blip r:embed="rId1"/>
          <a:stretch/>
        </p:blipFill>
        <p:spPr>
          <a:xfrm>
            <a:off x="214200" y="400068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DSC02788.JPG"/>
          <p:cNvPicPr/>
          <p:nvPr/>
        </p:nvPicPr>
        <p:blipFill>
          <a:blip r:embed="rId2"/>
          <a:stretch/>
        </p:blipFill>
        <p:spPr>
          <a:xfrm>
            <a:off x="5929200" y="39290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DSC02739.JPG"/>
          <p:cNvPicPr/>
          <p:nvPr/>
        </p:nvPicPr>
        <p:blipFill>
          <a:blip r:embed="rId3"/>
          <a:stretch/>
        </p:blipFill>
        <p:spPr>
          <a:xfrm>
            <a:off x="3000240" y="392904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9:05:39Z</dcterms:created>
  <dc:creator>123</dc:creator>
  <dc:description/>
  <dc:language>en-US</dc:language>
  <cp:lastModifiedBy>123</cp:lastModifiedBy>
  <dcterms:modified xsi:type="dcterms:W3CDTF">2014-01-27T18:51:04Z</dcterms:modified>
  <cp:revision>15</cp:revision>
  <dc:subject/>
  <dc:title>Презентация проекта: «Хоровод новогодних ёлок»</dc:title>
</cp:coreProperties>
</file>