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jpeg" ContentType="image/jpeg"/>
  <Override PartName="/ppt/media/image7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0A5E-ACD7-42E1-AF2F-AF0364518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7CF0-65A7-45E9-94FB-1270EBEC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34D7-DEEF-4C68-8860-FCF23C8DB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F687-1408-4E8A-8808-4D6477E90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9E76-591D-48C2-9C0E-37133AEC9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C162-4883-474C-8A3C-312DF89A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A536-460E-4363-8727-B52B7317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5E85-76B5-472A-B4A6-F419B569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030D-C131-4825-BA81-D1555089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1308-1438-4C23-8276-F3DF3A2B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E359-259A-4F88-814B-FBC350DE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865F-BB3A-4C59-BF7E-F03403AF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77EF-1FA2-4923-AFAA-FBAC242E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78C6-2472-40CC-9CEC-BECE9AA3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DA04-4AA4-43EA-BC6F-D05924E9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DE25-16FC-4427-91E1-3D95DB767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F2FE-B545-43E2-8728-C432FA19E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6E23-3972-43E6-8314-DD8F4F9A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11AF-1B4B-4CA9-A4BA-3CF46293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EBC0-7E32-4A90-98EF-EDC2AB57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AB8C-5AB0-4C19-BB85-6FF5F0C5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64CE-3647-46A3-8D20-72AFB60D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886E-10C6-41B3-B9E3-FDC1B4AB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4797-7674-4074-A8B5-820CEC6B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42FD-8008-4CAE-9B82-8477D924F2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950C-CFB0-4D3C-A164-B00CEE7835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547640" y="2060640"/>
            <a:ext cx="64008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0066"/>
                </a:solidFill>
                <a:latin typeface="Times New Roman"/>
              </a:rPr>
              <a:t>Системно- деятельностный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0066"/>
                </a:solidFill>
                <a:latin typeface="Times New Roman"/>
              </a:rPr>
              <a:t>подход в обучени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BD05097_"/>
          <p:cNvPicPr/>
          <p:nvPr/>
        </p:nvPicPr>
        <p:blipFill>
          <a:blip r:embed="rId1"/>
          <a:stretch/>
        </p:blipFill>
        <p:spPr>
          <a:xfrm>
            <a:off x="4876920" y="150840"/>
            <a:ext cx="3855960" cy="1965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42920" y="394920"/>
            <a:ext cx="7548480" cy="59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блемная ситу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Личный образовательный результа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пециально организованная деятель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деи, гипотезы, верс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хемы, модели, опыты, проек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Левая фигурная скобка 1"/>
          <p:cNvSpPr/>
          <p:nvPr/>
        </p:nvSpPr>
        <p:spPr>
          <a:xfrm rot="16200000">
            <a:off x="4356000" y="2106360"/>
            <a:ext cx="505080" cy="5832360"/>
          </a:xfrm>
          <a:custGeom>
            <a:avLst/>
            <a:gdLst>
              <a:gd name="textAreaLeft" fmla="*/ 322920 w 505080"/>
              <a:gd name="textAreaRight" fmla="*/ 505440 w 505080"/>
              <a:gd name="textAreaTop" fmla="*/ 12960 h 5832360"/>
              <a:gd name="textAreaBottom" fmla="*/ 5819400 h 583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8"/>
                  <a:pt x="10800" y="156"/>
                </a:cubicBezTo>
                <a:lnTo>
                  <a:pt x="10800" y="11280"/>
                </a:lnTo>
                <a:cubicBezTo>
                  <a:pt x="10800" y="11358"/>
                  <a:pt x="5400" y="11436"/>
                  <a:pt x="0" y="11436"/>
                </a:cubicBezTo>
                <a:cubicBezTo>
                  <a:pt x="5400" y="11436"/>
                  <a:pt x="10800" y="11514"/>
                  <a:pt x="10800" y="11592"/>
                </a:cubicBezTo>
                <a:lnTo>
                  <a:pt x="10800" y="21444"/>
                </a:lnTo>
                <a:cubicBezTo>
                  <a:pt x="10800" y="21522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Овал 3"/>
          <p:cNvSpPr/>
          <p:nvPr/>
        </p:nvSpPr>
        <p:spPr>
          <a:xfrm>
            <a:off x="1187280" y="620640"/>
            <a:ext cx="6697800" cy="594036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ффективно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у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Овал 2"/>
          <p:cNvSpPr/>
          <p:nvPr/>
        </p:nvSpPr>
        <p:spPr>
          <a:xfrm>
            <a:off x="2332080" y="1916280"/>
            <a:ext cx="4543560" cy="374796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разователь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дук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Овал 1"/>
          <p:cNvSpPr/>
          <p:nvPr/>
        </p:nvSpPr>
        <p:spPr>
          <a:xfrm>
            <a:off x="3298680" y="2852640"/>
            <a:ext cx="2611440" cy="194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еб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тери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4"/>
          <p:cNvSpPr/>
          <p:nvPr/>
        </p:nvSpPr>
        <p:spPr>
          <a:xfrm>
            <a:off x="1130760" y="476280"/>
            <a:ext cx="762516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Учитель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дготовка дидактическог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атериала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рганизация различных форм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трудничества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частие в обсуждении результат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еятельности через наводящ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просы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здание условий для самоконтрол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 самооценки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187280" y="333360"/>
            <a:ext cx="7632720" cy="46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сновные компоненты образовательного процес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рямоугольник 5"/>
          <p:cNvSpPr/>
          <p:nvPr/>
        </p:nvSpPr>
        <p:spPr>
          <a:xfrm>
            <a:off x="1027080" y="1906560"/>
            <a:ext cx="4319640" cy="6588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тивационно-целев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оугольник 6"/>
          <p:cNvSpPr/>
          <p:nvPr/>
        </p:nvSpPr>
        <p:spPr>
          <a:xfrm>
            <a:off x="2309760" y="2692440"/>
            <a:ext cx="3673440" cy="7207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ательны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Прямоугольник 7"/>
          <p:cNvSpPr/>
          <p:nvPr/>
        </p:nvSpPr>
        <p:spPr>
          <a:xfrm>
            <a:off x="3059280" y="3573360"/>
            <a:ext cx="3816360" cy="7192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ерациональ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Прямоугольник 8"/>
          <p:cNvSpPr/>
          <p:nvPr/>
        </p:nvSpPr>
        <p:spPr>
          <a:xfrm>
            <a:off x="3635280" y="4437000"/>
            <a:ext cx="4430880" cy="7207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флексивно-оценоч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826560" y="549000"/>
            <a:ext cx="7921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тивационно-целевой компонен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чего будет осуществляться деятельност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учаемые объекты               Способы изуче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ъек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Прямая со стрелкой 4"/>
          <p:cNvCxnSpPr/>
          <p:nvPr/>
        </p:nvCxnSpPr>
        <p:spPr>
          <a:xfrm flipH="1">
            <a:off x="3708000" y="3789000"/>
            <a:ext cx="720000" cy="577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5076720" y="3789360"/>
            <a:ext cx="90180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Содержательный компонен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042920" y="1267920"/>
            <a:ext cx="7416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ное содержание развивает способность порождать своё знание, видеть мир своими собственными глазами, понимать его своим собственным пониманием. Человек развивается успешно тогда, когда он не просто усваивает чужой опыт и чужие знания, но умеет творить, создавать свои собственные знания о мир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721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Операциональный компонен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87280" y="1557360"/>
            <a:ext cx="7345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258920" y="1197000"/>
          <a:ext cx="7032600" cy="5013360"/>
        </p:xfrm>
        <a:graphic>
          <a:graphicData uri="http://schemas.openxmlformats.org/drawingml/2006/table">
            <a:tbl>
              <a:tblPr/>
              <a:tblGrid>
                <a:gridCol w="3489120"/>
                <a:gridCol w="3543480"/>
              </a:tblGrid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efde3"/>
                          </a:solidFill>
                          <a:latin typeface="Times New Roman"/>
                        </a:rPr>
                        <a:t>Традиционное образ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5760">
                      <a:solidFill>
                        <a:srgbClr val="fefde3"/>
                      </a:solidFill>
                    </a:lnT>
                    <a:lnB w="18720">
                      <a:solidFill>
                        <a:srgbClr val="fefde3"/>
                      </a:solidFill>
                    </a:lnB>
                    <a:solidFill>
                      <a:srgbClr val="3086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efde3"/>
                          </a:solidFill>
                          <a:latin typeface="Times New Roman"/>
                        </a:rPr>
                        <a:t>СД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5760">
                      <a:solidFill>
                        <a:srgbClr val="fefde3"/>
                      </a:solidFill>
                    </a:lnT>
                    <a:lnB w="18720">
                      <a:solidFill>
                        <a:srgbClr val="fefde3"/>
                      </a:solidFill>
                    </a:lnB>
                    <a:solidFill>
                      <a:srgbClr val="3086a5"/>
                    </a:solidFill>
                  </a:tcPr>
                </a:tc>
              </a:tr>
              <a:tr h="100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кс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18720">
                      <a:solidFill>
                        <a:srgbClr val="fefde3"/>
                      </a:solidFill>
                    </a:lnT>
                    <a:lnB w="5760">
                      <a:solidFill>
                        <a:srgbClr val="fefde3"/>
                      </a:solidFill>
                    </a:lnB>
                    <a:solidFill>
                      <a:srgbClr val="cdd9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ту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18720">
                      <a:solidFill>
                        <a:srgbClr val="fefde3"/>
                      </a:solidFill>
                    </a:lnT>
                    <a:lnB w="5760">
                      <a:solidFill>
                        <a:srgbClr val="fefde3"/>
                      </a:solidFill>
                    </a:lnB>
                    <a:solidFill>
                      <a:srgbClr val="cdd9e1"/>
                    </a:solidFill>
                  </a:tcPr>
                </a:tc>
              </a:tr>
              <a:tr h="103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ение, слушание и понимание текс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5760">
                      <a:solidFill>
                        <a:srgbClr val="fefde3"/>
                      </a:solidFill>
                    </a:lnT>
                    <a:lnB w="5760">
                      <a:solidFill>
                        <a:srgbClr val="fefde3"/>
                      </a:solidFill>
                    </a:lnB>
                    <a:solidFill>
                      <a:srgbClr val="e8ed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йствия включенности и рефлексия в ситу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5760">
                      <a:solidFill>
                        <a:srgbClr val="fefde3"/>
                      </a:solidFill>
                    </a:lnT>
                    <a:lnB w="5760">
                      <a:solidFill>
                        <a:srgbClr val="fefde3"/>
                      </a:solidFill>
                    </a:lnB>
                    <a:solidFill>
                      <a:srgbClr val="e8edf0"/>
                    </a:solidFill>
                  </a:tcPr>
                </a:tc>
              </a:tr>
              <a:tr h="19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уктура оформленных текстов и методы препода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5760">
                      <a:solidFill>
                        <a:srgbClr val="fefde3"/>
                      </a:solidFill>
                    </a:lnT>
                    <a:lnB w="5760">
                      <a:solidFill>
                        <a:srgbClr val="fefde3"/>
                      </a:solidFill>
                    </a:lnB>
                    <a:solidFill>
                      <a:srgbClr val="cdd9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ология организации коллективной мыследеятельности и конструирование эвристической ситу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fde3"/>
                      </a:solidFill>
                    </a:lnL>
                    <a:lnR w="5760">
                      <a:solidFill>
                        <a:srgbClr val="fefde3"/>
                      </a:solidFill>
                    </a:lnR>
                    <a:lnT w="5760">
                      <a:solidFill>
                        <a:srgbClr val="fefde3"/>
                      </a:solidFill>
                    </a:lnT>
                    <a:lnB w="5760">
                      <a:solidFill>
                        <a:srgbClr val="fefde3"/>
                      </a:solidFill>
                    </a:lnB>
                    <a:solidFill>
                      <a:srgbClr val="cdd9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7216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Реализация дидактических услови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31640" y="1988640"/>
            <a:ext cx="7272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ыследеятельностная педагог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ачный подход в обучен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тод проек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туационный анали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хнологии портфоли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хнологии проблемного, критического, модульного обуч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64640"/>
            <a:ext cx="77216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Рефлексивно-оценочный компонен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403280" y="1915920"/>
            <a:ext cx="6840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могает сформулировать получаемые результа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определить цели дальнейшей рабо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орректировать свой образовательный пу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ознать свою индивидуальность, уникальность и предназнач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77216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оказатели владения педагогом системно-деятельностными технологиями обучения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31640" y="1484280"/>
            <a:ext cx="7127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гуманистическую позицию по отношению к каждому ребенку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но видит предметный курс в иерархии внутрипредметных и межпредметных связей и отношени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рует цели курса, темы урока, исходя из личностных, метапредметных и предметных результат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1" descr="PE01561_"/>
          <p:cNvPicPr/>
          <p:nvPr/>
        </p:nvPicPr>
        <p:blipFill>
          <a:blip r:embed="rId1"/>
          <a:stretch/>
        </p:blipFill>
        <p:spPr>
          <a:xfrm>
            <a:off x="7093080" y="333360"/>
            <a:ext cx="1722240" cy="1143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58920" y="1483920"/>
            <a:ext cx="7129440" cy="331308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и одно действие педагога не должно стоять в стороне от поставленных целе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.С. Макаренк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625400" y="691920"/>
            <a:ext cx="676260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ет мотивационно-целевое пространство уроков на основе развития личностных потребностей ученик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ует поисковую, проблемную, проектную деятельность дете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ует учебное сотрудничество детей при решении учебных задач на основе демократического общен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ывает самоконтроль и самооценку учащимися своей деятельности в соответствии с выработанными критерия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1258920" y="1700280"/>
            <a:ext cx="7489800" cy="3313080"/>
          </a:xfrm>
          <a:custGeom>
            <a:avLst/>
            <a:gdLst>
              <a:gd name="textAreaLeft" fmla="*/ 1872360 w 7489800"/>
              <a:gd name="textAreaRight" fmla="*/ 5617440 w 7489800"/>
              <a:gd name="textAreaTop" fmla="*/ 414000 h 3313080"/>
              <a:gd name="textAreaBottom" fmla="*/ 3313440 h 33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6c6a5f"/>
              </a:gs>
              <a:gs pos="50000">
                <a:srgbClr val="eae5ce"/>
              </a:gs>
              <a:gs pos="100000">
                <a:srgbClr val="6c6a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9" descr="BD05090_"/>
          <p:cNvPicPr/>
          <p:nvPr/>
        </p:nvPicPr>
        <p:blipFill>
          <a:blip r:embed="rId1"/>
          <a:stretch/>
        </p:blipFill>
        <p:spPr>
          <a:xfrm>
            <a:off x="6516720" y="404640"/>
            <a:ext cx="1839960" cy="1663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10"/>
          <p:cNvSpPr/>
          <p:nvPr/>
        </p:nvSpPr>
        <p:spPr>
          <a:xfrm>
            <a:off x="1187280" y="333360"/>
            <a:ext cx="4176720" cy="1778040"/>
          </a:xfrm>
          <a:prstGeom prst="ellipse">
            <a:avLst/>
          </a:prstGeom>
          <a:gradFill rotWithShape="0">
            <a:gsLst>
              <a:gs pos="0">
                <a:srgbClr val="6c6a5f"/>
              </a:gs>
              <a:gs pos="50000">
                <a:srgbClr val="eae5ce"/>
              </a:gs>
              <a:gs pos="100000">
                <a:srgbClr val="6c6a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стемно- деятельност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11"/>
          <p:cNvSpPr/>
          <p:nvPr/>
        </p:nvSpPr>
        <p:spPr>
          <a:xfrm>
            <a:off x="1042920" y="3213000"/>
            <a:ext cx="3384720" cy="3240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азируется на зо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лижайше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вития ребен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12"/>
          <p:cNvSpPr/>
          <p:nvPr/>
        </p:nvSpPr>
        <p:spPr>
          <a:xfrm>
            <a:off x="5435640" y="3068640"/>
            <a:ext cx="3168720" cy="30243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витие →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ятельность →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уч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998160" y="609300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.С. Выготс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6880680" y="2492280"/>
            <a:ext cx="18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.В.Давы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5"/>
          <p:cNvSpPr/>
          <p:nvPr/>
        </p:nvSpPr>
        <p:spPr>
          <a:xfrm flipH="1">
            <a:off x="2268360" y="1989000"/>
            <a:ext cx="719280" cy="1798920"/>
          </a:xfrm>
          <a:prstGeom prst="line">
            <a:avLst/>
          </a:prstGeom>
          <a:ln w="127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6"/>
          <p:cNvSpPr/>
          <p:nvPr/>
        </p:nvSpPr>
        <p:spPr>
          <a:xfrm>
            <a:off x="3851280" y="1916280"/>
            <a:ext cx="2592360" cy="1655640"/>
          </a:xfrm>
          <a:prstGeom prst="line">
            <a:avLst/>
          </a:prstGeom>
          <a:ln w="127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920" y="476280"/>
            <a:ext cx="734544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Основная идея СДП заключаются в том, что главный результат образования – это не отдельные знания, умения и навыки, а способность и готовность человека к эффективной и продуктивной деятельности в различных социально-значимых ситуациях</a:t>
            </a: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4" name="Picture 5" descr="BD05092_"/>
          <p:cNvPicPr/>
          <p:nvPr/>
        </p:nvPicPr>
        <p:blipFill>
          <a:blip r:embed="rId1"/>
          <a:stretch/>
        </p:blipFill>
        <p:spPr>
          <a:xfrm>
            <a:off x="5940360" y="4869000"/>
            <a:ext cx="28958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66680" y="549000"/>
            <a:ext cx="76089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стемный подход — это подход, при котором любая система рассматривается как совокупность взаимосвязанных элементов. Умение увидеть задачу с разных сторон, проанализировать множество решений, из единого целого выделить составляющие или, наоборот, из разрозненных фактов собрать целостную картину, - будет помогать не только на уроках, но и в обычной жизн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176480" y="476280"/>
            <a:ext cx="76327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Деятельнос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ориентация на результа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развитие личност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цель образован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Прямая со стрелкой 2"/>
          <p:cNvCxnSpPr/>
          <p:nvPr/>
        </p:nvCxnSpPr>
        <p:spPr>
          <a:xfrm>
            <a:off x="3579480" y="1433520"/>
            <a:ext cx="1080" cy="9057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3419640" y="3141720"/>
            <a:ext cx="431640" cy="100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2"/>
          <a:stretch/>
        </p:blipFill>
        <p:spPr>
          <a:xfrm>
            <a:off x="3468600" y="4869000"/>
            <a:ext cx="49392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331640" y="549000"/>
            <a:ext cx="7032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 СДП  личность выступает как активное творческое начало. Взаимодействуя с миром, она строит сама себя. Главный фактор развития - учебная деятельность. При этом становление учебной деятельности означает становление духовного развития личност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00000" y="549360"/>
            <a:ext cx="77868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«Процесс учения - это процесс деятельности ученика, направленный на становление его сознания и его личности в целом. Вот что такое «системно - деятельностный» подход в образовании!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.Г. Асмоло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5" descr="BD06663_"/>
          <p:cNvPicPr/>
          <p:nvPr/>
        </p:nvPicPr>
        <p:blipFill>
          <a:blip r:embed="rId1"/>
          <a:stretch/>
        </p:blipFill>
        <p:spPr>
          <a:xfrm>
            <a:off x="5410080" y="3068640"/>
            <a:ext cx="3733920" cy="3238560"/>
          </a:xfrm>
          <a:prstGeom prst="rect">
            <a:avLst/>
          </a:prstGeom>
          <a:ln w="0">
            <a:noFill/>
          </a:ln>
        </p:spPr>
      </p:pic>
      <p:sp>
        <p:nvSpPr>
          <p:cNvPr id="115" name="Oval 6"/>
          <p:cNvSpPr/>
          <p:nvPr/>
        </p:nvSpPr>
        <p:spPr>
          <a:xfrm>
            <a:off x="2195640" y="549360"/>
            <a:ext cx="4537080" cy="2665440"/>
          </a:xfrm>
          <a:prstGeom prst="ellipse">
            <a:avLst/>
          </a:prstGeom>
          <a:gradFill rotWithShape="0">
            <a:gsLst>
              <a:gs pos="0">
                <a:srgbClr val="fefde3"/>
              </a:gs>
              <a:gs pos="100000">
                <a:srgbClr val="7675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Меня уча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7"/>
          <p:cNvSpPr/>
          <p:nvPr/>
        </p:nvSpPr>
        <p:spPr>
          <a:xfrm>
            <a:off x="1187280" y="3213000"/>
            <a:ext cx="4105440" cy="3095640"/>
          </a:xfrm>
          <a:prstGeom prst="ellipse">
            <a:avLst/>
          </a:prstGeom>
          <a:gradFill rotWithShape="0">
            <a:gsLst>
              <a:gs pos="0">
                <a:srgbClr val="ecd73a"/>
              </a:gs>
              <a:gs pos="100000">
                <a:srgbClr val="6d631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Times New Roman"/>
              </a:rPr>
              <a:t>Я учусь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8"/>
          <p:cNvSpPr/>
          <p:nvPr/>
        </p:nvSpPr>
        <p:spPr>
          <a:xfrm flipH="1">
            <a:off x="2195640" y="404640"/>
            <a:ext cx="4464000" cy="2808360"/>
          </a:xfrm>
          <a:prstGeom prst="line">
            <a:avLst/>
          </a:prstGeom>
          <a:ln w="79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9"/>
          <p:cNvSpPr/>
          <p:nvPr/>
        </p:nvSpPr>
        <p:spPr>
          <a:xfrm>
            <a:off x="3059280" y="404640"/>
            <a:ext cx="3313080" cy="3095640"/>
          </a:xfrm>
          <a:prstGeom prst="line">
            <a:avLst/>
          </a:prstGeom>
          <a:ln w="79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7:28:46Z</dcterms:created>
  <dc:creator>Boss</dc:creator>
  <dc:description/>
  <dc:language>en-US</dc:language>
  <cp:lastModifiedBy>Samsung</cp:lastModifiedBy>
  <dcterms:modified xsi:type="dcterms:W3CDTF">2014-01-27T07:20:46Z</dcterms:modified>
  <cp:revision>103</cp:revision>
  <dc:subject/>
  <dc:title>Предпрофильное и профильное обучение в системе общего образования  г. Обнинска: опыт и проблемы.</dc:title>
</cp:coreProperties>
</file>