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A03-B9B6-4A6A-88F8-8DDA7090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27B-AF51-4C3C-82A9-655D293F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ECF-043E-48B4-9DD0-55603092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751-C082-4DBD-B179-88E894DB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6F34-083E-4A19-8EFC-B3434577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7B71-A3E3-442A-BA11-89EB91D1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FFBC-5AA9-4930-9034-62EA4C57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D7F9-4FFD-4F13-A551-0DC14126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CEFA-4B24-4E8C-81CC-ACB454D1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35CC-8195-4C5A-A449-4CC104F1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640C-65AB-461E-A9DE-89EC7109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7F9-BE5B-4B81-9F1C-922D7C7E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1A68-3978-4D3B-AE72-931136BB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6A43-A406-43E4-BAD2-E892A71A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96E4-4AC1-40EB-B9CF-3203E4F3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8B05-D258-4AD0-BE68-BA6213C5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914B-F3C2-40FC-85FE-106AA5DB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B25-4CF9-4F68-84B7-A1FCE57F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545-CEF1-49B5-BAC2-E20D8C7D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8A9-3040-44A1-80B4-9F589324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1F1-7BF5-4CBA-86FE-EAB49892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DFC-F413-4E5C-9D78-DF55483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311-ED60-4341-870E-E4679E20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465-0E36-4DF0-8A63-E0F436D9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B9E9-4A9A-4BBA-9D6A-90B232BE40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64DB-5B72-4AD3-BA24-A4247F8D14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Times New Roman"/>
              </a:rPr>
              <a:t>Системно- деятельностный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Times New Roman"/>
              </a:rPr>
              <a:t>подход в обучен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BD05097_"/>
          <p:cNvPicPr/>
          <p:nvPr/>
        </p:nvPicPr>
        <p:blipFill>
          <a:blip r:embed="rId1"/>
          <a:stretch/>
        </p:blipFill>
        <p:spPr>
          <a:xfrm>
            <a:off x="4876920" y="150840"/>
            <a:ext cx="3855960" cy="196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920" y="394920"/>
            <a:ext cx="754848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блемная ситу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чный образовательный результ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ециально организованная деятель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деи, гипотезы, вер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емы, модели, опыты, прое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Левая фигурная скобка 1"/>
          <p:cNvSpPr/>
          <p:nvPr/>
        </p:nvSpPr>
        <p:spPr>
          <a:xfrm rot="16200000">
            <a:off x="4356000" y="2106360"/>
            <a:ext cx="505080" cy="5832360"/>
          </a:xfrm>
          <a:custGeom>
            <a:avLst/>
            <a:gdLst>
              <a:gd name="textAreaLeft" fmla="*/ 322920 w 505080"/>
              <a:gd name="textAreaRight" fmla="*/ 505440 w 505080"/>
              <a:gd name="textAreaTop" fmla="*/ 12960 h 5832360"/>
              <a:gd name="textAreaBottom" fmla="*/ 5819400 h 58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6"/>
                </a:cubicBezTo>
                <a:lnTo>
                  <a:pt x="10800" y="11280"/>
                </a:lnTo>
                <a:cubicBezTo>
                  <a:pt x="10800" y="11358"/>
                  <a:pt x="5400" y="11436"/>
                  <a:pt x="0" y="11436"/>
                </a:cubicBezTo>
                <a:cubicBezTo>
                  <a:pt x="5400" y="11436"/>
                  <a:pt x="10800" y="11514"/>
                  <a:pt x="10800" y="11592"/>
                </a:cubicBezTo>
                <a:lnTo>
                  <a:pt x="10800" y="21444"/>
                </a:lnTo>
                <a:cubicBezTo>
                  <a:pt x="10800" y="21522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вал 3"/>
          <p:cNvSpPr/>
          <p:nvPr/>
        </p:nvSpPr>
        <p:spPr>
          <a:xfrm>
            <a:off x="1187280" y="620640"/>
            <a:ext cx="6697800" cy="59403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Овал 2"/>
          <p:cNvSpPr/>
          <p:nvPr/>
        </p:nvSpPr>
        <p:spPr>
          <a:xfrm>
            <a:off x="2332080" y="1916280"/>
            <a:ext cx="4543560" cy="3747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Овал 1"/>
          <p:cNvSpPr/>
          <p:nvPr/>
        </p:nvSpPr>
        <p:spPr>
          <a:xfrm>
            <a:off x="3298680" y="2852640"/>
            <a:ext cx="2611440" cy="194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р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1130760" y="476280"/>
            <a:ext cx="7625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готовка дидактическ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териал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изация различных фор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трудничеств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обсуждении результ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ятельности через наводящ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прос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здание условий для самоконтрол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самооцен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63272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новные компоненты образовательного процес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1027080" y="1906560"/>
            <a:ext cx="4319640" cy="658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тивационно-целе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2309760" y="2692440"/>
            <a:ext cx="3673440" cy="72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тель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3059280" y="3573360"/>
            <a:ext cx="3816360" cy="719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ерациона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3635280" y="4437000"/>
            <a:ext cx="4430880" cy="72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флексивно-оценоч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826560" y="549000"/>
            <a:ext cx="7921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тивационно-целевой компоне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чего будет осуществляться деятельнос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емые объекты               Способы из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Прямая со стрелкой 4"/>
          <p:cNvCxnSpPr/>
          <p:nvPr/>
        </p:nvCxnSpPr>
        <p:spPr>
          <a:xfrm flipH="1">
            <a:off x="3708000" y="3789000"/>
            <a:ext cx="720000" cy="577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076720" y="3789360"/>
            <a:ext cx="90180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одержательный компонен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42920" y="126792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е содержание развивает способность порождать своё знание, видеть мир своими собственными глазами, понимать его своим собственным пониманием. Человек развивается успешно тогда, когда он не просто усваивает чужой опыт и чужие знания, но умеет творить, создавать свои собственные знания о м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21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Операциональный компонен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58920" y="1197000"/>
          <a:ext cx="7032600" cy="5013360"/>
        </p:xfrm>
        <a:graphic>
          <a:graphicData uri="http://schemas.openxmlformats.org/drawingml/2006/table">
            <a:tbl>
              <a:tblPr/>
              <a:tblGrid>
                <a:gridCol w="3489120"/>
                <a:gridCol w="354348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fde3"/>
                          </a:solidFill>
                          <a:latin typeface="Times New Roman"/>
                        </a:rPr>
                        <a:t>Традиционное 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3086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fde3"/>
                          </a:solidFill>
                          <a:latin typeface="Times New Roman"/>
                        </a:rPr>
                        <a:t>СД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3086a5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с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cdd9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cdd9e1"/>
                    </a:solidFill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ение, слушание и понимание текс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я включенности и рефлексия в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8edf0"/>
                    </a:solidFill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а оформленных текстов и методы препода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cdd9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 организации коллективной мыследеятельности и конструирование эвристической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cdd9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721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еализация дидактических услови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31640" y="1988640"/>
            <a:ext cx="7272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следеятельностная педагог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ный подход в обуч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про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туационный анал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и портфоли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и проблемного, критического, модульного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4640"/>
            <a:ext cx="7721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ефлексивно-оценочный компонен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84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ет сформулировать получаемые результа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пределить цели дальнейшей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ректировать свой образовательный пу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знать свою индивидуальность, уникальность и предна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216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казатели владения педагогом системно-деятельностными технологиями обучения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31640" y="1484280"/>
            <a:ext cx="712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гуманистическую позицию по отношению к каждому ребенк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 видит предметный курс в иерархии внутрипредметных и межпредметных связей и отнош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ует цели курса, темы урока, исходя из личностных, метапредметных и предметных результат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1" descr="PE01561_"/>
          <p:cNvPicPr/>
          <p:nvPr/>
        </p:nvPicPr>
        <p:blipFill>
          <a:blip r:embed="rId1"/>
          <a:stretch/>
        </p:blipFill>
        <p:spPr>
          <a:xfrm>
            <a:off x="7093080" y="333360"/>
            <a:ext cx="172224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920" y="1483920"/>
            <a:ext cx="7129440" cy="33130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 одно действие педагога не должно стоять в стороне от поставленных цел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С. Макарен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25400" y="691920"/>
            <a:ext cx="6762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ет мотивационно-целевое пространство уроков на основе развития личностных потребностей учени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поисковую, проблемную, проектную деятельность дет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учебное сотрудничество детей при решении учебных задач на основе демократического общ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ет самоконтроль и самооценку учащимися своей деятельности в соответствии с выработанными критер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258920" y="1700280"/>
            <a:ext cx="7489800" cy="3313080"/>
          </a:xfrm>
          <a:custGeom>
            <a:avLst/>
            <a:gdLst>
              <a:gd name="textAreaLeft" fmla="*/ 1872360 w 7489800"/>
              <a:gd name="textAreaRight" fmla="*/ 5617440 w 7489800"/>
              <a:gd name="textAreaTop" fmla="*/ 41400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6c6a5f"/>
              </a:gs>
              <a:gs pos="50000">
                <a:srgbClr val="eae5ce"/>
              </a:gs>
              <a:gs pos="100000">
                <a:srgbClr val="6c6a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BD05090_"/>
          <p:cNvPicPr/>
          <p:nvPr/>
        </p:nvPicPr>
        <p:blipFill>
          <a:blip r:embed="rId1"/>
          <a:stretch/>
        </p:blipFill>
        <p:spPr>
          <a:xfrm>
            <a:off x="6516720" y="404640"/>
            <a:ext cx="1839960" cy="166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1187280" y="333360"/>
            <a:ext cx="4176720" cy="1778040"/>
          </a:xfrm>
          <a:prstGeom prst="ellipse">
            <a:avLst/>
          </a:prstGeom>
          <a:gradFill rotWithShape="0">
            <a:gsLst>
              <a:gs pos="0">
                <a:srgbClr val="6c6a5f"/>
              </a:gs>
              <a:gs pos="50000">
                <a:srgbClr val="eae5ce"/>
              </a:gs>
              <a:gs pos="100000">
                <a:srgbClr val="6c6a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но- деятельнос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1042920" y="3213000"/>
            <a:ext cx="3384720" cy="324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зируется на з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ижайш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я ребе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2"/>
          <p:cNvSpPr/>
          <p:nvPr/>
        </p:nvSpPr>
        <p:spPr>
          <a:xfrm>
            <a:off x="5435640" y="3068640"/>
            <a:ext cx="3168720" cy="3024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→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ь →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998160" y="60930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С. Выгот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6880680" y="249228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В.Давы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2268360" y="1989000"/>
            <a:ext cx="719280" cy="1798920"/>
          </a:xfrm>
          <a:prstGeom prst="line">
            <a:avLst/>
          </a:prstGeom>
          <a:ln w="127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851280" y="1916280"/>
            <a:ext cx="2592360" cy="1655640"/>
          </a:xfrm>
          <a:prstGeom prst="line">
            <a:avLst/>
          </a:prstGeom>
          <a:ln w="127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476280"/>
            <a:ext cx="73454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ая идея СДП заключаются в том, что главный результат образования – это не отдельные знания, умения и навыки, а способность и готовность человека к эффективной и продуктивной деятельности в различных социально-значимых ситуациях</a:t>
            </a: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4" name="Picture 5" descr="BD05092_"/>
          <p:cNvPicPr/>
          <p:nvPr/>
        </p:nvPicPr>
        <p:blipFill>
          <a:blip r:embed="rId1"/>
          <a:stretch/>
        </p:blipFill>
        <p:spPr>
          <a:xfrm>
            <a:off x="5940360" y="4869000"/>
            <a:ext cx="2895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66680" y="549000"/>
            <a:ext cx="7608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ный подход — это подход, при котором любая система рассматривается как совокупность взаимосвязанных элементов. Умение увидеть задачу с разных сторон, проанализировать множество решений, из единого целого выделить составляющие или, наоборот, из разрозненных фактов собрать целостную картину, - будет помогать не только на уроках, но и в обычной жиз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76480" y="476280"/>
            <a:ext cx="7632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риентация на результа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азвитие лич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цель образ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Прямая со стрелкой 2"/>
          <p:cNvCxnSpPr/>
          <p:nvPr/>
        </p:nvCxnSpPr>
        <p:spPr>
          <a:xfrm>
            <a:off x="3579480" y="1433520"/>
            <a:ext cx="1080" cy="905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3468600" y="4869000"/>
            <a:ext cx="4939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032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СДП  личность выступает как активное творческое начало. Взаимодействуя с миром, она строит сама себя. Главный фактор развития - учебная деятельность. При этом становление учебной деятельности означает становление духовного развития лич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549360"/>
            <a:ext cx="77868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Процесс учения - это процесс деятельности ученика, направленный на становление его сознания и его личности в целом. Вот что такое «системно - деятельностный» подход в образовании!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.Г. Асмол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BD06663_"/>
          <p:cNvPicPr/>
          <p:nvPr/>
        </p:nvPicPr>
        <p:blipFill>
          <a:blip r:embed="rId1"/>
          <a:stretch/>
        </p:blipFill>
        <p:spPr>
          <a:xfrm>
            <a:off x="5410080" y="3068640"/>
            <a:ext cx="373392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2195640" y="549360"/>
            <a:ext cx="4537080" cy="266544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7675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Меня уча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1187280" y="3213000"/>
            <a:ext cx="4105440" cy="3095640"/>
          </a:xfrm>
          <a:prstGeom prst="ellipse">
            <a:avLst/>
          </a:prstGeom>
          <a:gradFill rotWithShape="0">
            <a:gsLst>
              <a:gs pos="0">
                <a:srgbClr val="ecd73a"/>
              </a:gs>
              <a:gs pos="100000">
                <a:srgbClr val="6d631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Я учусь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2195640" y="404640"/>
            <a:ext cx="4464000" cy="2808360"/>
          </a:xfrm>
          <a:prstGeom prst="line">
            <a:avLst/>
          </a:prstGeom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059280" y="404640"/>
            <a:ext cx="3313080" cy="3095640"/>
          </a:xfrm>
          <a:prstGeom prst="line">
            <a:avLst/>
          </a:prstGeom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28:46Z</dcterms:created>
  <dc:creator>Boss</dc:creator>
  <dc:description/>
  <dc:language>en-US</dc:language>
  <cp:lastModifiedBy>Samsung</cp:lastModifiedBy>
  <dcterms:modified xsi:type="dcterms:W3CDTF">2014-01-27T07:20:46Z</dcterms:modified>
  <cp:revision>103</cp:revision>
  <dc:subject/>
  <dc:title>Предпрофильное и профильное обучение в системе общего образования  г. Обнинска: опыт и проблемы.</dc:title>
</cp:coreProperties>
</file>