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249-49E9-4582-9E64-D841DA33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EF8-CC68-46B0-B00A-FA2E7506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95C-64E8-4501-9E6C-2E0C5F4B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15C-3B33-46E6-80F3-A3975D52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185A-2B67-4B35-BFC2-258B3074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C868-6867-4F2D-8D94-CC1CC689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BFCD-C739-4364-96AE-F6F5ACB0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80A7-89B9-4B03-8F68-208D8CD6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C9CE-F31C-4A57-B2D2-8BC43974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C460-8BBD-4349-986C-AD1DF3D6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A91A-F814-41EA-864E-5C5A845F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C2A-AC83-4A55-B0D9-5C1F204D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878B-E780-4897-9F31-8EB21903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F97D-84AF-44A5-BB00-56D87DC1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3D80-2CAA-40F0-99FE-8C19BB35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2266-66F2-4BC1-8EEE-97BDE9DC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B77E-83C6-43C4-88D4-23764C5B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7C6D8-7944-49EE-AE02-99BAD3DE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B72AF-2F44-46B7-A62F-C67FA1A8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2F59C-979D-40B7-A032-36F88595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B867D-1F52-4EF9-AFA2-E6CCBB05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C95A2-929E-4B10-9FFA-3D3336E9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188-4CFD-4D8B-83CF-D90258C9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6DB8A-2C64-41F3-915F-388440A2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751F6-6297-4075-AF2B-810526EE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E9A66-F86D-4A2E-984C-BBA7047C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AE313-9A51-45F6-BF76-802716EF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E768F-6116-4BDA-B264-CF4AD6A3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1D589-05FB-4F9F-B81A-DF460687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01FB4-2ECF-4FF0-8C56-7CDF697F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5AC4-3466-4B3D-A6DA-AB2BD07C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A55C-B9FA-49E2-87E2-DE7B3B00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ED600-4DFE-4169-B8CD-A63CBB8E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107-5B1B-4A63-B15A-824B257D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D5CA-9216-4337-AB8F-40B81DC7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FAFFD-9FF4-454C-85DC-93B0772C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8356A-12D5-4870-B202-FEE5F253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5E4F-03AE-410E-9C6B-681F80B8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B1E3C-4EBF-4074-955D-4B0E16BF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6C22-A2CD-4F8B-9A6E-E446BB0B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640AC-4C67-42C5-B799-6F36B9E0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A5C2-B9B7-431B-916C-82C861F9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D7A1-2061-4BE7-943F-214A672C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D7C-2278-4DEC-97E4-13ED0ED4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EC8-C792-436C-B64E-84F04F15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A7F-2AE5-4170-9120-3C516D84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E4A-3A3C-4CBC-A743-A848B82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C50-00B9-4734-8C3C-695B7614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AF7F-4C6B-416A-9A34-AFE0D969FC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8E09-C3A7-4196-ACE9-6777FE79B0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48B1-7201-451C-A8B7-9C587B7B20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9A1A-4DCB-4A77-9786-6262CAED53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900" spc="-1" strike="noStrike">
                <a:solidFill>
                  <a:srgbClr val="002060"/>
                </a:solidFill>
                <a:latin typeface="Arial Black"/>
              </a:rPr>
              <a:t>Ученик и его нравственность</a:t>
            </a:r>
            <a:endParaRPr b="0" lang="en-US" sz="5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 Black"/>
              </a:rPr>
              <a:t>Руководитель проект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 Black"/>
              </a:rPr>
              <a:t>Поскотина Василиса Владимиро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 Black"/>
              </a:rPr>
              <a:t>МОУ СОШ №11 г. Канс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одержание деятель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представления об особенностях своего «Я»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авовые знания,  гражданская ответственность, национальная горд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циальная роль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ын, дочь;брат, сестра;муж, же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явление активности   в  решении экологических проб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 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хема оценки результатов    программ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2438280"/>
          <a:ext cx="6705720" cy="3840120"/>
        </p:xfrm>
        <a:graphic>
          <a:graphicData uri="http://schemas.openxmlformats.org/drawingml/2006/table">
            <a:tbl>
              <a:tblPr/>
              <a:tblGrid>
                <a:gridCol w="2235240"/>
                <a:gridCol w="2235240"/>
                <a:gridCol w="22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Эксперимента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онтро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рвый 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уч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обуча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торой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езультативность проек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результатам пре-теста сделан вывод, что школьники очень часто сомневаются в правильности выбранного решения, так как недостаточно информированы 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равственности тех или иных поступков в равной мере обе группы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ыводы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результатам пост-теста выявлено что ребята, изучающие предложенные им материалы, более четко и вразумительно отвечают на поставленные вопросы, то есть у них начинает  формироваться понятие нравственности, более четкие, обоснованные ответы. У группы,  не изучавшей программу проекта, ответы остались на прежнем уровн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ключение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же незначительное в количественном выражении улучшение результатов пост-теста по сравнению с пре-тестом является объективным свидетельством эффективнос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веденного превентивного обучения, что доказывает, скорее всего, достоверность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менений в знаниях подрост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Актуальность проек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ллективу детей  предлагается  выбор принятия или не принятия какого-либо  решения, участвовать им в предложенном исследовании или не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дростки образуют две  группы – экспериментальная и контрольная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ая или группа сравнения – группа учащихся, которая в промежутках между опросами НЕ изучает  программу проект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фера применения проек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ллектив       учащих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значение проек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воспитание нравственной культуры, основанной на самовоспитании 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вершенствовани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принятие учащимися нравственных ценностей и обусловленных ими принципов поведения в систему собственных ценностей, знаний и убеждений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осознание учащимися необходимости проявления нравственного поведения в самых   непредвиденных ситуациях, сохранение чувства собственного достоинства и уважение   достоинства других людей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практическое применение нравственных знаний и умений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проекция сегодняшнего, нравственного облика человека на его будущее близких и родных ему люд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облема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ние трудностей и проблем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я нравственности в поведени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школь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чностные прототип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юди, внесшие нравственный вклад в развитие страны и мира, герои войны и труда, хранители нравственных традиций поколений, демонстрирующие положительный пример нравственного поведения в самых различных ситуация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Нравственная история страны и мир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мать Терез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Юрий Гагарин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Петр Первый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спасатели Чернобыльской АЭС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спортсмены-олимпийцы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приемные матер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воины – интернационалисты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представители МЧ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ханизм реализации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1 эта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ознакомление с концепцией проекта, пре-тест или первичный опрос учащихся, измерение знаний,  установок до начала программ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2 этап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 беседы с группой учащихся ( в течение времени реализации проекта , входящих в экспериментальную группу, изучение детьми литературы, предложенной  для осмысления, анализа и последующего обсужд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3 эта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ост-тест, или повторный опрос учащихся, - изменение знаний, установок и поведения учащихся по окончании программы проекта, подведение итогов обуч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График выполнения работ по программе проект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мы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е отношения к человек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е  отношения к Отечеств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е отношения к семь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е отношения к  природ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59:22Z</dcterms:created>
  <dc:creator>котенок</dc:creator>
  <dc:description/>
  <dc:language>en-US</dc:language>
  <cp:lastModifiedBy>1</cp:lastModifiedBy>
  <dcterms:modified xsi:type="dcterms:W3CDTF">2010-10-25T16:00:11Z</dcterms:modified>
  <cp:revision>7</cp:revision>
  <dc:subject/>
  <dc:title>Ученик и его нравственность</dc:title>
</cp:coreProperties>
</file>