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0BA-04C4-4505-9ACF-2A52964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E1F-76AD-42CF-A520-FC858860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FE2-195C-4C44-B6E7-CD52864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8C5-81F7-4E4D-BD49-562B1658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5930-EB35-4351-953A-41F1DDBD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C3A7-5E17-4F98-AE0A-5404D70C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30AD-7079-48A3-A94E-BF840D8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8D93-FF90-4643-BDEE-EB0504C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A74E-456A-4792-AD20-906632A6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85EE-09EC-4698-8DAD-E7DDBD49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6FBB-7C28-4312-B950-E37C742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DC6-9681-48FC-B547-61097658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64E-3E7D-473D-AB56-D0F5A72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E41-EF8B-4DB8-88F2-42C23FC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AA1-BD7C-4273-B92A-1BB8B3D2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DB95-789B-481B-8FD9-471BB68A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D7F7-BF8C-4253-8727-62278B70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B8A54-0C90-4D47-9A20-ABF6C45B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0BA0F-5B0E-4C4B-987A-7B3F088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D198A-42A8-4CDF-AE13-8002351B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3E36-F661-47BA-ADEF-823206F0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45945-42E1-4D61-8FEE-D06CEFF5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660-DD98-4601-91FF-871F7C4A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0F6F9-C0B0-43AC-ADD3-629F517C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1EE16-7FA9-4E9C-B15B-F792C42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77877-D24A-44C0-BDF1-C0A961A8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AC977-6A11-423E-969B-D5D5F6E7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68A7F-43C1-40F9-9DDE-B45197C1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DFE01-B2D5-404B-A09D-3090C17A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E1E56-6F2B-4892-84BB-BBD18074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B986-1E1F-47D9-843E-B1749CCF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343F-10D8-402B-9DAA-A112CAF1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96C1-4F49-4DFE-AFAE-0448C4A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191-5DB6-40D0-BBE7-F61A79B8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CC1C-49D6-4FD6-8389-D9A18B07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33B9-1CB2-4FF2-9BE7-F08F0FA3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ED3E-A006-41EC-ABB7-55B6238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ED95-21AE-4380-9416-2D76851F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DB3F-12D0-41E3-90B3-4647905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0490-0C2D-4ED7-9C15-209B616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4154-65F1-4293-B51D-78DEC88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7D93-31B7-4514-BDC0-2285D0E5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3C1E-62C4-4AE6-AD13-A278149C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612-D6AA-4A0A-92D7-012113CA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BCD-D96C-44FC-A98E-DF94814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F57-4C08-4B9C-AB32-815559B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10D-DCCA-466F-9648-48E20082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43B-5E53-4409-8528-3FA15ED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3C4B-CE5B-4726-894B-155BAD436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FD81-96A4-4D19-8FDE-CD4CCA047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4ECA-82DF-4B35-B6B7-58E81A6E1C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CC4-E6AC-42F9-A4D7-3F7CF4FE81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2060"/>
                </a:solidFill>
                <a:latin typeface="Arial Black"/>
              </a:rPr>
              <a:t>Ученик и его нравственность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Руководитель проект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Поскотина Василиса Владимир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 Black"/>
              </a:rPr>
              <a:t>МОУ СОШ №11 г. Канс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держание деятель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представления об особенностях своего «Я»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овые знания,  гражданская ответственность, национальная горд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циальная рол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ын, дочь;брат, сестра;муж, же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ение активности   в  решении экологических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хема оценки результатов    программ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438280"/>
          <a:ext cx="6705720" cy="384012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Эксперимента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нтроль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ый 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уча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уч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торой 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езультативность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результатам пре-теста сделан вывод, что школьники очень часто сомневаются в правильности выбранного решения, так как недостаточно информированы 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равственности тех или иных поступков в равной мере обе группы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ыводы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результатам пост-теста выявлено что ребята, изучающие предложенные им материалы, более четко и вразумительно отвечают на поставленные вопросы, то есть у них начинает  формироваться понятие нравственности, более четкие, обоснованные ответы. У группы,  не изучавшей программу проекта, ответы остались на прежнем уровн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ключени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же незначительное в количественном выражении улучшение результатов пост-теста по сравнению с пре-тестом является объективным свидетельством эффективн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денного превентивного обучения, что доказывает, скорее всего, достоверн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й в знаниях подрост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Актуальность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ллективу детей  предлагается  выбор принятия или не принятия какого-либо  решения, участвовать им в предложенном исследовании или не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дростки образуют две  группы – экспериментальная и контрольная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ая или группа сравнения – группа учащихся, которая в промежутках между опросами НЕ изучает  программу проект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фера применения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ллектив       уча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значение проек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воспитание нравственной культуры, основанной на самовоспитании 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 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вершенствован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принятие учащимися нравственных ценностей и обусловленных ими принципов поведения в систему собственных ценностей, знаний и убеждени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осознание учащимися необходимости проявления нравственного поведения в самых   непредвиденных ситуациях, сохранение чувства собственного достоинства и уважение   достоинства других люде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практическое применение нравственных знаний и умени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проекция сегодняшнего, нравственного облика человека на его будущее близких и родных ему люд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облема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ние трудностей и проблем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я нравственности в поведе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чностные прототип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юди, внесшие нравственный вклад в развитие страны и мира, герои войны и труда, хранители нравственных традиций поколений, демонстрирующие положительный пример нравственного поведения в самых различных ситуац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равственная история страны и мир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мать Терез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Юрий Гагарин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етр Первый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пасатели Чернобыльской АЭС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портсмены-олимпийцы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иемные матер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воины – интернационалисты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едставители МЧ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ханизм реализаци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ознакомление с концепцией проекта, пре-тест или первичный опрос учащихся, измерение знаний,  установок до начала программ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2 этап 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 беседы с группой учащихся ( в течение времени реализации проекта , входящих в экспериментальную группу, изучение детьми литературы, предложенной  для осмысления, анализа и последующего обсужд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ст-тест, или повторный опрос учащихся, - изменение знаний, установок и поведения учащихся по окончании программы проекта, подведение итогов обуч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График выполнения работ по программе проект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м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челове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 отношения к Отечеств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семь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отношения к  природ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59:22Z</dcterms:created>
  <dc:creator>котенок</dc:creator>
  <dc:description/>
  <dc:language>en-US</dc:language>
  <cp:lastModifiedBy>1</cp:lastModifiedBy>
  <dcterms:modified xsi:type="dcterms:W3CDTF">2010-10-25T16:00:11Z</dcterms:modified>
  <cp:revision>7</cp:revision>
  <dc:subject/>
  <dc:title>Ученик и его нравственность</dc:title>
</cp:coreProperties>
</file>