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F44-3B51-4961-926E-60D0FD87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4F8-C9FB-40CA-B5C2-4A174B2E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F5D-BC44-42F1-AAD4-131CE560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791-0923-4688-8AB3-402EA327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3B84-BCC1-41C7-88C3-F48A304F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6C44-45A1-4CB5-A7FD-D78E324C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371A-7521-4B85-92B9-0ACA1AC9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7E5A-CC64-4CDF-BF4C-4914E0C7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48F5-A6E5-45B8-AB25-604B1615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6F58-5B07-409F-B723-D23B6205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444E-3716-4DF1-8068-3D9B0883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4ED-5A60-4749-BE45-760A0FCE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FA76-A211-4E74-B585-D2231917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5376-F838-4C29-B96E-B308334C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974C-6596-491D-BB00-35F40DFB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2AF3-A547-4AE5-A2E3-9CAC0B25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CF14-39DD-4579-A847-BD981DFB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5B13-41DB-4C67-90F0-48ED1D92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3C7-C316-44CD-85AC-FE8AA136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D2C-E755-46B2-9F68-496B938A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AA4-C3F3-4EDA-A5F8-DF82F093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62C-EA86-4169-AF9A-63A055C7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4A6-8F73-47A0-A914-BFDC3340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528-22BD-4798-8332-188D5A01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73A1-CDEE-41BA-96F4-672DAC6A53D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5EB6-1E68-416F-B27A-1A7902BF935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7d47d"/>
                </a:solidFill>
                <a:latin typeface="Arial"/>
              </a:rPr>
              <a:t>Пуговица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50560" y="3860280"/>
            <a:ext cx="7777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Кто придумал пуговицу?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Для чего?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4895640" cy="579132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1908000" y="476280"/>
            <a:ext cx="3888000" cy="5398920"/>
            <a:chOff x="1908000" y="476280"/>
            <a:chExt cx="3888000" cy="5398920"/>
          </a:xfrm>
        </p:grpSpPr>
        <p:sp>
          <p:nvSpPr>
            <p:cNvPr id="214" name=""/>
            <p:cNvSpPr/>
            <p:nvPr/>
          </p:nvSpPr>
          <p:spPr>
            <a:xfrm flipV="1" rot="10800000">
              <a:off x="1908000" y="1627560"/>
              <a:ext cx="3888000" cy="28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пех в делах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8000" y="3357720"/>
              <a:ext cx="3888000" cy="35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величение друзей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08000" y="3860640"/>
              <a:ext cx="3888000" cy="35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овышение благосостоян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08000" y="4437000"/>
              <a:ext cx="3888000" cy="35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Достижение гармонии с окружающим миром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8000" y="5013360"/>
              <a:ext cx="3888000" cy="35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пех в творчестве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08000" y="2781360"/>
              <a:ext cx="3888000" cy="35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Красота и здоровье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 rot="10800000">
              <a:off x="1908000" y="476280"/>
              <a:ext cx="388800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крепление дружеских связей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 rot="10800000">
              <a:off x="1908000" y="1052640"/>
              <a:ext cx="388800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азвитие интуици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08000" y="5516640"/>
              <a:ext cx="3888000" cy="35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Большая любов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08000" y="2205000"/>
              <a:ext cx="3888000" cy="35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ривелечение денег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75614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3640" cy="2927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4000" y="3573360"/>
            <a:ext cx="7272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читается, что пуговицы в современном виде были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обретены в XV веке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вропейские рыцари привезли их идею с Ближнего Восток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чем долгое время пуговицами пользовалис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енно мужчины. Женщины же продолжали закалыва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булавками свою одежду. И только в конце XIX век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енщины оценили пуговицу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XIX веке, когда в моду вошли блузки, жакеты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альто без пуговиц обходиться стало просто не возможно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227640" y="333360"/>
            <a:ext cx="2695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327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говица, как и любая застежка, пришедшая к нам из древности, имеет массу функция. Кроме застегивания одежды пуговица, как и булавка, является декоративным элементом. Пуговицы выполняли из драгоценных металлов и камней, из кости, дерева. Во времена крестовых походов, например, продавали пуговицы, якобы сделанные из древесины мамврийского дуба, под которым некогда отдыхал Иисус Христос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40360" y="18900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11280" y="4941720"/>
            <a:ext cx="2808360" cy="1721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284720" y="4941720"/>
            <a:ext cx="301788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говица могла запросто стоить в несколько раз дороже одежды. Пуговица была скорее напоминанием о социальном положении человека. Известно, например, что французский король Франциск I как-то заказал ювелиру 13600 маленьких золотых пуговиц для отделки лишь одного бархатного костюм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оме того, часто можно видеть пуговицу с символикой того или иного рода или знаками отличия. . До сих пор на пуговицах, застегивающих военную форму, изображен герб, или символ рода войск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3851280" cy="2805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643280" y="3933720"/>
            <a:ext cx="3822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7740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ие времена застежка была призвана не пускать злую силу к человеку. Так что и пуговица и фибула имеет еще магическое значение. В словаре Владимира Даля написано что "Пуговица - это пугалка". Она отпугивает враждебные силы. В полые пуговицы вкладывали небольшой предмет, чтобы он при ходьбе издавал звук. Пуговица была оберегом. Железные пуговицы делали разнообразных форм. Среди них преобладали шаровидные, грушевидные, яйцевидные. Они могли быть ажурными, цельными, с узором, выполненным чернью, гравировкой, со вставками цветной эмали, драгоценных или полудрагоценных камней, жемчуга, перламутра, стекла. Такие пуговицы считались большой ценностью. Их передавали по наследству, включали в состав приданого, использовали как подвески к серьгам, в качестве бусин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3520" y="259920"/>
            <a:ext cx="40212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да на пуговицы бывает самой различной; оказывается, что можно не только пришивать пуговицы различной формы и величины для скрепления одежды. Несколько лет назад существовала мода на так называемый пуговичный орнамент: пуговицы пришивали на одежду как дополнительное украшение. Некоторые модники даже полагали, что чем больше пришьешь пуговиц, то тем более стильно ты будешь одет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39211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066920" cy="6121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3824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2:49:48Z</dcterms:created>
  <dc:creator>Виктория</dc:creator>
  <dc:description/>
  <dc:language>en-US</dc:language>
  <cp:lastModifiedBy>Виктория</cp:lastModifiedBy>
  <dcterms:modified xsi:type="dcterms:W3CDTF">2009-12-01T03:17:24Z</dcterms:modified>
  <cp:revision>2</cp:revision>
  <dc:subject/>
  <dc:title>Пуговица</dc:title>
</cp:coreProperties>
</file>