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1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BE33-CB8B-4835-BCCC-8CF8CA383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7401-F6F1-4D39-B4EF-B05F71BDB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290C-F757-4474-9C6D-B7C03BE75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C760-D5CF-460C-BF3E-D5130F4CA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DAD89-7F55-4744-B00C-A04D92521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4D355-84BF-4D60-9B73-7DCFC5B70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5D399-4E50-45BD-B2FF-B73910F0C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8ADEC-66D7-43E6-A8C8-F7B3E3E14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C9018-4376-40FB-9BD5-1F3DBF1C6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D8584-CDDA-496B-9725-E375024BB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C56C3-5FB3-4026-A69D-F62D3AAC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C915-A0CF-462A-92C2-65E1CE4DA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16E6C-7A67-41F9-BD55-1E6104F5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B72E5-B591-4A0B-9FFE-DF901889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A6838-D3ED-45CF-B0F4-3537B361E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13B82-D753-4267-B958-43AAF05F1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53A3F-F1DB-4D47-98F0-CC2B717BC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1F27-0066-4B29-AA29-C3739A4E7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5403-C2EB-43EC-8E37-DC6E7EC20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F9EC-FAF2-4192-9991-D44A46ECD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13D8-F354-422B-90E5-4DFC4A34A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7AAD-5564-451C-8FFE-26B07000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2FF7-522B-4ED4-BAF4-985E0C5B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5BE6-8B17-4B77-9A21-2BCA040B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25574-FFA0-4633-B4A6-BE1BA5E06869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33030-5402-47DB-9B0C-D34895A20818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7d47d"/>
                </a:solidFill>
                <a:latin typeface="Arial"/>
              </a:rPr>
              <a:t>Пуговица</a:t>
            </a:r>
            <a:endParaRPr b="0" lang="en-US" sz="7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250560" y="3860280"/>
            <a:ext cx="7777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Кто придумал пуговицу? 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Для чего?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4895640" cy="5791320"/>
          </a:xfrm>
          <a:prstGeom prst="rect">
            <a:avLst/>
          </a:prstGeom>
          <a:ln w="0">
            <a:noFill/>
          </a:ln>
        </p:spPr>
      </p:pic>
      <p:grpSp>
        <p:nvGrpSpPr>
          <p:cNvPr id="213" name=""/>
          <p:cNvGrpSpPr/>
          <p:nvPr/>
        </p:nvGrpSpPr>
        <p:grpSpPr>
          <a:xfrm>
            <a:off x="1908000" y="476280"/>
            <a:ext cx="3888000" cy="5398920"/>
            <a:chOff x="1908000" y="476280"/>
            <a:chExt cx="3888000" cy="5398920"/>
          </a:xfrm>
        </p:grpSpPr>
        <p:sp>
          <p:nvSpPr>
            <p:cNvPr id="214" name=""/>
            <p:cNvSpPr/>
            <p:nvPr/>
          </p:nvSpPr>
          <p:spPr>
            <a:xfrm flipV="1" rot="10800000">
              <a:off x="1908000" y="1627560"/>
              <a:ext cx="3888000" cy="28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Успех в делах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08000" y="3357720"/>
              <a:ext cx="3888000" cy="358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Увеличение друзей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908000" y="3860640"/>
              <a:ext cx="3888000" cy="358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Повышение благосостояния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908000" y="4437000"/>
              <a:ext cx="3888000" cy="358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Достижение гармонии с окружающим миром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08000" y="5013360"/>
              <a:ext cx="3888000" cy="358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Успех в творчестве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08000" y="2781360"/>
              <a:ext cx="3888000" cy="358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Красота и здоровье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 rot="10800000">
              <a:off x="1908000" y="476280"/>
              <a:ext cx="3888000" cy="28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Укрепление дружеских связей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 rot="10800000">
              <a:off x="1908000" y="1052640"/>
              <a:ext cx="3888000" cy="28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Развитие интуиции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08000" y="5516640"/>
              <a:ext cx="3888000" cy="358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Большая любовь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908000" y="2205000"/>
              <a:ext cx="3888000" cy="358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Привелечение денег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756144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5903640" cy="29275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24000" y="3573360"/>
            <a:ext cx="727236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читается, что пуговицы в современном виде были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зобретены в XV веке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Европейские рыцари привезли их идею с Ближнего Востока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ичем долгое время пуговицами пользовались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менно мужчины. Женщины же продолжали закалывать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 булавками свою одежду. И только в конце XIX века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женщины оценили пуговицу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 XIX веке, когда в моду вошли блузки, жакеты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альто без пуговиц обходиться стало просто не возможно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6227640" y="333360"/>
            <a:ext cx="269568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5327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уговица, как и любая застежка, пришедшая к нам из древности, имеет массу функция. Кроме застегивания одежды пуговица, как и булавка, является декоративным элементом. Пуговицы выполняли из драгоценных металлов и камней, из кости, дерева. Во времена крестовых походов, например, продавали пуговицы, якобы сделанные из древесины мамврийского дуба, под которым некогда отдыхал Иисус Христос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6840360" y="189000"/>
            <a:ext cx="2303640" cy="23032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5651640" y="2565360"/>
            <a:ext cx="2089080" cy="20890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611280" y="4941720"/>
            <a:ext cx="2808360" cy="17211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4284720" y="4941720"/>
            <a:ext cx="301788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250920" y="188640"/>
            <a:ext cx="73864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уговица могла запросто стоить в несколько раз дороже одежды. Пуговица была скорее напоминанием о социальном положении человека. Известно, например, что французский король Франциск I как-то заказал ювелиру 13600 маленьких золотых пуговиц для отделки лишь одного бархатного костюма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роме того, часто можно видеть пуговицу с символикой того или иного рода или знаками отличия. . До сих пор на пуговицах, застегивающих военную форму, изображен герб, или символ рода войск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395280" y="3860640"/>
            <a:ext cx="3851280" cy="28051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4643280" y="3933720"/>
            <a:ext cx="382284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774072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древние времена застежка была призвана не пускать злую силу к человеку. Так что и пуговица и фибула имеет еще магическое значение. В словаре Владимира Даля написано что "Пуговица - это пугалка". Она отпугивает враждебные силы. В полые пуговицы вкладывали небольшой предмет, чтобы он при ходьбе издавал звук. Пуговица была оберегом. Железные пуговицы делали разнообразных форм. Среди них преобладали шаровидные, грушевидные, яйцевидные. Они могли быть ажурными, цельными, с узором, выполненным чернью, гравировкой, со вставками цветной эмали, драгоценных или полудрагоценных камней, жемчуга, перламутра, стекла. Такие пуговицы считались большой ценностью. Их передавали по наследству, включали в состав приданого, использовали как подвески к серьгам, в качестве бусин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263520" y="259920"/>
            <a:ext cx="40212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ода на пуговицы бывает самой различной; оказывается, что можно не только пришивать пуговицы различной формы и величины для скрепления одежды. Несколько лет назад существовала мода на так называемый пуговичный орнамент: пуговицы пришивали на одежду как дополнительное украшение. Некоторые модники даже полагали, что чем больше пришьешь пуговиц, то тем более стильно ты будешь одет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500720" y="333360"/>
            <a:ext cx="39211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066920" cy="61214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4643280" y="1268280"/>
            <a:ext cx="382428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02:49:48Z</dcterms:created>
  <dc:creator>Виктория</dc:creator>
  <dc:description/>
  <dc:language>en-US</dc:language>
  <cp:lastModifiedBy>Виктория</cp:lastModifiedBy>
  <dcterms:modified xsi:type="dcterms:W3CDTF">2009-12-01T03:17:24Z</dcterms:modified>
  <cp:revision>2</cp:revision>
  <dc:subject/>
  <dc:title>Пуговица</dc:title>
</cp:coreProperties>
</file>