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5.png" ContentType="image/png"/>
  <Override PartName="/ppt/media/image3.jpeg" ContentType="image/jpeg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C532-280E-4DCF-A20C-7C22F55C8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0720" y="4216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7FE5-C366-4860-AA5E-BE5262B0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43340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FECD-A9CC-47E2-8FC4-E20C68F02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07872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70636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072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07872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70636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BE0C-BD56-4C0D-AE7F-6C325E5A0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88F0-6648-4C95-8505-A8371A22A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623F-CA40-43D0-B753-0E39C1EA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B5DB-B96C-4B20-BF09-E585E700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1DF3-F4A9-4B71-B1AC-470DA9E2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1054-CCAD-4E62-A516-85393373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20840" y="334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47ED-9131-42B2-8C5B-503E66DD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FA29-83C0-48F0-A671-EC550D56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97B4-1672-4120-9C0D-4D3C3ECE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43340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B773-7588-4C05-98AB-087AB237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F94C-65B4-4C60-9238-BA0CE189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0720" y="4216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AF1F-8076-41E5-8315-D69E4BC9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43340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1182-F8AA-4591-84FD-EB7253141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7872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70636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072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7872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70636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B799-48C7-4E7C-B2D2-EE863A8BA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D259-C68C-45BC-95E8-AAFBA105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C88E-9A97-4F0B-A79A-30DAF250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D265-66D2-4F98-904D-546D1F49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20840" y="334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BE17-9B8D-4DB6-BBB3-3C5B83B5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8E47-76A0-4C36-A4E1-D19511FB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43340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D481-9BDA-410C-A902-2E87738A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54B5-AABF-4755-B30B-50D1EB53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219240" y="1622520"/>
            <a:ext cx="8800920" cy="5045040"/>
            <a:chOff x="219240" y="1622520"/>
            <a:chExt cx="8800920" cy="5045040"/>
          </a:xfrm>
        </p:grpSpPr>
        <p:grpSp>
          <p:nvGrpSpPr>
            <p:cNvPr id="1" name="Group 4"/>
            <p:cNvGrpSpPr/>
            <p:nvPr/>
          </p:nvGrpSpPr>
          <p:grpSpPr>
            <a:xfrm>
              <a:off x="219240" y="1622520"/>
              <a:ext cx="8305560" cy="150840"/>
              <a:chOff x="219240" y="1622520"/>
              <a:chExt cx="8305560" cy="150840"/>
            </a:xfrm>
          </p:grpSpPr>
          <p:sp>
            <p:nvSpPr>
              <p:cNvPr id="2" name="Freeform 2"/>
              <p:cNvSpPr/>
              <p:nvPr/>
            </p:nvSpPr>
            <p:spPr>
              <a:xfrm>
                <a:off x="219240" y="1638360"/>
                <a:ext cx="8288280" cy="135000"/>
              </a:xfrm>
              <a:custGeom>
                <a:avLst/>
                <a:gdLst/>
                <a:ahLst/>
                <a:rect l="l" t="t" r="r" b="b"/>
                <a:pathLst>
                  <a:path w="5221" h="85">
                    <a:moveTo>
                      <a:pt x="0" y="25"/>
                    </a:moveTo>
                    <a:lnTo>
                      <a:pt x="94" y="16"/>
                    </a:lnTo>
                    <a:lnTo>
                      <a:pt x="125" y="8"/>
                    </a:lnTo>
                    <a:lnTo>
                      <a:pt x="167" y="8"/>
                    </a:lnTo>
                    <a:lnTo>
                      <a:pt x="198" y="8"/>
                    </a:lnTo>
                    <a:lnTo>
                      <a:pt x="240" y="8"/>
                    </a:lnTo>
                    <a:lnTo>
                      <a:pt x="324" y="8"/>
                    </a:lnTo>
                    <a:lnTo>
                      <a:pt x="355" y="16"/>
                    </a:lnTo>
                    <a:lnTo>
                      <a:pt x="386" y="16"/>
                    </a:lnTo>
                    <a:lnTo>
                      <a:pt x="428" y="25"/>
                    </a:lnTo>
                    <a:lnTo>
                      <a:pt x="459" y="33"/>
                    </a:lnTo>
                    <a:lnTo>
                      <a:pt x="491" y="33"/>
                    </a:lnTo>
                    <a:lnTo>
                      <a:pt x="574" y="33"/>
                    </a:lnTo>
                    <a:lnTo>
                      <a:pt x="616" y="33"/>
                    </a:lnTo>
                    <a:lnTo>
                      <a:pt x="657" y="33"/>
                    </a:lnTo>
                    <a:lnTo>
                      <a:pt x="731" y="33"/>
                    </a:lnTo>
                    <a:lnTo>
                      <a:pt x="793" y="33"/>
                    </a:lnTo>
                    <a:lnTo>
                      <a:pt x="856" y="33"/>
                    </a:lnTo>
                    <a:lnTo>
                      <a:pt x="918" y="33"/>
                    </a:lnTo>
                    <a:lnTo>
                      <a:pt x="950" y="33"/>
                    </a:lnTo>
                    <a:lnTo>
                      <a:pt x="1023" y="25"/>
                    </a:lnTo>
                    <a:lnTo>
                      <a:pt x="1065" y="16"/>
                    </a:lnTo>
                    <a:lnTo>
                      <a:pt x="1107" y="0"/>
                    </a:lnTo>
                    <a:lnTo>
                      <a:pt x="1137" y="0"/>
                    </a:lnTo>
                    <a:lnTo>
                      <a:pt x="1169" y="0"/>
                    </a:lnTo>
                    <a:lnTo>
                      <a:pt x="1232" y="0"/>
                    </a:lnTo>
                    <a:lnTo>
                      <a:pt x="1273" y="8"/>
                    </a:lnTo>
                    <a:lnTo>
                      <a:pt x="1336" y="8"/>
                    </a:lnTo>
                    <a:lnTo>
                      <a:pt x="1398" y="8"/>
                    </a:lnTo>
                    <a:lnTo>
                      <a:pt x="1420" y="16"/>
                    </a:lnTo>
                    <a:lnTo>
                      <a:pt x="1483" y="16"/>
                    </a:lnTo>
                    <a:lnTo>
                      <a:pt x="1545" y="25"/>
                    </a:lnTo>
                    <a:lnTo>
                      <a:pt x="1608" y="25"/>
                    </a:lnTo>
                    <a:lnTo>
                      <a:pt x="1649" y="25"/>
                    </a:lnTo>
                    <a:lnTo>
                      <a:pt x="1691" y="25"/>
                    </a:lnTo>
                    <a:lnTo>
                      <a:pt x="1733" y="25"/>
                    </a:lnTo>
                    <a:lnTo>
                      <a:pt x="1774" y="25"/>
                    </a:lnTo>
                    <a:lnTo>
                      <a:pt x="1816" y="16"/>
                    </a:lnTo>
                    <a:lnTo>
                      <a:pt x="1900" y="16"/>
                    </a:lnTo>
                    <a:lnTo>
                      <a:pt x="1984" y="25"/>
                    </a:lnTo>
                    <a:lnTo>
                      <a:pt x="2046" y="25"/>
                    </a:lnTo>
                    <a:lnTo>
                      <a:pt x="2109" y="25"/>
                    </a:lnTo>
                    <a:lnTo>
                      <a:pt x="2171" y="25"/>
                    </a:lnTo>
                    <a:lnTo>
                      <a:pt x="2234" y="25"/>
                    </a:lnTo>
                    <a:lnTo>
                      <a:pt x="2265" y="25"/>
                    </a:lnTo>
                    <a:lnTo>
                      <a:pt x="2307" y="25"/>
                    </a:lnTo>
                    <a:lnTo>
                      <a:pt x="2390" y="25"/>
                    </a:lnTo>
                    <a:lnTo>
                      <a:pt x="2464" y="25"/>
                    </a:lnTo>
                    <a:lnTo>
                      <a:pt x="2505" y="25"/>
                    </a:lnTo>
                    <a:lnTo>
                      <a:pt x="2547" y="25"/>
                    </a:lnTo>
                    <a:lnTo>
                      <a:pt x="2589" y="25"/>
                    </a:lnTo>
                    <a:lnTo>
                      <a:pt x="2651" y="25"/>
                    </a:lnTo>
                    <a:lnTo>
                      <a:pt x="2693" y="25"/>
                    </a:lnTo>
                    <a:lnTo>
                      <a:pt x="2725" y="25"/>
                    </a:lnTo>
                    <a:lnTo>
                      <a:pt x="2756" y="25"/>
                    </a:lnTo>
                    <a:lnTo>
                      <a:pt x="2819" y="25"/>
                    </a:lnTo>
                    <a:lnTo>
                      <a:pt x="2881" y="25"/>
                    </a:lnTo>
                    <a:lnTo>
                      <a:pt x="2965" y="25"/>
                    </a:lnTo>
                    <a:lnTo>
                      <a:pt x="3006" y="33"/>
                    </a:lnTo>
                    <a:lnTo>
                      <a:pt x="3038" y="33"/>
                    </a:lnTo>
                    <a:lnTo>
                      <a:pt x="3069" y="33"/>
                    </a:lnTo>
                    <a:lnTo>
                      <a:pt x="3101" y="59"/>
                    </a:lnTo>
                    <a:lnTo>
                      <a:pt x="3131" y="84"/>
                    </a:lnTo>
                    <a:lnTo>
                      <a:pt x="3152" y="59"/>
                    </a:lnTo>
                    <a:lnTo>
                      <a:pt x="3216" y="67"/>
                    </a:lnTo>
                    <a:lnTo>
                      <a:pt x="3246" y="67"/>
                    </a:lnTo>
                    <a:lnTo>
                      <a:pt x="3288" y="59"/>
                    </a:lnTo>
                    <a:lnTo>
                      <a:pt x="3320" y="50"/>
                    </a:lnTo>
                    <a:lnTo>
                      <a:pt x="3351" y="50"/>
                    </a:lnTo>
                    <a:lnTo>
                      <a:pt x="3435" y="50"/>
                    </a:lnTo>
                    <a:lnTo>
                      <a:pt x="3539" y="50"/>
                    </a:lnTo>
                    <a:lnTo>
                      <a:pt x="3643" y="50"/>
                    </a:lnTo>
                    <a:lnTo>
                      <a:pt x="3706" y="50"/>
                    </a:lnTo>
                    <a:lnTo>
                      <a:pt x="3768" y="42"/>
                    </a:lnTo>
                    <a:lnTo>
                      <a:pt x="3810" y="33"/>
                    </a:lnTo>
                    <a:lnTo>
                      <a:pt x="3832" y="25"/>
                    </a:lnTo>
                    <a:lnTo>
                      <a:pt x="3862" y="16"/>
                    </a:lnTo>
                    <a:lnTo>
                      <a:pt x="3894" y="8"/>
                    </a:lnTo>
                    <a:lnTo>
                      <a:pt x="3957" y="8"/>
                    </a:lnTo>
                    <a:lnTo>
                      <a:pt x="3987" y="8"/>
                    </a:lnTo>
                    <a:lnTo>
                      <a:pt x="4072" y="8"/>
                    </a:lnTo>
                    <a:lnTo>
                      <a:pt x="4155" y="8"/>
                    </a:lnTo>
                    <a:lnTo>
                      <a:pt x="4186" y="8"/>
                    </a:lnTo>
                    <a:lnTo>
                      <a:pt x="4227" y="8"/>
                    </a:lnTo>
                    <a:lnTo>
                      <a:pt x="4312" y="8"/>
                    </a:lnTo>
                    <a:lnTo>
                      <a:pt x="4374" y="8"/>
                    </a:lnTo>
                    <a:lnTo>
                      <a:pt x="4405" y="25"/>
                    </a:lnTo>
                    <a:lnTo>
                      <a:pt x="4437" y="33"/>
                    </a:lnTo>
                    <a:lnTo>
                      <a:pt x="4478" y="33"/>
                    </a:lnTo>
                    <a:lnTo>
                      <a:pt x="4562" y="33"/>
                    </a:lnTo>
                    <a:lnTo>
                      <a:pt x="4624" y="33"/>
                    </a:lnTo>
                    <a:lnTo>
                      <a:pt x="4687" y="33"/>
                    </a:lnTo>
                    <a:lnTo>
                      <a:pt x="4709" y="33"/>
                    </a:lnTo>
                    <a:lnTo>
                      <a:pt x="4750" y="33"/>
                    </a:lnTo>
                    <a:lnTo>
                      <a:pt x="4792" y="33"/>
                    </a:lnTo>
                    <a:lnTo>
                      <a:pt x="4834" y="33"/>
                    </a:lnTo>
                    <a:lnTo>
                      <a:pt x="4896" y="33"/>
                    </a:lnTo>
                    <a:lnTo>
                      <a:pt x="4928" y="33"/>
                    </a:lnTo>
                    <a:lnTo>
                      <a:pt x="5000" y="33"/>
                    </a:lnTo>
                    <a:lnTo>
                      <a:pt x="5074" y="33"/>
                    </a:lnTo>
                    <a:lnTo>
                      <a:pt x="5147" y="33"/>
                    </a:lnTo>
                    <a:lnTo>
                      <a:pt x="5178" y="33"/>
                    </a:lnTo>
                    <a:lnTo>
                      <a:pt x="5220" y="50"/>
                    </a:lnTo>
                    <a:lnTo>
                      <a:pt x="5199" y="76"/>
                    </a:lnTo>
                    <a:lnTo>
                      <a:pt x="5115" y="76"/>
                    </a:lnTo>
                    <a:lnTo>
                      <a:pt x="5084" y="76"/>
                    </a:lnTo>
                    <a:lnTo>
                      <a:pt x="5000" y="67"/>
                    </a:lnTo>
                    <a:lnTo>
                      <a:pt x="4938" y="67"/>
                    </a:lnTo>
                    <a:lnTo>
                      <a:pt x="4906" y="67"/>
                    </a:lnTo>
                    <a:lnTo>
                      <a:pt x="4864" y="67"/>
                    </a:lnTo>
                    <a:lnTo>
                      <a:pt x="4792" y="67"/>
                    </a:lnTo>
                    <a:lnTo>
                      <a:pt x="4719" y="67"/>
                    </a:lnTo>
                    <a:lnTo>
                      <a:pt x="4687" y="67"/>
                    </a:lnTo>
                    <a:lnTo>
                      <a:pt x="4624" y="67"/>
                    </a:lnTo>
                    <a:lnTo>
                      <a:pt x="4583" y="67"/>
                    </a:lnTo>
                    <a:lnTo>
                      <a:pt x="4499" y="76"/>
                    </a:lnTo>
                    <a:lnTo>
                      <a:pt x="4468" y="84"/>
                    </a:lnTo>
                    <a:lnTo>
                      <a:pt x="4426" y="84"/>
                    </a:lnTo>
                    <a:lnTo>
                      <a:pt x="4395" y="84"/>
                    </a:lnTo>
                    <a:lnTo>
                      <a:pt x="4312" y="84"/>
                    </a:lnTo>
                    <a:lnTo>
                      <a:pt x="4248" y="84"/>
                    </a:lnTo>
                    <a:lnTo>
                      <a:pt x="4218" y="84"/>
                    </a:lnTo>
                    <a:lnTo>
                      <a:pt x="4113" y="76"/>
                    </a:lnTo>
                    <a:lnTo>
                      <a:pt x="4029" y="76"/>
                    </a:lnTo>
                    <a:lnTo>
                      <a:pt x="3946" y="67"/>
                    </a:lnTo>
                    <a:lnTo>
                      <a:pt x="3883" y="59"/>
                    </a:lnTo>
                    <a:lnTo>
                      <a:pt x="3852" y="59"/>
                    </a:lnTo>
                    <a:lnTo>
                      <a:pt x="3821" y="59"/>
                    </a:lnTo>
                    <a:lnTo>
                      <a:pt x="3789" y="59"/>
                    </a:lnTo>
                    <a:lnTo>
                      <a:pt x="3758" y="59"/>
                    </a:lnTo>
                    <a:lnTo>
                      <a:pt x="3675" y="59"/>
                    </a:lnTo>
                    <a:lnTo>
                      <a:pt x="3612" y="59"/>
                    </a:lnTo>
                    <a:lnTo>
                      <a:pt x="3549" y="59"/>
                    </a:lnTo>
                    <a:lnTo>
                      <a:pt x="3518" y="59"/>
                    </a:lnTo>
                    <a:lnTo>
                      <a:pt x="3486" y="76"/>
                    </a:lnTo>
                    <a:lnTo>
                      <a:pt x="3456" y="76"/>
                    </a:lnTo>
                    <a:lnTo>
                      <a:pt x="3393" y="84"/>
                    </a:lnTo>
                    <a:lnTo>
                      <a:pt x="3320" y="84"/>
                    </a:lnTo>
                    <a:lnTo>
                      <a:pt x="3236" y="84"/>
                    </a:lnTo>
                    <a:lnTo>
                      <a:pt x="3205" y="84"/>
                    </a:lnTo>
                    <a:lnTo>
                      <a:pt x="3121" y="84"/>
                    </a:lnTo>
                    <a:lnTo>
                      <a:pt x="3059" y="84"/>
                    </a:lnTo>
                    <a:lnTo>
                      <a:pt x="3027" y="84"/>
                    </a:lnTo>
                    <a:lnTo>
                      <a:pt x="2944" y="76"/>
                    </a:lnTo>
                    <a:lnTo>
                      <a:pt x="2860" y="76"/>
                    </a:lnTo>
                    <a:lnTo>
                      <a:pt x="2798" y="76"/>
                    </a:lnTo>
                    <a:lnTo>
                      <a:pt x="2714" y="76"/>
                    </a:lnTo>
                    <a:lnTo>
                      <a:pt x="2651" y="84"/>
                    </a:lnTo>
                    <a:lnTo>
                      <a:pt x="2589" y="84"/>
                    </a:lnTo>
                    <a:lnTo>
                      <a:pt x="2505" y="84"/>
                    </a:lnTo>
                    <a:lnTo>
                      <a:pt x="2474" y="76"/>
                    </a:lnTo>
                    <a:lnTo>
                      <a:pt x="2432" y="76"/>
                    </a:lnTo>
                    <a:lnTo>
                      <a:pt x="2360" y="76"/>
                    </a:lnTo>
                    <a:lnTo>
                      <a:pt x="2318" y="76"/>
                    </a:lnTo>
                    <a:lnTo>
                      <a:pt x="2254" y="76"/>
                    </a:lnTo>
                    <a:lnTo>
                      <a:pt x="2192" y="76"/>
                    </a:lnTo>
                    <a:lnTo>
                      <a:pt x="2150" y="76"/>
                    </a:lnTo>
                    <a:lnTo>
                      <a:pt x="2088" y="76"/>
                    </a:lnTo>
                    <a:lnTo>
                      <a:pt x="2056" y="67"/>
                    </a:lnTo>
                    <a:lnTo>
                      <a:pt x="2014" y="59"/>
                    </a:lnTo>
                    <a:lnTo>
                      <a:pt x="1973" y="59"/>
                    </a:lnTo>
                    <a:lnTo>
                      <a:pt x="1889" y="59"/>
                    </a:lnTo>
                    <a:lnTo>
                      <a:pt x="1859" y="59"/>
                    </a:lnTo>
                    <a:lnTo>
                      <a:pt x="1837" y="67"/>
                    </a:lnTo>
                    <a:lnTo>
                      <a:pt x="1774" y="76"/>
                    </a:lnTo>
                    <a:lnTo>
                      <a:pt x="1743" y="84"/>
                    </a:lnTo>
                    <a:lnTo>
                      <a:pt x="1660" y="76"/>
                    </a:lnTo>
                    <a:lnTo>
                      <a:pt x="1628" y="76"/>
                    </a:lnTo>
                    <a:lnTo>
                      <a:pt x="1545" y="84"/>
                    </a:lnTo>
                    <a:lnTo>
                      <a:pt x="1513" y="84"/>
                    </a:lnTo>
                    <a:lnTo>
                      <a:pt x="1483" y="84"/>
                    </a:lnTo>
                    <a:lnTo>
                      <a:pt x="1451" y="59"/>
                    </a:lnTo>
                    <a:lnTo>
                      <a:pt x="1409" y="50"/>
                    </a:lnTo>
                    <a:lnTo>
                      <a:pt x="1336" y="50"/>
                    </a:lnTo>
                    <a:lnTo>
                      <a:pt x="1294" y="59"/>
                    </a:lnTo>
                    <a:lnTo>
                      <a:pt x="1211" y="59"/>
                    </a:lnTo>
                    <a:lnTo>
                      <a:pt x="1127" y="67"/>
                    </a:lnTo>
                    <a:lnTo>
                      <a:pt x="1023" y="67"/>
                    </a:lnTo>
                    <a:lnTo>
                      <a:pt x="960" y="67"/>
                    </a:lnTo>
                    <a:lnTo>
                      <a:pt x="876" y="67"/>
                    </a:lnTo>
                    <a:lnTo>
                      <a:pt x="846" y="67"/>
                    </a:lnTo>
                    <a:lnTo>
                      <a:pt x="762" y="76"/>
                    </a:lnTo>
                    <a:lnTo>
                      <a:pt x="699" y="76"/>
                    </a:lnTo>
                    <a:lnTo>
                      <a:pt x="668" y="59"/>
                    </a:lnTo>
                    <a:lnTo>
                      <a:pt x="636" y="42"/>
                    </a:lnTo>
                    <a:lnTo>
                      <a:pt x="606" y="42"/>
                    </a:lnTo>
                    <a:lnTo>
                      <a:pt x="543" y="42"/>
                    </a:lnTo>
                    <a:lnTo>
                      <a:pt x="521" y="42"/>
                    </a:lnTo>
                    <a:lnTo>
                      <a:pt x="491" y="50"/>
                    </a:lnTo>
                    <a:lnTo>
                      <a:pt x="459" y="50"/>
                    </a:lnTo>
                    <a:lnTo>
                      <a:pt x="428" y="50"/>
                    </a:lnTo>
                    <a:lnTo>
                      <a:pt x="324" y="50"/>
                    </a:lnTo>
                    <a:lnTo>
                      <a:pt x="292" y="50"/>
                    </a:lnTo>
                    <a:lnTo>
                      <a:pt x="250" y="50"/>
                    </a:lnTo>
                    <a:lnTo>
                      <a:pt x="219" y="50"/>
                    </a:lnTo>
                    <a:lnTo>
                      <a:pt x="135" y="50"/>
                    </a:lnTo>
                    <a:lnTo>
                      <a:pt x="52" y="50"/>
                    </a:lnTo>
                    <a:lnTo>
                      <a:pt x="0" y="2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8f8f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" name="Freeform 3"/>
              <p:cNvSpPr/>
              <p:nvPr/>
            </p:nvSpPr>
            <p:spPr>
              <a:xfrm>
                <a:off x="236520" y="1622520"/>
                <a:ext cx="8288280" cy="135000"/>
              </a:xfrm>
              <a:custGeom>
                <a:avLst/>
                <a:gdLst/>
                <a:ahLst/>
                <a:rect l="l" t="t" r="r" b="b"/>
                <a:pathLst>
                  <a:path w="5221" h="85">
                    <a:moveTo>
                      <a:pt x="0" y="25"/>
                    </a:moveTo>
                    <a:lnTo>
                      <a:pt x="94" y="16"/>
                    </a:lnTo>
                    <a:lnTo>
                      <a:pt x="125" y="8"/>
                    </a:lnTo>
                    <a:lnTo>
                      <a:pt x="167" y="8"/>
                    </a:lnTo>
                    <a:lnTo>
                      <a:pt x="198" y="8"/>
                    </a:lnTo>
                    <a:lnTo>
                      <a:pt x="240" y="8"/>
                    </a:lnTo>
                    <a:lnTo>
                      <a:pt x="324" y="8"/>
                    </a:lnTo>
                    <a:lnTo>
                      <a:pt x="355" y="16"/>
                    </a:lnTo>
                    <a:lnTo>
                      <a:pt x="386" y="16"/>
                    </a:lnTo>
                    <a:lnTo>
                      <a:pt x="428" y="25"/>
                    </a:lnTo>
                    <a:lnTo>
                      <a:pt x="459" y="33"/>
                    </a:lnTo>
                    <a:lnTo>
                      <a:pt x="491" y="33"/>
                    </a:lnTo>
                    <a:lnTo>
                      <a:pt x="574" y="33"/>
                    </a:lnTo>
                    <a:lnTo>
                      <a:pt x="616" y="33"/>
                    </a:lnTo>
                    <a:lnTo>
                      <a:pt x="657" y="33"/>
                    </a:lnTo>
                    <a:lnTo>
                      <a:pt x="731" y="33"/>
                    </a:lnTo>
                    <a:lnTo>
                      <a:pt x="793" y="33"/>
                    </a:lnTo>
                    <a:lnTo>
                      <a:pt x="856" y="33"/>
                    </a:lnTo>
                    <a:lnTo>
                      <a:pt x="918" y="33"/>
                    </a:lnTo>
                    <a:lnTo>
                      <a:pt x="950" y="33"/>
                    </a:lnTo>
                    <a:lnTo>
                      <a:pt x="1023" y="25"/>
                    </a:lnTo>
                    <a:lnTo>
                      <a:pt x="1065" y="16"/>
                    </a:lnTo>
                    <a:lnTo>
                      <a:pt x="1107" y="0"/>
                    </a:lnTo>
                    <a:lnTo>
                      <a:pt x="1137" y="0"/>
                    </a:lnTo>
                    <a:lnTo>
                      <a:pt x="1169" y="0"/>
                    </a:lnTo>
                    <a:lnTo>
                      <a:pt x="1232" y="0"/>
                    </a:lnTo>
                    <a:lnTo>
                      <a:pt x="1273" y="8"/>
                    </a:lnTo>
                    <a:lnTo>
                      <a:pt x="1336" y="8"/>
                    </a:lnTo>
                    <a:lnTo>
                      <a:pt x="1398" y="8"/>
                    </a:lnTo>
                    <a:lnTo>
                      <a:pt x="1420" y="16"/>
                    </a:lnTo>
                    <a:lnTo>
                      <a:pt x="1483" y="16"/>
                    </a:lnTo>
                    <a:lnTo>
                      <a:pt x="1545" y="25"/>
                    </a:lnTo>
                    <a:lnTo>
                      <a:pt x="1608" y="25"/>
                    </a:lnTo>
                    <a:lnTo>
                      <a:pt x="1649" y="25"/>
                    </a:lnTo>
                    <a:lnTo>
                      <a:pt x="1691" y="25"/>
                    </a:lnTo>
                    <a:lnTo>
                      <a:pt x="1733" y="25"/>
                    </a:lnTo>
                    <a:lnTo>
                      <a:pt x="1774" y="25"/>
                    </a:lnTo>
                    <a:lnTo>
                      <a:pt x="1816" y="16"/>
                    </a:lnTo>
                    <a:lnTo>
                      <a:pt x="1900" y="16"/>
                    </a:lnTo>
                    <a:lnTo>
                      <a:pt x="1984" y="25"/>
                    </a:lnTo>
                    <a:lnTo>
                      <a:pt x="2046" y="25"/>
                    </a:lnTo>
                    <a:lnTo>
                      <a:pt x="2109" y="25"/>
                    </a:lnTo>
                    <a:lnTo>
                      <a:pt x="2171" y="25"/>
                    </a:lnTo>
                    <a:lnTo>
                      <a:pt x="2234" y="25"/>
                    </a:lnTo>
                    <a:lnTo>
                      <a:pt x="2265" y="25"/>
                    </a:lnTo>
                    <a:lnTo>
                      <a:pt x="2307" y="25"/>
                    </a:lnTo>
                    <a:lnTo>
                      <a:pt x="2390" y="25"/>
                    </a:lnTo>
                    <a:lnTo>
                      <a:pt x="2464" y="25"/>
                    </a:lnTo>
                    <a:lnTo>
                      <a:pt x="2505" y="25"/>
                    </a:lnTo>
                    <a:lnTo>
                      <a:pt x="2547" y="25"/>
                    </a:lnTo>
                    <a:lnTo>
                      <a:pt x="2589" y="25"/>
                    </a:lnTo>
                    <a:lnTo>
                      <a:pt x="2651" y="25"/>
                    </a:lnTo>
                    <a:lnTo>
                      <a:pt x="2693" y="25"/>
                    </a:lnTo>
                    <a:lnTo>
                      <a:pt x="2725" y="25"/>
                    </a:lnTo>
                    <a:lnTo>
                      <a:pt x="2756" y="25"/>
                    </a:lnTo>
                    <a:lnTo>
                      <a:pt x="2819" y="25"/>
                    </a:lnTo>
                    <a:lnTo>
                      <a:pt x="2881" y="25"/>
                    </a:lnTo>
                    <a:lnTo>
                      <a:pt x="2965" y="25"/>
                    </a:lnTo>
                    <a:lnTo>
                      <a:pt x="3006" y="33"/>
                    </a:lnTo>
                    <a:lnTo>
                      <a:pt x="3038" y="33"/>
                    </a:lnTo>
                    <a:lnTo>
                      <a:pt x="3069" y="33"/>
                    </a:lnTo>
                    <a:lnTo>
                      <a:pt x="3101" y="59"/>
                    </a:lnTo>
                    <a:lnTo>
                      <a:pt x="3131" y="84"/>
                    </a:lnTo>
                    <a:lnTo>
                      <a:pt x="3152" y="59"/>
                    </a:lnTo>
                    <a:lnTo>
                      <a:pt x="3216" y="67"/>
                    </a:lnTo>
                    <a:lnTo>
                      <a:pt x="3246" y="67"/>
                    </a:lnTo>
                    <a:lnTo>
                      <a:pt x="3288" y="59"/>
                    </a:lnTo>
                    <a:lnTo>
                      <a:pt x="3320" y="50"/>
                    </a:lnTo>
                    <a:lnTo>
                      <a:pt x="3351" y="50"/>
                    </a:lnTo>
                    <a:lnTo>
                      <a:pt x="3435" y="50"/>
                    </a:lnTo>
                    <a:lnTo>
                      <a:pt x="3539" y="50"/>
                    </a:lnTo>
                    <a:lnTo>
                      <a:pt x="3643" y="50"/>
                    </a:lnTo>
                    <a:lnTo>
                      <a:pt x="3706" y="50"/>
                    </a:lnTo>
                    <a:lnTo>
                      <a:pt x="3768" y="42"/>
                    </a:lnTo>
                    <a:lnTo>
                      <a:pt x="3810" y="33"/>
                    </a:lnTo>
                    <a:lnTo>
                      <a:pt x="3832" y="25"/>
                    </a:lnTo>
                    <a:lnTo>
                      <a:pt x="3862" y="16"/>
                    </a:lnTo>
                    <a:lnTo>
                      <a:pt x="3894" y="8"/>
                    </a:lnTo>
                    <a:lnTo>
                      <a:pt x="3957" y="8"/>
                    </a:lnTo>
                    <a:lnTo>
                      <a:pt x="3987" y="8"/>
                    </a:lnTo>
                    <a:lnTo>
                      <a:pt x="4072" y="8"/>
                    </a:lnTo>
                    <a:lnTo>
                      <a:pt x="4155" y="8"/>
                    </a:lnTo>
                    <a:lnTo>
                      <a:pt x="4186" y="8"/>
                    </a:lnTo>
                    <a:lnTo>
                      <a:pt x="4227" y="8"/>
                    </a:lnTo>
                    <a:lnTo>
                      <a:pt x="4312" y="8"/>
                    </a:lnTo>
                    <a:lnTo>
                      <a:pt x="4374" y="8"/>
                    </a:lnTo>
                    <a:lnTo>
                      <a:pt x="4405" y="25"/>
                    </a:lnTo>
                    <a:lnTo>
                      <a:pt x="4437" y="33"/>
                    </a:lnTo>
                    <a:lnTo>
                      <a:pt x="4478" y="33"/>
                    </a:lnTo>
                    <a:lnTo>
                      <a:pt x="4562" y="33"/>
                    </a:lnTo>
                    <a:lnTo>
                      <a:pt x="4624" y="33"/>
                    </a:lnTo>
                    <a:lnTo>
                      <a:pt x="4687" y="33"/>
                    </a:lnTo>
                    <a:lnTo>
                      <a:pt x="4709" y="33"/>
                    </a:lnTo>
                    <a:lnTo>
                      <a:pt x="4750" y="33"/>
                    </a:lnTo>
                    <a:lnTo>
                      <a:pt x="4792" y="33"/>
                    </a:lnTo>
                    <a:lnTo>
                      <a:pt x="4834" y="33"/>
                    </a:lnTo>
                    <a:lnTo>
                      <a:pt x="4896" y="33"/>
                    </a:lnTo>
                    <a:lnTo>
                      <a:pt x="4928" y="33"/>
                    </a:lnTo>
                    <a:lnTo>
                      <a:pt x="5000" y="33"/>
                    </a:lnTo>
                    <a:lnTo>
                      <a:pt x="5074" y="33"/>
                    </a:lnTo>
                    <a:lnTo>
                      <a:pt x="5147" y="33"/>
                    </a:lnTo>
                    <a:lnTo>
                      <a:pt x="5178" y="33"/>
                    </a:lnTo>
                    <a:lnTo>
                      <a:pt x="5220" y="50"/>
                    </a:lnTo>
                    <a:lnTo>
                      <a:pt x="5199" y="76"/>
                    </a:lnTo>
                    <a:lnTo>
                      <a:pt x="5115" y="76"/>
                    </a:lnTo>
                    <a:lnTo>
                      <a:pt x="5084" y="76"/>
                    </a:lnTo>
                    <a:lnTo>
                      <a:pt x="5000" y="67"/>
                    </a:lnTo>
                    <a:lnTo>
                      <a:pt x="4938" y="67"/>
                    </a:lnTo>
                    <a:lnTo>
                      <a:pt x="4906" y="67"/>
                    </a:lnTo>
                    <a:lnTo>
                      <a:pt x="4864" y="67"/>
                    </a:lnTo>
                    <a:lnTo>
                      <a:pt x="4792" y="67"/>
                    </a:lnTo>
                    <a:lnTo>
                      <a:pt x="4719" y="67"/>
                    </a:lnTo>
                    <a:lnTo>
                      <a:pt x="4687" y="67"/>
                    </a:lnTo>
                    <a:lnTo>
                      <a:pt x="4624" y="67"/>
                    </a:lnTo>
                    <a:lnTo>
                      <a:pt x="4583" y="67"/>
                    </a:lnTo>
                    <a:lnTo>
                      <a:pt x="4499" y="76"/>
                    </a:lnTo>
                    <a:lnTo>
                      <a:pt x="4468" y="84"/>
                    </a:lnTo>
                    <a:lnTo>
                      <a:pt x="4426" y="84"/>
                    </a:lnTo>
                    <a:lnTo>
                      <a:pt x="4395" y="84"/>
                    </a:lnTo>
                    <a:lnTo>
                      <a:pt x="4312" y="84"/>
                    </a:lnTo>
                    <a:lnTo>
                      <a:pt x="4248" y="84"/>
                    </a:lnTo>
                    <a:lnTo>
                      <a:pt x="4218" y="84"/>
                    </a:lnTo>
                    <a:lnTo>
                      <a:pt x="4113" y="76"/>
                    </a:lnTo>
                    <a:lnTo>
                      <a:pt x="4029" y="76"/>
                    </a:lnTo>
                    <a:lnTo>
                      <a:pt x="3946" y="67"/>
                    </a:lnTo>
                    <a:lnTo>
                      <a:pt x="3883" y="59"/>
                    </a:lnTo>
                    <a:lnTo>
                      <a:pt x="3852" y="59"/>
                    </a:lnTo>
                    <a:lnTo>
                      <a:pt x="3821" y="59"/>
                    </a:lnTo>
                    <a:lnTo>
                      <a:pt x="3789" y="59"/>
                    </a:lnTo>
                    <a:lnTo>
                      <a:pt x="3758" y="59"/>
                    </a:lnTo>
                    <a:lnTo>
                      <a:pt x="3675" y="59"/>
                    </a:lnTo>
                    <a:lnTo>
                      <a:pt x="3612" y="59"/>
                    </a:lnTo>
                    <a:lnTo>
                      <a:pt x="3549" y="59"/>
                    </a:lnTo>
                    <a:lnTo>
                      <a:pt x="3518" y="59"/>
                    </a:lnTo>
                    <a:lnTo>
                      <a:pt x="3486" y="76"/>
                    </a:lnTo>
                    <a:lnTo>
                      <a:pt x="3456" y="76"/>
                    </a:lnTo>
                    <a:lnTo>
                      <a:pt x="3393" y="84"/>
                    </a:lnTo>
                    <a:lnTo>
                      <a:pt x="3320" y="84"/>
                    </a:lnTo>
                    <a:lnTo>
                      <a:pt x="3236" y="84"/>
                    </a:lnTo>
                    <a:lnTo>
                      <a:pt x="3205" y="84"/>
                    </a:lnTo>
                    <a:lnTo>
                      <a:pt x="3121" y="84"/>
                    </a:lnTo>
                    <a:lnTo>
                      <a:pt x="3059" y="84"/>
                    </a:lnTo>
                    <a:lnTo>
                      <a:pt x="3027" y="84"/>
                    </a:lnTo>
                    <a:lnTo>
                      <a:pt x="2944" y="76"/>
                    </a:lnTo>
                    <a:lnTo>
                      <a:pt x="2860" y="76"/>
                    </a:lnTo>
                    <a:lnTo>
                      <a:pt x="2798" y="76"/>
                    </a:lnTo>
                    <a:lnTo>
                      <a:pt x="2714" y="76"/>
                    </a:lnTo>
                    <a:lnTo>
                      <a:pt x="2651" y="84"/>
                    </a:lnTo>
                    <a:lnTo>
                      <a:pt x="2589" y="84"/>
                    </a:lnTo>
                    <a:lnTo>
                      <a:pt x="2505" y="84"/>
                    </a:lnTo>
                    <a:lnTo>
                      <a:pt x="2474" y="76"/>
                    </a:lnTo>
                    <a:lnTo>
                      <a:pt x="2432" y="76"/>
                    </a:lnTo>
                    <a:lnTo>
                      <a:pt x="2360" y="76"/>
                    </a:lnTo>
                    <a:lnTo>
                      <a:pt x="2318" y="76"/>
                    </a:lnTo>
                    <a:lnTo>
                      <a:pt x="2254" y="76"/>
                    </a:lnTo>
                    <a:lnTo>
                      <a:pt x="2192" y="76"/>
                    </a:lnTo>
                    <a:lnTo>
                      <a:pt x="2150" y="76"/>
                    </a:lnTo>
                    <a:lnTo>
                      <a:pt x="2088" y="76"/>
                    </a:lnTo>
                    <a:lnTo>
                      <a:pt x="2056" y="67"/>
                    </a:lnTo>
                    <a:lnTo>
                      <a:pt x="2014" y="59"/>
                    </a:lnTo>
                    <a:lnTo>
                      <a:pt x="1973" y="59"/>
                    </a:lnTo>
                    <a:lnTo>
                      <a:pt x="1889" y="59"/>
                    </a:lnTo>
                    <a:lnTo>
                      <a:pt x="1859" y="59"/>
                    </a:lnTo>
                    <a:lnTo>
                      <a:pt x="1837" y="67"/>
                    </a:lnTo>
                    <a:lnTo>
                      <a:pt x="1774" y="76"/>
                    </a:lnTo>
                    <a:lnTo>
                      <a:pt x="1743" y="84"/>
                    </a:lnTo>
                    <a:lnTo>
                      <a:pt x="1660" y="76"/>
                    </a:lnTo>
                    <a:lnTo>
                      <a:pt x="1628" y="76"/>
                    </a:lnTo>
                    <a:lnTo>
                      <a:pt x="1545" y="84"/>
                    </a:lnTo>
                    <a:lnTo>
                      <a:pt x="1513" y="84"/>
                    </a:lnTo>
                    <a:lnTo>
                      <a:pt x="1483" y="84"/>
                    </a:lnTo>
                    <a:lnTo>
                      <a:pt x="1451" y="59"/>
                    </a:lnTo>
                    <a:lnTo>
                      <a:pt x="1409" y="50"/>
                    </a:lnTo>
                    <a:lnTo>
                      <a:pt x="1336" y="50"/>
                    </a:lnTo>
                    <a:lnTo>
                      <a:pt x="1294" y="59"/>
                    </a:lnTo>
                    <a:lnTo>
                      <a:pt x="1211" y="59"/>
                    </a:lnTo>
                    <a:lnTo>
                      <a:pt x="1127" y="67"/>
                    </a:lnTo>
                    <a:lnTo>
                      <a:pt x="1023" y="67"/>
                    </a:lnTo>
                    <a:lnTo>
                      <a:pt x="960" y="67"/>
                    </a:lnTo>
                    <a:lnTo>
                      <a:pt x="876" y="67"/>
                    </a:lnTo>
                    <a:lnTo>
                      <a:pt x="846" y="67"/>
                    </a:lnTo>
                    <a:lnTo>
                      <a:pt x="762" y="76"/>
                    </a:lnTo>
                    <a:lnTo>
                      <a:pt x="699" y="76"/>
                    </a:lnTo>
                    <a:lnTo>
                      <a:pt x="668" y="59"/>
                    </a:lnTo>
                    <a:lnTo>
                      <a:pt x="636" y="42"/>
                    </a:lnTo>
                    <a:lnTo>
                      <a:pt x="606" y="42"/>
                    </a:lnTo>
                    <a:lnTo>
                      <a:pt x="543" y="42"/>
                    </a:lnTo>
                    <a:lnTo>
                      <a:pt x="521" y="42"/>
                    </a:lnTo>
                    <a:lnTo>
                      <a:pt x="491" y="50"/>
                    </a:lnTo>
                    <a:lnTo>
                      <a:pt x="459" y="50"/>
                    </a:lnTo>
                    <a:lnTo>
                      <a:pt x="428" y="50"/>
                    </a:lnTo>
                    <a:lnTo>
                      <a:pt x="324" y="50"/>
                    </a:lnTo>
                    <a:lnTo>
                      <a:pt x="292" y="50"/>
                    </a:lnTo>
                    <a:lnTo>
                      <a:pt x="250" y="50"/>
                    </a:lnTo>
                    <a:lnTo>
                      <a:pt x="219" y="50"/>
                    </a:lnTo>
                    <a:lnTo>
                      <a:pt x="135" y="50"/>
                    </a:lnTo>
                    <a:lnTo>
                      <a:pt x="52" y="50"/>
                    </a:lnTo>
                    <a:lnTo>
                      <a:pt x="0" y="2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</p:grpSp>
        <p:grpSp>
          <p:nvGrpSpPr>
            <p:cNvPr id="4" name="Group 19"/>
            <p:cNvGrpSpPr/>
            <p:nvPr/>
          </p:nvGrpSpPr>
          <p:grpSpPr>
            <a:xfrm>
              <a:off x="8408880" y="5302080"/>
              <a:ext cx="611280" cy="1365480"/>
              <a:chOff x="8408880" y="5302080"/>
              <a:chExt cx="611280" cy="1365480"/>
            </a:xfrm>
          </p:grpSpPr>
          <p:grpSp>
            <p:nvGrpSpPr>
              <p:cNvPr id="5" name="Group 11"/>
              <p:cNvGrpSpPr/>
              <p:nvPr/>
            </p:nvGrpSpPr>
            <p:grpSpPr>
              <a:xfrm>
                <a:off x="8415360" y="5319360"/>
                <a:ext cx="604800" cy="1348200"/>
                <a:chOff x="8415360" y="5319360"/>
                <a:chExt cx="604800" cy="1348200"/>
              </a:xfrm>
            </p:grpSpPr>
            <p:sp>
              <p:nvSpPr>
                <p:cNvPr id="6" name="Freeform 5"/>
                <p:cNvSpPr/>
                <p:nvPr/>
              </p:nvSpPr>
              <p:spPr>
                <a:xfrm>
                  <a:off x="8415360" y="5662440"/>
                  <a:ext cx="536400" cy="1005120"/>
                </a:xfrm>
                <a:custGeom>
                  <a:avLst/>
                  <a:gdLst/>
                  <a:ahLst/>
                  <a:rect l="l" t="t" r="r" b="b"/>
                  <a:pathLst>
                    <a:path w="338" h="633">
                      <a:moveTo>
                        <a:pt x="90" y="369"/>
                      </a:moveTo>
                      <a:lnTo>
                        <a:pt x="111" y="321"/>
                      </a:lnTo>
                      <a:lnTo>
                        <a:pt x="90" y="240"/>
                      </a:lnTo>
                      <a:lnTo>
                        <a:pt x="64" y="190"/>
                      </a:lnTo>
                      <a:lnTo>
                        <a:pt x="54" y="132"/>
                      </a:lnTo>
                      <a:lnTo>
                        <a:pt x="57" y="96"/>
                      </a:lnTo>
                      <a:lnTo>
                        <a:pt x="63" y="75"/>
                      </a:lnTo>
                      <a:lnTo>
                        <a:pt x="74" y="42"/>
                      </a:lnTo>
                      <a:lnTo>
                        <a:pt x="111" y="18"/>
                      </a:lnTo>
                      <a:lnTo>
                        <a:pt x="148" y="0"/>
                      </a:lnTo>
                      <a:lnTo>
                        <a:pt x="180" y="0"/>
                      </a:lnTo>
                      <a:lnTo>
                        <a:pt x="211" y="11"/>
                      </a:lnTo>
                      <a:lnTo>
                        <a:pt x="232" y="42"/>
                      </a:lnTo>
                      <a:lnTo>
                        <a:pt x="243" y="64"/>
                      </a:lnTo>
                      <a:lnTo>
                        <a:pt x="274" y="95"/>
                      </a:lnTo>
                      <a:lnTo>
                        <a:pt x="295" y="127"/>
                      </a:lnTo>
                      <a:lnTo>
                        <a:pt x="327" y="158"/>
                      </a:lnTo>
                      <a:lnTo>
                        <a:pt x="337" y="190"/>
                      </a:lnTo>
                      <a:lnTo>
                        <a:pt x="337" y="221"/>
                      </a:lnTo>
                      <a:lnTo>
                        <a:pt x="327" y="243"/>
                      </a:lnTo>
                      <a:lnTo>
                        <a:pt x="316" y="274"/>
                      </a:lnTo>
                      <a:lnTo>
                        <a:pt x="295" y="306"/>
                      </a:lnTo>
                      <a:lnTo>
                        <a:pt x="274" y="337"/>
                      </a:lnTo>
                      <a:lnTo>
                        <a:pt x="243" y="358"/>
                      </a:lnTo>
                      <a:lnTo>
                        <a:pt x="232" y="390"/>
                      </a:lnTo>
                      <a:lnTo>
                        <a:pt x="211" y="421"/>
                      </a:lnTo>
                      <a:lnTo>
                        <a:pt x="190" y="443"/>
                      </a:lnTo>
                      <a:lnTo>
                        <a:pt x="180" y="485"/>
                      </a:lnTo>
                      <a:lnTo>
                        <a:pt x="169" y="516"/>
                      </a:lnTo>
                      <a:lnTo>
                        <a:pt x="158" y="548"/>
                      </a:lnTo>
                      <a:lnTo>
                        <a:pt x="137" y="579"/>
                      </a:lnTo>
                      <a:lnTo>
                        <a:pt x="95" y="611"/>
                      </a:lnTo>
                      <a:lnTo>
                        <a:pt x="64" y="632"/>
                      </a:lnTo>
                      <a:lnTo>
                        <a:pt x="32" y="622"/>
                      </a:lnTo>
                      <a:lnTo>
                        <a:pt x="11" y="600"/>
                      </a:lnTo>
                      <a:lnTo>
                        <a:pt x="0" y="588"/>
                      </a:lnTo>
                      <a:lnTo>
                        <a:pt x="0" y="555"/>
                      </a:lnTo>
                      <a:lnTo>
                        <a:pt x="3" y="519"/>
                      </a:lnTo>
                      <a:lnTo>
                        <a:pt x="15" y="483"/>
                      </a:lnTo>
                      <a:lnTo>
                        <a:pt x="24" y="450"/>
                      </a:lnTo>
                      <a:lnTo>
                        <a:pt x="66" y="408"/>
                      </a:lnTo>
                      <a:lnTo>
                        <a:pt x="90" y="369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7" name="Oval 6"/>
                <p:cNvSpPr/>
                <p:nvPr/>
              </p:nvSpPr>
              <p:spPr>
                <a:xfrm rot="705000">
                  <a:off x="8577360" y="5331960"/>
                  <a:ext cx="158760" cy="311400"/>
                </a:xfrm>
                <a:prstGeom prst="ellipse">
                  <a:avLst/>
                </a:pr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8" name="Freeform 7"/>
                <p:cNvSpPr/>
                <p:nvPr/>
              </p:nvSpPr>
              <p:spPr>
                <a:xfrm>
                  <a:off x="8753400" y="5448240"/>
                  <a:ext cx="85680" cy="214200"/>
                </a:xfrm>
                <a:custGeom>
                  <a:avLst/>
                  <a:gdLst/>
                  <a:ahLst/>
                  <a:rect l="l" t="t" r="r" b="b"/>
                  <a:pathLst>
                    <a:path w="54" h="135">
                      <a:moveTo>
                        <a:pt x="6" y="11"/>
                      </a:moveTo>
                      <a:lnTo>
                        <a:pt x="3" y="37"/>
                      </a:lnTo>
                      <a:lnTo>
                        <a:pt x="0" y="63"/>
                      </a:lnTo>
                      <a:lnTo>
                        <a:pt x="0" y="86"/>
                      </a:lnTo>
                      <a:lnTo>
                        <a:pt x="6" y="108"/>
                      </a:lnTo>
                      <a:lnTo>
                        <a:pt x="26" y="134"/>
                      </a:lnTo>
                      <a:lnTo>
                        <a:pt x="45" y="115"/>
                      </a:lnTo>
                      <a:lnTo>
                        <a:pt x="53" y="67"/>
                      </a:lnTo>
                      <a:lnTo>
                        <a:pt x="50" y="40"/>
                      </a:lnTo>
                      <a:lnTo>
                        <a:pt x="42" y="18"/>
                      </a:lnTo>
                      <a:lnTo>
                        <a:pt x="20" y="0"/>
                      </a:lnTo>
                      <a:lnTo>
                        <a:pt x="6" y="11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9" name="Freeform 8"/>
                <p:cNvSpPr/>
                <p:nvPr/>
              </p:nvSpPr>
              <p:spPr>
                <a:xfrm>
                  <a:off x="8829720" y="5565600"/>
                  <a:ext cx="92160" cy="169920"/>
                </a:xfrm>
                <a:custGeom>
                  <a:avLst/>
                  <a:gdLst/>
                  <a:ahLst/>
                  <a:rect l="l" t="t" r="r" b="b"/>
                  <a:pathLst>
                    <a:path w="58" h="107">
                      <a:moveTo>
                        <a:pt x="19" y="6"/>
                      </a:moveTo>
                      <a:lnTo>
                        <a:pt x="11" y="26"/>
                      </a:lnTo>
                      <a:lnTo>
                        <a:pt x="4" y="46"/>
                      </a:lnTo>
                      <a:lnTo>
                        <a:pt x="0" y="63"/>
                      </a:lnTo>
                      <a:lnTo>
                        <a:pt x="2" y="82"/>
                      </a:lnTo>
                      <a:lnTo>
                        <a:pt x="18" y="106"/>
                      </a:lnTo>
                      <a:lnTo>
                        <a:pt x="39" y="95"/>
                      </a:lnTo>
                      <a:lnTo>
                        <a:pt x="55" y="60"/>
                      </a:lnTo>
                      <a:lnTo>
                        <a:pt x="57" y="37"/>
                      </a:lnTo>
                      <a:lnTo>
                        <a:pt x="53" y="19"/>
                      </a:lnTo>
                      <a:lnTo>
                        <a:pt x="34" y="0"/>
                      </a:lnTo>
                      <a:lnTo>
                        <a:pt x="19" y="6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0" name="Freeform 9"/>
                <p:cNvSpPr/>
                <p:nvPr/>
              </p:nvSpPr>
              <p:spPr>
                <a:xfrm>
                  <a:off x="8943840" y="5781600"/>
                  <a:ext cx="76320" cy="131760"/>
                </a:xfrm>
                <a:custGeom>
                  <a:avLst/>
                  <a:gdLst/>
                  <a:ahLst/>
                  <a:rect l="l" t="t" r="r" b="b"/>
                  <a:pathLst>
                    <a:path w="48" h="83">
                      <a:moveTo>
                        <a:pt x="15" y="4"/>
                      </a:moveTo>
                      <a:lnTo>
                        <a:pt x="9" y="20"/>
                      </a:lnTo>
                      <a:lnTo>
                        <a:pt x="3" y="35"/>
                      </a:lnTo>
                      <a:lnTo>
                        <a:pt x="0" y="48"/>
                      </a:lnTo>
                      <a:lnTo>
                        <a:pt x="1" y="63"/>
                      </a:lnTo>
                      <a:lnTo>
                        <a:pt x="14" y="82"/>
                      </a:lnTo>
                      <a:lnTo>
                        <a:pt x="32" y="73"/>
                      </a:lnTo>
                      <a:lnTo>
                        <a:pt x="45" y="46"/>
                      </a:lnTo>
                      <a:lnTo>
                        <a:pt x="47" y="28"/>
                      </a:lnTo>
                      <a:lnTo>
                        <a:pt x="43" y="14"/>
                      </a:lnTo>
                      <a:lnTo>
                        <a:pt x="28" y="0"/>
                      </a:lnTo>
                      <a:lnTo>
                        <a:pt x="15" y="4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1" name="Freeform 10"/>
                <p:cNvSpPr/>
                <p:nvPr/>
              </p:nvSpPr>
              <p:spPr>
                <a:xfrm>
                  <a:off x="8888400" y="5683320"/>
                  <a:ext cx="88920" cy="147600"/>
                </a:xfrm>
                <a:custGeom>
                  <a:avLst/>
                  <a:gdLst/>
                  <a:ahLst/>
                  <a:rect l="l" t="t" r="r" b="b"/>
                  <a:pathLst>
                    <a:path w="56" h="93">
                      <a:moveTo>
                        <a:pt x="18" y="5"/>
                      </a:moveTo>
                      <a:lnTo>
                        <a:pt x="10" y="22"/>
                      </a:lnTo>
                      <a:lnTo>
                        <a:pt x="3" y="39"/>
                      </a:lnTo>
                      <a:lnTo>
                        <a:pt x="0" y="54"/>
                      </a:lnTo>
                      <a:lnTo>
                        <a:pt x="1" y="71"/>
                      </a:lnTo>
                      <a:lnTo>
                        <a:pt x="17" y="92"/>
                      </a:lnTo>
                      <a:lnTo>
                        <a:pt x="37" y="82"/>
                      </a:lnTo>
                      <a:lnTo>
                        <a:pt x="53" y="52"/>
                      </a:lnTo>
                      <a:lnTo>
                        <a:pt x="55" y="32"/>
                      </a:lnTo>
                      <a:lnTo>
                        <a:pt x="51" y="16"/>
                      </a:lnTo>
                      <a:lnTo>
                        <a:pt x="32" y="0"/>
                      </a:lnTo>
                      <a:lnTo>
                        <a:pt x="18" y="5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</p:grpSp>
          <p:grpSp>
            <p:nvGrpSpPr>
              <p:cNvPr id="12" name="Group 18"/>
              <p:cNvGrpSpPr/>
              <p:nvPr/>
            </p:nvGrpSpPr>
            <p:grpSpPr>
              <a:xfrm>
                <a:off x="8408880" y="5302080"/>
                <a:ext cx="604800" cy="1347840"/>
                <a:chOff x="8408880" y="5302080"/>
                <a:chExt cx="604800" cy="1347840"/>
              </a:xfrm>
            </p:grpSpPr>
            <p:sp>
              <p:nvSpPr>
                <p:cNvPr id="13" name="Freeform 12"/>
                <p:cNvSpPr/>
                <p:nvPr/>
              </p:nvSpPr>
              <p:spPr>
                <a:xfrm>
                  <a:off x="8408880" y="5645160"/>
                  <a:ext cx="536760" cy="1004760"/>
                </a:xfrm>
                <a:custGeom>
                  <a:avLst/>
                  <a:gdLst/>
                  <a:ahLst/>
                  <a:rect l="l" t="t" r="r" b="b"/>
                  <a:pathLst>
                    <a:path w="338" h="633">
                      <a:moveTo>
                        <a:pt x="90" y="369"/>
                      </a:moveTo>
                      <a:lnTo>
                        <a:pt x="111" y="321"/>
                      </a:lnTo>
                      <a:lnTo>
                        <a:pt x="90" y="240"/>
                      </a:lnTo>
                      <a:lnTo>
                        <a:pt x="64" y="190"/>
                      </a:lnTo>
                      <a:lnTo>
                        <a:pt x="54" y="132"/>
                      </a:lnTo>
                      <a:lnTo>
                        <a:pt x="57" y="96"/>
                      </a:lnTo>
                      <a:lnTo>
                        <a:pt x="63" y="75"/>
                      </a:lnTo>
                      <a:lnTo>
                        <a:pt x="74" y="42"/>
                      </a:lnTo>
                      <a:lnTo>
                        <a:pt x="111" y="18"/>
                      </a:lnTo>
                      <a:lnTo>
                        <a:pt x="148" y="0"/>
                      </a:lnTo>
                      <a:lnTo>
                        <a:pt x="180" y="0"/>
                      </a:lnTo>
                      <a:lnTo>
                        <a:pt x="211" y="11"/>
                      </a:lnTo>
                      <a:lnTo>
                        <a:pt x="232" y="42"/>
                      </a:lnTo>
                      <a:lnTo>
                        <a:pt x="243" y="64"/>
                      </a:lnTo>
                      <a:lnTo>
                        <a:pt x="274" y="95"/>
                      </a:lnTo>
                      <a:lnTo>
                        <a:pt x="295" y="127"/>
                      </a:lnTo>
                      <a:lnTo>
                        <a:pt x="327" y="158"/>
                      </a:lnTo>
                      <a:lnTo>
                        <a:pt x="337" y="190"/>
                      </a:lnTo>
                      <a:lnTo>
                        <a:pt x="337" y="221"/>
                      </a:lnTo>
                      <a:lnTo>
                        <a:pt x="327" y="243"/>
                      </a:lnTo>
                      <a:lnTo>
                        <a:pt x="316" y="274"/>
                      </a:lnTo>
                      <a:lnTo>
                        <a:pt x="295" y="306"/>
                      </a:lnTo>
                      <a:lnTo>
                        <a:pt x="274" y="337"/>
                      </a:lnTo>
                      <a:lnTo>
                        <a:pt x="243" y="358"/>
                      </a:lnTo>
                      <a:lnTo>
                        <a:pt x="232" y="390"/>
                      </a:lnTo>
                      <a:lnTo>
                        <a:pt x="211" y="421"/>
                      </a:lnTo>
                      <a:lnTo>
                        <a:pt x="190" y="443"/>
                      </a:lnTo>
                      <a:lnTo>
                        <a:pt x="180" y="485"/>
                      </a:lnTo>
                      <a:lnTo>
                        <a:pt x="169" y="516"/>
                      </a:lnTo>
                      <a:lnTo>
                        <a:pt x="158" y="548"/>
                      </a:lnTo>
                      <a:lnTo>
                        <a:pt x="137" y="579"/>
                      </a:lnTo>
                      <a:lnTo>
                        <a:pt x="95" y="611"/>
                      </a:lnTo>
                      <a:lnTo>
                        <a:pt x="64" y="632"/>
                      </a:lnTo>
                      <a:lnTo>
                        <a:pt x="32" y="622"/>
                      </a:lnTo>
                      <a:lnTo>
                        <a:pt x="11" y="600"/>
                      </a:lnTo>
                      <a:lnTo>
                        <a:pt x="0" y="588"/>
                      </a:lnTo>
                      <a:lnTo>
                        <a:pt x="0" y="555"/>
                      </a:lnTo>
                      <a:lnTo>
                        <a:pt x="3" y="519"/>
                      </a:lnTo>
                      <a:lnTo>
                        <a:pt x="15" y="483"/>
                      </a:lnTo>
                      <a:lnTo>
                        <a:pt x="24" y="450"/>
                      </a:lnTo>
                      <a:lnTo>
                        <a:pt x="66" y="408"/>
                      </a:lnTo>
                      <a:lnTo>
                        <a:pt x="90" y="369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4" name="Oval 13"/>
                <p:cNvSpPr/>
                <p:nvPr/>
              </p:nvSpPr>
              <p:spPr>
                <a:xfrm rot="705000">
                  <a:off x="8570880" y="5314680"/>
                  <a:ext cx="158760" cy="311040"/>
                </a:xfrm>
                <a:prstGeom prst="ellipse">
                  <a:avLst/>
                </a:pr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5" name="Freeform 14"/>
                <p:cNvSpPr/>
                <p:nvPr/>
              </p:nvSpPr>
              <p:spPr>
                <a:xfrm>
                  <a:off x="8747280" y="5430960"/>
                  <a:ext cx="85680" cy="214200"/>
                </a:xfrm>
                <a:custGeom>
                  <a:avLst/>
                  <a:gdLst/>
                  <a:ahLst/>
                  <a:rect l="l" t="t" r="r" b="b"/>
                  <a:pathLst>
                    <a:path w="54" h="135">
                      <a:moveTo>
                        <a:pt x="6" y="11"/>
                      </a:moveTo>
                      <a:lnTo>
                        <a:pt x="3" y="37"/>
                      </a:lnTo>
                      <a:lnTo>
                        <a:pt x="0" y="63"/>
                      </a:lnTo>
                      <a:lnTo>
                        <a:pt x="0" y="86"/>
                      </a:lnTo>
                      <a:lnTo>
                        <a:pt x="6" y="108"/>
                      </a:lnTo>
                      <a:lnTo>
                        <a:pt x="26" y="134"/>
                      </a:lnTo>
                      <a:lnTo>
                        <a:pt x="45" y="115"/>
                      </a:lnTo>
                      <a:lnTo>
                        <a:pt x="53" y="67"/>
                      </a:lnTo>
                      <a:lnTo>
                        <a:pt x="50" y="40"/>
                      </a:lnTo>
                      <a:lnTo>
                        <a:pt x="42" y="18"/>
                      </a:lnTo>
                      <a:lnTo>
                        <a:pt x="20" y="0"/>
                      </a:lnTo>
                      <a:lnTo>
                        <a:pt x="6" y="11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8823240" y="5548320"/>
                  <a:ext cx="92160" cy="169920"/>
                </a:xfrm>
                <a:custGeom>
                  <a:avLst/>
                  <a:gdLst/>
                  <a:ahLst/>
                  <a:rect l="l" t="t" r="r" b="b"/>
                  <a:pathLst>
                    <a:path w="58" h="107">
                      <a:moveTo>
                        <a:pt x="19" y="6"/>
                      </a:moveTo>
                      <a:lnTo>
                        <a:pt x="11" y="26"/>
                      </a:lnTo>
                      <a:lnTo>
                        <a:pt x="4" y="46"/>
                      </a:lnTo>
                      <a:lnTo>
                        <a:pt x="0" y="63"/>
                      </a:lnTo>
                      <a:lnTo>
                        <a:pt x="2" y="82"/>
                      </a:lnTo>
                      <a:lnTo>
                        <a:pt x="18" y="106"/>
                      </a:lnTo>
                      <a:lnTo>
                        <a:pt x="39" y="95"/>
                      </a:lnTo>
                      <a:lnTo>
                        <a:pt x="55" y="60"/>
                      </a:lnTo>
                      <a:lnTo>
                        <a:pt x="57" y="37"/>
                      </a:lnTo>
                      <a:lnTo>
                        <a:pt x="53" y="19"/>
                      </a:lnTo>
                      <a:lnTo>
                        <a:pt x="34" y="0"/>
                      </a:lnTo>
                      <a:lnTo>
                        <a:pt x="19" y="6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8937720" y="5764320"/>
                  <a:ext cx="75960" cy="131760"/>
                </a:xfrm>
                <a:custGeom>
                  <a:avLst/>
                  <a:gdLst/>
                  <a:ahLst/>
                  <a:rect l="l" t="t" r="r" b="b"/>
                  <a:pathLst>
                    <a:path w="48" h="83">
                      <a:moveTo>
                        <a:pt x="15" y="4"/>
                      </a:moveTo>
                      <a:lnTo>
                        <a:pt x="9" y="20"/>
                      </a:lnTo>
                      <a:lnTo>
                        <a:pt x="3" y="35"/>
                      </a:lnTo>
                      <a:lnTo>
                        <a:pt x="0" y="48"/>
                      </a:lnTo>
                      <a:lnTo>
                        <a:pt x="1" y="63"/>
                      </a:lnTo>
                      <a:lnTo>
                        <a:pt x="14" y="82"/>
                      </a:lnTo>
                      <a:lnTo>
                        <a:pt x="32" y="73"/>
                      </a:lnTo>
                      <a:lnTo>
                        <a:pt x="45" y="46"/>
                      </a:lnTo>
                      <a:lnTo>
                        <a:pt x="47" y="28"/>
                      </a:lnTo>
                      <a:lnTo>
                        <a:pt x="43" y="14"/>
                      </a:lnTo>
                      <a:lnTo>
                        <a:pt x="28" y="0"/>
                      </a:lnTo>
                      <a:lnTo>
                        <a:pt x="15" y="4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8881920" y="5665680"/>
                  <a:ext cx="88920" cy="147600"/>
                </a:xfrm>
                <a:custGeom>
                  <a:avLst/>
                  <a:gdLst/>
                  <a:ahLst/>
                  <a:rect l="l" t="t" r="r" b="b"/>
                  <a:pathLst>
                    <a:path w="56" h="93">
                      <a:moveTo>
                        <a:pt x="18" y="5"/>
                      </a:moveTo>
                      <a:lnTo>
                        <a:pt x="10" y="22"/>
                      </a:lnTo>
                      <a:lnTo>
                        <a:pt x="3" y="39"/>
                      </a:lnTo>
                      <a:lnTo>
                        <a:pt x="0" y="54"/>
                      </a:lnTo>
                      <a:lnTo>
                        <a:pt x="1" y="71"/>
                      </a:lnTo>
                      <a:lnTo>
                        <a:pt x="17" y="92"/>
                      </a:lnTo>
                      <a:lnTo>
                        <a:pt x="37" y="82"/>
                      </a:lnTo>
                      <a:lnTo>
                        <a:pt x="53" y="52"/>
                      </a:lnTo>
                      <a:lnTo>
                        <a:pt x="55" y="32"/>
                      </a:lnTo>
                      <a:lnTo>
                        <a:pt x="51" y="16"/>
                      </a:lnTo>
                      <a:lnTo>
                        <a:pt x="32" y="0"/>
                      </a:lnTo>
                      <a:lnTo>
                        <a:pt x="18" y="5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6188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2900160" y="6232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329160" y="6232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340B-262F-4EDE-ACE8-0EFA716875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"/>
          <p:cNvGrpSpPr/>
          <p:nvPr/>
        </p:nvGrpSpPr>
        <p:grpSpPr>
          <a:xfrm>
            <a:off x="244440" y="3316320"/>
            <a:ext cx="8305920" cy="150840"/>
            <a:chOff x="244440" y="3316320"/>
            <a:chExt cx="8305920" cy="150840"/>
          </a:xfrm>
        </p:grpSpPr>
        <p:sp>
          <p:nvSpPr>
            <p:cNvPr id="61" name="Freeform 2"/>
            <p:cNvSpPr/>
            <p:nvPr/>
          </p:nvSpPr>
          <p:spPr>
            <a:xfrm>
              <a:off x="244440" y="3332160"/>
              <a:ext cx="8288280" cy="135000"/>
            </a:xfrm>
            <a:custGeom>
              <a:avLst/>
              <a:gdLst/>
              <a:ahLst/>
              <a:rect l="l" t="t" r="r" b="b"/>
              <a:pathLst>
                <a:path w="5221" h="85">
                  <a:moveTo>
                    <a:pt x="0" y="25"/>
                  </a:moveTo>
                  <a:lnTo>
                    <a:pt x="94" y="16"/>
                  </a:lnTo>
                  <a:lnTo>
                    <a:pt x="125" y="8"/>
                  </a:lnTo>
                  <a:lnTo>
                    <a:pt x="167" y="8"/>
                  </a:lnTo>
                  <a:lnTo>
                    <a:pt x="198" y="8"/>
                  </a:lnTo>
                  <a:lnTo>
                    <a:pt x="240" y="8"/>
                  </a:lnTo>
                  <a:lnTo>
                    <a:pt x="324" y="8"/>
                  </a:lnTo>
                  <a:lnTo>
                    <a:pt x="355" y="16"/>
                  </a:lnTo>
                  <a:lnTo>
                    <a:pt x="386" y="16"/>
                  </a:lnTo>
                  <a:lnTo>
                    <a:pt x="428" y="25"/>
                  </a:lnTo>
                  <a:lnTo>
                    <a:pt x="459" y="33"/>
                  </a:lnTo>
                  <a:lnTo>
                    <a:pt x="491" y="33"/>
                  </a:lnTo>
                  <a:lnTo>
                    <a:pt x="574" y="33"/>
                  </a:lnTo>
                  <a:lnTo>
                    <a:pt x="616" y="33"/>
                  </a:lnTo>
                  <a:lnTo>
                    <a:pt x="657" y="33"/>
                  </a:lnTo>
                  <a:lnTo>
                    <a:pt x="731" y="33"/>
                  </a:lnTo>
                  <a:lnTo>
                    <a:pt x="793" y="33"/>
                  </a:lnTo>
                  <a:lnTo>
                    <a:pt x="856" y="33"/>
                  </a:lnTo>
                  <a:lnTo>
                    <a:pt x="918" y="33"/>
                  </a:lnTo>
                  <a:lnTo>
                    <a:pt x="950" y="33"/>
                  </a:lnTo>
                  <a:lnTo>
                    <a:pt x="1023" y="25"/>
                  </a:lnTo>
                  <a:lnTo>
                    <a:pt x="1065" y="16"/>
                  </a:lnTo>
                  <a:lnTo>
                    <a:pt x="1107" y="0"/>
                  </a:lnTo>
                  <a:lnTo>
                    <a:pt x="1137" y="0"/>
                  </a:lnTo>
                  <a:lnTo>
                    <a:pt x="1169" y="0"/>
                  </a:lnTo>
                  <a:lnTo>
                    <a:pt x="1232" y="0"/>
                  </a:lnTo>
                  <a:lnTo>
                    <a:pt x="1273" y="8"/>
                  </a:lnTo>
                  <a:lnTo>
                    <a:pt x="1336" y="8"/>
                  </a:lnTo>
                  <a:lnTo>
                    <a:pt x="1398" y="8"/>
                  </a:lnTo>
                  <a:lnTo>
                    <a:pt x="1420" y="16"/>
                  </a:lnTo>
                  <a:lnTo>
                    <a:pt x="1483" y="16"/>
                  </a:lnTo>
                  <a:lnTo>
                    <a:pt x="1545" y="25"/>
                  </a:lnTo>
                  <a:lnTo>
                    <a:pt x="1608" y="25"/>
                  </a:lnTo>
                  <a:lnTo>
                    <a:pt x="1649" y="25"/>
                  </a:lnTo>
                  <a:lnTo>
                    <a:pt x="1691" y="25"/>
                  </a:lnTo>
                  <a:lnTo>
                    <a:pt x="1733" y="25"/>
                  </a:lnTo>
                  <a:lnTo>
                    <a:pt x="1774" y="25"/>
                  </a:lnTo>
                  <a:lnTo>
                    <a:pt x="1816" y="16"/>
                  </a:lnTo>
                  <a:lnTo>
                    <a:pt x="1900" y="16"/>
                  </a:lnTo>
                  <a:lnTo>
                    <a:pt x="1984" y="25"/>
                  </a:lnTo>
                  <a:lnTo>
                    <a:pt x="2046" y="25"/>
                  </a:lnTo>
                  <a:lnTo>
                    <a:pt x="2109" y="25"/>
                  </a:lnTo>
                  <a:lnTo>
                    <a:pt x="2171" y="25"/>
                  </a:lnTo>
                  <a:lnTo>
                    <a:pt x="2234" y="25"/>
                  </a:lnTo>
                  <a:lnTo>
                    <a:pt x="2265" y="25"/>
                  </a:lnTo>
                  <a:lnTo>
                    <a:pt x="2307" y="25"/>
                  </a:lnTo>
                  <a:lnTo>
                    <a:pt x="2390" y="25"/>
                  </a:lnTo>
                  <a:lnTo>
                    <a:pt x="2464" y="25"/>
                  </a:lnTo>
                  <a:lnTo>
                    <a:pt x="2505" y="25"/>
                  </a:lnTo>
                  <a:lnTo>
                    <a:pt x="2547" y="25"/>
                  </a:lnTo>
                  <a:lnTo>
                    <a:pt x="2589" y="25"/>
                  </a:lnTo>
                  <a:lnTo>
                    <a:pt x="2651" y="25"/>
                  </a:lnTo>
                  <a:lnTo>
                    <a:pt x="2693" y="25"/>
                  </a:lnTo>
                  <a:lnTo>
                    <a:pt x="2725" y="25"/>
                  </a:lnTo>
                  <a:lnTo>
                    <a:pt x="2756" y="25"/>
                  </a:lnTo>
                  <a:lnTo>
                    <a:pt x="2819" y="25"/>
                  </a:lnTo>
                  <a:lnTo>
                    <a:pt x="2881" y="25"/>
                  </a:lnTo>
                  <a:lnTo>
                    <a:pt x="2965" y="25"/>
                  </a:lnTo>
                  <a:lnTo>
                    <a:pt x="3006" y="33"/>
                  </a:lnTo>
                  <a:lnTo>
                    <a:pt x="3038" y="33"/>
                  </a:lnTo>
                  <a:lnTo>
                    <a:pt x="3069" y="33"/>
                  </a:lnTo>
                  <a:lnTo>
                    <a:pt x="3101" y="59"/>
                  </a:lnTo>
                  <a:lnTo>
                    <a:pt x="3131" y="84"/>
                  </a:lnTo>
                  <a:lnTo>
                    <a:pt x="3152" y="59"/>
                  </a:lnTo>
                  <a:lnTo>
                    <a:pt x="3216" y="67"/>
                  </a:lnTo>
                  <a:lnTo>
                    <a:pt x="3246" y="67"/>
                  </a:lnTo>
                  <a:lnTo>
                    <a:pt x="3288" y="59"/>
                  </a:lnTo>
                  <a:lnTo>
                    <a:pt x="3320" y="50"/>
                  </a:lnTo>
                  <a:lnTo>
                    <a:pt x="3351" y="50"/>
                  </a:lnTo>
                  <a:lnTo>
                    <a:pt x="3435" y="50"/>
                  </a:lnTo>
                  <a:lnTo>
                    <a:pt x="3539" y="50"/>
                  </a:lnTo>
                  <a:lnTo>
                    <a:pt x="3643" y="50"/>
                  </a:lnTo>
                  <a:lnTo>
                    <a:pt x="3706" y="50"/>
                  </a:lnTo>
                  <a:lnTo>
                    <a:pt x="3768" y="42"/>
                  </a:lnTo>
                  <a:lnTo>
                    <a:pt x="3810" y="33"/>
                  </a:lnTo>
                  <a:lnTo>
                    <a:pt x="3832" y="25"/>
                  </a:lnTo>
                  <a:lnTo>
                    <a:pt x="3862" y="16"/>
                  </a:lnTo>
                  <a:lnTo>
                    <a:pt x="3894" y="8"/>
                  </a:lnTo>
                  <a:lnTo>
                    <a:pt x="3957" y="8"/>
                  </a:lnTo>
                  <a:lnTo>
                    <a:pt x="3987" y="8"/>
                  </a:lnTo>
                  <a:lnTo>
                    <a:pt x="4072" y="8"/>
                  </a:lnTo>
                  <a:lnTo>
                    <a:pt x="4155" y="8"/>
                  </a:lnTo>
                  <a:lnTo>
                    <a:pt x="4186" y="8"/>
                  </a:lnTo>
                  <a:lnTo>
                    <a:pt x="4227" y="8"/>
                  </a:lnTo>
                  <a:lnTo>
                    <a:pt x="4312" y="8"/>
                  </a:lnTo>
                  <a:lnTo>
                    <a:pt x="4374" y="8"/>
                  </a:lnTo>
                  <a:lnTo>
                    <a:pt x="4405" y="25"/>
                  </a:lnTo>
                  <a:lnTo>
                    <a:pt x="4437" y="33"/>
                  </a:lnTo>
                  <a:lnTo>
                    <a:pt x="4478" y="33"/>
                  </a:lnTo>
                  <a:lnTo>
                    <a:pt x="4562" y="33"/>
                  </a:lnTo>
                  <a:lnTo>
                    <a:pt x="4624" y="33"/>
                  </a:lnTo>
                  <a:lnTo>
                    <a:pt x="4687" y="33"/>
                  </a:lnTo>
                  <a:lnTo>
                    <a:pt x="4709" y="33"/>
                  </a:lnTo>
                  <a:lnTo>
                    <a:pt x="4750" y="33"/>
                  </a:lnTo>
                  <a:lnTo>
                    <a:pt x="4792" y="33"/>
                  </a:lnTo>
                  <a:lnTo>
                    <a:pt x="4834" y="33"/>
                  </a:lnTo>
                  <a:lnTo>
                    <a:pt x="4896" y="33"/>
                  </a:lnTo>
                  <a:lnTo>
                    <a:pt x="4928" y="33"/>
                  </a:lnTo>
                  <a:lnTo>
                    <a:pt x="5000" y="33"/>
                  </a:lnTo>
                  <a:lnTo>
                    <a:pt x="5074" y="33"/>
                  </a:lnTo>
                  <a:lnTo>
                    <a:pt x="5147" y="33"/>
                  </a:lnTo>
                  <a:lnTo>
                    <a:pt x="5178" y="33"/>
                  </a:lnTo>
                  <a:lnTo>
                    <a:pt x="5220" y="50"/>
                  </a:lnTo>
                  <a:lnTo>
                    <a:pt x="5199" y="76"/>
                  </a:lnTo>
                  <a:lnTo>
                    <a:pt x="5115" y="76"/>
                  </a:lnTo>
                  <a:lnTo>
                    <a:pt x="5084" y="76"/>
                  </a:lnTo>
                  <a:lnTo>
                    <a:pt x="5000" y="67"/>
                  </a:lnTo>
                  <a:lnTo>
                    <a:pt x="4938" y="67"/>
                  </a:lnTo>
                  <a:lnTo>
                    <a:pt x="4906" y="67"/>
                  </a:lnTo>
                  <a:lnTo>
                    <a:pt x="4864" y="67"/>
                  </a:lnTo>
                  <a:lnTo>
                    <a:pt x="4792" y="67"/>
                  </a:lnTo>
                  <a:lnTo>
                    <a:pt x="4719" y="67"/>
                  </a:lnTo>
                  <a:lnTo>
                    <a:pt x="4687" y="67"/>
                  </a:lnTo>
                  <a:lnTo>
                    <a:pt x="4624" y="67"/>
                  </a:lnTo>
                  <a:lnTo>
                    <a:pt x="4583" y="67"/>
                  </a:lnTo>
                  <a:lnTo>
                    <a:pt x="4499" y="76"/>
                  </a:lnTo>
                  <a:lnTo>
                    <a:pt x="4468" y="84"/>
                  </a:lnTo>
                  <a:lnTo>
                    <a:pt x="4426" y="84"/>
                  </a:lnTo>
                  <a:lnTo>
                    <a:pt x="4395" y="84"/>
                  </a:lnTo>
                  <a:lnTo>
                    <a:pt x="4312" y="84"/>
                  </a:lnTo>
                  <a:lnTo>
                    <a:pt x="4248" y="84"/>
                  </a:lnTo>
                  <a:lnTo>
                    <a:pt x="4218" y="84"/>
                  </a:lnTo>
                  <a:lnTo>
                    <a:pt x="4113" y="76"/>
                  </a:lnTo>
                  <a:lnTo>
                    <a:pt x="4029" y="76"/>
                  </a:lnTo>
                  <a:lnTo>
                    <a:pt x="3946" y="67"/>
                  </a:lnTo>
                  <a:lnTo>
                    <a:pt x="3883" y="59"/>
                  </a:lnTo>
                  <a:lnTo>
                    <a:pt x="3852" y="59"/>
                  </a:lnTo>
                  <a:lnTo>
                    <a:pt x="3821" y="59"/>
                  </a:lnTo>
                  <a:lnTo>
                    <a:pt x="3789" y="59"/>
                  </a:lnTo>
                  <a:lnTo>
                    <a:pt x="3758" y="59"/>
                  </a:lnTo>
                  <a:lnTo>
                    <a:pt x="3675" y="59"/>
                  </a:lnTo>
                  <a:lnTo>
                    <a:pt x="3612" y="59"/>
                  </a:lnTo>
                  <a:lnTo>
                    <a:pt x="3549" y="59"/>
                  </a:lnTo>
                  <a:lnTo>
                    <a:pt x="3518" y="59"/>
                  </a:lnTo>
                  <a:lnTo>
                    <a:pt x="3486" y="76"/>
                  </a:lnTo>
                  <a:lnTo>
                    <a:pt x="3456" y="76"/>
                  </a:lnTo>
                  <a:lnTo>
                    <a:pt x="3393" y="84"/>
                  </a:lnTo>
                  <a:lnTo>
                    <a:pt x="3320" y="84"/>
                  </a:lnTo>
                  <a:lnTo>
                    <a:pt x="3236" y="84"/>
                  </a:lnTo>
                  <a:lnTo>
                    <a:pt x="3205" y="84"/>
                  </a:lnTo>
                  <a:lnTo>
                    <a:pt x="3121" y="84"/>
                  </a:lnTo>
                  <a:lnTo>
                    <a:pt x="3059" y="84"/>
                  </a:lnTo>
                  <a:lnTo>
                    <a:pt x="3027" y="84"/>
                  </a:lnTo>
                  <a:lnTo>
                    <a:pt x="2944" y="76"/>
                  </a:lnTo>
                  <a:lnTo>
                    <a:pt x="2860" y="76"/>
                  </a:lnTo>
                  <a:lnTo>
                    <a:pt x="2798" y="76"/>
                  </a:lnTo>
                  <a:lnTo>
                    <a:pt x="2714" y="76"/>
                  </a:lnTo>
                  <a:lnTo>
                    <a:pt x="2651" y="84"/>
                  </a:lnTo>
                  <a:lnTo>
                    <a:pt x="2589" y="84"/>
                  </a:lnTo>
                  <a:lnTo>
                    <a:pt x="2505" y="84"/>
                  </a:lnTo>
                  <a:lnTo>
                    <a:pt x="2474" y="76"/>
                  </a:lnTo>
                  <a:lnTo>
                    <a:pt x="2432" y="76"/>
                  </a:lnTo>
                  <a:lnTo>
                    <a:pt x="2360" y="76"/>
                  </a:lnTo>
                  <a:lnTo>
                    <a:pt x="2318" y="76"/>
                  </a:lnTo>
                  <a:lnTo>
                    <a:pt x="2254" y="76"/>
                  </a:lnTo>
                  <a:lnTo>
                    <a:pt x="2192" y="76"/>
                  </a:lnTo>
                  <a:lnTo>
                    <a:pt x="2150" y="76"/>
                  </a:lnTo>
                  <a:lnTo>
                    <a:pt x="2088" y="76"/>
                  </a:lnTo>
                  <a:lnTo>
                    <a:pt x="2056" y="67"/>
                  </a:lnTo>
                  <a:lnTo>
                    <a:pt x="2014" y="59"/>
                  </a:lnTo>
                  <a:lnTo>
                    <a:pt x="1973" y="59"/>
                  </a:lnTo>
                  <a:lnTo>
                    <a:pt x="1889" y="59"/>
                  </a:lnTo>
                  <a:lnTo>
                    <a:pt x="1859" y="59"/>
                  </a:lnTo>
                  <a:lnTo>
                    <a:pt x="1837" y="67"/>
                  </a:lnTo>
                  <a:lnTo>
                    <a:pt x="1774" y="76"/>
                  </a:lnTo>
                  <a:lnTo>
                    <a:pt x="1743" y="84"/>
                  </a:lnTo>
                  <a:lnTo>
                    <a:pt x="1660" y="76"/>
                  </a:lnTo>
                  <a:lnTo>
                    <a:pt x="1628" y="76"/>
                  </a:lnTo>
                  <a:lnTo>
                    <a:pt x="1545" y="84"/>
                  </a:lnTo>
                  <a:lnTo>
                    <a:pt x="1513" y="84"/>
                  </a:lnTo>
                  <a:lnTo>
                    <a:pt x="1483" y="84"/>
                  </a:lnTo>
                  <a:lnTo>
                    <a:pt x="1451" y="59"/>
                  </a:lnTo>
                  <a:lnTo>
                    <a:pt x="1409" y="50"/>
                  </a:lnTo>
                  <a:lnTo>
                    <a:pt x="1336" y="50"/>
                  </a:lnTo>
                  <a:lnTo>
                    <a:pt x="1294" y="59"/>
                  </a:lnTo>
                  <a:lnTo>
                    <a:pt x="1211" y="59"/>
                  </a:lnTo>
                  <a:lnTo>
                    <a:pt x="1127" y="67"/>
                  </a:lnTo>
                  <a:lnTo>
                    <a:pt x="1023" y="67"/>
                  </a:lnTo>
                  <a:lnTo>
                    <a:pt x="960" y="67"/>
                  </a:lnTo>
                  <a:lnTo>
                    <a:pt x="876" y="67"/>
                  </a:lnTo>
                  <a:lnTo>
                    <a:pt x="846" y="67"/>
                  </a:lnTo>
                  <a:lnTo>
                    <a:pt x="762" y="76"/>
                  </a:lnTo>
                  <a:lnTo>
                    <a:pt x="699" y="76"/>
                  </a:lnTo>
                  <a:lnTo>
                    <a:pt x="668" y="59"/>
                  </a:lnTo>
                  <a:lnTo>
                    <a:pt x="636" y="42"/>
                  </a:lnTo>
                  <a:lnTo>
                    <a:pt x="606" y="42"/>
                  </a:lnTo>
                  <a:lnTo>
                    <a:pt x="543" y="42"/>
                  </a:lnTo>
                  <a:lnTo>
                    <a:pt x="521" y="42"/>
                  </a:lnTo>
                  <a:lnTo>
                    <a:pt x="491" y="50"/>
                  </a:lnTo>
                  <a:lnTo>
                    <a:pt x="459" y="50"/>
                  </a:lnTo>
                  <a:lnTo>
                    <a:pt x="428" y="50"/>
                  </a:lnTo>
                  <a:lnTo>
                    <a:pt x="324" y="50"/>
                  </a:lnTo>
                  <a:lnTo>
                    <a:pt x="292" y="50"/>
                  </a:lnTo>
                  <a:lnTo>
                    <a:pt x="250" y="50"/>
                  </a:lnTo>
                  <a:lnTo>
                    <a:pt x="219" y="50"/>
                  </a:lnTo>
                  <a:lnTo>
                    <a:pt x="135" y="50"/>
                  </a:lnTo>
                  <a:lnTo>
                    <a:pt x="52" y="50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solidFill>
              <a:srgbClr val="f8f8f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2" name="Freeform 3"/>
            <p:cNvSpPr/>
            <p:nvPr/>
          </p:nvSpPr>
          <p:spPr>
            <a:xfrm>
              <a:off x="262080" y="3316320"/>
              <a:ext cx="8288280" cy="135000"/>
            </a:xfrm>
            <a:custGeom>
              <a:avLst/>
              <a:gdLst/>
              <a:ahLst/>
              <a:rect l="l" t="t" r="r" b="b"/>
              <a:pathLst>
                <a:path w="5221" h="85">
                  <a:moveTo>
                    <a:pt x="0" y="25"/>
                  </a:moveTo>
                  <a:lnTo>
                    <a:pt x="94" y="16"/>
                  </a:lnTo>
                  <a:lnTo>
                    <a:pt x="125" y="8"/>
                  </a:lnTo>
                  <a:lnTo>
                    <a:pt x="167" y="8"/>
                  </a:lnTo>
                  <a:lnTo>
                    <a:pt x="198" y="8"/>
                  </a:lnTo>
                  <a:lnTo>
                    <a:pt x="240" y="8"/>
                  </a:lnTo>
                  <a:lnTo>
                    <a:pt x="324" y="8"/>
                  </a:lnTo>
                  <a:lnTo>
                    <a:pt x="355" y="16"/>
                  </a:lnTo>
                  <a:lnTo>
                    <a:pt x="386" y="16"/>
                  </a:lnTo>
                  <a:lnTo>
                    <a:pt x="428" y="25"/>
                  </a:lnTo>
                  <a:lnTo>
                    <a:pt x="459" y="33"/>
                  </a:lnTo>
                  <a:lnTo>
                    <a:pt x="491" y="33"/>
                  </a:lnTo>
                  <a:lnTo>
                    <a:pt x="574" y="33"/>
                  </a:lnTo>
                  <a:lnTo>
                    <a:pt x="616" y="33"/>
                  </a:lnTo>
                  <a:lnTo>
                    <a:pt x="657" y="33"/>
                  </a:lnTo>
                  <a:lnTo>
                    <a:pt x="731" y="33"/>
                  </a:lnTo>
                  <a:lnTo>
                    <a:pt x="793" y="33"/>
                  </a:lnTo>
                  <a:lnTo>
                    <a:pt x="856" y="33"/>
                  </a:lnTo>
                  <a:lnTo>
                    <a:pt x="918" y="33"/>
                  </a:lnTo>
                  <a:lnTo>
                    <a:pt x="950" y="33"/>
                  </a:lnTo>
                  <a:lnTo>
                    <a:pt x="1023" y="25"/>
                  </a:lnTo>
                  <a:lnTo>
                    <a:pt x="1065" y="16"/>
                  </a:lnTo>
                  <a:lnTo>
                    <a:pt x="1107" y="0"/>
                  </a:lnTo>
                  <a:lnTo>
                    <a:pt x="1137" y="0"/>
                  </a:lnTo>
                  <a:lnTo>
                    <a:pt x="1169" y="0"/>
                  </a:lnTo>
                  <a:lnTo>
                    <a:pt x="1232" y="0"/>
                  </a:lnTo>
                  <a:lnTo>
                    <a:pt x="1273" y="8"/>
                  </a:lnTo>
                  <a:lnTo>
                    <a:pt x="1336" y="8"/>
                  </a:lnTo>
                  <a:lnTo>
                    <a:pt x="1398" y="8"/>
                  </a:lnTo>
                  <a:lnTo>
                    <a:pt x="1420" y="16"/>
                  </a:lnTo>
                  <a:lnTo>
                    <a:pt x="1483" y="16"/>
                  </a:lnTo>
                  <a:lnTo>
                    <a:pt x="1545" y="25"/>
                  </a:lnTo>
                  <a:lnTo>
                    <a:pt x="1608" y="25"/>
                  </a:lnTo>
                  <a:lnTo>
                    <a:pt x="1649" y="25"/>
                  </a:lnTo>
                  <a:lnTo>
                    <a:pt x="1691" y="25"/>
                  </a:lnTo>
                  <a:lnTo>
                    <a:pt x="1733" y="25"/>
                  </a:lnTo>
                  <a:lnTo>
                    <a:pt x="1774" y="25"/>
                  </a:lnTo>
                  <a:lnTo>
                    <a:pt x="1816" y="16"/>
                  </a:lnTo>
                  <a:lnTo>
                    <a:pt x="1900" y="16"/>
                  </a:lnTo>
                  <a:lnTo>
                    <a:pt x="1984" y="25"/>
                  </a:lnTo>
                  <a:lnTo>
                    <a:pt x="2046" y="25"/>
                  </a:lnTo>
                  <a:lnTo>
                    <a:pt x="2109" y="25"/>
                  </a:lnTo>
                  <a:lnTo>
                    <a:pt x="2171" y="25"/>
                  </a:lnTo>
                  <a:lnTo>
                    <a:pt x="2234" y="25"/>
                  </a:lnTo>
                  <a:lnTo>
                    <a:pt x="2265" y="25"/>
                  </a:lnTo>
                  <a:lnTo>
                    <a:pt x="2307" y="25"/>
                  </a:lnTo>
                  <a:lnTo>
                    <a:pt x="2390" y="25"/>
                  </a:lnTo>
                  <a:lnTo>
                    <a:pt x="2464" y="25"/>
                  </a:lnTo>
                  <a:lnTo>
                    <a:pt x="2505" y="25"/>
                  </a:lnTo>
                  <a:lnTo>
                    <a:pt x="2547" y="25"/>
                  </a:lnTo>
                  <a:lnTo>
                    <a:pt x="2589" y="25"/>
                  </a:lnTo>
                  <a:lnTo>
                    <a:pt x="2651" y="25"/>
                  </a:lnTo>
                  <a:lnTo>
                    <a:pt x="2693" y="25"/>
                  </a:lnTo>
                  <a:lnTo>
                    <a:pt x="2725" y="25"/>
                  </a:lnTo>
                  <a:lnTo>
                    <a:pt x="2756" y="25"/>
                  </a:lnTo>
                  <a:lnTo>
                    <a:pt x="2819" y="25"/>
                  </a:lnTo>
                  <a:lnTo>
                    <a:pt x="2881" y="25"/>
                  </a:lnTo>
                  <a:lnTo>
                    <a:pt x="2965" y="25"/>
                  </a:lnTo>
                  <a:lnTo>
                    <a:pt x="3006" y="33"/>
                  </a:lnTo>
                  <a:lnTo>
                    <a:pt x="3038" y="33"/>
                  </a:lnTo>
                  <a:lnTo>
                    <a:pt x="3069" y="33"/>
                  </a:lnTo>
                  <a:lnTo>
                    <a:pt x="3101" y="59"/>
                  </a:lnTo>
                  <a:lnTo>
                    <a:pt x="3131" y="84"/>
                  </a:lnTo>
                  <a:lnTo>
                    <a:pt x="3152" y="59"/>
                  </a:lnTo>
                  <a:lnTo>
                    <a:pt x="3216" y="67"/>
                  </a:lnTo>
                  <a:lnTo>
                    <a:pt x="3246" y="67"/>
                  </a:lnTo>
                  <a:lnTo>
                    <a:pt x="3288" y="59"/>
                  </a:lnTo>
                  <a:lnTo>
                    <a:pt x="3320" y="50"/>
                  </a:lnTo>
                  <a:lnTo>
                    <a:pt x="3351" y="50"/>
                  </a:lnTo>
                  <a:lnTo>
                    <a:pt x="3435" y="50"/>
                  </a:lnTo>
                  <a:lnTo>
                    <a:pt x="3539" y="50"/>
                  </a:lnTo>
                  <a:lnTo>
                    <a:pt x="3643" y="50"/>
                  </a:lnTo>
                  <a:lnTo>
                    <a:pt x="3706" y="50"/>
                  </a:lnTo>
                  <a:lnTo>
                    <a:pt x="3768" y="42"/>
                  </a:lnTo>
                  <a:lnTo>
                    <a:pt x="3810" y="33"/>
                  </a:lnTo>
                  <a:lnTo>
                    <a:pt x="3832" y="25"/>
                  </a:lnTo>
                  <a:lnTo>
                    <a:pt x="3862" y="16"/>
                  </a:lnTo>
                  <a:lnTo>
                    <a:pt x="3894" y="8"/>
                  </a:lnTo>
                  <a:lnTo>
                    <a:pt x="3957" y="8"/>
                  </a:lnTo>
                  <a:lnTo>
                    <a:pt x="3987" y="8"/>
                  </a:lnTo>
                  <a:lnTo>
                    <a:pt x="4072" y="8"/>
                  </a:lnTo>
                  <a:lnTo>
                    <a:pt x="4155" y="8"/>
                  </a:lnTo>
                  <a:lnTo>
                    <a:pt x="4186" y="8"/>
                  </a:lnTo>
                  <a:lnTo>
                    <a:pt x="4227" y="8"/>
                  </a:lnTo>
                  <a:lnTo>
                    <a:pt x="4312" y="8"/>
                  </a:lnTo>
                  <a:lnTo>
                    <a:pt x="4374" y="8"/>
                  </a:lnTo>
                  <a:lnTo>
                    <a:pt x="4405" y="25"/>
                  </a:lnTo>
                  <a:lnTo>
                    <a:pt x="4437" y="33"/>
                  </a:lnTo>
                  <a:lnTo>
                    <a:pt x="4478" y="33"/>
                  </a:lnTo>
                  <a:lnTo>
                    <a:pt x="4562" y="33"/>
                  </a:lnTo>
                  <a:lnTo>
                    <a:pt x="4624" y="33"/>
                  </a:lnTo>
                  <a:lnTo>
                    <a:pt x="4687" y="33"/>
                  </a:lnTo>
                  <a:lnTo>
                    <a:pt x="4709" y="33"/>
                  </a:lnTo>
                  <a:lnTo>
                    <a:pt x="4750" y="33"/>
                  </a:lnTo>
                  <a:lnTo>
                    <a:pt x="4792" y="33"/>
                  </a:lnTo>
                  <a:lnTo>
                    <a:pt x="4834" y="33"/>
                  </a:lnTo>
                  <a:lnTo>
                    <a:pt x="4896" y="33"/>
                  </a:lnTo>
                  <a:lnTo>
                    <a:pt x="4928" y="33"/>
                  </a:lnTo>
                  <a:lnTo>
                    <a:pt x="5000" y="33"/>
                  </a:lnTo>
                  <a:lnTo>
                    <a:pt x="5074" y="33"/>
                  </a:lnTo>
                  <a:lnTo>
                    <a:pt x="5147" y="33"/>
                  </a:lnTo>
                  <a:lnTo>
                    <a:pt x="5178" y="33"/>
                  </a:lnTo>
                  <a:lnTo>
                    <a:pt x="5220" y="50"/>
                  </a:lnTo>
                  <a:lnTo>
                    <a:pt x="5199" y="76"/>
                  </a:lnTo>
                  <a:lnTo>
                    <a:pt x="5115" y="76"/>
                  </a:lnTo>
                  <a:lnTo>
                    <a:pt x="5084" y="76"/>
                  </a:lnTo>
                  <a:lnTo>
                    <a:pt x="5000" y="67"/>
                  </a:lnTo>
                  <a:lnTo>
                    <a:pt x="4938" y="67"/>
                  </a:lnTo>
                  <a:lnTo>
                    <a:pt x="4906" y="67"/>
                  </a:lnTo>
                  <a:lnTo>
                    <a:pt x="4864" y="67"/>
                  </a:lnTo>
                  <a:lnTo>
                    <a:pt x="4792" y="67"/>
                  </a:lnTo>
                  <a:lnTo>
                    <a:pt x="4719" y="67"/>
                  </a:lnTo>
                  <a:lnTo>
                    <a:pt x="4687" y="67"/>
                  </a:lnTo>
                  <a:lnTo>
                    <a:pt x="4624" y="67"/>
                  </a:lnTo>
                  <a:lnTo>
                    <a:pt x="4583" y="67"/>
                  </a:lnTo>
                  <a:lnTo>
                    <a:pt x="4499" y="76"/>
                  </a:lnTo>
                  <a:lnTo>
                    <a:pt x="4468" y="84"/>
                  </a:lnTo>
                  <a:lnTo>
                    <a:pt x="4426" y="84"/>
                  </a:lnTo>
                  <a:lnTo>
                    <a:pt x="4395" y="84"/>
                  </a:lnTo>
                  <a:lnTo>
                    <a:pt x="4312" y="84"/>
                  </a:lnTo>
                  <a:lnTo>
                    <a:pt x="4248" y="84"/>
                  </a:lnTo>
                  <a:lnTo>
                    <a:pt x="4218" y="84"/>
                  </a:lnTo>
                  <a:lnTo>
                    <a:pt x="4113" y="76"/>
                  </a:lnTo>
                  <a:lnTo>
                    <a:pt x="4029" y="76"/>
                  </a:lnTo>
                  <a:lnTo>
                    <a:pt x="3946" y="67"/>
                  </a:lnTo>
                  <a:lnTo>
                    <a:pt x="3883" y="59"/>
                  </a:lnTo>
                  <a:lnTo>
                    <a:pt x="3852" y="59"/>
                  </a:lnTo>
                  <a:lnTo>
                    <a:pt x="3821" y="59"/>
                  </a:lnTo>
                  <a:lnTo>
                    <a:pt x="3789" y="59"/>
                  </a:lnTo>
                  <a:lnTo>
                    <a:pt x="3758" y="59"/>
                  </a:lnTo>
                  <a:lnTo>
                    <a:pt x="3675" y="59"/>
                  </a:lnTo>
                  <a:lnTo>
                    <a:pt x="3612" y="59"/>
                  </a:lnTo>
                  <a:lnTo>
                    <a:pt x="3549" y="59"/>
                  </a:lnTo>
                  <a:lnTo>
                    <a:pt x="3518" y="59"/>
                  </a:lnTo>
                  <a:lnTo>
                    <a:pt x="3486" y="76"/>
                  </a:lnTo>
                  <a:lnTo>
                    <a:pt x="3456" y="76"/>
                  </a:lnTo>
                  <a:lnTo>
                    <a:pt x="3393" y="84"/>
                  </a:lnTo>
                  <a:lnTo>
                    <a:pt x="3320" y="84"/>
                  </a:lnTo>
                  <a:lnTo>
                    <a:pt x="3236" y="84"/>
                  </a:lnTo>
                  <a:lnTo>
                    <a:pt x="3205" y="84"/>
                  </a:lnTo>
                  <a:lnTo>
                    <a:pt x="3121" y="84"/>
                  </a:lnTo>
                  <a:lnTo>
                    <a:pt x="3059" y="84"/>
                  </a:lnTo>
                  <a:lnTo>
                    <a:pt x="3027" y="84"/>
                  </a:lnTo>
                  <a:lnTo>
                    <a:pt x="2944" y="76"/>
                  </a:lnTo>
                  <a:lnTo>
                    <a:pt x="2860" y="76"/>
                  </a:lnTo>
                  <a:lnTo>
                    <a:pt x="2798" y="76"/>
                  </a:lnTo>
                  <a:lnTo>
                    <a:pt x="2714" y="76"/>
                  </a:lnTo>
                  <a:lnTo>
                    <a:pt x="2651" y="84"/>
                  </a:lnTo>
                  <a:lnTo>
                    <a:pt x="2589" y="84"/>
                  </a:lnTo>
                  <a:lnTo>
                    <a:pt x="2505" y="84"/>
                  </a:lnTo>
                  <a:lnTo>
                    <a:pt x="2474" y="76"/>
                  </a:lnTo>
                  <a:lnTo>
                    <a:pt x="2432" y="76"/>
                  </a:lnTo>
                  <a:lnTo>
                    <a:pt x="2360" y="76"/>
                  </a:lnTo>
                  <a:lnTo>
                    <a:pt x="2318" y="76"/>
                  </a:lnTo>
                  <a:lnTo>
                    <a:pt x="2254" y="76"/>
                  </a:lnTo>
                  <a:lnTo>
                    <a:pt x="2192" y="76"/>
                  </a:lnTo>
                  <a:lnTo>
                    <a:pt x="2150" y="76"/>
                  </a:lnTo>
                  <a:lnTo>
                    <a:pt x="2088" y="76"/>
                  </a:lnTo>
                  <a:lnTo>
                    <a:pt x="2056" y="67"/>
                  </a:lnTo>
                  <a:lnTo>
                    <a:pt x="2014" y="59"/>
                  </a:lnTo>
                  <a:lnTo>
                    <a:pt x="1973" y="59"/>
                  </a:lnTo>
                  <a:lnTo>
                    <a:pt x="1889" y="59"/>
                  </a:lnTo>
                  <a:lnTo>
                    <a:pt x="1859" y="59"/>
                  </a:lnTo>
                  <a:lnTo>
                    <a:pt x="1837" y="67"/>
                  </a:lnTo>
                  <a:lnTo>
                    <a:pt x="1774" y="76"/>
                  </a:lnTo>
                  <a:lnTo>
                    <a:pt x="1743" y="84"/>
                  </a:lnTo>
                  <a:lnTo>
                    <a:pt x="1660" y="76"/>
                  </a:lnTo>
                  <a:lnTo>
                    <a:pt x="1628" y="76"/>
                  </a:lnTo>
                  <a:lnTo>
                    <a:pt x="1545" y="84"/>
                  </a:lnTo>
                  <a:lnTo>
                    <a:pt x="1513" y="84"/>
                  </a:lnTo>
                  <a:lnTo>
                    <a:pt x="1483" y="84"/>
                  </a:lnTo>
                  <a:lnTo>
                    <a:pt x="1451" y="59"/>
                  </a:lnTo>
                  <a:lnTo>
                    <a:pt x="1409" y="50"/>
                  </a:lnTo>
                  <a:lnTo>
                    <a:pt x="1336" y="50"/>
                  </a:lnTo>
                  <a:lnTo>
                    <a:pt x="1294" y="59"/>
                  </a:lnTo>
                  <a:lnTo>
                    <a:pt x="1211" y="59"/>
                  </a:lnTo>
                  <a:lnTo>
                    <a:pt x="1127" y="67"/>
                  </a:lnTo>
                  <a:lnTo>
                    <a:pt x="1023" y="67"/>
                  </a:lnTo>
                  <a:lnTo>
                    <a:pt x="960" y="67"/>
                  </a:lnTo>
                  <a:lnTo>
                    <a:pt x="876" y="67"/>
                  </a:lnTo>
                  <a:lnTo>
                    <a:pt x="846" y="67"/>
                  </a:lnTo>
                  <a:lnTo>
                    <a:pt x="762" y="76"/>
                  </a:lnTo>
                  <a:lnTo>
                    <a:pt x="699" y="76"/>
                  </a:lnTo>
                  <a:lnTo>
                    <a:pt x="668" y="59"/>
                  </a:lnTo>
                  <a:lnTo>
                    <a:pt x="636" y="42"/>
                  </a:lnTo>
                  <a:lnTo>
                    <a:pt x="606" y="42"/>
                  </a:lnTo>
                  <a:lnTo>
                    <a:pt x="543" y="42"/>
                  </a:lnTo>
                  <a:lnTo>
                    <a:pt x="521" y="42"/>
                  </a:lnTo>
                  <a:lnTo>
                    <a:pt x="491" y="50"/>
                  </a:lnTo>
                  <a:lnTo>
                    <a:pt x="459" y="50"/>
                  </a:lnTo>
                  <a:lnTo>
                    <a:pt x="428" y="50"/>
                  </a:lnTo>
                  <a:lnTo>
                    <a:pt x="324" y="50"/>
                  </a:lnTo>
                  <a:lnTo>
                    <a:pt x="292" y="50"/>
                  </a:lnTo>
                  <a:lnTo>
                    <a:pt x="250" y="50"/>
                  </a:lnTo>
                  <a:lnTo>
                    <a:pt x="219" y="50"/>
                  </a:lnTo>
                  <a:lnTo>
                    <a:pt x="135" y="50"/>
                  </a:lnTo>
                  <a:lnTo>
                    <a:pt x="52" y="50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solidFill>
              <a:srgbClr val="3939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6188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900160" y="6232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329160" y="6232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1F78-2FEE-4894-80E7-029C7E46166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jpeg"/><Relationship Id="rId3" Type="http://schemas.openxmlformats.org/officeDocument/2006/relationships/image" Target="../media/image6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623880" y="30240"/>
            <a:ext cx="7772400" cy="60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ВЫБЕРИТЕ ПРАВИЛЬНЫЙ ОТВЕТ.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4120" y="1026720"/>
            <a:ext cx="4586040" cy="9493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исус Христо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родился 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14480" y="2494080"/>
            <a:ext cx="4586040" cy="949320"/>
          </a:xfrm>
          <a:prstGeom prst="rect">
            <a:avLst/>
          </a:prstGeom>
          <a:solidFill>
            <a:srgbClr val="ccffcc"/>
          </a:solidFill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Христа предал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14480" y="4149720"/>
            <a:ext cx="4586040" cy="949320"/>
          </a:xfrm>
          <a:prstGeom prst="rect">
            <a:avLst/>
          </a:prstGeom>
          <a:solidFill>
            <a:srgbClr val="cce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Христос был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114480" y="5521320"/>
            <a:ext cx="4586040" cy="9493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ервые христиане собирались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5170320" y="816120"/>
            <a:ext cx="3892680" cy="4330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Назарете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5170320" y="1320840"/>
            <a:ext cx="3892680" cy="4334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Иерусалиме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5170320" y="1825560"/>
            <a:ext cx="3892680" cy="4334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Вифлееме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5170320" y="2332080"/>
            <a:ext cx="3892680" cy="433440"/>
          </a:xfrm>
          <a:prstGeom prst="rect">
            <a:avLst/>
          </a:prstGeom>
          <a:solidFill>
            <a:srgbClr val="ccffcc"/>
          </a:solidFill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Иоан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5170320" y="2836800"/>
            <a:ext cx="3892680" cy="433440"/>
          </a:xfrm>
          <a:prstGeom prst="rect">
            <a:avLst/>
          </a:prstGeom>
          <a:solidFill>
            <a:srgbClr val="ccffcc"/>
          </a:solidFill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Матфей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5170320" y="3341520"/>
            <a:ext cx="3892680" cy="433440"/>
          </a:xfrm>
          <a:prstGeom prst="rect">
            <a:avLst/>
          </a:prstGeom>
          <a:solidFill>
            <a:srgbClr val="ccffcc"/>
          </a:solidFill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Иуда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5170320" y="5364000"/>
            <a:ext cx="3892680" cy="4334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В храмах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5170320" y="5869080"/>
            <a:ext cx="3892680" cy="4334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В лесах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17" name="Rectangle 15"/>
          <p:cNvSpPr/>
          <p:nvPr/>
        </p:nvSpPr>
        <p:spPr>
          <a:xfrm>
            <a:off x="5170320" y="6375240"/>
            <a:ext cx="3892680" cy="4334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В катакомбах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5170320" y="3848040"/>
            <a:ext cx="3892680" cy="433440"/>
          </a:xfrm>
          <a:prstGeom prst="rect">
            <a:avLst/>
          </a:prstGeom>
          <a:solidFill>
            <a:srgbClr val="cce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Отравлен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19" name="Rectangle 17"/>
          <p:cNvSpPr/>
          <p:nvPr/>
        </p:nvSpPr>
        <p:spPr>
          <a:xfrm>
            <a:off x="5170320" y="4352760"/>
            <a:ext cx="3892680" cy="433440"/>
          </a:xfrm>
          <a:prstGeom prst="rect">
            <a:avLst/>
          </a:prstGeom>
          <a:solidFill>
            <a:srgbClr val="cce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Распят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20" name="Rectangle 18"/>
          <p:cNvSpPr/>
          <p:nvPr/>
        </p:nvSpPr>
        <p:spPr>
          <a:xfrm>
            <a:off x="5170320" y="4857840"/>
            <a:ext cx="3892680" cy="433440"/>
          </a:xfrm>
          <a:prstGeom prst="rect">
            <a:avLst/>
          </a:prstGeom>
          <a:solidFill>
            <a:srgbClr val="cce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Зарезан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3880" y="101520"/>
            <a:ext cx="7772400" cy="114480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2.ПРАВЛЕНИЕ ИМПЕРАТОРА ТРАЯНА</a:t>
            </a: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003200" y="1298160"/>
            <a:ext cx="4962600" cy="5483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Траян фактически ввел «свободу слова»,при нем перестали наказывать за неосторожные шутки и фраз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При Траяне были завоева-ны последние провинции-Дакия, на левом берегу Дуная и Парф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Но вскоре в Парфии прои-зошло восстание  и по до-роге домой Траян уме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232560" y="6249960"/>
            <a:ext cx="247284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Колонна Траяна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190" name="Picture 12" descr="2"/>
          <p:cNvPicPr/>
          <p:nvPr/>
        </p:nvPicPr>
        <p:blipFill>
          <a:blip r:embed="rId2"/>
          <a:stretch/>
        </p:blipFill>
        <p:spPr>
          <a:xfrm>
            <a:off x="895320" y="1360440"/>
            <a:ext cx="1098720" cy="483876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  <p:grpSp>
        <p:nvGrpSpPr>
          <p:cNvPr id="191" name="Group 16"/>
          <p:cNvGrpSpPr/>
          <p:nvPr/>
        </p:nvGrpSpPr>
        <p:grpSpPr>
          <a:xfrm>
            <a:off x="1514880" y="1802520"/>
            <a:ext cx="1922040" cy="1618560"/>
            <a:chOff x="1514880" y="1802520"/>
            <a:chExt cx="1922040" cy="1618560"/>
          </a:xfrm>
        </p:grpSpPr>
        <p:sp>
          <p:nvSpPr>
            <p:cNvPr id="192" name="Line 17"/>
            <p:cNvSpPr/>
            <p:nvPr/>
          </p:nvSpPr>
          <p:spPr>
            <a:xfrm>
              <a:off x="1514880" y="1802520"/>
              <a:ext cx="729360" cy="48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pic>
          <p:nvPicPr>
            <p:cNvPr id="193" name="Picture 18" descr="Рисунок3"/>
            <p:cNvPicPr/>
            <p:nvPr/>
          </p:nvPicPr>
          <p:blipFill>
            <a:blip r:embed="rId3"/>
            <a:stretch/>
          </p:blipFill>
          <p:spPr>
            <a:xfrm>
              <a:off x="2206800" y="2224080"/>
              <a:ext cx="1230120" cy="119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7" dur="1" fill="hold"/>
                                  <p:tgtEl>
                                    <p:spTgt spid="1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1114560"/>
            <a:ext cx="9144000" cy="2465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При Траяне по всей империи шло грандиозное строительств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В Риме до сих пор сохранился Форум Траяна с его знаменитой колонной.На ней изображены барелье-фы со сценами из дакской вой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674640" y="55080"/>
            <a:ext cx="7772400" cy="96228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3.СТРОИТЕЛЬСТВО В РИМСКОЙ ИМПЕРИИ.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96" name="Picture 10" descr="Рисунок3"/>
          <p:cNvPicPr/>
          <p:nvPr/>
        </p:nvPicPr>
        <p:blipFill>
          <a:blip r:embed="rId2"/>
          <a:stretch/>
        </p:blipFill>
        <p:spPr>
          <a:xfrm>
            <a:off x="71280" y="3718080"/>
            <a:ext cx="9053640" cy="303840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1" dur="1" fill="hold"/>
                                  <p:tgtEl>
                                    <p:spTgt spid="19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8960" y="4832280"/>
            <a:ext cx="9056520" cy="1967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троительство любого здания шло с разрешения императора. Любое сооружение строилось с запасом прочности. В Риме был изобретен бетон-песок и мелкие камни смешивали с из-вестью, разбавляли водой и получали раствор, соединявший каменные плиты намертв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674640" y="80640"/>
            <a:ext cx="7772400" cy="101268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3.СТРОИТЕЛЬСТВО В РИМСКОЙ ИМПЕРИИ.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99" name="Picture 7" descr="1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035160" y="1231920"/>
            <a:ext cx="5766120" cy="350532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  <p:sp>
        <p:nvSpPr>
          <p:cNvPr id="200" name="Text Box 8"/>
          <p:cNvSpPr/>
          <p:nvPr/>
        </p:nvSpPr>
        <p:spPr>
          <a:xfrm>
            <a:off x="204840" y="2362320"/>
            <a:ext cx="2549520" cy="825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 Cyr"/>
              </a:rPr>
              <a:t>Амфитеатр 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 Cyr"/>
              </a:rPr>
              <a:t>в Арле.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0" dur="1" fill="hold"/>
                                  <p:tgtEl>
                                    <p:spTgt spid="1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2" descr="4"/>
          <p:cNvPicPr/>
          <p:nvPr/>
        </p:nvPicPr>
        <p:blipFill>
          <a:blip r:embed="rId1"/>
          <a:stretch/>
        </p:blipFill>
        <p:spPr>
          <a:xfrm>
            <a:off x="76320" y="1154160"/>
            <a:ext cx="9048600" cy="562752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4640" y="25200"/>
            <a:ext cx="7772400" cy="10141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3.СТРОИТЕЛЬСТВО В РИМСКОЙ ИМПЕРИИ.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33480" y="1116000"/>
            <a:ext cx="3135240" cy="825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 Cyr"/>
              </a:rPr>
              <a:t>«Все дороги ведут 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 Cyr"/>
              </a:rPr>
              <a:t>в Рим».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4640" y="106200"/>
            <a:ext cx="7772400" cy="101304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3.СТРОИТЕЛЬСТВО В РИМСКОЙ ИМПЕРИИ.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-360" y="4637160"/>
            <a:ext cx="9093240" cy="2201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дними из красивейших сооружений Древнего Рима были по-хожие друг на друга ВИАДУКИ и АКВЕДУ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ВИАДУК-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арочный мост через реку,или ущель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АКВЕДУК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-каменная труба, или кладка для подачи воды. Что-бы вода текла самотеком строились арочные опор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Picture 8" descr="3"/>
          <p:cNvPicPr/>
          <p:nvPr/>
        </p:nvPicPr>
        <p:blipFill>
          <a:blip r:embed="rId2"/>
          <a:stretch/>
        </p:blipFill>
        <p:spPr>
          <a:xfrm>
            <a:off x="3765600" y="1247760"/>
            <a:ext cx="5013360" cy="330840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  <p:sp>
        <p:nvSpPr>
          <p:cNvPr id="207" name="Text Box 9"/>
          <p:cNvSpPr/>
          <p:nvPr/>
        </p:nvSpPr>
        <p:spPr>
          <a:xfrm>
            <a:off x="585720" y="2114640"/>
            <a:ext cx="2549520" cy="1557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 Cyr"/>
              </a:rPr>
              <a:t>Пон-дю-Гар.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 Cyr"/>
              </a:rPr>
              <a:t>Акведук в Южной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 Cyr"/>
              </a:rPr>
              <a:t>Франции.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9" dur="1" fill="hold"/>
                                  <p:tgtEl>
                                    <p:spTgt spid="2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49440" y="105840"/>
            <a:ext cx="7772400" cy="98748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3.СТРОИТЕЛЬСТВО В РИМСКОЙ ИМПЕРИИ.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311360" y="1749600"/>
            <a:ext cx="4730760" cy="4217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Рим превратился в самый крупный город во всем Средиземноморь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В нем проживало около 80 тысяч челове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Город, раскинувшийся на обоих берегах Тибра, поражал всех,кто впер-вые приезжал в нег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11" descr="Рисунок2"/>
          <p:cNvPicPr/>
          <p:nvPr/>
        </p:nvPicPr>
        <p:blipFill>
          <a:blip r:embed="rId2"/>
          <a:stretch/>
        </p:blipFill>
        <p:spPr>
          <a:xfrm>
            <a:off x="146160" y="1279440"/>
            <a:ext cx="4047840" cy="423720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  <p:sp>
        <p:nvSpPr>
          <p:cNvPr id="211" name="Text Box 12"/>
          <p:cNvSpPr/>
          <p:nvPr/>
        </p:nvSpPr>
        <p:spPr>
          <a:xfrm>
            <a:off x="841320" y="5735520"/>
            <a:ext cx="2549520" cy="825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 Cyr"/>
              </a:rPr>
              <a:t>План Рима в 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 Cyr"/>
              </a:rPr>
              <a:t>1 веке н.е.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8" dur="1" fill="hold"/>
                                  <p:tgtEl>
                                    <p:spTgt spid="2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РАСЦВЕТ РИМСКОЙ ИМПЕРИИ ВО 2-М ВЕКЕ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2560" y="334440"/>
            <a:ext cx="7772400" cy="73044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ПЛАН УРОКА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2560" y="2066760"/>
            <a:ext cx="7772400" cy="3445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1.ОТКАЗ ОТ РАБСКОГО ТРУДА В СЕЛЬСКОМ ХОЗЯЙСТВ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2.ПРАВЛЕНИЕ ИМПЕРАТОРА ТРАЯ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3.СТРОИТЕЛЬСТВО В РИМСКОЙ ИМПЕР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1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2560" y="334440"/>
            <a:ext cx="7772400" cy="73044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ЗАДАНИЕ НА УРОК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2560" y="2066760"/>
            <a:ext cx="7772400" cy="3213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?  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Как вы думаете,почему именно в период империи в Древнем Риме было сооружено огромное количество величественных построек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 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4640" y="105840"/>
            <a:ext cx="7772400" cy="104004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1.ОТКАЗ ОТ РАБСКОГО ТРУДА В СЕЛЬСКОМ ХОЗЯЙСТВЕ.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4605120"/>
            <a:ext cx="9074160" cy="2192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о 2 в.размер земельных участков знати увеличился. Здесь работали сотни рабов, не заинтересованных в труд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939"/>
                </a:solidFill>
                <a:latin typeface="Times New Roman"/>
              </a:rPr>
              <a:t>?   </a:t>
            </a: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Подумайте</a:t>
            </a:r>
            <a:r>
              <a:rPr b="1" lang="en-US" sz="2400" spc="-1" strike="noStrike">
                <a:solidFill>
                  <a:srgbClr val="393939"/>
                </a:solidFill>
                <a:latin typeface="Times New Roman"/>
              </a:rPr>
              <a:t>,</a:t>
            </a: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почему</a:t>
            </a:r>
            <a:r>
              <a:rPr b="1" lang="en-US" sz="2400" spc="-1" strike="noStrike">
                <a:solidFill>
                  <a:srgbClr val="393939"/>
                </a:solidFill>
                <a:latin typeface="Times New Roman"/>
              </a:rPr>
              <a:t>  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адсмотрщики не могли уследить за всеми сразу,-поэтому урожайность снизилас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12" descr="1"/>
          <p:cNvPicPr/>
          <p:nvPr/>
        </p:nvPicPr>
        <p:blipFill>
          <a:blip r:embed="rId2"/>
          <a:stretch/>
        </p:blipFill>
        <p:spPr>
          <a:xfrm>
            <a:off x="1762200" y="1263600"/>
            <a:ext cx="5933880" cy="329256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" dur="1" fill="hold"/>
                                  <p:tgtEl>
                                    <p:spTgt spid="1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308120" y="1782360"/>
            <a:ext cx="4465800" cy="4241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Владельцы поместий на-чали делить свои учас-тки на несколько час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тей, которые затем раздавали для обра-ботки беднякам, или отпущенным на волю рабам за определенную плат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0" name="Object 13"/>
          <p:cNvGraphicFramePr/>
          <p:nvPr/>
        </p:nvGraphicFramePr>
        <p:xfrm>
          <a:off x="1181160" y="2822400"/>
          <a:ext cx="2666880" cy="17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1160" y="2822400"/>
                    <a:ext cx="2666880" cy="17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74640" y="105840"/>
            <a:ext cx="7772400" cy="104004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1.ОТКАЗ ОТ РАБСКОГО ТРУДА В СЕЛЬСКОМ ХОЗЯЙСТВЕ.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33" name="Object 5" descr=""/>
          <p:cNvPicPr/>
          <p:nvPr/>
        </p:nvPicPr>
        <p:blipFill>
          <a:blip r:embed="rId4"/>
          <a:stretch/>
        </p:blipFill>
        <p:spPr>
          <a:xfrm>
            <a:off x="719280" y="1268280"/>
            <a:ext cx="703080" cy="1281240"/>
          </a:xfrm>
          <a:prstGeom prst="rect">
            <a:avLst/>
          </a:prstGeom>
          <a:ln w="0">
            <a:noFill/>
          </a:ln>
        </p:spPr>
      </p:pic>
      <p:pic>
        <p:nvPicPr>
          <p:cNvPr id="134" name="Object 8" descr=""/>
          <p:cNvPicPr/>
          <p:nvPr/>
        </p:nvPicPr>
        <p:blipFill>
          <a:blip r:embed="rId5"/>
          <a:stretch/>
        </p:blipFill>
        <p:spPr>
          <a:xfrm>
            <a:off x="1189080" y="2846520"/>
            <a:ext cx="2502000" cy="150012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5"/>
          <p:cNvGrpSpPr/>
          <p:nvPr/>
        </p:nvGrpSpPr>
        <p:grpSpPr>
          <a:xfrm>
            <a:off x="428760" y="3369960"/>
            <a:ext cx="1148040" cy="2522880"/>
            <a:chOff x="428760" y="3369960"/>
            <a:chExt cx="1148040" cy="2522880"/>
          </a:xfrm>
        </p:grpSpPr>
        <p:pic>
          <p:nvPicPr>
            <p:cNvPr id="136" name="Object 11" descr=""/>
            <p:cNvPicPr/>
            <p:nvPr/>
          </p:nvPicPr>
          <p:blipFill>
            <a:blip r:embed="rId6"/>
            <a:stretch/>
          </p:blipFill>
          <p:spPr>
            <a:xfrm>
              <a:off x="428760" y="4172040"/>
              <a:ext cx="690480" cy="17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AutoShape 14"/>
            <p:cNvSpPr/>
            <p:nvPr/>
          </p:nvSpPr>
          <p:spPr>
            <a:xfrm rot="1816800">
              <a:off x="878040" y="342576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solidFill>
              <a:srgbClr val="ffccff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138" name="Group 17"/>
          <p:cNvGrpSpPr/>
          <p:nvPr/>
        </p:nvGrpSpPr>
        <p:grpSpPr>
          <a:xfrm>
            <a:off x="1407960" y="3373920"/>
            <a:ext cx="810720" cy="2825280"/>
            <a:chOff x="1407960" y="3373920"/>
            <a:chExt cx="810720" cy="2825280"/>
          </a:xfrm>
        </p:grpSpPr>
        <p:pic>
          <p:nvPicPr>
            <p:cNvPr id="139" name="Object 10" descr=""/>
            <p:cNvPicPr/>
            <p:nvPr/>
          </p:nvPicPr>
          <p:blipFill>
            <a:blip r:embed="rId7"/>
            <a:stretch/>
          </p:blipFill>
          <p:spPr>
            <a:xfrm>
              <a:off x="1407960" y="4478400"/>
              <a:ext cx="690480" cy="17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AutoShape 16"/>
            <p:cNvSpPr/>
            <p:nvPr/>
          </p:nvSpPr>
          <p:spPr>
            <a:xfrm rot="1044000">
              <a:off x="1598040" y="342396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solidFill>
              <a:srgbClr val="ffccff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141" name="Group 19"/>
          <p:cNvGrpSpPr/>
          <p:nvPr/>
        </p:nvGrpSpPr>
        <p:grpSpPr>
          <a:xfrm>
            <a:off x="2240640" y="3615480"/>
            <a:ext cx="839160" cy="2888640"/>
            <a:chOff x="2240640" y="3615480"/>
            <a:chExt cx="839160" cy="2888640"/>
          </a:xfrm>
        </p:grpSpPr>
        <p:pic>
          <p:nvPicPr>
            <p:cNvPr id="142" name="Object 9" descr=""/>
            <p:cNvPicPr/>
            <p:nvPr/>
          </p:nvPicPr>
          <p:blipFill>
            <a:blip r:embed="rId8"/>
            <a:stretch/>
          </p:blipFill>
          <p:spPr>
            <a:xfrm>
              <a:off x="2389320" y="4782960"/>
              <a:ext cx="690480" cy="17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AutoShape 18"/>
            <p:cNvSpPr/>
            <p:nvPr/>
          </p:nvSpPr>
          <p:spPr>
            <a:xfrm rot="20816400">
              <a:off x="2344320" y="3657600"/>
              <a:ext cx="486000" cy="976320"/>
            </a:xfrm>
            <a:prstGeom prst="downArrow">
              <a:avLst>
                <a:gd name="adj1" fmla="val 50000"/>
                <a:gd name="adj2" fmla="val 50222"/>
              </a:avLst>
            </a:prstGeom>
            <a:solidFill>
              <a:srgbClr val="ffccff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144" name="Group 21"/>
          <p:cNvGrpSpPr/>
          <p:nvPr/>
        </p:nvGrpSpPr>
        <p:grpSpPr>
          <a:xfrm>
            <a:off x="3015720" y="4037760"/>
            <a:ext cx="1044720" cy="2770920"/>
            <a:chOff x="3015720" y="4037760"/>
            <a:chExt cx="1044720" cy="2770920"/>
          </a:xfrm>
        </p:grpSpPr>
        <p:pic>
          <p:nvPicPr>
            <p:cNvPr id="145" name="Object 6" descr=""/>
            <p:cNvPicPr/>
            <p:nvPr/>
          </p:nvPicPr>
          <p:blipFill>
            <a:blip r:embed="rId9"/>
            <a:stretch/>
          </p:blipFill>
          <p:spPr>
            <a:xfrm>
              <a:off x="3369960" y="5087880"/>
              <a:ext cx="690480" cy="17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AutoShape 20"/>
            <p:cNvSpPr/>
            <p:nvPr/>
          </p:nvSpPr>
          <p:spPr>
            <a:xfrm rot="20152800">
              <a:off x="3193920" y="409392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solidFill>
              <a:srgbClr val="ffccff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147" name="AutoShape 23"/>
          <p:cNvSpPr/>
          <p:nvPr/>
        </p:nvSpPr>
        <p:spPr>
          <a:xfrm flipV="1">
            <a:off x="1547640" y="1905840"/>
            <a:ext cx="852840" cy="733320"/>
          </a:xfrm>
          <a:custGeom>
            <a:avLst/>
            <a:gdLst>
              <a:gd name="textAreaLeft" fmla="*/ 0 w 852840"/>
              <a:gd name="textAreaRight" fmla="*/ 731160 w 852840"/>
              <a:gd name="textAreaTop" fmla="*/ 488520 h 733320"/>
              <a:gd name="textAreaBottom" fmla="*/ 733320 h 7333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9933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Object 1031" descr=""/>
          <p:cNvPicPr/>
          <p:nvPr/>
        </p:nvPicPr>
        <p:blipFill>
          <a:blip r:embed="rId1"/>
          <a:stretch/>
        </p:blipFill>
        <p:spPr>
          <a:xfrm>
            <a:off x="903240" y="2846520"/>
            <a:ext cx="2502000" cy="15001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026"/>
          <p:cNvSpPr/>
          <p:nvPr/>
        </p:nvSpPr>
        <p:spPr>
          <a:xfrm>
            <a:off x="4233960" y="1868400"/>
            <a:ext cx="4778280" cy="2905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За пользование участком земледельцы отдавали владельцу земли треть урожая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Этих людей стали назы-вать 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Times New Roman"/>
              </a:rPr>
              <a:t>КОЛОНАМИ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4640" y="105840"/>
            <a:ext cx="7772400" cy="104004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1.ОТКАЗ ОТ РАБСКОГО ТРУДА В СЕЛЬСКОМ ХОЗЯЙСТВЕ.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51" name="Object 1030" descr=""/>
          <p:cNvPicPr/>
          <p:nvPr/>
        </p:nvPicPr>
        <p:blipFill>
          <a:blip r:embed="rId3"/>
          <a:stretch/>
        </p:blipFill>
        <p:spPr>
          <a:xfrm>
            <a:off x="433440" y="1268280"/>
            <a:ext cx="703080" cy="1281240"/>
          </a:xfrm>
          <a:prstGeom prst="rect">
            <a:avLst/>
          </a:prstGeom>
          <a:ln w="0">
            <a:noFill/>
          </a:ln>
        </p:spPr>
      </p:pic>
      <p:pic>
        <p:nvPicPr>
          <p:cNvPr id="152" name="Object 1033" descr=""/>
          <p:cNvPicPr/>
          <p:nvPr/>
        </p:nvPicPr>
        <p:blipFill>
          <a:blip r:embed="rId4"/>
          <a:stretch/>
        </p:blipFill>
        <p:spPr>
          <a:xfrm>
            <a:off x="142920" y="4172040"/>
            <a:ext cx="690480" cy="1720800"/>
          </a:xfrm>
          <a:prstGeom prst="rect">
            <a:avLst/>
          </a:prstGeom>
          <a:ln w="0">
            <a:noFill/>
          </a:ln>
        </p:spPr>
      </p:pic>
      <p:pic>
        <p:nvPicPr>
          <p:cNvPr id="153" name="Object 1036" descr=""/>
          <p:cNvPicPr/>
          <p:nvPr/>
        </p:nvPicPr>
        <p:blipFill>
          <a:blip r:embed="rId5"/>
          <a:stretch/>
        </p:blipFill>
        <p:spPr>
          <a:xfrm>
            <a:off x="1122480" y="4478400"/>
            <a:ext cx="690480" cy="1720800"/>
          </a:xfrm>
          <a:prstGeom prst="rect">
            <a:avLst/>
          </a:prstGeom>
          <a:ln w="0">
            <a:noFill/>
          </a:ln>
        </p:spPr>
      </p:pic>
      <p:pic>
        <p:nvPicPr>
          <p:cNvPr id="154" name="Object 1039" descr=""/>
          <p:cNvPicPr/>
          <p:nvPr/>
        </p:nvPicPr>
        <p:blipFill>
          <a:blip r:embed="rId6"/>
          <a:stretch/>
        </p:blipFill>
        <p:spPr>
          <a:xfrm>
            <a:off x="2103480" y="4782960"/>
            <a:ext cx="690480" cy="1721160"/>
          </a:xfrm>
          <a:prstGeom prst="rect">
            <a:avLst/>
          </a:prstGeom>
          <a:ln w="0">
            <a:noFill/>
          </a:ln>
        </p:spPr>
      </p:pic>
      <p:pic>
        <p:nvPicPr>
          <p:cNvPr id="155" name="Object 1042" descr=""/>
          <p:cNvPicPr/>
          <p:nvPr/>
        </p:nvPicPr>
        <p:blipFill>
          <a:blip r:embed="rId7"/>
          <a:stretch/>
        </p:blipFill>
        <p:spPr>
          <a:xfrm>
            <a:off x="3084480" y="5087880"/>
            <a:ext cx="690480" cy="172080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1045"/>
          <p:cNvSpPr/>
          <p:nvPr/>
        </p:nvSpPr>
        <p:spPr>
          <a:xfrm rot="18709800">
            <a:off x="431640" y="2881440"/>
            <a:ext cx="1967040" cy="484200"/>
          </a:xfrm>
          <a:custGeom>
            <a:avLst/>
            <a:gdLst>
              <a:gd name="textAreaLeft" fmla="*/ 307080 w 1967040"/>
              <a:gd name="textAreaRight" fmla="*/ 1721160 w 196704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57" name="AutoShape 1047"/>
          <p:cNvSpPr/>
          <p:nvPr/>
        </p:nvSpPr>
        <p:spPr>
          <a:xfrm rot="17989200">
            <a:off x="996840" y="3263760"/>
            <a:ext cx="1967040" cy="484200"/>
          </a:xfrm>
          <a:custGeom>
            <a:avLst/>
            <a:gdLst>
              <a:gd name="textAreaLeft" fmla="*/ 307080 w 1967040"/>
              <a:gd name="textAreaRight" fmla="*/ 1721160 w 196704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58" name="AutoShape 1048"/>
          <p:cNvSpPr/>
          <p:nvPr/>
        </p:nvSpPr>
        <p:spPr>
          <a:xfrm rot="17046000">
            <a:off x="1665000" y="3519360"/>
            <a:ext cx="1967040" cy="484200"/>
          </a:xfrm>
          <a:custGeom>
            <a:avLst/>
            <a:gdLst>
              <a:gd name="textAreaLeft" fmla="*/ 307080 w 1967040"/>
              <a:gd name="textAreaRight" fmla="*/ 1721160 w 196704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59" name="AutoShape 1050"/>
          <p:cNvSpPr/>
          <p:nvPr/>
        </p:nvSpPr>
        <p:spPr>
          <a:xfrm rot="16200000">
            <a:off x="2432880" y="3692880"/>
            <a:ext cx="1903320" cy="460440"/>
          </a:xfrm>
          <a:custGeom>
            <a:avLst/>
            <a:gdLst>
              <a:gd name="textAreaLeft" fmla="*/ 297360 w 1903320"/>
              <a:gd name="textAreaRight" fmla="*/ 1665720 w 1903320"/>
              <a:gd name="textAreaTop" fmla="*/ 115200 h 460440"/>
              <a:gd name="textAreaBottom" fmla="*/ 345600 h 460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grpSp>
        <p:nvGrpSpPr>
          <p:cNvPr id="160" name="Group 1052"/>
          <p:cNvGrpSpPr/>
          <p:nvPr/>
        </p:nvGrpSpPr>
        <p:grpSpPr>
          <a:xfrm>
            <a:off x="2271600" y="1306440"/>
            <a:ext cx="1487520" cy="1567080"/>
            <a:chOff x="2271600" y="1306440"/>
            <a:chExt cx="1487520" cy="1567080"/>
          </a:xfrm>
        </p:grpSpPr>
        <p:pic>
          <p:nvPicPr>
            <p:cNvPr id="161" name="Object 1046" descr=""/>
            <p:cNvPicPr/>
            <p:nvPr/>
          </p:nvPicPr>
          <p:blipFill>
            <a:blip r:embed="rId8"/>
            <a:stretch/>
          </p:blipFill>
          <p:spPr>
            <a:xfrm>
              <a:off x="2271600" y="1306440"/>
              <a:ext cx="1487520" cy="15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1051"/>
            <p:cNvSpPr/>
            <p:nvPr/>
          </p:nvSpPr>
          <p:spPr>
            <a:xfrm>
              <a:off x="2635920" y="1905120"/>
              <a:ext cx="83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Times New Roman Cyr"/>
                </a:rPr>
                <a:t>1</a:t>
              </a:r>
              <a:r>
                <a:rPr b="1" lang="en-US" sz="4000" spc="-1" strike="noStrike">
                  <a:solidFill>
                    <a:srgbClr val="ffffff"/>
                  </a:solidFill>
                  <a:latin typeface="Times New Roman Cyr"/>
                </a:rPr>
                <a:t>/3</a:t>
              </a:r>
              <a:endParaRPr b="0" lang="en-US" sz="40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163" name="AutoShape 1053"/>
          <p:cNvSpPr/>
          <p:nvPr/>
        </p:nvSpPr>
        <p:spPr>
          <a:xfrm>
            <a:off x="1190520" y="177624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Object 1026" descr=""/>
          <p:cNvPicPr/>
          <p:nvPr/>
        </p:nvPicPr>
        <p:blipFill>
          <a:blip r:embed="rId1"/>
          <a:stretch/>
        </p:blipFill>
        <p:spPr>
          <a:xfrm>
            <a:off x="903240" y="2846520"/>
            <a:ext cx="2502000" cy="15001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74640" y="105840"/>
            <a:ext cx="7772400" cy="104004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1.ОТКАЗ ОТ РАБСКОГО ТРУДА В СЕЛЬСКОМ ХОЗЯЙСТВЕ.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66" name="Object 1031" descr=""/>
          <p:cNvPicPr/>
          <p:nvPr/>
        </p:nvPicPr>
        <p:blipFill>
          <a:blip r:embed="rId2"/>
          <a:stretch/>
        </p:blipFill>
        <p:spPr>
          <a:xfrm>
            <a:off x="142920" y="4172040"/>
            <a:ext cx="690480" cy="1720800"/>
          </a:xfrm>
          <a:prstGeom prst="rect">
            <a:avLst/>
          </a:prstGeom>
          <a:ln w="0">
            <a:noFill/>
          </a:ln>
        </p:spPr>
      </p:pic>
      <p:pic>
        <p:nvPicPr>
          <p:cNvPr id="167" name="Object 1032" descr=""/>
          <p:cNvPicPr/>
          <p:nvPr/>
        </p:nvPicPr>
        <p:blipFill>
          <a:blip r:embed="rId3"/>
          <a:stretch/>
        </p:blipFill>
        <p:spPr>
          <a:xfrm>
            <a:off x="1122480" y="4478400"/>
            <a:ext cx="690480" cy="1720800"/>
          </a:xfrm>
          <a:prstGeom prst="rect">
            <a:avLst/>
          </a:prstGeom>
          <a:ln w="0">
            <a:noFill/>
          </a:ln>
        </p:spPr>
      </p:pic>
      <p:pic>
        <p:nvPicPr>
          <p:cNvPr id="168" name="Object 1033" descr=""/>
          <p:cNvPicPr/>
          <p:nvPr/>
        </p:nvPicPr>
        <p:blipFill>
          <a:blip r:embed="rId4"/>
          <a:stretch/>
        </p:blipFill>
        <p:spPr>
          <a:xfrm>
            <a:off x="2103480" y="4782960"/>
            <a:ext cx="690480" cy="1721160"/>
          </a:xfrm>
          <a:prstGeom prst="rect">
            <a:avLst/>
          </a:prstGeom>
          <a:ln w="0">
            <a:noFill/>
          </a:ln>
        </p:spPr>
      </p:pic>
      <p:pic>
        <p:nvPicPr>
          <p:cNvPr id="169" name="Object 1034" descr=""/>
          <p:cNvPicPr/>
          <p:nvPr/>
        </p:nvPicPr>
        <p:blipFill>
          <a:blip r:embed="rId5"/>
          <a:stretch/>
        </p:blipFill>
        <p:spPr>
          <a:xfrm>
            <a:off x="3084480" y="5087880"/>
            <a:ext cx="690480" cy="172080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1035"/>
          <p:cNvSpPr/>
          <p:nvPr/>
        </p:nvSpPr>
        <p:spPr>
          <a:xfrm rot="18709800">
            <a:off x="431640" y="2881440"/>
            <a:ext cx="1967040" cy="484200"/>
          </a:xfrm>
          <a:custGeom>
            <a:avLst/>
            <a:gdLst>
              <a:gd name="textAreaLeft" fmla="*/ 307080 w 1967040"/>
              <a:gd name="textAreaRight" fmla="*/ 1721160 w 196704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71" name="AutoShape 1036"/>
          <p:cNvSpPr/>
          <p:nvPr/>
        </p:nvSpPr>
        <p:spPr>
          <a:xfrm rot="17989200">
            <a:off x="996840" y="3263760"/>
            <a:ext cx="1967040" cy="484200"/>
          </a:xfrm>
          <a:custGeom>
            <a:avLst/>
            <a:gdLst>
              <a:gd name="textAreaLeft" fmla="*/ 307080 w 1967040"/>
              <a:gd name="textAreaRight" fmla="*/ 1721160 w 196704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72" name="AutoShape 1037"/>
          <p:cNvSpPr/>
          <p:nvPr/>
        </p:nvSpPr>
        <p:spPr>
          <a:xfrm rot="17046000">
            <a:off x="1665000" y="3519360"/>
            <a:ext cx="1967040" cy="484200"/>
          </a:xfrm>
          <a:custGeom>
            <a:avLst/>
            <a:gdLst>
              <a:gd name="textAreaLeft" fmla="*/ 307080 w 1967040"/>
              <a:gd name="textAreaRight" fmla="*/ 1721160 w 196704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73" name="AutoShape 1038"/>
          <p:cNvSpPr/>
          <p:nvPr/>
        </p:nvSpPr>
        <p:spPr>
          <a:xfrm rot="16200000">
            <a:off x="2432880" y="3692880"/>
            <a:ext cx="1903320" cy="460440"/>
          </a:xfrm>
          <a:custGeom>
            <a:avLst/>
            <a:gdLst>
              <a:gd name="textAreaLeft" fmla="*/ 297360 w 1903320"/>
              <a:gd name="textAreaRight" fmla="*/ 1665720 w 1903320"/>
              <a:gd name="textAreaTop" fmla="*/ 115200 h 460440"/>
              <a:gd name="textAreaBottom" fmla="*/ 345600 h 460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grpSp>
        <p:nvGrpSpPr>
          <p:cNvPr id="174" name="Group 1039"/>
          <p:cNvGrpSpPr/>
          <p:nvPr/>
        </p:nvGrpSpPr>
        <p:grpSpPr>
          <a:xfrm>
            <a:off x="2271600" y="1306440"/>
            <a:ext cx="1487520" cy="1567080"/>
            <a:chOff x="2271600" y="1306440"/>
            <a:chExt cx="1487520" cy="1567080"/>
          </a:xfrm>
        </p:grpSpPr>
        <p:pic>
          <p:nvPicPr>
            <p:cNvPr id="175" name="Object 1040" descr=""/>
            <p:cNvPicPr/>
            <p:nvPr/>
          </p:nvPicPr>
          <p:blipFill>
            <a:blip r:embed="rId6"/>
            <a:stretch/>
          </p:blipFill>
          <p:spPr>
            <a:xfrm>
              <a:off x="2271600" y="1306440"/>
              <a:ext cx="1487520" cy="15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1041"/>
            <p:cNvSpPr/>
            <p:nvPr/>
          </p:nvSpPr>
          <p:spPr>
            <a:xfrm>
              <a:off x="2635920" y="1905120"/>
              <a:ext cx="83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Times New Roman Cyr"/>
                </a:rPr>
                <a:t>1</a:t>
              </a:r>
              <a:r>
                <a:rPr b="1" lang="en-US" sz="4000" spc="-1" strike="noStrike">
                  <a:solidFill>
                    <a:srgbClr val="ffffff"/>
                  </a:solidFill>
                  <a:latin typeface="Times New Roman Cyr"/>
                </a:rPr>
                <a:t>/3</a:t>
              </a:r>
              <a:endParaRPr b="0" lang="en-US" sz="40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177" name="AutoShape 1042"/>
          <p:cNvSpPr/>
          <p:nvPr/>
        </p:nvSpPr>
        <p:spPr>
          <a:xfrm>
            <a:off x="1190520" y="177624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178" name="Object 1044" descr=""/>
          <p:cNvPicPr/>
          <p:nvPr/>
        </p:nvPicPr>
        <p:blipFill>
          <a:blip r:embed="rId7"/>
          <a:stretch/>
        </p:blipFill>
        <p:spPr>
          <a:xfrm>
            <a:off x="365040" y="1228680"/>
            <a:ext cx="690480" cy="143676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046"/>
          <p:cNvSpPr/>
          <p:nvPr/>
        </p:nvSpPr>
        <p:spPr>
          <a:xfrm>
            <a:off x="4195800" y="2077920"/>
            <a:ext cx="4778280" cy="36799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Рабы, получившие землю, орудия труда, дом, назывались «рабы с хижинами»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3939"/>
                </a:solidFill>
                <a:latin typeface="Times New Roman"/>
              </a:rPr>
              <a:t>?   </a:t>
            </a:r>
            <a:r>
              <a:rPr b="1" lang="ru-RU" sz="2800" spc="-1" strike="noStrike">
                <a:solidFill>
                  <a:srgbClr val="393939"/>
                </a:solidFill>
                <a:latin typeface="Times New Roman"/>
              </a:rPr>
              <a:t>Подумайте,как должны были измениться результаты их труда? Почему   </a:t>
            </a:r>
            <a:r>
              <a:rPr b="1" lang="en-US" sz="2800" spc="-1" strike="noStrike">
                <a:solidFill>
                  <a:srgbClr val="393939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3880" y="101520"/>
            <a:ext cx="7772400" cy="114480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2.ПРАВЛЕНИЕ ИМПЕРАТОРА ТРАЯНА</a:t>
            </a: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003200" y="1298160"/>
            <a:ext cx="4962600" cy="5483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Одним из самых выдаю-щихся императоров был Траян(98-117гг.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«Я хочу быть таким импе-ратором, какого сам бы же лал себе, если бы был под-данным»-таким был его девиз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Троян прекратил казни по доносам-доносчиков поса-дили в корабли и,сняв па-руса,оставили в мор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232560" y="6249960"/>
            <a:ext cx="247284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Колонна Траяна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183" name="Picture 21" descr="2"/>
          <p:cNvPicPr/>
          <p:nvPr/>
        </p:nvPicPr>
        <p:blipFill>
          <a:blip r:embed="rId2"/>
          <a:stretch/>
        </p:blipFill>
        <p:spPr>
          <a:xfrm>
            <a:off x="895320" y="1360440"/>
            <a:ext cx="1098720" cy="483876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  <p:grpSp>
        <p:nvGrpSpPr>
          <p:cNvPr id="184" name="Group 23"/>
          <p:cNvGrpSpPr/>
          <p:nvPr/>
        </p:nvGrpSpPr>
        <p:grpSpPr>
          <a:xfrm>
            <a:off x="1514880" y="1802520"/>
            <a:ext cx="1922040" cy="1618560"/>
            <a:chOff x="1514880" y="1802520"/>
            <a:chExt cx="1922040" cy="1618560"/>
          </a:xfrm>
        </p:grpSpPr>
        <p:sp>
          <p:nvSpPr>
            <p:cNvPr id="185" name="Line 14"/>
            <p:cNvSpPr/>
            <p:nvPr/>
          </p:nvSpPr>
          <p:spPr>
            <a:xfrm>
              <a:off x="1514880" y="1802520"/>
              <a:ext cx="729360" cy="48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pic>
          <p:nvPicPr>
            <p:cNvPr id="186" name="Picture 22" descr="Рисунок3"/>
            <p:cNvPicPr/>
            <p:nvPr/>
          </p:nvPicPr>
          <p:blipFill>
            <a:blip r:embed="rId3"/>
            <a:stretch/>
          </p:blipFill>
          <p:spPr>
            <a:xfrm>
              <a:off x="2206800" y="2224080"/>
              <a:ext cx="1230120" cy="119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8" dur="1" fill="hold"/>
                                  <p:tgtEl>
                                    <p:spTgt spid="18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5T06:50:56Z</dcterms:created>
  <dc:creator>ЧЕРНОВ АЛЕКСЕЙ</dc:creator>
  <dc:description/>
  <dc:language>en-US</dc:language>
  <cp:lastModifiedBy>1</cp:lastModifiedBy>
  <dcterms:modified xsi:type="dcterms:W3CDTF">2012-10-15T09:05:32Z</dcterms:modified>
  <cp:revision>25</cp:revision>
  <dc:subject/>
  <dc:title>Заголовок слайда отсутствует</dc:title>
</cp:coreProperties>
</file>