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6CF-B298-4B70-81D1-CBE5D57A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DEA-6C87-4553-B705-C2230FE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F14-4227-454A-8255-CBBAC442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FE6-FF61-4050-A43C-9AD0031C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CF5F-DB67-4202-8BA9-2E985E59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A495-D181-43E0-9A53-4642600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865A-DDC3-4882-894C-CFBE678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6C17-54AA-4E1B-A627-C1B0090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72C-C7D6-46C9-8B9B-27956E34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0CFC-78D1-45CB-B37E-4FA1F0A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3715-DE46-4FB8-8AE3-5CE766F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E11-8B03-453B-AA82-C39586F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96C5-CA01-4AF9-8F68-1EAD701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76B2-48D2-4BED-9E08-88EFB785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8CD-CFDB-4948-98E6-5B509A2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E8C3-565A-4D2B-8B0E-7D2BBB48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E83-5A28-40C2-A6C3-7F0EA21C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4DF-4CB2-4FDB-808E-C59A6F94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DCD-B1F9-4853-8094-90298DD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9C5-E6E0-4EF2-A75A-3AA79C7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3E1-3152-4DBF-943B-C543729E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01C-6630-400B-84E7-D697DE0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14F-3DAB-489A-9081-1AE4542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CA4-F20C-43AA-91F1-A8679CF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022-9418-4B84-ADF1-44102B8B5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CBD6-BBE8-4B23-A544-D40A847706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jpeg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3880" y="30240"/>
            <a:ext cx="7772400" cy="60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ЕРИТЕ ПРАВИЛЬНЫЙ ОТВЕТ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120" y="1026720"/>
            <a:ext cx="4586040" cy="94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исус Христо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одился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480" y="2494080"/>
            <a:ext cx="4586040" cy="949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риста предал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14480" y="4149720"/>
            <a:ext cx="4586040" cy="9493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ристос был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14480" y="5521320"/>
            <a:ext cx="458604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ервые христиане собирались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170320" y="816120"/>
            <a:ext cx="3892680" cy="43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азарет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70320" y="132084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ерусалим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170320" y="182556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ифлеем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70320" y="233208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о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170320" y="283680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Матфе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170320" y="334152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Иуд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170320" y="536400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храм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170320" y="586908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лес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170320" y="637524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 катакомбах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170320" y="38480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Отравле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170320" y="435276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Распят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170320" y="48578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Зарез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3880" y="101520"/>
            <a:ext cx="7772400" cy="114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ПРАВЛЕНИЕ ИМПЕРАТОРА ТРАЯНА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03200" y="1298160"/>
            <a:ext cx="4962600" cy="548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аян фактически ввел «свободу слова»,при нем перестали наказывать за неосторожные шутки и фра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 Траяне были завоева-ны последние провинции-Дакия, на левом берегу Дуная и Парф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о вскоре в Парфии прои-зошло восстание  и по до-роге домой Траян ум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32560" y="6249960"/>
            <a:ext cx="2472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лонна Трая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90" name="Picture 12" descr="2"/>
          <p:cNvPicPr/>
          <p:nvPr/>
        </p:nvPicPr>
        <p:blipFill>
          <a:blip r:embed="rId2"/>
          <a:stretch/>
        </p:blipFill>
        <p:spPr>
          <a:xfrm>
            <a:off x="895320" y="1360440"/>
            <a:ext cx="1098720" cy="48387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grpSp>
        <p:nvGrpSpPr>
          <p:cNvPr id="191" name="Group 16"/>
          <p:cNvGrpSpPr/>
          <p:nvPr/>
        </p:nvGrpSpPr>
        <p:grpSpPr>
          <a:xfrm>
            <a:off x="1514880" y="1802520"/>
            <a:ext cx="1922040" cy="1618560"/>
            <a:chOff x="1514880" y="1802520"/>
            <a:chExt cx="1922040" cy="1618560"/>
          </a:xfrm>
        </p:grpSpPr>
        <p:sp>
          <p:nvSpPr>
            <p:cNvPr id="192" name="Line 17"/>
            <p:cNvSpPr/>
            <p:nvPr/>
          </p:nvSpPr>
          <p:spPr>
            <a:xfrm>
              <a:off x="1514880" y="1802520"/>
              <a:ext cx="729360" cy="48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193" name="Picture 18" descr="Рисунок3"/>
            <p:cNvPicPr/>
            <p:nvPr/>
          </p:nvPicPr>
          <p:blipFill>
            <a:blip r:embed="rId3"/>
            <a:stretch/>
          </p:blipFill>
          <p:spPr>
            <a:xfrm>
              <a:off x="2206800" y="222408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114560"/>
            <a:ext cx="9144000" cy="246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ри Траяне по всей империи шло грандиозное строитель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Риме до сих пор сохранился Форум Траяна с его знаменитой колонной.На ней изображены барелье-фы со сценами из дакской вой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74640" y="55080"/>
            <a:ext cx="7772400" cy="962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6" name="Picture 10" descr="Рисунок3"/>
          <p:cNvPicPr/>
          <p:nvPr/>
        </p:nvPicPr>
        <p:blipFill>
          <a:blip r:embed="rId2"/>
          <a:stretch/>
        </p:blipFill>
        <p:spPr>
          <a:xfrm>
            <a:off x="71280" y="3718080"/>
            <a:ext cx="9053640" cy="30384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8960" y="4832280"/>
            <a:ext cx="9056520" cy="196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троительство любого здания шло с разрешения императора. Любое сооружение строилось с запасом прочности. В Риме был изобретен бетон-песок и мелкие камни смешивали с из-вестью, разбавляли водой и получали раствор, соединявший каменные плиты намер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74640" y="80640"/>
            <a:ext cx="7772400" cy="1012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9" name="Picture 7" descr="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035160" y="1231920"/>
            <a:ext cx="5766120" cy="35053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0" name="Text Box 8"/>
          <p:cNvSpPr/>
          <p:nvPr/>
        </p:nvSpPr>
        <p:spPr>
          <a:xfrm>
            <a:off x="204840" y="2362320"/>
            <a:ext cx="25495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Амфитеатр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 Арле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4"/>
          <p:cNvPicPr/>
          <p:nvPr/>
        </p:nvPicPr>
        <p:blipFill>
          <a:blip r:embed="rId1"/>
          <a:stretch/>
        </p:blipFill>
        <p:spPr>
          <a:xfrm>
            <a:off x="76320" y="1154160"/>
            <a:ext cx="9048600" cy="56275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4640" y="25200"/>
            <a:ext cx="7772400" cy="10141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480" y="1116000"/>
            <a:ext cx="31352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«Все дороги ведут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в Рим»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4640" y="106200"/>
            <a:ext cx="7772400" cy="101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4637160"/>
            <a:ext cx="9093240" cy="220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дними из красивейших сооружений Древнего Рима были по-хожие друг на друга ВИАДУКИ и АКВЕДУ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ВИАДУК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рочный мост через реку,или ущель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АКВЕДУК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каменная труба, или кладка для подачи воды. Что-бы вода текла самотеком строились арочные оп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8" descr="3"/>
          <p:cNvPicPr/>
          <p:nvPr/>
        </p:nvPicPr>
        <p:blipFill>
          <a:blip r:embed="rId2"/>
          <a:stretch/>
        </p:blipFill>
        <p:spPr>
          <a:xfrm>
            <a:off x="3765600" y="1247760"/>
            <a:ext cx="5013360" cy="33084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07" name="Text Box 9"/>
          <p:cNvSpPr/>
          <p:nvPr/>
        </p:nvSpPr>
        <p:spPr>
          <a:xfrm>
            <a:off x="585720" y="2114640"/>
            <a:ext cx="254952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Пон-дю-Гар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Акведук в Южно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Франции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9440" y="105840"/>
            <a:ext cx="7772400" cy="98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СТРОИТЕЛЬСТВО В РИМСКОЙ ИМПЕРИИ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1360" y="1749600"/>
            <a:ext cx="4730760" cy="4217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им превратился в самый крупный город во всем Средиземномор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нем проживало около 80 тысяч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Город, раскинувшийся на обоих берегах Тибра, поражал всех,кто впер-вые приезжал в не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11" descr="Рисунок2"/>
          <p:cNvPicPr/>
          <p:nvPr/>
        </p:nvPicPr>
        <p:blipFill>
          <a:blip r:embed="rId2"/>
          <a:stretch/>
        </p:blipFill>
        <p:spPr>
          <a:xfrm>
            <a:off x="146160" y="1279440"/>
            <a:ext cx="4047840" cy="4237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211" name="Text Box 12"/>
          <p:cNvSpPr/>
          <p:nvPr/>
        </p:nvSpPr>
        <p:spPr>
          <a:xfrm>
            <a:off x="841320" y="5735520"/>
            <a:ext cx="254952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План Рима в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 Cyr"/>
              </a:rPr>
              <a:t>1 веке н.е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2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АСЦВЕТ РИМСКОЙ ИМПЕРИИ ВО 2-М ВЕКЕ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334440"/>
            <a:ext cx="7772400" cy="7304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2066760"/>
            <a:ext cx="7772400" cy="3445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ПРАВЛЕНИЕ ИМПЕРАТОРА ТРАЯ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СТРОИТЕЛЬСТВО В РИМСКОЙ ИМПЕ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334440"/>
            <a:ext cx="7772400" cy="7304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2066760"/>
            <a:ext cx="7772400" cy="32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ак вы думаете,почему именно в период империи в Древнем Риме было сооружено огромное количество величественных построек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605120"/>
            <a:ext cx="9074160" cy="2192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о 2 в.размер земельных участков знати увеличился. Здесь работали сотни рабов, не заинтересованных в тру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одумайте</a:t>
            </a: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очему</a:t>
            </a:r>
            <a:r>
              <a:rPr b="1" lang="en-US" sz="2400" spc="-1" strike="noStrike">
                <a:solidFill>
                  <a:srgbClr val="393939"/>
                </a:solidFill>
                <a:latin typeface="Times New Roman"/>
              </a:rPr>
              <a:t>  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дсмотрщики не могли уследить за всеми сразу,-поэтому урожайность снизила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2" descr="1"/>
          <p:cNvPicPr/>
          <p:nvPr/>
        </p:nvPicPr>
        <p:blipFill>
          <a:blip r:embed="rId2"/>
          <a:stretch/>
        </p:blipFill>
        <p:spPr>
          <a:xfrm>
            <a:off x="1762200" y="1263600"/>
            <a:ext cx="5933880" cy="32925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308120" y="1782360"/>
            <a:ext cx="4465800" cy="4241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ладельцы поместий на-чали делить свои учас-тки на несколько ча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ей, которые затем раздавали для обра-ботки беднякам, или отпущенным на волю рабам за определенную пла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Object 13"/>
          <p:cNvGraphicFramePr/>
          <p:nvPr/>
        </p:nvGraphicFramePr>
        <p:xfrm>
          <a:off x="1181160" y="2822400"/>
          <a:ext cx="2666880" cy="17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1160" y="2822400"/>
                    <a:ext cx="26668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3" name="Object 5" descr=""/>
          <p:cNvPicPr/>
          <p:nvPr/>
        </p:nvPicPr>
        <p:blipFill>
          <a:blip r:embed="rId4"/>
          <a:stretch/>
        </p:blipFill>
        <p:spPr>
          <a:xfrm>
            <a:off x="719280" y="1268280"/>
            <a:ext cx="703080" cy="12812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8" descr=""/>
          <p:cNvPicPr/>
          <p:nvPr/>
        </p:nvPicPr>
        <p:blipFill>
          <a:blip r:embed="rId5"/>
          <a:stretch/>
        </p:blipFill>
        <p:spPr>
          <a:xfrm>
            <a:off x="1189080" y="2846520"/>
            <a:ext cx="25020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5"/>
          <p:cNvGrpSpPr/>
          <p:nvPr/>
        </p:nvGrpSpPr>
        <p:grpSpPr>
          <a:xfrm>
            <a:off x="428760" y="3369960"/>
            <a:ext cx="1148040" cy="2522880"/>
            <a:chOff x="428760" y="3369960"/>
            <a:chExt cx="1148040" cy="2522880"/>
          </a:xfrm>
        </p:grpSpPr>
        <p:pic>
          <p:nvPicPr>
            <p:cNvPr id="136" name="Object 11" descr=""/>
            <p:cNvPicPr/>
            <p:nvPr/>
          </p:nvPicPr>
          <p:blipFill>
            <a:blip r:embed="rId6"/>
            <a:stretch/>
          </p:blipFill>
          <p:spPr>
            <a:xfrm>
              <a:off x="428760" y="417204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14"/>
            <p:cNvSpPr/>
            <p:nvPr/>
          </p:nvSpPr>
          <p:spPr>
            <a:xfrm rot="1816800">
              <a:off x="878040" y="34257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1407960" y="3373920"/>
            <a:ext cx="810720" cy="2825280"/>
            <a:chOff x="1407960" y="3373920"/>
            <a:chExt cx="810720" cy="2825280"/>
          </a:xfrm>
        </p:grpSpPr>
        <p:pic>
          <p:nvPicPr>
            <p:cNvPr id="139" name="Object 10" descr=""/>
            <p:cNvPicPr/>
            <p:nvPr/>
          </p:nvPicPr>
          <p:blipFill>
            <a:blip r:embed="rId7"/>
            <a:stretch/>
          </p:blipFill>
          <p:spPr>
            <a:xfrm>
              <a:off x="1407960" y="447840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16"/>
            <p:cNvSpPr/>
            <p:nvPr/>
          </p:nvSpPr>
          <p:spPr>
            <a:xfrm rot="1044000">
              <a:off x="1598040" y="34239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2240640" y="3615480"/>
            <a:ext cx="839160" cy="2888640"/>
            <a:chOff x="2240640" y="3615480"/>
            <a:chExt cx="839160" cy="2888640"/>
          </a:xfrm>
        </p:grpSpPr>
        <p:pic>
          <p:nvPicPr>
            <p:cNvPr id="142" name="Object 9" descr=""/>
            <p:cNvPicPr/>
            <p:nvPr/>
          </p:nvPicPr>
          <p:blipFill>
            <a:blip r:embed="rId8"/>
            <a:stretch/>
          </p:blipFill>
          <p:spPr>
            <a:xfrm>
              <a:off x="2389320" y="4782960"/>
              <a:ext cx="690480" cy="17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18"/>
            <p:cNvSpPr/>
            <p:nvPr/>
          </p:nvSpPr>
          <p:spPr>
            <a:xfrm rot="20816400">
              <a:off x="2344320" y="365760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3015720" y="4037760"/>
            <a:ext cx="1044720" cy="2770920"/>
            <a:chOff x="3015720" y="4037760"/>
            <a:chExt cx="1044720" cy="2770920"/>
          </a:xfrm>
        </p:grpSpPr>
        <p:pic>
          <p:nvPicPr>
            <p:cNvPr id="145" name="Object 6" descr=""/>
            <p:cNvPicPr/>
            <p:nvPr/>
          </p:nvPicPr>
          <p:blipFill>
            <a:blip r:embed="rId9"/>
            <a:stretch/>
          </p:blipFill>
          <p:spPr>
            <a:xfrm>
              <a:off x="3369960" y="5087880"/>
              <a:ext cx="69048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0"/>
            <p:cNvSpPr/>
            <p:nvPr/>
          </p:nvSpPr>
          <p:spPr>
            <a:xfrm rot="20152800">
              <a:off x="3193920" y="40939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47" name="AutoShape 23"/>
          <p:cNvSpPr/>
          <p:nvPr/>
        </p:nvSpPr>
        <p:spPr>
          <a:xfrm flipV="1">
            <a:off x="1547640" y="1905840"/>
            <a:ext cx="852840" cy="733320"/>
          </a:xfrm>
          <a:custGeom>
            <a:avLst/>
            <a:gdLst>
              <a:gd name="textAreaLeft" fmla="*/ 0 w 852840"/>
              <a:gd name="textAreaRight" fmla="*/ 731160 w 852840"/>
              <a:gd name="textAreaTop" fmla="*/ 488520 h 733320"/>
              <a:gd name="textAreaBottom" fmla="*/ 73332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99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ject 1031" descr=""/>
          <p:cNvPicPr/>
          <p:nvPr/>
        </p:nvPicPr>
        <p:blipFill>
          <a:blip r:embed="rId1"/>
          <a:stretch/>
        </p:blipFill>
        <p:spPr>
          <a:xfrm>
            <a:off x="903240" y="2846520"/>
            <a:ext cx="2502000" cy="15001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26"/>
          <p:cNvSpPr/>
          <p:nvPr/>
        </p:nvSpPr>
        <p:spPr>
          <a:xfrm>
            <a:off x="4233960" y="1868400"/>
            <a:ext cx="4778280" cy="2905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 пользование участком земледельцы отдавали владельцу земли треть урожа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их людей стали назы-вать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КОЛО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1" name="Object 1030" descr=""/>
          <p:cNvPicPr/>
          <p:nvPr/>
        </p:nvPicPr>
        <p:blipFill>
          <a:blip r:embed="rId3"/>
          <a:stretch/>
        </p:blipFill>
        <p:spPr>
          <a:xfrm>
            <a:off x="433440" y="1268280"/>
            <a:ext cx="703080" cy="12812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1033" descr=""/>
          <p:cNvPicPr/>
          <p:nvPr/>
        </p:nvPicPr>
        <p:blipFill>
          <a:blip r:embed="rId4"/>
          <a:stretch/>
        </p:blipFill>
        <p:spPr>
          <a:xfrm>
            <a:off x="142920" y="417204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1036" descr=""/>
          <p:cNvPicPr/>
          <p:nvPr/>
        </p:nvPicPr>
        <p:blipFill>
          <a:blip r:embed="rId5"/>
          <a:stretch/>
        </p:blipFill>
        <p:spPr>
          <a:xfrm>
            <a:off x="1122480" y="447840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1039" descr=""/>
          <p:cNvPicPr/>
          <p:nvPr/>
        </p:nvPicPr>
        <p:blipFill>
          <a:blip r:embed="rId6"/>
          <a:stretch/>
        </p:blipFill>
        <p:spPr>
          <a:xfrm>
            <a:off x="2103480" y="4782960"/>
            <a:ext cx="690480" cy="172116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1042" descr=""/>
          <p:cNvPicPr/>
          <p:nvPr/>
        </p:nvPicPr>
        <p:blipFill>
          <a:blip r:embed="rId7"/>
          <a:stretch/>
        </p:blipFill>
        <p:spPr>
          <a:xfrm>
            <a:off x="3084480" y="5087880"/>
            <a:ext cx="690480" cy="1720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045"/>
          <p:cNvSpPr/>
          <p:nvPr/>
        </p:nvSpPr>
        <p:spPr>
          <a:xfrm rot="18709800">
            <a:off x="431640" y="288144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7" name="AutoShape 1047"/>
          <p:cNvSpPr/>
          <p:nvPr/>
        </p:nvSpPr>
        <p:spPr>
          <a:xfrm rot="17989200">
            <a:off x="996840" y="32637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8" name="AutoShape 1048"/>
          <p:cNvSpPr/>
          <p:nvPr/>
        </p:nvSpPr>
        <p:spPr>
          <a:xfrm rot="17046000">
            <a:off x="1665000" y="35193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59" name="AutoShape 1050"/>
          <p:cNvSpPr/>
          <p:nvPr/>
        </p:nvSpPr>
        <p:spPr>
          <a:xfrm rot="16200000">
            <a:off x="2432880" y="3692880"/>
            <a:ext cx="1903320" cy="460440"/>
          </a:xfrm>
          <a:custGeom>
            <a:avLst/>
            <a:gdLst>
              <a:gd name="textAreaLeft" fmla="*/ 297360 w 1903320"/>
              <a:gd name="textAreaRight" fmla="*/ 1665720 w 19033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60" name="Group 1052"/>
          <p:cNvGrpSpPr/>
          <p:nvPr/>
        </p:nvGrpSpPr>
        <p:grpSpPr>
          <a:xfrm>
            <a:off x="2271600" y="1306440"/>
            <a:ext cx="1487520" cy="1567080"/>
            <a:chOff x="2271600" y="1306440"/>
            <a:chExt cx="1487520" cy="1567080"/>
          </a:xfrm>
        </p:grpSpPr>
        <p:pic>
          <p:nvPicPr>
            <p:cNvPr id="161" name="Object 1046" descr=""/>
            <p:cNvPicPr/>
            <p:nvPr/>
          </p:nvPicPr>
          <p:blipFill>
            <a:blip r:embed="rId8"/>
            <a:stretch/>
          </p:blipFill>
          <p:spPr>
            <a:xfrm>
              <a:off x="2271600" y="1306440"/>
              <a:ext cx="14875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051"/>
            <p:cNvSpPr/>
            <p:nvPr/>
          </p:nvSpPr>
          <p:spPr>
            <a:xfrm>
              <a:off x="2635920" y="1905120"/>
              <a:ext cx="8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 Cyr"/>
                </a:rPr>
                <a:t>1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 Cyr"/>
                </a:rPr>
                <a:t>/3</a:t>
              </a:r>
              <a:endParaRPr b="0" lang="en-US" sz="40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63" name="AutoShape 1053"/>
          <p:cNvSpPr/>
          <p:nvPr/>
        </p:nvSpPr>
        <p:spPr>
          <a:xfrm>
            <a:off x="1190520" y="17762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1026" descr=""/>
          <p:cNvPicPr/>
          <p:nvPr/>
        </p:nvPicPr>
        <p:blipFill>
          <a:blip r:embed="rId1"/>
          <a:stretch/>
        </p:blipFill>
        <p:spPr>
          <a:xfrm>
            <a:off x="903240" y="2846520"/>
            <a:ext cx="25020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640" y="105840"/>
            <a:ext cx="7772400" cy="10400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ОТКАЗ ОТ РАБСКОГО ТРУДА В СЕЛЬСКОМ ХОЗЯЙСТВЕ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6" name="Object 1031" descr=""/>
          <p:cNvPicPr/>
          <p:nvPr/>
        </p:nvPicPr>
        <p:blipFill>
          <a:blip r:embed="rId2"/>
          <a:stretch/>
        </p:blipFill>
        <p:spPr>
          <a:xfrm>
            <a:off x="142920" y="417204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032" descr=""/>
          <p:cNvPicPr/>
          <p:nvPr/>
        </p:nvPicPr>
        <p:blipFill>
          <a:blip r:embed="rId3"/>
          <a:stretch/>
        </p:blipFill>
        <p:spPr>
          <a:xfrm>
            <a:off x="1122480" y="4478400"/>
            <a:ext cx="690480" cy="172080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1033" descr=""/>
          <p:cNvPicPr/>
          <p:nvPr/>
        </p:nvPicPr>
        <p:blipFill>
          <a:blip r:embed="rId4"/>
          <a:stretch/>
        </p:blipFill>
        <p:spPr>
          <a:xfrm>
            <a:off x="2103480" y="4782960"/>
            <a:ext cx="690480" cy="17211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1034" descr=""/>
          <p:cNvPicPr/>
          <p:nvPr/>
        </p:nvPicPr>
        <p:blipFill>
          <a:blip r:embed="rId5"/>
          <a:stretch/>
        </p:blipFill>
        <p:spPr>
          <a:xfrm>
            <a:off x="3084480" y="5087880"/>
            <a:ext cx="690480" cy="17208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35"/>
          <p:cNvSpPr/>
          <p:nvPr/>
        </p:nvSpPr>
        <p:spPr>
          <a:xfrm rot="18709800">
            <a:off x="431640" y="288144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1" name="AutoShape 1036"/>
          <p:cNvSpPr/>
          <p:nvPr/>
        </p:nvSpPr>
        <p:spPr>
          <a:xfrm rot="17989200">
            <a:off x="996840" y="32637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2" name="AutoShape 1037"/>
          <p:cNvSpPr/>
          <p:nvPr/>
        </p:nvSpPr>
        <p:spPr>
          <a:xfrm rot="17046000">
            <a:off x="1665000" y="3519360"/>
            <a:ext cx="1967040" cy="484200"/>
          </a:xfrm>
          <a:custGeom>
            <a:avLst/>
            <a:gdLst>
              <a:gd name="textAreaLeft" fmla="*/ 307080 w 1967040"/>
              <a:gd name="textAreaRight" fmla="*/ 1721160 w 19670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73" name="AutoShape 1038"/>
          <p:cNvSpPr/>
          <p:nvPr/>
        </p:nvSpPr>
        <p:spPr>
          <a:xfrm rot="16200000">
            <a:off x="2432880" y="3692880"/>
            <a:ext cx="1903320" cy="460440"/>
          </a:xfrm>
          <a:custGeom>
            <a:avLst/>
            <a:gdLst>
              <a:gd name="textAreaLeft" fmla="*/ 297360 w 1903320"/>
              <a:gd name="textAreaRight" fmla="*/ 1665720 w 19033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271600" y="1306440"/>
            <a:ext cx="1487520" cy="1567080"/>
            <a:chOff x="2271600" y="1306440"/>
            <a:chExt cx="1487520" cy="1567080"/>
          </a:xfrm>
        </p:grpSpPr>
        <p:pic>
          <p:nvPicPr>
            <p:cNvPr id="175" name="Object 1040" descr=""/>
            <p:cNvPicPr/>
            <p:nvPr/>
          </p:nvPicPr>
          <p:blipFill>
            <a:blip r:embed="rId6"/>
            <a:stretch/>
          </p:blipFill>
          <p:spPr>
            <a:xfrm>
              <a:off x="2271600" y="1306440"/>
              <a:ext cx="14875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41"/>
            <p:cNvSpPr/>
            <p:nvPr/>
          </p:nvSpPr>
          <p:spPr>
            <a:xfrm>
              <a:off x="2635920" y="1905120"/>
              <a:ext cx="8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 Cyr"/>
                </a:rPr>
                <a:t>1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 Cyr"/>
                </a:rPr>
                <a:t>/3</a:t>
              </a:r>
              <a:endParaRPr b="0" lang="en-US" sz="40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7" name="AutoShape 1042"/>
          <p:cNvSpPr/>
          <p:nvPr/>
        </p:nvSpPr>
        <p:spPr>
          <a:xfrm>
            <a:off x="1190520" y="17762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78" name="Object 1044" descr=""/>
          <p:cNvPicPr/>
          <p:nvPr/>
        </p:nvPicPr>
        <p:blipFill>
          <a:blip r:embed="rId7"/>
          <a:stretch/>
        </p:blipFill>
        <p:spPr>
          <a:xfrm>
            <a:off x="365040" y="1228680"/>
            <a:ext cx="690480" cy="1436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46"/>
          <p:cNvSpPr/>
          <p:nvPr/>
        </p:nvSpPr>
        <p:spPr>
          <a:xfrm>
            <a:off x="4195800" y="2077920"/>
            <a:ext cx="4778280" cy="3679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абы, получившие землю, орудия труда, дом, назывались «рабы с хижинами»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 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Подумайте,как должны были измениться результаты их труда? Почему   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3880" y="101520"/>
            <a:ext cx="7772400" cy="114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ПРАВЛЕНИЕ ИМПЕРАТОРА ТРАЯНА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003200" y="1298160"/>
            <a:ext cx="4962600" cy="548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дним из самых выдаю-щихся императоров был Траян(98-117гг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«Я хочу быть таким импе-ратором, какого сам бы же лал себе, если бы был под-данным»-таким был его деви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оян прекратил казни по доносам-доносчиков поса-дили в корабли и,сняв па-руса,оставили в мо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32560" y="6249960"/>
            <a:ext cx="2472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лонна Трая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83" name="Picture 21" descr="2"/>
          <p:cNvPicPr/>
          <p:nvPr/>
        </p:nvPicPr>
        <p:blipFill>
          <a:blip r:embed="rId2"/>
          <a:stretch/>
        </p:blipFill>
        <p:spPr>
          <a:xfrm>
            <a:off x="895320" y="1360440"/>
            <a:ext cx="1098720" cy="48387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grpSp>
        <p:nvGrpSpPr>
          <p:cNvPr id="184" name="Group 23"/>
          <p:cNvGrpSpPr/>
          <p:nvPr/>
        </p:nvGrpSpPr>
        <p:grpSpPr>
          <a:xfrm>
            <a:off x="1514880" y="1802520"/>
            <a:ext cx="1922040" cy="1618560"/>
            <a:chOff x="1514880" y="1802520"/>
            <a:chExt cx="1922040" cy="1618560"/>
          </a:xfrm>
        </p:grpSpPr>
        <p:sp>
          <p:nvSpPr>
            <p:cNvPr id="185" name="Line 14"/>
            <p:cNvSpPr/>
            <p:nvPr/>
          </p:nvSpPr>
          <p:spPr>
            <a:xfrm>
              <a:off x="1514880" y="1802520"/>
              <a:ext cx="729360" cy="48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186" name="Picture 22" descr="Рисунок3"/>
            <p:cNvPicPr/>
            <p:nvPr/>
          </p:nvPicPr>
          <p:blipFill>
            <a:blip r:embed="rId3"/>
            <a:stretch/>
          </p:blipFill>
          <p:spPr>
            <a:xfrm>
              <a:off x="2206800" y="2224080"/>
              <a:ext cx="1230120" cy="119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5T06:50:56Z</dcterms:created>
  <dc:creator>ЧЕРНОВ АЛЕКСЕЙ</dc:creator>
  <dc:description/>
  <dc:language>en-US</dc:language>
  <cp:lastModifiedBy>1</cp:lastModifiedBy>
  <dcterms:modified xsi:type="dcterms:W3CDTF">2012-10-15T09:05:32Z</dcterms:modified>
  <cp:revision>25</cp:revision>
  <dc:subject/>
  <dc:title>Заголовок слайда отсутствует</dc:title>
</cp:coreProperties>
</file>