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8A6-F1DE-4985-A436-50110A1B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393-049A-49BF-A9B2-B4EF7ACE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01D-21FF-438B-B888-E0E64B40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D53-F9B2-484E-9B08-CA68429B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A524-9B86-4D2B-B732-BE0A2A4C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0520-F94A-4FA2-A813-3426A5E9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9FD3-A6A6-4463-83C0-C2B57E7A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C40E-E4A8-4B21-A4D6-733F1872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1C9B-2FE8-474D-86F8-3AD76E3B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33BC-486F-4688-983D-E76AC441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33C7-90C0-45C0-9401-E11311AB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28B-F623-463D-99F0-49B90AAE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8E92-6D02-45D7-BD3C-6C08D469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646F-B76E-4BB3-98D8-C529A06E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DC8F-91D6-421A-AD34-6FAB728E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E4B7-FE70-4667-8290-899F681D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97D4-4884-4D5E-B52C-90770A99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374-644E-4CBC-9F95-4A12276B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EB9-BCEF-4056-9A3C-CCFCFE4A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9FC3-1D6D-445D-847D-A770AFE2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E7E-5FF2-4012-858C-64456746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5DD-014D-431B-B975-45A20F60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EB9-669A-48BF-A6C9-071FF617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5E7-AB2E-4F0E-A6A6-6FC3A988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219240" y="1622520"/>
            <a:ext cx="8800920" cy="5045040"/>
            <a:chOff x="219240" y="1622520"/>
            <a:chExt cx="8800920" cy="5045040"/>
          </a:xfrm>
        </p:grpSpPr>
        <p:grpSp>
          <p:nvGrpSpPr>
            <p:cNvPr id="1" name="Group 4"/>
            <p:cNvGrpSpPr/>
            <p:nvPr/>
          </p:nvGrpSpPr>
          <p:grpSpPr>
            <a:xfrm>
              <a:off x="219240" y="1622520"/>
              <a:ext cx="8305560" cy="150840"/>
              <a:chOff x="219240" y="1622520"/>
              <a:chExt cx="8305560" cy="150840"/>
            </a:xfrm>
          </p:grpSpPr>
          <p:sp>
            <p:nvSpPr>
              <p:cNvPr id="2" name="Freeform 2"/>
              <p:cNvSpPr/>
              <p:nvPr/>
            </p:nvSpPr>
            <p:spPr>
              <a:xfrm>
                <a:off x="219240" y="1638360"/>
                <a:ext cx="8288280" cy="13500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8f8f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" name="Freeform 3"/>
              <p:cNvSpPr/>
              <p:nvPr/>
            </p:nvSpPr>
            <p:spPr>
              <a:xfrm>
                <a:off x="236520" y="1622520"/>
                <a:ext cx="8288280" cy="13500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4" name="Group 19"/>
            <p:cNvGrpSpPr/>
            <p:nvPr/>
          </p:nvGrpSpPr>
          <p:grpSpPr>
            <a:xfrm>
              <a:off x="8408880" y="5302080"/>
              <a:ext cx="611280" cy="1365480"/>
              <a:chOff x="8408880" y="5302080"/>
              <a:chExt cx="611280" cy="1365480"/>
            </a:xfrm>
          </p:grpSpPr>
          <p:grpSp>
            <p:nvGrpSpPr>
              <p:cNvPr id="5" name="Group 11"/>
              <p:cNvGrpSpPr/>
              <p:nvPr/>
            </p:nvGrpSpPr>
            <p:grpSpPr>
              <a:xfrm>
                <a:off x="8415360" y="5319360"/>
                <a:ext cx="604800" cy="1348200"/>
                <a:chOff x="8415360" y="5319360"/>
                <a:chExt cx="604800" cy="1348200"/>
              </a:xfrm>
            </p:grpSpPr>
            <p:sp>
              <p:nvSpPr>
                <p:cNvPr id="6" name="Freeform 5"/>
                <p:cNvSpPr/>
                <p:nvPr/>
              </p:nvSpPr>
              <p:spPr>
                <a:xfrm>
                  <a:off x="8415360" y="5662440"/>
                  <a:ext cx="536400" cy="100512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7" name="Oval 6"/>
                <p:cNvSpPr/>
                <p:nvPr/>
              </p:nvSpPr>
              <p:spPr>
                <a:xfrm rot="705000">
                  <a:off x="8577360" y="5331960"/>
                  <a:ext cx="158760" cy="311400"/>
                </a:xfrm>
                <a:prstGeom prst="ellipse">
                  <a:avLst/>
                </a:pr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8753400" y="544824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9" name="Freeform 8"/>
                <p:cNvSpPr/>
                <p:nvPr/>
              </p:nvSpPr>
              <p:spPr>
                <a:xfrm>
                  <a:off x="8829720" y="5565600"/>
                  <a:ext cx="92160" cy="16992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0" name="Freeform 9"/>
                <p:cNvSpPr/>
                <p:nvPr/>
              </p:nvSpPr>
              <p:spPr>
                <a:xfrm>
                  <a:off x="8943840" y="5781600"/>
                  <a:ext cx="76320" cy="13176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8888400" y="5683320"/>
                  <a:ext cx="88920" cy="14760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2" name="Group 18"/>
              <p:cNvGrpSpPr/>
              <p:nvPr/>
            </p:nvGrpSpPr>
            <p:grpSpPr>
              <a:xfrm>
                <a:off x="8408880" y="5302080"/>
                <a:ext cx="604800" cy="1347840"/>
                <a:chOff x="8408880" y="5302080"/>
                <a:chExt cx="604800" cy="1347840"/>
              </a:xfrm>
            </p:grpSpPr>
            <p:sp>
              <p:nvSpPr>
                <p:cNvPr id="13" name="Freeform 12"/>
                <p:cNvSpPr/>
                <p:nvPr/>
              </p:nvSpPr>
              <p:spPr>
                <a:xfrm>
                  <a:off x="8408880" y="5645160"/>
                  <a:ext cx="536760" cy="100476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Oval 13"/>
                <p:cNvSpPr/>
                <p:nvPr/>
              </p:nvSpPr>
              <p:spPr>
                <a:xfrm rot="705000">
                  <a:off x="8570880" y="5314680"/>
                  <a:ext cx="158760" cy="311040"/>
                </a:xfrm>
                <a:prstGeom prst="ellips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747280" y="543096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823240" y="5548320"/>
                  <a:ext cx="92160" cy="16992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937720" y="5764320"/>
                  <a:ext cx="75960" cy="13176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8881920" y="5665680"/>
                  <a:ext cx="88920" cy="14760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23CE-AC8D-41DB-9E3C-8307CC21CF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"/>
          <p:cNvGrpSpPr/>
          <p:nvPr/>
        </p:nvGrpSpPr>
        <p:grpSpPr>
          <a:xfrm>
            <a:off x="244440" y="3316320"/>
            <a:ext cx="8305920" cy="150840"/>
            <a:chOff x="244440" y="3316320"/>
            <a:chExt cx="8305920" cy="150840"/>
          </a:xfrm>
        </p:grpSpPr>
        <p:sp>
          <p:nvSpPr>
            <p:cNvPr id="61" name="Freeform 2"/>
            <p:cNvSpPr/>
            <p:nvPr/>
          </p:nvSpPr>
          <p:spPr>
            <a:xfrm>
              <a:off x="244440" y="333216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" name="Freeform 3"/>
            <p:cNvSpPr/>
            <p:nvPr/>
          </p:nvSpPr>
          <p:spPr>
            <a:xfrm>
              <a:off x="262080" y="331632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9937-8DEA-407C-BBFE-F8E143B3D1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23880" y="30240"/>
            <a:ext cx="7772400" cy="60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ВЫБЕРИТЕ ПРАВИЛЬНЫЙ ОТВЕТ.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026720"/>
            <a:ext cx="4586400" cy="94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вгуст заключил мир с Парфией потому ч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2494080"/>
            <a:ext cx="4586400" cy="94932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 Германских племен была: 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4149720"/>
            <a:ext cx="4586400" cy="94932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имляне разбили германцев и: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5521320"/>
            <a:ext cx="4586400" cy="9493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 предками славян-венедами римляне: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5170320" y="816120"/>
            <a:ext cx="3892680" cy="43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Одержал победу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170320" y="1320840"/>
            <a:ext cx="3892680" cy="43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Проиграл битву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170320" y="1825560"/>
            <a:ext cx="3892680" cy="43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Боялся восстания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5170320" y="2332080"/>
            <a:ext cx="3892680" cy="43344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Военная демократия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170320" y="2836800"/>
            <a:ext cx="3892680" cy="43344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Республик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170320" y="3341520"/>
            <a:ext cx="3892680" cy="43344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Власть вождей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5170320" y="5364000"/>
            <a:ext cx="3892680" cy="43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Не встречались,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5170320" y="5869080"/>
            <a:ext cx="3892680" cy="43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Враждовали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5170320" y="6375240"/>
            <a:ext cx="3892680" cy="43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Торговали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5170320" y="3848040"/>
            <a:ext cx="3892680" cy="43344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Ушли на Родину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5170320" y="4352760"/>
            <a:ext cx="3892680" cy="43344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Началось восстание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170320" y="4857840"/>
            <a:ext cx="3892680" cy="43344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Те ушли на Восток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17520" y="3740040"/>
            <a:ext cx="8826480" cy="3067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 68 г.против Нерона  вспыхнуло восстание, ох-ватившее несколько провинц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т императора бежали даже преториан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н приказал своему рабу: «Убей меня!», и когда тот вонзил в грудь императора кинжал, Нерон воскликнул: «О, какой великий артист погибает во мне!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725400" y="81000"/>
            <a:ext cx="7772400" cy="51120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3.МАССОВЫЕ КАЗНИ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46" name="Picture 11" descr="4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308480" y="639720"/>
            <a:ext cx="4226040" cy="31194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819000" y="1808280"/>
            <a:ext cx="2684520" cy="8254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 Cyr"/>
              </a:rPr>
              <a:t>Убийство Нерона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 Cyr"/>
              </a:rPr>
              <a:t>Рисунок 17 в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РИМ ПРИ ИМПЕРАТОРЕ НЕРОНЕ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0720" y="2295360"/>
            <a:ext cx="7772400" cy="35229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1.ЛИЧНОСТЬ НЕРО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2.ПОЖАР РИ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3.МАССОВЫЕ КАЗ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0720" y="2066760"/>
            <a:ext cx="7772400" cy="3857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? 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  Как вы думаете,почему во главе Римской империи мог оказаться такой ужасный человек, как Нерон  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66"/>
                </a:solidFill>
                <a:uFillTx/>
                <a:latin typeface="Times New Roman"/>
              </a:rPr>
              <a:t>ЗАДАНИЕ НА УРОК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412880" y="985680"/>
            <a:ext cx="4730760" cy="5872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 1 в.н.э. Римская импе-рия достигла вершины своего могуще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Это произошло при самом зловещем императоре -Нерон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н считал себя выдаю-щимся актером,и застав-лял римлян посещать спектак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Это приводило к различ-ным курьезам и трагеди-я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23880" y="106200"/>
            <a:ext cx="7772400" cy="78264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1.ЛИЧНОСТЬ НЕРОНА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28" name="Picture 7" descr="Рисунок1"/>
          <p:cNvPicPr/>
          <p:nvPr/>
        </p:nvPicPr>
        <p:blipFill>
          <a:blip r:embed="rId2"/>
          <a:stretch/>
        </p:blipFill>
        <p:spPr>
          <a:xfrm>
            <a:off x="244440" y="1158840"/>
            <a:ext cx="3932280" cy="38322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29" name="Text Box 8"/>
          <p:cNvSpPr/>
          <p:nvPr/>
        </p:nvSpPr>
        <p:spPr>
          <a:xfrm>
            <a:off x="536040" y="5302080"/>
            <a:ext cx="3399480" cy="1191240"/>
          </a:xfrm>
          <a:prstGeom prst="rect">
            <a:avLst/>
          </a:prstGeom>
          <a:solidFill>
            <a:srgbClr val="f8f8f8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 Cyr"/>
              </a:rPr>
              <a:t>Древнеримская монет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 Cyr"/>
              </a:rPr>
              <a:t>с изображением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 Cyr"/>
              </a:rPr>
              <a:t>Нерон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412880" y="984240"/>
            <a:ext cx="4730760" cy="5873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ерон играл всег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Его самой любимой ролью вне театра была роль главаря бан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месте с дружками он ночами носился по Риму на колесницах, нападал на прохожих, грабил  и избивал их до смер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чень часто нападениям подвергались сенаторы, которых Нерон хотел таким образом запуг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598320" y="160200"/>
            <a:ext cx="7772400" cy="70488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1.ЛИЧНОСТЬ НЕРОНА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32" name="Picture 7" descr="1"/>
          <p:cNvPicPr/>
          <p:nvPr/>
        </p:nvPicPr>
        <p:blipFill>
          <a:blip r:embed="rId2"/>
          <a:stretch/>
        </p:blipFill>
        <p:spPr>
          <a:xfrm>
            <a:off x="217440" y="1284120"/>
            <a:ext cx="40402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960480"/>
            <a:ext cx="9144000" cy="2905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 64 г.н.э. В Риме вспыхнул грандиознейший пожар. Огонь быстро распространялся по городу, переска-кивая через узкие улочки от дома к до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ногие римляне попытались тушить пожар, но ветер раздувал пламя. В огне оказался почти весь гор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23880" y="48960"/>
            <a:ext cx="7772400" cy="83484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2.ПОЖАР РИМА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35" name="Picture 8" descr="2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52480" y="3971880"/>
            <a:ext cx="7547040" cy="27907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3"/>
          <p:cNvPicPr/>
          <p:nvPr/>
        </p:nvPicPr>
        <p:blipFill>
          <a:blip r:embed="rId1"/>
          <a:srcRect l="0" t="3772" r="0" b="0"/>
          <a:stretch/>
        </p:blipFill>
        <p:spPr>
          <a:xfrm>
            <a:off x="826920" y="3635280"/>
            <a:ext cx="7502760" cy="31449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829800"/>
            <a:ext cx="9144000" cy="2746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Люди ,в страхе покидавшие город,считали,что его поджег Нерон, чтобы построить новы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 Риму поползли слухи,что император стоит на крыше дворца и вдохновляясь видом бушующего пламени, пишет поэму о Трое, которая должна принести ему бессмертную слав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1120" y="75960"/>
            <a:ext cx="7772400" cy="67932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2.ПОЖАР РИМА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811080"/>
            <a:ext cx="9144000" cy="3160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ерон опасаясь восстания, приказал отыскать «поджигателей», и вскоре объявил,о том,что это сделали христиане,верившие в Бога-Спасите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н приказал устроить публичную казнь.Христиан распинали на крестах, натравливали на них диких животных,но это только вызывало  к ним жалость у простых римля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25400" y="61560"/>
            <a:ext cx="7772400" cy="59220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3.МАССОВЫЕ КАЗНИ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746280"/>
            <a:ext cx="9144000" cy="3216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ассовые казни продолжались и после пожара,они происходили по любому поводу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днажды раб убил хозяина.Император приказал казнить всех рабов этого римлянина-400 человек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ногие просили пощадить невинных, но император был неумолим-в город были введены легионы и казнь состоялась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42" name="Picture 9" descr="5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901960" y="3997440"/>
            <a:ext cx="6242040" cy="2860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300600" y="5162400"/>
            <a:ext cx="2373840" cy="459720"/>
          </a:xfrm>
          <a:prstGeom prst="rect">
            <a:avLst/>
          </a:prstGeom>
          <a:solidFill>
            <a:srgbClr val="f8f8f8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 Cyr"/>
              </a:rPr>
              <a:t>Казнь христиан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1T04:35:45Z</dcterms:created>
  <dc:creator>ЧЕРНОВ АЛЕКСЕЙ</dc:creator>
  <dc:description/>
  <dc:language>en-US</dc:language>
  <cp:lastModifiedBy>1</cp:lastModifiedBy>
  <dcterms:modified xsi:type="dcterms:W3CDTF">2012-10-15T09:04:17Z</dcterms:modified>
  <cp:revision>18</cp:revision>
  <dc:subject/>
  <dc:title>Заголовок слайда отсутствует</dc:title>
</cp:coreProperties>
</file>