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36FB-404F-4CC9-B06A-64A4F8BE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D54-BA2D-4935-B417-E6FACC62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5E74-3FBB-4406-981E-E9289904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69F-ACC0-4A41-9582-4CA8C405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750A-D109-4491-8D9F-4466C297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9632-D5BE-4DBF-A256-6E304D5A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CDB4-E5D0-484B-B3F0-CAEADC6E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59F7-3FD6-4C21-8B40-6A894325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77EE-7AF4-4DA3-B5E3-E41A2821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78C4-3AF7-4EBC-8311-D6F597B0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04B7-0EBE-416B-A6EF-954B0484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8B9-BC11-45EE-955C-5AD6809C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476D-6209-4CCD-B8A7-7A3E0BBF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6AEC-8773-47C7-8C4C-DCD540F1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E1E2-BAB2-4345-BB97-4DD86627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C9C9-2111-4A52-9A21-4DC8BD96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AD5C-0A88-47D7-BD4B-E6CB9AB4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B06-AD43-4447-873F-557CA990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CFF-F405-4777-B430-035270F7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AF5C-02C5-49B0-B428-50531C86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715C-55F6-4AE2-87B9-5D69810A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E402-E285-4101-8B9C-0CC8505D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40AD-516E-405C-A0FF-CAA45E03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A79-F688-4B2D-B82C-1262D005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219240" y="1622520"/>
            <a:ext cx="8800920" cy="5045040"/>
            <a:chOff x="219240" y="1622520"/>
            <a:chExt cx="8800920" cy="5045040"/>
          </a:xfrm>
        </p:grpSpPr>
        <p:grpSp>
          <p:nvGrpSpPr>
            <p:cNvPr id="1" name="Group 4"/>
            <p:cNvGrpSpPr/>
            <p:nvPr/>
          </p:nvGrpSpPr>
          <p:grpSpPr>
            <a:xfrm>
              <a:off x="219240" y="1622520"/>
              <a:ext cx="8305560" cy="150840"/>
              <a:chOff x="219240" y="1622520"/>
              <a:chExt cx="8305560" cy="150840"/>
            </a:xfrm>
          </p:grpSpPr>
          <p:sp>
            <p:nvSpPr>
              <p:cNvPr id="2" name="Freeform 2"/>
              <p:cNvSpPr/>
              <p:nvPr/>
            </p:nvSpPr>
            <p:spPr>
              <a:xfrm>
                <a:off x="219240" y="1638360"/>
                <a:ext cx="8288280" cy="135000"/>
              </a:xfrm>
              <a:custGeom>
                <a:avLst/>
                <a:gdLst/>
                <a:ahLst/>
                <a:rect l="l" t="t" r="r" b="b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8f8f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" name="Freeform 3"/>
              <p:cNvSpPr/>
              <p:nvPr/>
            </p:nvSpPr>
            <p:spPr>
              <a:xfrm>
                <a:off x="236520" y="1622520"/>
                <a:ext cx="8288280" cy="135000"/>
              </a:xfrm>
              <a:custGeom>
                <a:avLst/>
                <a:gdLst/>
                <a:ahLst/>
                <a:rect l="l" t="t" r="r" b="b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grpSp>
          <p:nvGrpSpPr>
            <p:cNvPr id="4" name="Group 19"/>
            <p:cNvGrpSpPr/>
            <p:nvPr/>
          </p:nvGrpSpPr>
          <p:grpSpPr>
            <a:xfrm>
              <a:off x="8408880" y="5302080"/>
              <a:ext cx="611280" cy="1365480"/>
              <a:chOff x="8408880" y="5302080"/>
              <a:chExt cx="611280" cy="1365480"/>
            </a:xfrm>
          </p:grpSpPr>
          <p:grpSp>
            <p:nvGrpSpPr>
              <p:cNvPr id="5" name="Group 11"/>
              <p:cNvGrpSpPr/>
              <p:nvPr/>
            </p:nvGrpSpPr>
            <p:grpSpPr>
              <a:xfrm>
                <a:off x="8415360" y="5319360"/>
                <a:ext cx="604800" cy="1348200"/>
                <a:chOff x="8415360" y="5319360"/>
                <a:chExt cx="604800" cy="1348200"/>
              </a:xfrm>
            </p:grpSpPr>
            <p:sp>
              <p:nvSpPr>
                <p:cNvPr id="6" name="Freeform 5"/>
                <p:cNvSpPr/>
                <p:nvPr/>
              </p:nvSpPr>
              <p:spPr>
                <a:xfrm>
                  <a:off x="8415360" y="5662440"/>
                  <a:ext cx="536400" cy="1005120"/>
                </a:xfrm>
                <a:custGeom>
                  <a:avLst/>
                  <a:gdLst/>
                  <a:ahLst/>
                  <a:rect l="l" t="t" r="r" b="b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7" name="Oval 6"/>
                <p:cNvSpPr/>
                <p:nvPr/>
              </p:nvSpPr>
              <p:spPr>
                <a:xfrm rot="705000">
                  <a:off x="8577360" y="5331960"/>
                  <a:ext cx="158760" cy="311400"/>
                </a:xfrm>
                <a:prstGeom prst="ellipse">
                  <a:avLst/>
                </a:pr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8" name="Freeform 7"/>
                <p:cNvSpPr/>
                <p:nvPr/>
              </p:nvSpPr>
              <p:spPr>
                <a:xfrm>
                  <a:off x="8753400" y="5448240"/>
                  <a:ext cx="85680" cy="214200"/>
                </a:xfrm>
                <a:custGeom>
                  <a:avLst/>
                  <a:gdLst/>
                  <a:ahLst/>
                  <a:rect l="l" t="t" r="r" b="b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9" name="Freeform 8"/>
                <p:cNvSpPr/>
                <p:nvPr/>
              </p:nvSpPr>
              <p:spPr>
                <a:xfrm>
                  <a:off x="8829720" y="5565600"/>
                  <a:ext cx="92160" cy="169920"/>
                </a:xfrm>
                <a:custGeom>
                  <a:avLst/>
                  <a:gdLst/>
                  <a:ahLst/>
                  <a:rect l="l" t="t" r="r" b="b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0" name="Freeform 9"/>
                <p:cNvSpPr/>
                <p:nvPr/>
              </p:nvSpPr>
              <p:spPr>
                <a:xfrm>
                  <a:off x="8943840" y="5781600"/>
                  <a:ext cx="76320" cy="131760"/>
                </a:xfrm>
                <a:custGeom>
                  <a:avLst/>
                  <a:gdLst/>
                  <a:ahLst/>
                  <a:rect l="l" t="t" r="r" b="b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8888400" y="5683320"/>
                  <a:ext cx="88920" cy="147600"/>
                </a:xfrm>
                <a:custGeom>
                  <a:avLst/>
                  <a:gdLst/>
                  <a:ahLst/>
                  <a:rect l="l" t="t" r="r" b="b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12" name="Group 18"/>
              <p:cNvGrpSpPr/>
              <p:nvPr/>
            </p:nvGrpSpPr>
            <p:grpSpPr>
              <a:xfrm>
                <a:off x="8408880" y="5302080"/>
                <a:ext cx="604800" cy="1347840"/>
                <a:chOff x="8408880" y="5302080"/>
                <a:chExt cx="604800" cy="1347840"/>
              </a:xfrm>
            </p:grpSpPr>
            <p:sp>
              <p:nvSpPr>
                <p:cNvPr id="13" name="Freeform 12"/>
                <p:cNvSpPr/>
                <p:nvPr/>
              </p:nvSpPr>
              <p:spPr>
                <a:xfrm>
                  <a:off x="8408880" y="5645160"/>
                  <a:ext cx="536760" cy="1004760"/>
                </a:xfrm>
                <a:custGeom>
                  <a:avLst/>
                  <a:gdLst/>
                  <a:ahLst/>
                  <a:rect l="l" t="t" r="r" b="b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Oval 13"/>
                <p:cNvSpPr/>
                <p:nvPr/>
              </p:nvSpPr>
              <p:spPr>
                <a:xfrm rot="705000">
                  <a:off x="8570880" y="5314680"/>
                  <a:ext cx="158760" cy="311040"/>
                </a:xfrm>
                <a:prstGeom prst="ellipse">
                  <a:avLst/>
                </a:pr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747280" y="5430960"/>
                  <a:ext cx="85680" cy="214200"/>
                </a:xfrm>
                <a:custGeom>
                  <a:avLst/>
                  <a:gdLst/>
                  <a:ahLst/>
                  <a:rect l="l" t="t" r="r" b="b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823240" y="5548320"/>
                  <a:ext cx="92160" cy="169920"/>
                </a:xfrm>
                <a:custGeom>
                  <a:avLst/>
                  <a:gdLst/>
                  <a:ahLst/>
                  <a:rect l="l" t="t" r="r" b="b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937720" y="5764320"/>
                  <a:ext cx="75960" cy="131760"/>
                </a:xfrm>
                <a:custGeom>
                  <a:avLst/>
                  <a:gdLst/>
                  <a:ahLst/>
                  <a:rect l="l" t="t" r="r" b="b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8881920" y="5665680"/>
                  <a:ext cx="88920" cy="147600"/>
                </a:xfrm>
                <a:custGeom>
                  <a:avLst/>
                  <a:gdLst/>
                  <a:ahLst/>
                  <a:rect l="l" t="t" r="r" b="b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EEF0-F742-4E20-84F7-0BD92C8AF7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"/>
          <p:cNvGrpSpPr/>
          <p:nvPr/>
        </p:nvGrpSpPr>
        <p:grpSpPr>
          <a:xfrm>
            <a:off x="244440" y="3316320"/>
            <a:ext cx="8305920" cy="150840"/>
            <a:chOff x="244440" y="3316320"/>
            <a:chExt cx="8305920" cy="150840"/>
          </a:xfrm>
        </p:grpSpPr>
        <p:sp>
          <p:nvSpPr>
            <p:cNvPr id="61" name="Freeform 2"/>
            <p:cNvSpPr/>
            <p:nvPr/>
          </p:nvSpPr>
          <p:spPr>
            <a:xfrm>
              <a:off x="244440" y="3332160"/>
              <a:ext cx="8288280" cy="135000"/>
            </a:xfrm>
            <a:custGeom>
              <a:avLst/>
              <a:gdLst/>
              <a:ahLst/>
              <a:rect l="l" t="t" r="r" b="b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2" name="Freeform 3"/>
            <p:cNvSpPr/>
            <p:nvPr/>
          </p:nvSpPr>
          <p:spPr>
            <a:xfrm>
              <a:off x="262080" y="3316320"/>
              <a:ext cx="8288280" cy="135000"/>
            </a:xfrm>
            <a:custGeom>
              <a:avLst/>
              <a:gdLst/>
              <a:ahLst/>
              <a:rect l="l" t="t" r="r" b="b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AA6C-9B11-4967-8E3B-73DBB99358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23880" y="30240"/>
            <a:ext cx="7772400" cy="60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ВЫБЕРИТЕ ПРАВИЛЬНЫЙ ОТВЕТ.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026720"/>
            <a:ext cx="4586400" cy="9493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вгуст заключил мир с Парфией потому чт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2494080"/>
            <a:ext cx="4586400" cy="949320"/>
          </a:xfrm>
          <a:prstGeom prst="rect">
            <a:avLst/>
          </a:prstGeom>
          <a:solidFill>
            <a:srgbClr val="ccffcc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 Германских племен была: 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4149720"/>
            <a:ext cx="4586400" cy="94932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имляне разбили германцев и: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5521320"/>
            <a:ext cx="4586400" cy="9493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 предками славян-венедами римляне: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5170320" y="816120"/>
            <a:ext cx="3892680" cy="4330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Одержал победу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170320" y="1320840"/>
            <a:ext cx="3892680" cy="43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Проиграл битву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170320" y="1825560"/>
            <a:ext cx="3892680" cy="43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Боялся восстания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5170320" y="2332080"/>
            <a:ext cx="3892680" cy="433440"/>
          </a:xfrm>
          <a:prstGeom prst="rect">
            <a:avLst/>
          </a:prstGeom>
          <a:solidFill>
            <a:srgbClr val="ccffcc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Военная демократия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5170320" y="2836800"/>
            <a:ext cx="3892680" cy="433440"/>
          </a:xfrm>
          <a:prstGeom prst="rect">
            <a:avLst/>
          </a:prstGeom>
          <a:solidFill>
            <a:srgbClr val="ccffcc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Республик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5170320" y="3341520"/>
            <a:ext cx="3892680" cy="433440"/>
          </a:xfrm>
          <a:prstGeom prst="rect">
            <a:avLst/>
          </a:prstGeom>
          <a:solidFill>
            <a:srgbClr val="ccffcc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Власть вождей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5170320" y="5364000"/>
            <a:ext cx="3892680" cy="43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Не встречались,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5170320" y="5869080"/>
            <a:ext cx="3892680" cy="43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Враждовали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5170320" y="6375240"/>
            <a:ext cx="3892680" cy="43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Торговали.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5170320" y="3848040"/>
            <a:ext cx="3892680" cy="43344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Ушли на Родину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5170320" y="4352760"/>
            <a:ext cx="3892680" cy="43344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Началось восстание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5170320" y="4857840"/>
            <a:ext cx="3892680" cy="43344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"/>
              </a:rPr>
              <a:t>Те ушли на Восток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17520" y="3740040"/>
            <a:ext cx="8826480" cy="3067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 68 г.против Нерона  вспыхнуло восстание, ох-ватившее несколько провинц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т императора бежали даже преторианц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н приказал своему рабу: «Убей меня!», и когда тот вонзил в грудь императора кинжал, Нерон воскликнул: «О, какой великий артист погибает во мне!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725400" y="81000"/>
            <a:ext cx="7772400" cy="511200"/>
          </a:xfrm>
          <a:prstGeom prst="rect">
            <a:avLst/>
          </a:prstGeom>
          <a:solidFill>
            <a:srgbClr val="f8f8f8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3.МАССОВЫЕ КАЗНИ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46" name="Picture 11" descr="4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308480" y="639720"/>
            <a:ext cx="4226040" cy="31194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>
            <a:off x="819000" y="1808280"/>
            <a:ext cx="2684520" cy="8254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 Cyr"/>
              </a:rPr>
              <a:t>Убийство Нерона.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 Cyr"/>
              </a:rPr>
              <a:t>Рисунок 17 в.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" dur="1" fill="hold"/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РИМ ПРИ ИМПЕРАТОРЕ НЕРОНЕ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0720" y="2295360"/>
            <a:ext cx="7772400" cy="35229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1.ЛИЧНОСТЬ НЕРО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2.ПОЖАР РИ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3.МАССОВЫЕ КАЗ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0720" y="2066760"/>
            <a:ext cx="7772400" cy="3857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? </a:t>
            </a: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  Как вы думаете,почему во главе Римской империи мог оказаться такой ужасный человек, как Нерон  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solidFill>
            <a:srgbClr val="f8f8f8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66"/>
                </a:solidFill>
                <a:uFillTx/>
                <a:latin typeface="Times New Roman"/>
              </a:rPr>
              <a:t>ЗАДАНИЕ НА УРОК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412880" y="985680"/>
            <a:ext cx="4730760" cy="5872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 1 в.н.э. Римская импе-рия достигла вершины своего могущест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Это произошло при самом зловещем императоре -Нерон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н считал себя выдаю-щимся актером,и застав-лял римлян посещать спектак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Это приводило к различ-ным курьезам и трагеди-я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23880" y="106200"/>
            <a:ext cx="7772400" cy="782640"/>
          </a:xfrm>
          <a:prstGeom prst="rect">
            <a:avLst/>
          </a:prstGeom>
          <a:solidFill>
            <a:srgbClr val="f8f8f8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1.ЛИЧНОСТЬ НЕРОНА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28" name="Picture 7" descr="Рисунок1"/>
          <p:cNvPicPr/>
          <p:nvPr/>
        </p:nvPicPr>
        <p:blipFill>
          <a:blip r:embed="rId2"/>
          <a:stretch/>
        </p:blipFill>
        <p:spPr>
          <a:xfrm>
            <a:off x="244440" y="1158840"/>
            <a:ext cx="3932280" cy="38322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129" name="Text Box 8"/>
          <p:cNvSpPr/>
          <p:nvPr/>
        </p:nvSpPr>
        <p:spPr>
          <a:xfrm>
            <a:off x="536040" y="5302080"/>
            <a:ext cx="3399480" cy="1191240"/>
          </a:xfrm>
          <a:prstGeom prst="rect">
            <a:avLst/>
          </a:prstGeom>
          <a:solidFill>
            <a:srgbClr val="f8f8f8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 Cyr"/>
              </a:rPr>
              <a:t>Древнеримская монет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 Cyr"/>
              </a:rPr>
              <a:t>с изображением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 Cyr"/>
              </a:rPr>
              <a:t>Нерон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1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412880" y="984240"/>
            <a:ext cx="4730760" cy="5873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Нерон играл всег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Его самой любимой ролью вне театра была роль главаря бан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месте с дружками он ночами носился по Риму на колесницах, нападал на прохожих, грабил  и избивал их до смер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чень часто нападениям подвергались сенаторы, которых Нерон хотел таким образом запуг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598320" y="160200"/>
            <a:ext cx="7772400" cy="704880"/>
          </a:xfrm>
          <a:prstGeom prst="rect">
            <a:avLst/>
          </a:prstGeom>
          <a:solidFill>
            <a:srgbClr val="f8f8f8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1.ЛИЧНОСТЬ НЕРОНА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32" name="Picture 7" descr="1"/>
          <p:cNvPicPr/>
          <p:nvPr/>
        </p:nvPicPr>
        <p:blipFill>
          <a:blip r:embed="rId2"/>
          <a:stretch/>
        </p:blipFill>
        <p:spPr>
          <a:xfrm>
            <a:off x="217440" y="1284120"/>
            <a:ext cx="40402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960480"/>
            <a:ext cx="9144000" cy="2905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 64 г.н.э. В Риме вспыхнул грандиознейший пожар. Огонь быстро распространялся по городу, переска-кивая через узкие улочки от дома к дом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ногие римляне попытались тушить пожар, но ветер раздувал пламя. В огне оказался почти весь гор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23880" y="48960"/>
            <a:ext cx="7772400" cy="834840"/>
          </a:xfrm>
          <a:prstGeom prst="rect">
            <a:avLst/>
          </a:prstGeom>
          <a:solidFill>
            <a:srgbClr val="f8f8f8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2.ПОЖАР РИМА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35" name="Picture 8" descr="2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52480" y="3971880"/>
            <a:ext cx="7547040" cy="279072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3"/>
          <p:cNvPicPr/>
          <p:nvPr/>
        </p:nvPicPr>
        <p:blipFill>
          <a:blip r:embed="rId1"/>
          <a:srcRect l="0" t="3772" r="0" b="0"/>
          <a:stretch/>
        </p:blipFill>
        <p:spPr>
          <a:xfrm>
            <a:off x="826920" y="3635280"/>
            <a:ext cx="7502760" cy="314496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829800"/>
            <a:ext cx="9144000" cy="2746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Люди ,в страхе покидавшие город,считали,что его поджег Нерон, чтобы построить новы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По Риму поползли слухи,что император стоит на крыше дворца и вдохновляясь видом бушующего пламени, пишет поэму о Трое, которая должна принести ему бессмертную слав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1120" y="75960"/>
            <a:ext cx="7772400" cy="679320"/>
          </a:xfrm>
          <a:prstGeom prst="rect">
            <a:avLst/>
          </a:prstGeom>
          <a:solidFill>
            <a:srgbClr val="f8f8f8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2.ПОЖАР РИМА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811080"/>
            <a:ext cx="9144000" cy="3160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Нерон опасаясь восстания, приказал отыскать «поджигателей», и вскоре объявил,о том,что это сделали христиане,верившие в Бога-Спасите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н приказал устроить публичную казнь.Христиан распинали на крестах, натравливали на них диких животных,но это только вызывало  к ним жалость у простых римля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25400" y="61560"/>
            <a:ext cx="7772400" cy="592200"/>
          </a:xfrm>
          <a:prstGeom prst="rect">
            <a:avLst/>
          </a:prstGeom>
          <a:solidFill>
            <a:srgbClr val="f8f8f8"/>
          </a:solidFill>
          <a:ln w="76320">
            <a:solidFill>
              <a:srgbClr val="cc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3.МАССОВЫЕ КАЗНИ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0" y="746280"/>
            <a:ext cx="9144000" cy="3216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ассовые казни продолжались и после пожара,они происходили по любому поводу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днажды раб убил хозяина.Император приказал казнить всех рабов этого римлянина-400 человек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Многие просили пощадить невинных, но император был неумолим-в город были введены легионы и казнь состоялась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42" name="Picture 9" descr="5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2901960" y="3997440"/>
            <a:ext cx="6242040" cy="28605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0"/>
          <p:cNvSpPr/>
          <p:nvPr/>
        </p:nvSpPr>
        <p:spPr>
          <a:xfrm>
            <a:off x="300600" y="5162400"/>
            <a:ext cx="2373840" cy="459720"/>
          </a:xfrm>
          <a:prstGeom prst="rect">
            <a:avLst/>
          </a:prstGeom>
          <a:solidFill>
            <a:srgbClr val="f8f8f8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 Cyr"/>
              </a:rPr>
              <a:t>Казнь христиан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1T04:35:45Z</dcterms:created>
  <dc:creator>ЧЕРНОВ АЛЕКСЕЙ</dc:creator>
  <dc:description/>
  <dc:language>en-US</dc:language>
  <cp:lastModifiedBy>1</cp:lastModifiedBy>
  <dcterms:modified xsi:type="dcterms:W3CDTF">2012-10-15T09:04:17Z</dcterms:modified>
  <cp:revision>18</cp:revision>
  <dc:subject/>
  <dc:title>Заголовок слайда отсутствует</dc:title>
</cp:coreProperties>
</file>