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7.jpeg" ContentType="image/jpeg"/>
  <Override PartName="/ppt/media/image20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89674-76A9-41AC-9900-D3759D12D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36F0C-3F2F-4452-8B5F-480C003A7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412D6-75ED-4897-A8E8-699157D48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5B653-04AF-4350-A165-39B2660DE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0DD43-5EC5-4298-93F2-782F4A01F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55469-286C-408E-9F8E-F5E21DB8E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0E63C-06E7-4C9C-91E9-EEB2ED660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66841-C7B0-4442-85F5-29639F620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F9C45-B1A6-4C58-8D4E-B515C3E79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9C544-09BF-4076-967A-0ADD6E1D3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3565F-4733-4381-9830-34D41CB0D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FF9F4-83B3-47BA-9405-5EEF70011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9E82B-A63A-4F1D-A951-BEFFE8C8FE8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42920" y="1628280"/>
            <a:ext cx="7129440" cy="1800360"/>
          </a:xfrm>
          <a:prstGeom prst="rect">
            <a:avLst/>
          </a:prstGeom>
          <a:solidFill>
            <a:srgbClr val="f5f8ee">
              <a:alpha val="71000"/>
            </a:srgbClr>
          </a:solidFill>
          <a:ln w="9360">
            <a:solidFill>
              <a:srgbClr val="4f6228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i="1" lang="ru-RU" sz="4400" spc="-1" strike="noStrike">
                <a:solidFill>
                  <a:srgbClr val="000000"/>
                </a:solidFill>
                <a:latin typeface="Monotype Corsiva"/>
              </a:rPr>
              <a:t>Виртуальная экскурсия </a:t>
            </a:r>
            <a:br>
              <a:rPr sz="4400"/>
            </a:br>
            <a:r>
              <a:rPr b="1" lang="ru-RU" sz="5400" spc="-1" strike="noStrike">
                <a:solidFill>
                  <a:srgbClr val="000000"/>
                </a:solidFill>
                <a:latin typeface="Monotype Corsiva"/>
              </a:rPr>
              <a:t>«Семь чудес 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Monotype Corsiva"/>
              </a:rPr>
              <a:t>Башкортостана»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Автор презентации: Федоров Данил Александрович .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МАОУ СОШ № 16 , 7 «А» Класс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Красноусольские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минеральные источни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2" descr="C:\Documents and Settings\Admin\Мои документы\Downloads\басимова\krasnousolskie_istochniki_1.jpg"/>
          <p:cNvPicPr/>
          <p:nvPr/>
        </p:nvPicPr>
        <p:blipFill>
          <a:blip r:embed="rId1"/>
          <a:stretch/>
        </p:blipFill>
        <p:spPr>
          <a:xfrm>
            <a:off x="285840" y="1643040"/>
            <a:ext cx="6715080" cy="50371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4" descr="F:\11709248097853.jpg"/>
          <p:cNvPicPr/>
          <p:nvPr/>
        </p:nvPicPr>
        <p:blipFill>
          <a:blip r:embed="rId2"/>
          <a:stretch/>
        </p:blipFill>
        <p:spPr>
          <a:xfrm>
            <a:off x="7210440" y="428760"/>
            <a:ext cx="1933560" cy="546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6" descr="F:\globe.jpg"/>
          <p:cNvPicPr/>
          <p:nvPr/>
        </p:nvPicPr>
        <p:blipFill>
          <a:blip r:embed="rId1"/>
          <a:stretch/>
        </p:blipFill>
        <p:spPr>
          <a:xfrm>
            <a:off x="119160" y="714240"/>
            <a:ext cx="8905680" cy="54295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3" descr="C:\Documents and Settings\Admin\Мои документы\Downloads\басимова\3548.jpg"/>
          <p:cNvPicPr/>
          <p:nvPr/>
        </p:nvPicPr>
        <p:blipFill>
          <a:blip r:embed="rId2"/>
          <a:stretch/>
        </p:blipFill>
        <p:spPr>
          <a:xfrm>
            <a:off x="357120" y="428760"/>
            <a:ext cx="8510760" cy="59227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7" descr="F:\rb_map.jpg"/>
          <p:cNvPicPr/>
          <p:nvPr/>
        </p:nvPicPr>
        <p:blipFill>
          <a:blip r:embed="rId3"/>
          <a:stretch/>
        </p:blipFill>
        <p:spPr>
          <a:xfrm>
            <a:off x="1714680" y="247680"/>
            <a:ext cx="568152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" dur="500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" dur="5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1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456840" y="1071720"/>
            <a:ext cx="8472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720720" indent="-72072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башкирский мед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720720" indent="-72072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кура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720720" indent="-72072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эпос "Урал-батыр"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720720" indent="-72072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пещера Шульган-таш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720720" indent="-72072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гора Янган-тау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720720" indent="-72072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Красноусольские минеральные источники  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720720" indent="-72072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памятник Салавату Юлаеву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98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памятник Салавату Юлаеву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C:\Documents and Settings\Admin\Мои документы\Downloads\басимова\01_b01_m.jpg"/>
          <p:cNvPicPr/>
          <p:nvPr/>
        </p:nvPicPr>
        <p:blipFill>
          <a:blip r:embed="rId1"/>
          <a:stretch/>
        </p:blipFill>
        <p:spPr>
          <a:xfrm>
            <a:off x="2643120" y="977760"/>
            <a:ext cx="3929040" cy="5667480"/>
          </a:xfrm>
          <a:prstGeom prst="rect">
            <a:avLst/>
          </a:prstGeom>
          <a:ln w="0">
            <a:noFill/>
          </a:ln>
        </p:spPr>
      </p:pic>
      <p:sp>
        <p:nvSpPr>
          <p:cNvPr id="50" name="Прямоугольник 4"/>
          <p:cNvSpPr/>
          <p:nvPr/>
        </p:nvSpPr>
        <p:spPr>
          <a:xfrm>
            <a:off x="5000760" y="1000080"/>
            <a:ext cx="385740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амятник Салавату Юлаеву - национальному башкирскому герою и поэту,  поставили в Уфе в 1967 год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лгие годы над ним работал скульптор Сосланбек Тавасие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то самая большая конная статуя в России, высотой почти в десять метр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амятник уникален еще и тем, что при весе в 40 тонн, у него всего три опорные точки.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44" dur="2000" fill="hold"/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Monotype Corsiva"/>
              </a:rPr>
              <a:t>курай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C:\Documents and Settings\Admin\Мои документы\Downloads\басимова\21.jpg"/>
          <p:cNvPicPr/>
          <p:nvPr/>
        </p:nvPicPr>
        <p:blipFill>
          <a:blip r:embed="rId1"/>
          <a:stretch/>
        </p:blipFill>
        <p:spPr>
          <a:xfrm>
            <a:off x="4916520" y="1357200"/>
            <a:ext cx="3519360" cy="52866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" descr="C:\Documents and Settings\Admin\Мои документы\Downloads\басимова\uldashev.jpg"/>
          <p:cNvPicPr/>
          <p:nvPr/>
        </p:nvPicPr>
        <p:blipFill>
          <a:blip r:embed="rId2"/>
          <a:stretch/>
        </p:blipFill>
        <p:spPr>
          <a:xfrm>
            <a:off x="714240" y="1338120"/>
            <a:ext cx="3541680" cy="53056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" descr="C:\Documents and Settings\Admin\Мои документы\Downloads\басимова\imagick_b1e12645579eceebf64c51372b2622fecd9272c5.jpg"/>
          <p:cNvPicPr/>
          <p:nvPr/>
        </p:nvPicPr>
        <p:blipFill>
          <a:blip r:embed="rId3"/>
          <a:stretch/>
        </p:blipFill>
        <p:spPr>
          <a:xfrm>
            <a:off x="1000080" y="1285920"/>
            <a:ext cx="721512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0" dur="5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4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7" dur="5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1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64296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Monotype Corsiva"/>
              </a:rPr>
              <a:t>эпос "Урал-батыр"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499920" y="1600200"/>
            <a:ext cx="5186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Произведение «Урал-батыр» -  самое крупное сказание башкирского эпоса, принадлежащее к древнему жанру поэзии-кубаир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3" descr="C:\Documents and Settings\Admin\Мои документы\Downloads\басимова\kubair.jpg"/>
          <p:cNvPicPr/>
          <p:nvPr/>
        </p:nvPicPr>
        <p:blipFill>
          <a:blip r:embed="rId1"/>
          <a:stretch/>
        </p:blipFill>
        <p:spPr>
          <a:xfrm>
            <a:off x="357120" y="1143000"/>
            <a:ext cx="2416320" cy="32148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" descr="C:\Documents and Settings\Admin\Мои документы\Downloads\басимова\Ural-Batyr.jpeg"/>
          <p:cNvPicPr/>
          <p:nvPr/>
        </p:nvPicPr>
        <p:blipFill>
          <a:blip r:embed="rId2"/>
          <a:stretch/>
        </p:blipFill>
        <p:spPr>
          <a:xfrm>
            <a:off x="1928880" y="3608280"/>
            <a:ext cx="1976400" cy="29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98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Monotype Corsiva"/>
              </a:rPr>
              <a:t>пещера Шульган-таш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2" descr="C:\Documents and Settings\Admin\Мои документы\Downloads\басимова\shulgan_tash_2.jpg"/>
          <p:cNvPicPr/>
          <p:nvPr/>
        </p:nvPicPr>
        <p:blipFill>
          <a:blip r:embed="rId1"/>
          <a:stretch/>
        </p:blipFill>
        <p:spPr>
          <a:xfrm>
            <a:off x="214200" y="1071720"/>
            <a:ext cx="5143680" cy="38574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3" descr="C:\Documents and Settings\Admin\Мои документы\Downloads\басимова\bachkiria_pechera_kapovaja_foto_22.jpg"/>
          <p:cNvPicPr/>
          <p:nvPr/>
        </p:nvPicPr>
        <p:blipFill>
          <a:blip r:embed="rId2"/>
          <a:stretch/>
        </p:blipFill>
        <p:spPr>
          <a:xfrm>
            <a:off x="4786200" y="1500120"/>
            <a:ext cx="385776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4" descr="C:\Documents and Settings\Admin\Мои документы\Downloads\басимова\pch_ul2_3.jpg"/>
          <p:cNvPicPr/>
          <p:nvPr/>
        </p:nvPicPr>
        <p:blipFill>
          <a:blip r:embed="rId1"/>
          <a:stretch/>
        </p:blipFill>
        <p:spPr>
          <a:xfrm>
            <a:off x="214200" y="142920"/>
            <a:ext cx="4434120" cy="64292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" descr="C:\Documents and Settings\Admin\Мои документы\Downloads\басимова\2d3f8e10b55et.jpg"/>
          <p:cNvPicPr/>
          <p:nvPr/>
        </p:nvPicPr>
        <p:blipFill>
          <a:blip r:embed="rId2"/>
          <a:stretch/>
        </p:blipFill>
        <p:spPr>
          <a:xfrm>
            <a:off x="4857840" y="142920"/>
            <a:ext cx="4119480" cy="30002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C:\Documents and Settings\Admin\Мои документы\Downloads\басимова\witaia_koloda.JPG"/>
          <p:cNvPicPr/>
          <p:nvPr/>
        </p:nvPicPr>
        <p:blipFill>
          <a:blip r:embed="rId3"/>
          <a:stretch/>
        </p:blipFill>
        <p:spPr>
          <a:xfrm>
            <a:off x="5572080" y="3286080"/>
            <a:ext cx="2455920" cy="32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98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Monotype Corsiva"/>
              </a:rPr>
              <a:t>гора Янган-тау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2" descr="C:\Documents and Settings\Admin\Мои документы\Downloads\басимова\yangantau.jpg"/>
          <p:cNvPicPr/>
          <p:nvPr/>
        </p:nvPicPr>
        <p:blipFill>
          <a:blip r:embed="rId1"/>
          <a:stretch/>
        </p:blipFill>
        <p:spPr>
          <a:xfrm>
            <a:off x="571680" y="1214280"/>
            <a:ext cx="7786440" cy="517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05T10:28:07Z</dcterms:created>
  <dc:creator>Admin</dc:creator>
  <dc:description/>
  <dc:language>en-US</dc:language>
  <cp:lastModifiedBy>User</cp:lastModifiedBy>
  <dcterms:modified xsi:type="dcterms:W3CDTF">2014-01-27T14:03:21Z</dcterms:modified>
  <cp:revision>17</cp:revision>
  <dc:subject/>
  <dc:title>Виртуальная экскурсия  «Семь чудес Башкортостана»</dc:title>
</cp:coreProperties>
</file>