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81B0-58CD-4DD6-B15E-5FF9B6C0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07B-5A2D-433B-8C54-277F0735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DDA-978B-45CE-B186-3616D3A5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4FB-A95E-499D-B354-A37D9D11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E13-1621-4121-9EA2-C15EEAAF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0DF-EEBE-4AEE-BDDE-A4E1603F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4F9-8452-47D1-9682-806ADB13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35C-2943-43BB-B1D5-04B4DD8D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806-3CF6-49CF-94CF-995EC378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A59-CBAA-4636-A7D3-6B4C8861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2D7-59F0-4B8A-A799-BE709170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C2B-38E6-48F2-9D01-B903917E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C38A-228B-41DD-9FBB-FE8D6D0F87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628280"/>
            <a:ext cx="7129440" cy="1800360"/>
          </a:xfrm>
          <a:prstGeom prst="rect">
            <a:avLst/>
          </a:prstGeom>
          <a:solidFill>
            <a:srgbClr val="f5f8ee">
              <a:alpha val="71000"/>
            </a:srgbClr>
          </a:solidFill>
          <a:ln w="9360">
            <a:solidFill>
              <a:srgbClr val="4f622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Виртуальная экскурсия </a:t>
            </a:r>
            <a:br>
              <a:rPr sz="4400"/>
            </a:b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«Семь чудес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Башкортостана»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 презентации: Федоров Данил Александрович 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ОУ СОШ № 16 , 7 «А» Клас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расноусольск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минеральн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Admin\Мои документы\Downloads\басимова\krasnousolskie_istochniki_1.jpg"/>
          <p:cNvPicPr/>
          <p:nvPr/>
        </p:nvPicPr>
        <p:blipFill>
          <a:blip r:embed="rId1"/>
          <a:stretch/>
        </p:blipFill>
        <p:spPr>
          <a:xfrm>
            <a:off x="285840" y="1643040"/>
            <a:ext cx="6715080" cy="503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F:\11709248097853.jpg"/>
          <p:cNvPicPr/>
          <p:nvPr/>
        </p:nvPicPr>
        <p:blipFill>
          <a:blip r:embed="rId2"/>
          <a:stretch/>
        </p:blipFill>
        <p:spPr>
          <a:xfrm>
            <a:off x="7210440" y="428760"/>
            <a:ext cx="19335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F:\globe.jpg"/>
          <p:cNvPicPr/>
          <p:nvPr/>
        </p:nvPicPr>
        <p:blipFill>
          <a:blip r:embed="rId1"/>
          <a:stretch/>
        </p:blipFill>
        <p:spPr>
          <a:xfrm>
            <a:off x="119160" y="714240"/>
            <a:ext cx="8905680" cy="5429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C:\Documents and Settings\Admin\Мои документы\Downloads\басимова\3548.jpg"/>
          <p:cNvPicPr/>
          <p:nvPr/>
        </p:nvPicPr>
        <p:blipFill>
          <a:blip r:embed="rId2"/>
          <a:stretch/>
        </p:blipFill>
        <p:spPr>
          <a:xfrm>
            <a:off x="357120" y="428760"/>
            <a:ext cx="8510760" cy="592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F:\rb_map.jpg"/>
          <p:cNvPicPr/>
          <p:nvPr/>
        </p:nvPicPr>
        <p:blipFill>
          <a:blip r:embed="rId3"/>
          <a:stretch/>
        </p:blipFill>
        <p:spPr>
          <a:xfrm>
            <a:off x="1714680" y="247680"/>
            <a:ext cx="5681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6840" y="1071720"/>
            <a:ext cx="8472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башкирский ме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ура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эпос "Урал-батыр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ещера Шульган-та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ора Янган-та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расноусольские минеральные источники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20720" indent="-7207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амятник Салавату Юлае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амятник Салавату Юлаев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Admin\Мои документы\Downloads\басимова\01_b01_m.jpg"/>
          <p:cNvPicPr/>
          <p:nvPr/>
        </p:nvPicPr>
        <p:blipFill>
          <a:blip r:embed="rId1"/>
          <a:stretch/>
        </p:blipFill>
        <p:spPr>
          <a:xfrm>
            <a:off x="2643120" y="977760"/>
            <a:ext cx="3929040" cy="56674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000760" y="1000080"/>
            <a:ext cx="3857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 Салавату Юлаеву - национальному башкирскому герою и поэту,  поставили в Уфе в 1967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над ним работал скульптор Сосланбек Таваси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амая большая конная статуя в России, высотой почти в десять мет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 уникален еще и тем, что при весе в 40 тонн, у него всего три опорные точк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кура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Admin\Мои документы\Downloads\басимова\21.jpg"/>
          <p:cNvPicPr/>
          <p:nvPr/>
        </p:nvPicPr>
        <p:blipFill>
          <a:blip r:embed="rId1"/>
          <a:stretch/>
        </p:blipFill>
        <p:spPr>
          <a:xfrm>
            <a:off x="4916520" y="1357200"/>
            <a:ext cx="3519360" cy="5286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Admin\Мои документы\Downloads\басимова\uldashev.jpg"/>
          <p:cNvPicPr/>
          <p:nvPr/>
        </p:nvPicPr>
        <p:blipFill>
          <a:blip r:embed="rId2"/>
          <a:stretch/>
        </p:blipFill>
        <p:spPr>
          <a:xfrm>
            <a:off x="714240" y="1338120"/>
            <a:ext cx="3541680" cy="530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Admin\Мои документы\Downloads\басимова\imagick_b1e12645579eceebf64c51372b2622fecd9272c5.jpg"/>
          <p:cNvPicPr/>
          <p:nvPr/>
        </p:nvPicPr>
        <p:blipFill>
          <a:blip r:embed="rId3"/>
          <a:stretch/>
        </p:blipFill>
        <p:spPr>
          <a:xfrm>
            <a:off x="1000080" y="1285920"/>
            <a:ext cx="7215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эпос "Урал-батыр"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99920" y="1600200"/>
            <a:ext cx="518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оизведение «Урал-батыр» -  самое крупное сказание башкирского эпоса, принадлежащее к древнему жанру поэзии-кубаи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Documents and Settings\Admin\Мои документы\Downloads\басимова\kubair.jpg"/>
          <p:cNvPicPr/>
          <p:nvPr/>
        </p:nvPicPr>
        <p:blipFill>
          <a:blip r:embed="rId1"/>
          <a:stretch/>
        </p:blipFill>
        <p:spPr>
          <a:xfrm>
            <a:off x="357120" y="1143000"/>
            <a:ext cx="2416320" cy="32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Admin\Мои документы\Downloads\басимова\Ural-Batyr.jpeg"/>
          <p:cNvPicPr/>
          <p:nvPr/>
        </p:nvPicPr>
        <p:blipFill>
          <a:blip r:embed="rId2"/>
          <a:stretch/>
        </p:blipFill>
        <p:spPr>
          <a:xfrm>
            <a:off x="1928880" y="3608280"/>
            <a:ext cx="19764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пещера Шульган-таш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\Мои документы\Downloads\басимова\shulgan_tash_2.jpg"/>
          <p:cNvPicPr/>
          <p:nvPr/>
        </p:nvPicPr>
        <p:blipFill>
          <a:blip r:embed="rId1"/>
          <a:stretch/>
        </p:blipFill>
        <p:spPr>
          <a:xfrm>
            <a:off x="214200" y="1071720"/>
            <a:ext cx="5143680" cy="38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Admin\Мои документы\Downloads\басимова\bachkiria_pechera_kapovaja_foto_22.jpg"/>
          <p:cNvPicPr/>
          <p:nvPr/>
        </p:nvPicPr>
        <p:blipFill>
          <a:blip r:embed="rId2"/>
          <a:stretch/>
        </p:blipFill>
        <p:spPr>
          <a:xfrm>
            <a:off x="4786200" y="1500120"/>
            <a:ext cx="3857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C:\Documents and Settings\Admin\Мои документы\Downloads\басимова\pch_ul2_3.jpg"/>
          <p:cNvPicPr/>
          <p:nvPr/>
        </p:nvPicPr>
        <p:blipFill>
          <a:blip r:embed="rId1"/>
          <a:stretch/>
        </p:blipFill>
        <p:spPr>
          <a:xfrm>
            <a:off x="214200" y="142920"/>
            <a:ext cx="4434120" cy="6429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Admin\Мои документы\Downloads\басимова\2d3f8e10b55et.jpg"/>
          <p:cNvPicPr/>
          <p:nvPr/>
        </p:nvPicPr>
        <p:blipFill>
          <a:blip r:embed="rId2"/>
          <a:stretch/>
        </p:blipFill>
        <p:spPr>
          <a:xfrm>
            <a:off x="4857840" y="142920"/>
            <a:ext cx="4119480" cy="300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Admin\Мои документы\Downloads\басимова\witaia_koloda.JPG"/>
          <p:cNvPicPr/>
          <p:nvPr/>
        </p:nvPicPr>
        <p:blipFill>
          <a:blip r:embed="rId3"/>
          <a:stretch/>
        </p:blipFill>
        <p:spPr>
          <a:xfrm>
            <a:off x="5572080" y="3286080"/>
            <a:ext cx="24559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гора Янган-тау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Admin\Мои документы\Downloads\басимова\yangantau.jpg"/>
          <p:cNvPicPr/>
          <p:nvPr/>
        </p:nvPicPr>
        <p:blipFill>
          <a:blip r:embed="rId1"/>
          <a:stretch/>
        </p:blipFill>
        <p:spPr>
          <a:xfrm>
            <a:off x="571680" y="1214280"/>
            <a:ext cx="778644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0:28:07Z</dcterms:created>
  <dc:creator>Admin</dc:creator>
  <dc:description/>
  <dc:language>en-US</dc:language>
  <cp:lastModifiedBy>User</cp:lastModifiedBy>
  <dcterms:modified xsi:type="dcterms:W3CDTF">2014-01-27T14:03:21Z</dcterms:modified>
  <cp:revision>17</cp:revision>
  <dc:subject/>
  <dc:title>Виртуальная экскурсия  «Семь чудес Башкортостана»</dc:title>
</cp:coreProperties>
</file>