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AAB-EAB5-489C-8BC0-9D1C9299D3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8BE9-3E02-41EB-81C7-FB9E48086A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2FE0-B1C1-4895-98BC-FDC05D169E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2111-7A6B-4FE2-B282-59F35603A7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EE2-308A-42FD-BE53-1D012E5462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218A-BB44-4189-B30C-509085076E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8213-C20F-492D-BDA9-E095BC9CCF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2C2-6847-4093-A890-F00EEC2DC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11FC-323E-49C8-BE54-D5DECFBA16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642-E2BB-4A96-9A99-4C51E0A8EB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B5F-A410-4734-A36E-B10792EEE7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CEA1-B5C5-46B2-AEDC-9003FDCC6D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462-EE2A-4966-9A69-3E45CBA03F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B0BB-3277-4697-834B-499600F9B5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1604-AD16-4DA0-A4B8-B640427D46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DD83-549A-4ED4-97D8-CBB757E010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833D-415B-428D-9E23-A2A362E22A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BE7-BF7C-48F4-8E1D-44006F4E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4E7-EAC8-4304-B329-DAAC323D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8C5-2561-490D-8C30-E5AB83BA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96A-F7F2-4B78-8024-8D552FE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BBA9-FCB9-48F5-B480-0A213E09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C8733-4163-4265-B970-7786058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9F8BD-E857-4398-BDD5-CC5A7BE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79900-651F-441C-90DD-4CACDB5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1CEA-ED1C-4399-B247-B6533B44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5FC40-9FA1-4E41-8679-03E5705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4027C-0184-48A8-8787-3173A77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CBD-B414-4959-8460-C880BAB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DCFEC-0E4F-4777-9839-9A5DB4D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B9B2C-1063-45ED-8212-2286076D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D0A4D-B631-44EC-9197-EFE79B27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26BB-F043-46E4-B71D-E1970069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A30B-5DAC-4067-9A87-A6887879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E45-6485-4EF7-BC62-C335A32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BC1-2567-44CF-A05F-88F0E20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731-7F88-473A-AE27-22C3D171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DD4-5A42-4115-B969-DA9B0B5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143-F4A9-473D-A03E-00012CA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A9-BD8D-4C67-9A8D-FE79548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DBB-8ABF-4810-B9B8-4F19BF9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876-90F3-4224-8824-01F4C7D6B4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CA6C-904E-45AE-8CFF-3610DD4A14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3e3ff"/>
                </a:solidFill>
                <a:latin typeface="Arial"/>
              </a:rPr>
              <a:t>Материал к семинар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4920" y="2060280"/>
            <a:ext cx="828036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ВНИМАНИЕ,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Arabic Typesetting"/>
              </a:rPr>
              <a:t>ОДАРЁННЫЙ РЕБЁН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abic Typesetting"/>
              </a:rPr>
              <a:t>Автор:  Агапова Елена Анатолье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Кризис мотива достижений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озникает, если в процессе формирования личности личностная рефлексия начинает доминировать над интеллектуальной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деформация личности        разрушение одарённост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500720" y="11970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>
            <a:off x="2411280" y="3933720"/>
            <a:ext cx="1224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5219640" y="3933720"/>
            <a:ext cx="863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нципы ответственности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перед самим ребёнком за его гармоничное и счастливое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ственность перед государством за воспитание полноценного, зрелого гражданина, готового принимать решения, нести ответствен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збежание кризиса первого типа необходимо представлять ребёнку возможность быть субъектом собственной деятельности и развивать его индивидуальный познавательный опы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збежание кризиса второго типа необходимо развивать наряду с интеллектуальной сферой одарённого ребёнка его физическую, эмоционально-волевую, социально-коммуникативную сферы, поскольку законы развития для одарённых детей принципиально одни и те 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збежание кризиса мотива достижений важно достигать воспитательными мерами оптимального соотношения личностной и интеллектуальной рефлексии в каждом конкретном случае, с каждым конкретным ребён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чества необходимые педагогу 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доброжелательным и чутк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бираться в особенностях психологии одарённых детей, чувствовать их потребности и интере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опыт работы в детских образовательных учрежд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высокий уровень интеллектуального разви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широкий круг интересов и ум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кроме педагогического ещё какое-либо образ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готовым к выполнению самых различных обязанностей, связанных с обучением одарённых де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живой и активный характер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ладать чувством юм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являть гибкость, быть готовым к пересмотру своих взглядов и постоянному самосовершенствов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творческое, возможно нетрадиционное мировозз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ладать хорошим здоровьем и жизнестойкост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готовым к дальнейшему приобретению специальных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Для развития детской одарённости в контексте человеческой одарённости в целом, необходимо построение концептуально новых развивающих образовательных программ для одарённых дете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ждый одарённый ребёнок – индивидуальность, требующая особого подхода. Мастерство педагогов и родителей, вера в возможности ребёнка способствуют развитию одарённости. В жизни часто оказывается важно даже не то, что дала человеку природа, а то, что он сумел сделать с тем даром, который у него ест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СПАСИБО </a:t>
            </a:r>
            <a:br>
              <a:rPr sz="4800"/>
            </a:b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ЗА </a:t>
            </a:r>
            <a:br>
              <a:rPr sz="4800"/>
            </a:b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ПРЕДЕЛЕНИЕ ОДАРЁННОСТ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дарен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это системное, развивающееся в течение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даренный ребен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етание трех характеристи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ллектуальные способности, превышающие средн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кий под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ойчив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ять групп одарённости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ллектуальная \ Академическая. Одаренность различных видов в зависимости от предметного содержания деятельности (одаренность в области естественных и гуманитарных наук, интеллектуальных игр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о-эстетическая. Хореографическая, сценическая, литературно-поэтическая, изобразительная и музыкальная одар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моторная. Одаренность в ремеслах, спортив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дерская \ Социальная (аттрактивна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овно-ценностная деятельность — одаренность, которая проявляется в создании новых духовных ценностей и служении люд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ИПОЛОГИЯ ОДАРЁНОСТ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щая и специальна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пециализированная одарённость в природе большая редкость(одарённость всегда конкретна, нельзя говорить об одарённости вообще, нужно говорить об одарённости музыкальной, математической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211640" y="198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572000" y="6165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ворческая и интеллектуальная одарённость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высокий уровень конвергентного мышлени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низкий уровень дивергентного мышления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427640" y="1341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427640" y="3068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ризисы детской одарё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шибочные м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арённость всегда проявляет себя в творческом проду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арённость нужно разви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ое образование знает, как работать с одарёнными деть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ипы исчезновения детской одарённости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рата творческого потенциала: ребёнок прекращает создавать особые, свойственные его одарённости творческие продукты – кризис креатив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интеллектуальной продуктивности, - кризис интеллектуа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или полная потеря интереса к процессу и результатам своего труда – кризис мотива дост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ипы кризис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зис креатив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ий творческий потенциал ребёнка частично утрачивает в силу невозможности предъявить себя окружающим, получить одобрение или поддержку взросл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4356000" y="2133720"/>
            <a:ext cx="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Кризис интеллектуальност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возникает в случае перегруженности одарённого ребёнка заданиями, развивающими только интеллектуальные способности, без учёта индивидуальных познавательных  потребностей ребёнка, его личностных смыслов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356000" y="1268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9:33:43Z</dcterms:created>
  <dc:creator>ДДТ Ораниенбаум</dc:creator>
  <dc:description/>
  <dc:language>en-US</dc:language>
  <cp:lastModifiedBy>User</cp:lastModifiedBy>
  <dcterms:modified xsi:type="dcterms:W3CDTF">2014-01-27T15:31:02Z</dcterms:modified>
  <cp:revision>7</cp:revision>
  <dc:subject/>
  <dc:title>Семинар</dc:title>
</cp:coreProperties>
</file>