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9301-F336-469F-9C84-3E87DFA7B7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0F8C-43F7-4F26-9A24-D7ACB34603C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AE54-BC33-4A5C-ADDA-8CA170BFBA7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8242-78EA-4A71-8229-FCCDE430651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E01D-1319-44BC-9E18-FA7FA2AC1B0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32C2-1B59-4279-954E-5D6C5E08CA8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CEE7-D959-45E4-9823-4819AE6A2E3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67D5-4D70-46A2-B27A-444B1C2C1DC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3979-96F2-4158-8165-BCFEF8428EE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B71A-966C-48C2-A830-C3BDAAE57A3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38F4-059D-4E3E-808C-0F4BBEDC5CE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15B1-ECA1-47DE-BA83-F021232F7C9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40D7-F513-4ABF-843E-2D6CCE6B09A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0F72-2780-4236-B105-7E6F0528F1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4B52-058E-4667-A1EE-92C3B9A2A30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4782-5B56-480E-895B-A58BFFDA0E1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E4DF-799C-4D58-B7CC-8E51CF209FB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A361-D2F0-4554-AAF0-34F2254E5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CB62-32AB-4762-A743-68E28E66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C1EF-977E-440F-A2AE-0199477E7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E449-DB5D-44B0-B8FE-0E1D83D27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E7406B-4D64-418D-A1FF-1A80ED31E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7C3A0E-1A6B-40CF-9383-856F1BD4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31ACBA-F079-473D-ABCD-598A061A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9AF75-A86F-4C3F-AA5B-B26EA673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D2DB3-85D1-4199-833C-CED22256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87303-A6B8-410E-809C-D697E292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69212-DD7A-49A8-B983-6B3C1ADC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F6F2-218E-4458-9A76-7D2EA81C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8D593-EEF8-46DA-A649-50844767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022147-A40C-48D8-9E50-C858E971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44614-C778-4595-9E9C-02A225C7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092B2-5701-4101-ACE2-680633C9D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88E79-1665-4640-B119-AD633E6B3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2275-625B-4C38-A984-77968F56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B2C4-B98D-4949-BC55-155A03BB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CE54-A978-4A22-AEBC-254B4FDC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4C6C-7515-483D-8F21-64E0736B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9F75-6CC9-4E3C-849C-72E94A2C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069A-529A-4071-ABC1-5EC58955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12F6-846B-4303-95CE-11CE08B1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9BB2-853C-4ACA-B2F1-C978484704C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DFEF-E73C-4E23-BDFB-AA79ED5B287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915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3e3ff"/>
                </a:solidFill>
                <a:latin typeface="Arial"/>
              </a:rPr>
              <a:t>Материал к семинару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94920" y="2060280"/>
            <a:ext cx="8280360" cy="31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ВНИМАНИЕ,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ffff"/>
                </a:solidFill>
                <a:latin typeface="Arabic Typesetting"/>
              </a:rPr>
              <a:t>ОДАРЁННЫЙ РЕБЁНОК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abic Typesetting"/>
              </a:rPr>
              <a:t>Автор:  Агапова Елена Анатольев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Кризис мотива достижений</a:t>
            </a:r>
            <a:br>
              <a:rPr sz="4400"/>
            </a:br>
            <a:br>
              <a:rPr sz="4400"/>
            </a:b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возникает, если в процессе формирования личности личностная рефлексия начинает доминировать над интеллектуальной</a:t>
            </a: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деформация личности        разрушение одарённости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Line 5"/>
          <p:cNvSpPr/>
          <p:nvPr/>
        </p:nvSpPr>
        <p:spPr>
          <a:xfrm>
            <a:off x="4500720" y="119700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 flipH="1">
            <a:off x="2411280" y="3933720"/>
            <a:ext cx="122400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8"/>
          <p:cNvSpPr/>
          <p:nvPr/>
        </p:nvSpPr>
        <p:spPr>
          <a:xfrm>
            <a:off x="5219640" y="3933720"/>
            <a:ext cx="86364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Принципы ответственности: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етственность перед самим ребёнком за его гармоничное и счастливое будуще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етственность перед государством за воспитание полноценного, зрелого гражданина, готового принимать решения, нести ответственно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 избежание кризиса первого типа необходимо представлять ребёнку возможность быть субъектом собственной деятельности и развивать его индивидуальный познавательный опы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 избежание кризиса второго типа необходимо развивать наряду с интеллектуальной сферой одарённого ребёнка его физическую, эмоционально-волевую, социально-коммуникативную сферы, поскольку законы развития для одарённых детей принципиально одни и те ж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 избежание кризиса мотива достижений важно достигать воспитательными мерами оптимального соотношения личностной и интеллектуальной рефлексии в каждом конкретном случае, с каждым конкретным ребёнк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Качества необходимые педагогу 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ыть доброжелательным и чутки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бираться в особенностях психологии одарённых детей, чувствовать их потребности и интерес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меть опыт работы в детских образовательных учреждения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меть высокий уровень интеллектуального развит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меть широкий круг интересов и умен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меть кроме педагогического ещё какое-либо образова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ыть готовым к выполнению самых различных обязанностей, связанных с обучением одарённых дете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меть живой и активный характер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ладать чувством юмор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являть гибкость, быть готовым к пересмотру своих взглядов и постоянному самосовершенствовани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меть творческое, возможно нетрадиционное мировоззре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ладать хорошим здоровьем и жизнестойкость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ыть готовым к дальнейшему приобретению специальных зна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Для развития детской одарённости в контексте человеческой одарённости в целом, необходимо построение концептуально новых развивающих образовательных программ для одарённых детей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Каждый одарённый ребёнок – индивидуальность, требующая особого подхода. Мастерство педагогов и родителей, вера в возможности ребёнка способствуют развитию одарённости. В жизни часто оказывается важно даже не то, что дала человеку природа, а то, что он сумел сделать с тем даром, который у него есть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3e3ff"/>
                </a:solidFill>
                <a:latin typeface="Arial"/>
              </a:rPr>
              <a:t>СПАСИБО </a:t>
            </a:r>
            <a:br>
              <a:rPr sz="4800"/>
            </a:br>
            <a:r>
              <a:rPr b="1" lang="ru-RU" sz="4800" spc="-1" strike="noStrike">
                <a:solidFill>
                  <a:srgbClr val="e3e3ff"/>
                </a:solidFill>
                <a:latin typeface="Arial"/>
              </a:rPr>
              <a:t>ЗА </a:t>
            </a:r>
            <a:br>
              <a:rPr sz="4800"/>
            </a:br>
            <a:r>
              <a:rPr b="1" lang="ru-RU" sz="4800" spc="-1" strike="noStrike">
                <a:solidFill>
                  <a:srgbClr val="e3e3ff"/>
                </a:solidFill>
                <a:latin typeface="Arial"/>
              </a:rPr>
              <a:t>ВНИМАНИЕ!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ОПРЕДЕЛЕНИЕ ОДАРЁННОСТИ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Одареннос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— это системное, развивающееся в течение жизни качество психики, которое определяет возможность достижения человеком более высоких, незаурядных результатов в одном или нескольких видах деятельности по сравнению с другими людь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Одаренный ребено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— это ребенок, который выделяется яркими, очевидными, иногда выдающимися достижениями (или имеет внутренние предпосылки для таких достижений) в том или ином виде деятельнос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четание трех характеристик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теллектуальные способности, превышающие средни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ворческий подх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стойчив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Пять групп одарённости: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теллектуальная \ Академическая. Одаренность различных видов в зависимости от предметного содержания деятельности (одаренность в области естественных и гуманитарных наук, интеллектуальных игр и др.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удожественно-эстетическая. Хореографическая, сценическая, литературно-поэтическая, изобразительная и музыкальная одаренн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сихомоторная. Одаренность в ремеслах, спортивн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дерская \ Социальная (аттрактивная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уховно-ценностная деятельность — одаренность, которая проявляется в создании новых духовных ценностей и служении людя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ТИПОЛОГИЯ ОДАРЁНОСТИ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бщая и специальна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пециализированная одарённость в природе большая редкость(одарённость всегда конкретна, нельзя говорить об одарённости вообще, нужно говорить об одарённости музыкальной, математической и т.д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4"/>
          <p:cNvSpPr/>
          <p:nvPr/>
        </p:nvSpPr>
        <p:spPr>
          <a:xfrm>
            <a:off x="4211640" y="198900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4572000" y="61657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Творческая и интеллектуальная одарённость </a:t>
            </a:r>
            <a:br>
              <a:rPr sz="4000"/>
            </a:br>
            <a:br>
              <a:rPr sz="4000"/>
            </a:b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высокий уровень конвергентного мышления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низкий уровень дивергентного мышления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4427640" y="134136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6"/>
          <p:cNvSpPr/>
          <p:nvPr/>
        </p:nvSpPr>
        <p:spPr>
          <a:xfrm>
            <a:off x="4427640" y="306864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Кризисы детской одарённост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шибочные мне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арённость всегда проявляет себя в творческом продук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арённость нужно развив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временное образование знает, как работать с одарёнными детьм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Типы исчезновения детской одарённости: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трата творческого потенциала: ребёнок прекращает создавать особые, свойственные его одарённости творческие продукты – кризис креатив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нижение интеллектуальной продуктивности, - кризис интеллектуаль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нижение или полная потеря интереса к процессу и результатам своего труда – кризис мотива достиж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Типы кризиса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зис креативност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сокий творческий потенциал ребёнка частично утрачивает в силу невозможности предъявить себя окружающим, получить одобрение или поддержку взрослы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4"/>
          <p:cNvSpPr/>
          <p:nvPr/>
        </p:nvSpPr>
        <p:spPr>
          <a:xfrm>
            <a:off x="4356000" y="2133720"/>
            <a:ext cx="0" cy="57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Кризис интеллектуальности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3200" spc="-1" strike="noStrike">
                <a:solidFill>
                  <a:srgbClr val="e3e3ff"/>
                </a:solidFill>
                <a:latin typeface="Arial"/>
              </a:rPr>
              <a:t>возникает в случае перегруженности одарённого ребёнка заданиями, развивающими только интеллектуальные способности, без учёта индивидуальных познавательных  потребностей ребёнка, его личностных смыслов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Line 5"/>
          <p:cNvSpPr/>
          <p:nvPr/>
        </p:nvSpPr>
        <p:spPr>
          <a:xfrm>
            <a:off x="4356000" y="126828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09:33:43Z</dcterms:created>
  <dc:creator>ДДТ Ораниенбаум</dc:creator>
  <dc:description/>
  <dc:language>en-US</dc:language>
  <cp:lastModifiedBy>User</cp:lastModifiedBy>
  <dcterms:modified xsi:type="dcterms:W3CDTF">2014-01-27T15:31:02Z</dcterms:modified>
  <cp:revision>7</cp:revision>
  <dc:subject/>
  <dc:title>Семинар</dc:title>
</cp:coreProperties>
</file>